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7.jpeg" ContentType="image/jpeg"/>
  <Override PartName="/ppt/media/image12.jpeg" ContentType="image/jpeg"/>
  <Override PartName="/ppt/media/image7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85D8-4482-4970-9E1C-DC9D042EBC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E7D7-0B7B-435C-B072-7025884343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064-FA14-4CB1-A326-BDEFED38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094-439E-4CF3-92E2-4FDCE535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9F9-44ED-48BF-9696-392E90A4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63D-882D-46D3-8255-A9F5A2EE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2B3-5FE1-4552-A3A4-AC4ECEBD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537-41B8-41EF-94AF-24465668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45A-F8CE-4621-89C9-C62FD5E8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7BF-23B0-44FE-9327-F2C47AAF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DE8-51D4-4E3B-A769-B7ADC438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737-DDCC-43C9-A428-48C85A31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6CF-7D3C-4A2A-8A88-13B333CE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B5C-FA66-4C9C-8D20-B7D6BDAA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4EA7-91CF-43E7-982E-25A11A0307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57120" y="785520"/>
            <a:ext cx="8229600" cy="15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Тема: История куклы </a:t>
            </a:r>
            <a:r>
              <a:rPr b="1" lang="en-US" sz="40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Barbie</a:t>
            </a:r>
            <a:r>
              <a:rPr b="1" lang="ru-RU" sz="40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 и её влияние на развитие девоче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273640" y="538488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dobe Fan Heiti Std B"/>
              </a:rPr>
              <a:t>Выполнила: Чепига 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dobe Fan Heiti Std B"/>
              </a:rPr>
              <a:t>Руководитель: Лучер В.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Users\Юра\Desktop\исслед.работы\Kukla_Barbie_modnaya_pricheska_3909W_Mattel_14.jpg"/>
          <p:cNvPicPr/>
          <p:nvPr/>
        </p:nvPicPr>
        <p:blipFill>
          <a:blip r:embed="rId1"/>
          <a:stretch/>
        </p:blipFill>
        <p:spPr>
          <a:xfrm>
            <a:off x="534960" y="2521080"/>
            <a:ext cx="3532320" cy="3932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Ketty\Рабочий стол\BarbieM(8).jpg"/>
          <p:cNvPicPr/>
          <p:nvPr/>
        </p:nvPicPr>
        <p:blipFill>
          <a:blip r:embed="rId2"/>
          <a:stretch/>
        </p:blipFill>
        <p:spPr>
          <a:xfrm rot="20347200">
            <a:off x="3506760" y="3685680"/>
            <a:ext cx="21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218440" cy="18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1ef6"/>
                </a:solidFill>
                <a:latin typeface="Calibri"/>
              </a:rPr>
              <a:t>В  2003 году в магазинах появились  ее дедушка в шерстяном свитере и бабушка - в цветной блузке. У обеих кукол - седые волосы. </a:t>
            </a:r>
            <a:br>
              <a:rPr sz="2800"/>
            </a:br>
            <a:r>
              <a:rPr b="1" i="1" lang="ru-RU" sz="2800" spc="-1" strike="noStrike">
                <a:solidFill>
                  <a:srgbClr val="421ef6"/>
                </a:solidFill>
                <a:latin typeface="Calibri"/>
              </a:rPr>
              <a:t>Они продаются в па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3509"/>
          <p:cNvPicPr/>
          <p:nvPr/>
        </p:nvPicPr>
        <p:blipFill>
          <a:blip r:embed="rId1"/>
          <a:stretch/>
        </p:blipFill>
        <p:spPr>
          <a:xfrm rot="20727000">
            <a:off x="736200" y="2566800"/>
            <a:ext cx="3095640" cy="3662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&amp;Kcy;&amp;ucy;&amp;kcy;&amp;lcy;&amp;ycy; Heart Family &amp;icy; &amp;Scy;&amp;kcy;&amp;icy;&amp;pcy;&amp;pcy;&amp;iecy;&amp;rcy;"/>
          <p:cNvPicPr/>
          <p:nvPr/>
        </p:nvPicPr>
        <p:blipFill>
          <a:blip r:embed="rId2"/>
          <a:stretch/>
        </p:blipFill>
        <p:spPr>
          <a:xfrm rot="810000">
            <a:off x="4791240" y="2641320"/>
            <a:ext cx="39560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6840" y="549360"/>
            <a:ext cx="4762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ст Барби — 29 с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ё пропорции по отношению к «нашему», реальному миру — 1: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ериканка Синди Джексон сделала 55 пластических операций, чтобы стать «такой же», как Барби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Ketty\Рабочий стол\43301.jpg"/>
          <p:cNvPicPr/>
          <p:nvPr/>
        </p:nvPicPr>
        <p:blipFill>
          <a:blip r:embed="rId1"/>
          <a:stretch/>
        </p:blipFill>
        <p:spPr>
          <a:xfrm rot="421800">
            <a:off x="5643360" y="928800"/>
            <a:ext cx="3041640" cy="4680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74872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Calibri"/>
              </a:rPr>
              <a:t>Наряды для Барби шьют самые известные модельеры. Для нее существуют и украшения (в том числе и очень дорогие).</a:t>
            </a:r>
            <a:r>
              <a:rPr b="1" i="1" lang="ru-RU" sz="2800" spc="-1" strike="noStrike">
                <a:solidFill>
                  <a:srgbClr val="17bbf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09.jpg"/>
          <p:cNvPicPr/>
          <p:nvPr/>
        </p:nvPicPr>
        <p:blipFill>
          <a:blip r:embed="rId1"/>
          <a:stretch/>
        </p:blipFill>
        <p:spPr>
          <a:xfrm>
            <a:off x="3203640" y="3573360"/>
            <a:ext cx="2881080" cy="3097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&amp;Kcy;&amp;ucy;&amp;kcy;&amp;lcy;&amp;ycy; &amp;Bcy;&amp;acy;&amp;rcy;&amp;bcy;&amp;icy; &amp;vcy; &amp;scy;&amp;vcy;&amp;acy;&amp;dcy;&amp;iecy;&amp;bcy;&amp;ncy;&amp;ycy;&amp;khcy; &amp;pcy;&amp;lcy;&amp;acy;&amp;tcy;&amp;softcy;&amp;yacy;&amp;khcy;"/>
          <p:cNvPicPr/>
          <p:nvPr/>
        </p:nvPicPr>
        <p:blipFill>
          <a:blip r:embed="rId2"/>
          <a:stretch/>
        </p:blipFill>
        <p:spPr>
          <a:xfrm>
            <a:off x="5940360" y="2492280"/>
            <a:ext cx="2881440" cy="280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&amp;Bcy;&amp;acy;&amp;rcy;&amp;bcy;&amp;icy; &amp;Mcy;&amp;ecy;&amp;rcy;&amp;icy;&amp;lcy;&amp;icy;&amp;ncy; &amp;Mcy;&amp;ocy;&amp;ncy;&amp;rcy;&amp;ocy;"/>
          <p:cNvPicPr/>
          <p:nvPr/>
        </p:nvPicPr>
        <p:blipFill>
          <a:blip r:embed="rId3"/>
          <a:stretch/>
        </p:blipFill>
        <p:spPr>
          <a:xfrm>
            <a:off x="250920" y="2276640"/>
            <a:ext cx="287964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200"/>
            <a:ext cx="80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1ef6"/>
                </a:solidFill>
                <a:latin typeface="Calibri"/>
              </a:rPr>
              <a:t>У Барби есть роскошный дом</a:t>
            </a:r>
            <a:r>
              <a:rPr b="1" i="1" lang="en-US" sz="4400" spc="-1" strike="noStrike">
                <a:solidFill>
                  <a:srgbClr val="421ef6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421ef6"/>
                </a:solidFill>
                <a:latin typeface="Calibri"/>
              </a:rPr>
              <a:t> и автомоби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6" descr="b6b8a258dab8.jpg"/>
          <p:cNvPicPr/>
          <p:nvPr/>
        </p:nvPicPr>
        <p:blipFill>
          <a:blip r:embed="rId1"/>
          <a:stretch/>
        </p:blipFill>
        <p:spPr>
          <a:xfrm>
            <a:off x="539640" y="1341360"/>
            <a:ext cx="8332920" cy="5210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ы опро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13840" y="1285920"/>
            <a:ext cx="58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42 опрошенных  девочек -38 любят играть кукло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bi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 37 –хотят быть на неё похож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40 опрошенных мам -39 покупают эту куклу для своих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Ketty\Рабочий стол\2007BarbieCollectorHolidayDoll_001 (1).jpg"/>
          <p:cNvPicPr/>
          <p:nvPr/>
        </p:nvPicPr>
        <p:blipFill>
          <a:blip r:embed="rId1"/>
          <a:stretch/>
        </p:blipFill>
        <p:spPr>
          <a:xfrm>
            <a:off x="5857920" y="1357200"/>
            <a:ext cx="2795400" cy="453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539640" y="765000"/>
            <a:ext cx="81471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Calibri"/>
              </a:rPr>
              <a:t>Результаты анкетирования</a:t>
            </a:r>
            <a:br>
              <a:rPr sz="3200"/>
            </a:br>
            <a:r>
              <a:rPr b="1" lang="ru-RU" sz="2800" spc="-1" strike="noStrike">
                <a:solidFill>
                  <a:srgbClr val="ff33cc"/>
                </a:solidFill>
                <a:latin typeface="Calibri"/>
              </a:rPr>
              <a:t>Анкетирование  проводилось среди девочек начальных классов. В анкетировании участвовали 50 девочек. Анкета состояла из 6 вопросов о кук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Диаграмма 1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6197760" cy="4165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88c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76464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Calibri"/>
              </a:rPr>
              <a:t>По итогам опроса моя гипотеза   полностью  подтвердилась – 90% девочек играют в куклу Барб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Calibri"/>
              </a:rPr>
              <a:t>Барби является самой популярной  и любимой куклой среди девоч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C:\Documents and Settings\Admin\Мои документы\barbie_5852.jpg"/>
          <p:cNvPicPr/>
          <p:nvPr/>
        </p:nvPicPr>
        <p:blipFill>
          <a:blip r:embed="rId1"/>
          <a:stretch/>
        </p:blipFill>
        <p:spPr>
          <a:xfrm rot="20164800">
            <a:off x="528120" y="3617640"/>
            <a:ext cx="2381400" cy="2611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Documents and Settings\Admin\Мои документы\1275406007_1947144_f520.jpg"/>
          <p:cNvPicPr/>
          <p:nvPr/>
        </p:nvPicPr>
        <p:blipFill>
          <a:blip r:embed="rId2"/>
          <a:stretch/>
        </p:blipFill>
        <p:spPr>
          <a:xfrm>
            <a:off x="3429000" y="3143160"/>
            <a:ext cx="2583000" cy="3022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Documents and Settings\Admin\Мои документы\BARBIER Doll1.JPG"/>
          <p:cNvPicPr/>
          <p:nvPr/>
        </p:nvPicPr>
        <p:blipFill>
          <a:blip r:embed="rId3"/>
          <a:stretch/>
        </p:blipFill>
        <p:spPr>
          <a:xfrm rot="1085400">
            <a:off x="6300360" y="357300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1ef6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280" y="1197000"/>
            <a:ext cx="818676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Барби - это единственная кукла, которая имеет  свою коллекцию одежды и предметы домашнего обиход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Барби в этом году исполняется 54 года, это говорит о ее популяр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Барби –  это целая истор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Admin\Мои документы\создатели.jpeg"/>
          <p:cNvPicPr/>
          <p:nvPr/>
        </p:nvPicPr>
        <p:blipFill>
          <a:blip r:embed="rId1"/>
          <a:stretch/>
        </p:blipFill>
        <p:spPr>
          <a:xfrm>
            <a:off x="3786120" y="4572000"/>
            <a:ext cx="1357560" cy="2014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Admin\Мои документы\w1_1.jpg"/>
          <p:cNvPicPr/>
          <p:nvPr/>
        </p:nvPicPr>
        <p:blipFill>
          <a:blip r:embed="rId2"/>
          <a:stretch/>
        </p:blipFill>
        <p:spPr>
          <a:xfrm rot="20971800">
            <a:off x="882360" y="452592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Admin\Мои документы\i2.jpeg"/>
          <p:cNvPicPr/>
          <p:nvPr/>
        </p:nvPicPr>
        <p:blipFill>
          <a:blip r:embed="rId3"/>
          <a:stretch/>
        </p:blipFill>
        <p:spPr>
          <a:xfrm rot="614400">
            <a:off x="6214680" y="4500360"/>
            <a:ext cx="1785960" cy="2084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250920" y="1413000"/>
            <a:ext cx="871200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4e005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solidFill>
                <a:srgbClr val="4e005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005f"/>
                </a:solidFill>
                <a:latin typeface="Arial"/>
              </a:rPr>
              <a:t>П</a:t>
            </a:r>
            <a:r>
              <a:rPr b="1" lang="ru-RU" sz="4400" spc="-1" strike="noStrike">
                <a:solidFill>
                  <a:srgbClr val="4e005f"/>
                </a:solidFill>
                <a:latin typeface="Calibri"/>
              </a:rPr>
              <a:t>лан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1) Предмет и гипотеза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2)Задачи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3)История возникновения Бар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4)Анализ результатов анкет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5)Заключение и Вы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756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8920" y="260280"/>
            <a:ext cx="4141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421e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21ef6"/>
                </a:solidFill>
                <a:uFillTx/>
                <a:latin typeface="Calibri"/>
              </a:rPr>
              <a:t>Предмет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кла Барб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421e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21ef6"/>
                </a:solidFill>
                <a:uFillTx/>
                <a:latin typeface="Calibri"/>
              </a:rPr>
              <a:t>Гипотеза исследо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предполагаю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практиче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каждой девочки 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кла Барби, и м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ется, что дан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кла сам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пулярная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имая среди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nk 5" descr=""/>
          <p:cNvPicPr/>
          <p:nvPr/>
        </p:nvPicPr>
        <p:blipFill>
          <a:blip r:embed="rId1"/>
          <a:stretch/>
        </p:blipFill>
        <p:spPr>
          <a:xfrm>
            <a:off x="10199520" y="425304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57" name="Ink 6" descr=""/>
          <p:cNvPicPr/>
          <p:nvPr/>
        </p:nvPicPr>
        <p:blipFill>
          <a:blip r:embed="rId2"/>
          <a:stretch/>
        </p:blipFill>
        <p:spPr>
          <a:xfrm>
            <a:off x="9958320" y="4681440"/>
            <a:ext cx="157320" cy="157320"/>
          </a:xfrm>
          <a:prstGeom prst="rect">
            <a:avLst/>
          </a:prstGeom>
          <a:ln w="0">
            <a:noFill/>
          </a:ln>
        </p:spPr>
      </p:pic>
      <p:pic>
        <p:nvPicPr>
          <p:cNvPr id="58" name="Ink 7" descr=""/>
          <p:cNvPicPr/>
          <p:nvPr/>
        </p:nvPicPr>
        <p:blipFill>
          <a:blip r:embed="rId3"/>
          <a:stretch/>
        </p:blipFill>
        <p:spPr>
          <a:xfrm>
            <a:off x="10055160" y="5369040"/>
            <a:ext cx="52560" cy="156960"/>
          </a:xfrm>
          <a:prstGeom prst="rect">
            <a:avLst/>
          </a:prstGeom>
          <a:ln w="0">
            <a:noFill/>
          </a:ln>
        </p:spPr>
      </p:pic>
      <p:pic>
        <p:nvPicPr>
          <p:cNvPr id="59" name="Ink 8" descr=""/>
          <p:cNvPicPr/>
          <p:nvPr/>
        </p:nvPicPr>
        <p:blipFill>
          <a:blip r:embed="rId4"/>
          <a:stretch/>
        </p:blipFill>
        <p:spPr>
          <a:xfrm>
            <a:off x="9495000" y="568152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60" name="Ink 9" descr=""/>
          <p:cNvPicPr/>
          <p:nvPr/>
        </p:nvPicPr>
        <p:blipFill>
          <a:blip r:embed="rId5"/>
          <a:stretch/>
        </p:blipFill>
        <p:spPr>
          <a:xfrm>
            <a:off x="10110960" y="603900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C:\Users\Юра\Desktop\исслед.работы\47112085150a447b58d943.jpg"/>
          <p:cNvPicPr/>
          <p:nvPr/>
        </p:nvPicPr>
        <p:blipFill>
          <a:blip r:embed="rId6"/>
          <a:stretch/>
        </p:blipFill>
        <p:spPr>
          <a:xfrm>
            <a:off x="4643280" y="115920"/>
            <a:ext cx="426744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11280" y="3976560"/>
            <a:ext cx="8137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и нас есть девочки, которые очень любят играть в куклы. Сейчас существует много разных видов кукол. А самая распространенная кукла, которую знают все дети, это-кукла Барб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C:\Users\Юра\Desktop\исслед.работы\1.jpg"/>
          <p:cNvPicPr/>
          <p:nvPr/>
        </p:nvPicPr>
        <p:blipFill>
          <a:blip r:embed="rId1"/>
          <a:srcRect l="4644" t="10663" r="3940" b="10408"/>
          <a:stretch/>
        </p:blipFill>
        <p:spPr>
          <a:xfrm>
            <a:off x="1908000" y="189000"/>
            <a:ext cx="493092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Arial"/>
              </a:rPr>
              <a:t>Моя любимая  кук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8" descr="QuintessentialBarbie.jpg"/>
          <p:cNvPicPr/>
          <p:nvPr/>
        </p:nvPicPr>
        <p:blipFill>
          <a:blip r:embed="rId1"/>
          <a:stretch/>
        </p:blipFill>
        <p:spPr>
          <a:xfrm>
            <a:off x="4859280" y="1844640"/>
            <a:ext cx="28368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611280" y="2637000"/>
            <a:ext cx="40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меня есть кукла Бар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олотых волос по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яжу я кукле бан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лыбнется мне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 в ответ ей улыбну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как Барби причешу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3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58920" y="1413000"/>
            <a:ext cx="63291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ин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bie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 несколько значен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рби— кук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рби — гор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Рабочий стол\barbyT5143_3.jpg"/>
          <p:cNvPicPr/>
          <p:nvPr/>
        </p:nvPicPr>
        <p:blipFill>
          <a:blip r:embed="rId1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584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21ef6"/>
                </a:solidFill>
                <a:latin typeface="Calibri"/>
              </a:rPr>
              <a:t>Барби появилась на свет в 1959 году в Америке. Ее «родители» — супруги Рут и Элиот Хэндлер, основатели фирмы игрушек «Маттел» (Mattel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содатели.gif"/>
          <p:cNvPicPr/>
          <p:nvPr/>
        </p:nvPicPr>
        <p:blipFill>
          <a:blip r:embed="rId1"/>
          <a:stretch/>
        </p:blipFill>
        <p:spPr>
          <a:xfrm>
            <a:off x="1979640" y="2997360"/>
            <a:ext cx="5256360" cy="3671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500280" y="999720"/>
            <a:ext cx="5143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вая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rbie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была одета в черно-белый купальник, у нее были стянутые в «конский хвост» светлые волосы и черные глаз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D:\Рабочий стол\HH4974_big.jpg"/>
          <p:cNvPicPr/>
          <p:nvPr/>
        </p:nvPicPr>
        <p:blipFill>
          <a:blip r:embed="rId1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-360" y="285840"/>
            <a:ext cx="53578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 1961 г. Барби «обзавелась» бойфрендом, которого назвали Кен; двумя годами позднее — приятельницей Мидж  и сестренкой Скиппе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е появляются все новые и новые родные и знакомые — кузина Фрэнси, сестренка Тутти, приятельница Кристи и друг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14barbie.jpg"/>
          <p:cNvPicPr/>
          <p:nvPr/>
        </p:nvPicPr>
        <p:blipFill>
          <a:blip r:embed="rId1"/>
          <a:stretch/>
        </p:blipFill>
        <p:spPr>
          <a:xfrm>
            <a:off x="5148360" y="692280"/>
            <a:ext cx="3809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06:32:11Z</dcterms:created>
  <dc:creator>Ketty</dc:creator>
  <dc:description/>
  <dc:language>en-US</dc:language>
  <cp:lastModifiedBy>Юра</cp:lastModifiedBy>
  <dcterms:modified xsi:type="dcterms:W3CDTF">2016-03-16T14:14:35Z</dcterms:modified>
  <cp:revision>49</cp:revision>
  <dc:subject/>
  <dc:title>Слайд 1</dc:title>
</cp:coreProperties>
</file>