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43D-97E0-47D7-A0FF-829707D9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F5E-CD27-4010-B1B9-FE070B2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685-9579-4E4E-B1C0-A01F17AB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800-3D12-4991-8E08-5430349E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8AFB-A1F4-4807-A7CF-2AA742E6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311D-A742-4690-922D-8BDE534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E618-A95E-4B61-9CAB-4A242E5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A0C-C71C-4708-ABB4-E8CD8D9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4C43-A2E0-4B49-8AE4-9CA33C4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A2FF-F7C6-4F8A-AA5D-2BAB517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E978-96A7-4B65-A33E-90B2FA1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123-ECCC-4214-B21C-BA8365B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E8D7-DC21-49C0-9BC5-7ED631B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D2D-0C57-4B60-B3A4-C703536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142-EC8D-4E0E-AD2B-E783A8E4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45D-5D4A-4407-AEE1-18B77432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C8B9-3A45-4398-827B-C239CA0C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66E0-AD69-4795-91AB-DF513593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0A7B-F16E-41F1-9557-9CF159D7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5785-609E-4815-B683-6323ED49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951C-4FC7-4E3D-B7DA-CEC0AFD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4165-97FB-4DA7-A0FD-57AF2FFC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C4F-A8BD-40BA-970D-9CE51043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CDD1-1F3A-4888-8C7E-644AF4C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C012-8250-4938-BD7A-CD1D1DE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5AE3-E6BA-4E00-B126-C0E38E9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12F2-3C31-46DB-BFF6-79351DE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4F6C-752A-4DC5-A7F5-6C1E8BD7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D107-9D5A-468B-9D7C-964F4B25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ECE1-2D97-4845-AFA0-16B4EDBF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8E3D-2998-44D8-8DA6-15421666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9C69-8A26-4EBE-B869-3B62F73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47D5A-9EE8-4154-A683-7B4394F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F7E-FD8E-4AC6-A4A7-A5C9046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3305-0592-40A2-A98A-DA327F4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89F2-C640-4096-9AE8-534C6F3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B5E8-4080-4275-B967-59B4FAA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F232-D5D2-4F0C-8CFC-E48790A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A342-D0E0-4C2B-A3E9-8283535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D37D-68CC-4050-A319-BB8FD88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3402-1C7A-47BA-8B30-692284A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466D-126E-4C6C-BEFF-123186BF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5275-A46D-44F4-92F8-1168312B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F4AD-2ACB-4948-ADDA-4EDBAC2A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B7D-2BBC-4F3D-A2E6-597A7DC9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772E-A2E1-435C-AB52-6ACAC1C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9BA75-AACA-4B39-8E43-C9B2C82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90E5-1D98-4969-BCBA-DBFFA2E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B48B-DB2E-497E-A85E-70F1F7B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FD27-8D1C-47B2-A6B6-8FCA54A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1DC8-B6F9-431C-8D96-63D7F6C9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E95D-731A-4747-9413-7E1A5BF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AF62-1DC3-403B-891E-56D639F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9A82-901E-4568-A347-A6F6E9A8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2E54-C47B-40F3-BAD1-EC0758C7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E40-C954-48C5-B925-D1FB66EE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F767-EA84-4EE4-AD2F-311E0124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309D-AD92-4957-A372-16DBF684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F7BC-AEDA-4299-87FC-B2E5B577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CDDA-7EDD-4097-832F-98549EC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45E98-9980-467A-A04A-94D9C43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2D09-941A-4F21-AD3F-848D536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9EAE-40AB-4C4C-8B6C-6CBC5CE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2B24-5D05-437A-9434-EC079CC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A558-660E-42CC-844F-288B3A3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F0AA-0F63-468B-AB40-D8C75F3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1A4-86F6-417E-A3FA-C16DF02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9DE9-9E7F-4E61-8313-DA94F11C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6815-D9DB-471F-9CE8-33483240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0FE62-3413-462E-B24D-276C3002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5E53-77C6-4FAC-8EE0-36ECB86D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F010-19B8-4342-8FEB-84C6EF6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4A65-328B-43B3-AB02-0817B2F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A415-163B-49C8-B153-5DA2444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79E41-7572-4018-8F26-A0256A87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F020-251E-426B-BE8C-5AE90B57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A406-0AD7-4B44-8D6B-5CF7F58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711-F795-48E0-8FE5-4C0A152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62BA-B889-4BB6-BA07-BF3298AD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60BB-B05D-4CD9-B071-0D04F3E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836F-638A-4995-A24F-9DE4060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67B8-4E6D-4AF8-8834-A93E5B67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F7A30-8A01-4B4B-A458-4007A42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FD5-E723-4DA5-8652-372463E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1422-6D81-44B4-8CF0-3DE13C1B55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1A26-33DA-489E-9C85-0EA1B80D99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5044-8AAB-4B08-8107-8005A6A368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0E7-7D6C-4C81-B661-5D8B3410EF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55F2-F26F-4B14-8BFA-30D4EC6E64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305-8154-44BA-A5CF-ED17C711DF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8FA-D22A-40AF-9E5E-C695F8D353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00360" y="3716280"/>
            <a:ext cx="433836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:</a:t>
            </a:r>
            <a:br>
              <a:rPr sz="29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детского сада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395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ратьева Елена Анатольевна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33000"/>
            <a:ext cx="7407000" cy="3887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395 комбинированного вида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азвивающая предметно- пространственная сред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3995640" y="59500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ь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324000" y="3716280"/>
            <a:ext cx="42480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Н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материал о родном городе, флаги РТ и РФ , художественная литература на татарском языке по возрасту детей, дидактические игры, раскраски, трафареты, куклы в национальных одеждах, национальная одежда и предметы б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наглядными пособ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4716360" y="3789360"/>
            <a:ext cx="41767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У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 театр, 3-4 лет. аудиозаписи, мультфильмы, материалы телепередачи канала ТНВ «Әкият илендә» раскраски, игрушки «Акбай – Мияу», дидактически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иллюстрациями к УМ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C:\Users\ЕЛЕНА\Д.САД\Елена\фото\20151006_134344.jpg"/>
          <p:cNvPicPr/>
          <p:nvPr/>
        </p:nvPicPr>
        <p:blipFill>
          <a:blip r:embed="rId1"/>
          <a:stretch/>
        </p:blipFill>
        <p:spPr>
          <a:xfrm>
            <a:off x="571680" y="1071720"/>
            <a:ext cx="3714480" cy="2357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ЕЛЕНА\Д.САД\Елена\фото\20151006_140003.jpg"/>
          <p:cNvPicPr/>
          <p:nvPr/>
        </p:nvPicPr>
        <p:blipFill>
          <a:blip r:embed="rId2"/>
          <a:stretch/>
        </p:blipFill>
        <p:spPr>
          <a:xfrm>
            <a:off x="5143680" y="1071720"/>
            <a:ext cx="3500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ическ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4859280" y="1268280"/>
            <a:ext cx="3384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, наглядные пособия, энциклопедия для детей «Спорт», пиктограммы, картотека подвижных игр, дидактические игры, атрибуты, игры: кегли, хоккей, теннис, футбол и т.д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наглядными пособиями,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:\Users\ЕЛЕНА\Д.САД\Елена\фото\20151006_174422.jpg"/>
          <p:cNvPicPr/>
          <p:nvPr/>
        </p:nvPicPr>
        <p:blipFill>
          <a:blip r:embed="rId1"/>
          <a:srcRect l="16073" t="0" r="7144" b="0"/>
          <a:stretch/>
        </p:blipFill>
        <p:spPr>
          <a:xfrm>
            <a:off x="1357200" y="1571760"/>
            <a:ext cx="2786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вивающая предметно – пространственная среда</a:t>
            </a: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удожественно – эстетическ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920" y="2093760"/>
            <a:ext cx="42559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узыкальный уголо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музыкальных игр, папка «Композиторы», наглядное пособие «Музыкальные инструменты», музыкальные инструменты: барабаны,  гитара, маракасы, дудочки, аудиозаписи: «Классическая музыка», «Звуки природы», «Детские песни», «Песни из мультфильмов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5"/>
          <p:cNvSpPr/>
          <p:nvPr/>
        </p:nvSpPr>
        <p:spPr>
          <a:xfrm>
            <a:off x="4788000" y="4149720"/>
            <a:ext cx="41050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ис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, наглядные пособия «Народный промысел», «Дымковские игрушки»,  «Хохлома», «Городецкая роспись»,  «Гжель», трафареты: овощи, фрукты, животные, цветные карандаши, простые карандаши, гуашь, акварельные краски, восковые мелки, непроливайка, кисточки, пали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и, картины художников, живопись, пейзаж, портр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C:\Users\ЕЛЕНА\Д.САД\Елена\фото\20151007_131339.jpg"/>
          <p:cNvPicPr/>
          <p:nvPr/>
        </p:nvPicPr>
        <p:blipFill>
          <a:blip r:embed="rId1"/>
          <a:srcRect l="7551" t="0" r="9432" b="0"/>
          <a:stretch/>
        </p:blipFill>
        <p:spPr>
          <a:xfrm>
            <a:off x="1571760" y="1714680"/>
            <a:ext cx="2286000" cy="22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C:\Users\ЕЛЕНА\Д.САД\Елена\фото\20151007_135952.jpg"/>
          <p:cNvPicPr/>
          <p:nvPr/>
        </p:nvPicPr>
        <p:blipFill>
          <a:blip r:embed="rId2"/>
          <a:stretch/>
        </p:blipFill>
        <p:spPr>
          <a:xfrm>
            <a:off x="5643720" y="171468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2640" y="3714840"/>
            <a:ext cx="33577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Больниц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 в одежде врача, медицинский халат,  шапочка, маски, медицинский набор, лекар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5292720" y="3786120"/>
            <a:ext cx="285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арикмах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ы, расчески, крема, шампуни, гель для душа, 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C:\Users\ЕЛЕНА\Д.САД\Елена\фото\20151006_175518.jpg"/>
          <p:cNvPicPr/>
          <p:nvPr/>
        </p:nvPicPr>
        <p:blipFill>
          <a:blip r:embed="rId1"/>
          <a:stretch/>
        </p:blipFill>
        <p:spPr>
          <a:xfrm>
            <a:off x="5143680" y="107172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Users\ЕЛЕНА\Д.САД\Елена\фото\20151006_175559.jpg"/>
          <p:cNvPicPr/>
          <p:nvPr/>
        </p:nvPicPr>
        <p:blipFill>
          <a:blip r:embed="rId2"/>
          <a:stretch/>
        </p:blipFill>
        <p:spPr>
          <a:xfrm>
            <a:off x="1143000" y="107172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539640" y="4797360"/>
            <a:ext cx="35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ухон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, микроволновая печь, плита, овощи,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ю с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пол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0"/>
          <p:cNvSpPr/>
          <p:nvPr/>
        </p:nvSpPr>
        <p:spPr>
          <a:xfrm flipH="1">
            <a:off x="4787280" y="47242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я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ля ряженья, шляпы, украшения, сум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нарядами и украш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C:\Users\ЕЛЕНА\Д.САД\Елена\фото\20151006_180357.jpg"/>
          <p:cNvPicPr/>
          <p:nvPr/>
        </p:nvPicPr>
        <p:blipFill>
          <a:blip r:embed="rId1"/>
          <a:stretch/>
        </p:blipFill>
        <p:spPr>
          <a:xfrm>
            <a:off x="1000080" y="1643040"/>
            <a:ext cx="3500640" cy="2643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:\Users\ЕЛЕНА\Д.САД\Елена\фото\20151007_134514.jpg"/>
          <p:cNvPicPr/>
          <p:nvPr/>
        </p:nvPicPr>
        <p:blipFill>
          <a:blip r:embed="rId2"/>
          <a:stretch/>
        </p:blipFill>
        <p:spPr>
          <a:xfrm>
            <a:off x="5143680" y="1714680"/>
            <a:ext cx="30715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Прямоугольник 10"/>
          <p:cNvSpPr/>
          <p:nvPr/>
        </p:nvSpPr>
        <p:spPr>
          <a:xfrm flipH="1">
            <a:off x="4787280" y="1197000"/>
            <a:ext cx="35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у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альбомы, фотоколлажи, детские рисунки, журналы, игрушки из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фотоаль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C:\Users\ЕЛЕНА\Д.САД\Елена\фото\20151007_135739.jpg"/>
          <p:cNvPicPr/>
          <p:nvPr/>
        </p:nvPicPr>
        <p:blipFill>
          <a:blip r:embed="rId1"/>
          <a:stretch/>
        </p:blipFill>
        <p:spPr>
          <a:xfrm>
            <a:off x="1214280" y="114300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C:\Users\ЕЛЕНА\Д.САД\Елена\фото\20151007_142155.jpg"/>
          <p:cNvPicPr/>
          <p:nvPr/>
        </p:nvPicPr>
        <p:blipFill>
          <a:blip r:embed="rId2"/>
          <a:stretch/>
        </p:blipFill>
        <p:spPr>
          <a:xfrm>
            <a:off x="5786280" y="4000680"/>
            <a:ext cx="2786400" cy="24285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1357200" y="4500720"/>
            <a:ext cx="3929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енсор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игр по сенсорике, пирамида, большая мозаика, дом с со цветными фигурами, плакат «Цв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1643040" y="4071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324000" y="3429000"/>
            <a:ext cx="345600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материал (большой), констру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констру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4643280" y="4000680"/>
            <a:ext cx="3816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ФЭ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ы «Цифры», «Геометрические фигуры», «Веселый счет», дидактические игры, картотеки, раздаточный материал, счетные палочки, счет,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C:\Users\ЕЛЕНА\Д.САД\Елена\фото\20151007_133017.jpg"/>
          <p:cNvPicPr/>
          <p:nvPr/>
        </p:nvPicPr>
        <p:blipFill>
          <a:blip r:embed="rId1"/>
          <a:srcRect l="0" t="11108" r="0" b="11108"/>
          <a:stretch/>
        </p:blipFill>
        <p:spPr>
          <a:xfrm>
            <a:off x="4929120" y="1428840"/>
            <a:ext cx="3143160" cy="2214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Users\ЕЛЕНА\Д.САД\Елена\фото\20151007_144914.jpg"/>
          <p:cNvPicPr/>
          <p:nvPr/>
        </p:nvPicPr>
        <p:blipFill>
          <a:blip r:embed="rId2"/>
          <a:stretch/>
        </p:blipFill>
        <p:spPr>
          <a:xfrm>
            <a:off x="928800" y="1428840"/>
            <a:ext cx="2786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51280" y="1700280"/>
            <a:ext cx="5083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«песок – вод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атрибуты и пособия для исследовательской деятельности, природные материал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250920" y="3573360"/>
            <a:ext cx="309708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 макет дороги, машины, дорожные знаки, плакаты, ширма по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безопасности, ПДД, ширма по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C:\Users\ЕЛЕНА\Д.САД\Елена\фото\20151006_131515.jpg"/>
          <p:cNvPicPr/>
          <p:nvPr/>
        </p:nvPicPr>
        <p:blipFill>
          <a:blip r:embed="rId1"/>
          <a:stretch/>
        </p:blipFill>
        <p:spPr>
          <a:xfrm>
            <a:off x="571680" y="121428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:\Users\ЕЛЕНА\Д.САД\Елена\фото\20151007_143221.jpg"/>
          <p:cNvPicPr/>
          <p:nvPr/>
        </p:nvPicPr>
        <p:blipFill>
          <a:blip r:embed="rId2"/>
          <a:stretch/>
        </p:blipFill>
        <p:spPr>
          <a:xfrm>
            <a:off x="4786200" y="121428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324000" y="3213000"/>
            <a:ext cx="3456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дидактически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 по всем образовательным обла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8" descr="C:\Users\Хуснутдинова\Desktop\IMG_1119.JPG"/>
          <p:cNvPicPr/>
          <p:nvPr/>
        </p:nvPicPr>
        <p:blipFill>
          <a:blip r:embed="rId1"/>
          <a:stretch/>
        </p:blipFill>
        <p:spPr>
          <a:xfrm>
            <a:off x="1258920" y="1197000"/>
            <a:ext cx="3097080" cy="16556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C:\Users\Хуснутдинова\Desktop\IMG_1102.JPG"/>
          <p:cNvPicPr/>
          <p:nvPr/>
        </p:nvPicPr>
        <p:blipFill>
          <a:blip r:embed="rId2"/>
          <a:stretch/>
        </p:blipFill>
        <p:spPr>
          <a:xfrm>
            <a:off x="2195640" y="501336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4"/>
          <p:cNvSpPr/>
          <p:nvPr/>
        </p:nvSpPr>
        <p:spPr>
          <a:xfrm>
            <a:off x="4500720" y="4221000"/>
            <a:ext cx="431928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 календарь природы, атрибуты и пособия для исследовательской деятельности, природные матери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энциклопед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C:\Users\ЕЛЕНА\Д.САД\Елена\фото\20151007_143330.jpg"/>
          <p:cNvPicPr/>
          <p:nvPr/>
        </p:nvPicPr>
        <p:blipFill>
          <a:blip r:embed="rId3"/>
          <a:stretch/>
        </p:blipFill>
        <p:spPr>
          <a:xfrm>
            <a:off x="5572080" y="121428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-252360" y="2492280"/>
            <a:ext cx="316872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еч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речевых игр, считалки, читоговорки, скороговорки, потешки, прибаутки, дидактические игры, словес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ять дидактическими игр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3851280" y="1268280"/>
            <a:ext cx="48974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еатраль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театральных игр, пальчиковый театр «Репка», «Курочка Ряба», , Театр на магнитах «Теремок», «Кто сказал мяу?» «Колобок», теневой  театр «Курочка Ряба», «Маша и медведь», папка «Герои сказок», , полума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ый театр «Колобок», шир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C:\Users\ЕЛЕНА\Д.САД\Елена\фото\20151006_131951.jpg"/>
          <p:cNvPicPr/>
          <p:nvPr/>
        </p:nvPicPr>
        <p:blipFill>
          <a:blip r:embed="rId1"/>
          <a:stretch/>
        </p:blipFill>
        <p:spPr>
          <a:xfrm>
            <a:off x="285840" y="21420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C:\Users\ЕЛЕНА\Д.САД\Елена\фото\20151006_133107.jpg"/>
          <p:cNvPicPr/>
          <p:nvPr/>
        </p:nvPicPr>
        <p:blipFill>
          <a:blip r:embed="rId2"/>
          <a:stretch/>
        </p:blipFill>
        <p:spPr>
          <a:xfrm>
            <a:off x="4643280" y="3643200"/>
            <a:ext cx="3357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6:51:32Z</dcterms:created>
  <dc:creator>Хуснутдинова</dc:creator>
  <dc:description/>
  <dc:language>en-US</dc:language>
  <cp:lastModifiedBy>DNS</cp:lastModifiedBy>
  <dcterms:modified xsi:type="dcterms:W3CDTF">2016-10-07T18:21:51Z</dcterms:modified>
  <cp:revision>87</cp:revision>
  <dc:subject/>
  <dc:title>Воспитатель: Хуснутдинова Гулия Хайдаровна</dc:title>
</cp:coreProperties>
</file>