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764-AFEE-42DD-8C4A-31722CB0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3EC-4304-4D6B-A726-26E3022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4A5-BB65-415A-8F77-40D6607D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BBD-EEC7-4B61-9538-A75AC959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9640-E18D-4193-919C-6F1E2D9C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A77-3D7B-4A79-97FE-30C5EF3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2666-64FA-4F7A-94E8-88119834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FCE2-BA80-418C-9629-19189E00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9AD6-1CFA-45EB-8FFC-1D52322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DAE-BD47-478B-90DD-30605D1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04C1-1933-471A-BD88-37BA108E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099-3090-4A65-8E3D-FE91610D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0F0-8839-405B-96A1-C9D156A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4957-AFB9-4D0E-A105-716A760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94CC-0585-4A7D-B639-0D322C9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333-7270-4E92-8131-0488E426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DDA-EE25-4C26-A2BE-A0882E28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6D98-F08C-42E3-9FE5-0E42B0F5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2D79-E7DE-4B19-AE26-E3AF7D41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0D00-9B54-4AE1-9ED2-43E7F2C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DE74-2F6F-493D-80BC-3EB48A5A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EF86-BA4C-4BC8-8BDC-D64F2C8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C00-93B7-4B9C-9AA2-D6710048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7E55-0659-42A1-90BB-067F99A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36D9-35AE-40DD-9D21-7C73F75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F3E6-4E37-4D33-8FD2-3E77F61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3C70-D353-4307-92A4-037E161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7092-6AF4-44FB-B484-85DA905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088C-23E0-4F4C-A686-E5D1F071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0EE4-5654-4CF3-BB08-934A7047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5F7C-FD67-41A5-8E20-D6309431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92F3-507B-40BD-BD77-62CFB71F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CDC9-F5C2-4D94-BE80-89FFE5E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186-89AE-446F-A6E0-0ACAA594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9C29-E88F-486F-B293-13F77D81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FB432-B6DF-4BD5-A963-2BB2066A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A4E6-471C-4EAE-A52A-7F2488A2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2EC0-4961-45E3-821E-3613832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AFCF-5214-458B-8291-6257BC6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27CB-99AE-45BF-8E73-0FA386A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19D5-7ADD-4279-AD1B-BAF22499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C7A7-5746-4D7D-92A0-1C488386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1035-431C-4DE4-AB4C-36546377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6EE3-8221-4F55-9486-D3B15438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B5F-4114-427A-BEBD-AEEC5888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F492-243B-4DBA-AACF-410D294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017B-A7B4-46AF-BBA3-A320024F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ED33-A6C0-4A57-99F5-72EF719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F9B1-2A7D-4666-9145-A1212917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2C1B-2A3B-42E9-9FC9-626EB633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94937-5BAB-49CF-B966-3D2B73C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74B0-85AA-45CE-802C-04F75A1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F27F-4319-421F-96A0-6661873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57D3-5546-4D20-AD42-1148876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41DF-1D21-484F-9497-750CF7A9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938-397C-48B9-801C-AA40CB29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C9B6-E39F-411B-B5FA-A762E8DD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4E59-8C11-4C22-815D-20A385F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10B7-C6E3-4F6D-9416-A334FEE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8413-6A73-4BD7-90CB-F87C684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72D43-2ED4-4557-807F-6CCDFA6E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905B-BEB3-4519-8D1A-89BD4197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2E277-2ADA-49A1-93C2-C79E4E4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6F34-E804-4CAE-B78E-CE2540A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8279C-23BA-4D71-B96C-A28B6E3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4FFA0-1257-4C59-975B-B9E3179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CAB-8488-44A3-A197-B4E0B7F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1A27-A4B9-4B24-A297-648DEF8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1B08-51DA-419F-8CE5-15159D41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E19A-C7BE-4294-8E7B-30796C99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AD55D-31FF-4035-8D9B-99E0B6D3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9698-43AC-450F-8899-740DD34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4A77B-9D66-4790-BABF-FC2A3335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0DAEF-60BC-478F-ADAE-8B414DC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E33E-061F-4636-9817-7AB64BC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307A-5A6E-4D3D-87CF-A2AD2EA2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F45B-1B77-4F0F-92C1-5B8A44F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35A-8FFE-492C-B869-FA1B3D6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E06F5-5B14-4679-B4EA-D830317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9D10E-BCE6-4617-9A28-5AA455A5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7F1C-8826-4D9D-9D9F-68E020E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9E90-4E19-4990-BEF3-2B6A1D2A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4D6A-897C-4E51-8214-84D914BA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E97-71F8-4F9E-BCCA-6A30BE4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3F0-D680-42D1-8767-6BE121683F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05A-9F5B-48EA-AE90-9A9BE3DDAE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A7E1-7EB7-47D1-A4DE-6E3676926D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8B1-4BA9-4077-A5F3-AFF6AE1DFD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015F-4278-47B4-A2FC-9A5A1DA3DD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D09-5E59-454B-9046-03C02D4308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23F1-BD7A-4554-BEBA-12F8303607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00360" y="3716280"/>
            <a:ext cx="433836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:</a:t>
            </a:r>
            <a:br>
              <a:rPr sz="29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 детского сада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395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ратьева Елена Анатольевна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333000"/>
            <a:ext cx="7407000" cy="3887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395 комбинированного вида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азвивающая предметно- пространственная сред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3995640" y="59500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ь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324000" y="3716280"/>
            <a:ext cx="42480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Н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материал о родном городе, флаги РТ и РФ , художественная литература на татарском языке по возрасту детей, дидактические игры, раскраски, трафареты, куклы в национальных одеждах, национальная одежда и предметы б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наглядными пособ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4716360" y="3789360"/>
            <a:ext cx="41767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У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 театр, 3-4 лет. аудиозаписи, мультфильмы, материалы телепередачи канала ТНВ «Әкият илендә» раскраски, игрушки «Акбай – Мияу», дидактически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иллюстрациями к УМ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C:\Users\ЕЛЕНА\Д.САД\Елена\фото\20151006_134344.jpg"/>
          <p:cNvPicPr/>
          <p:nvPr/>
        </p:nvPicPr>
        <p:blipFill>
          <a:blip r:embed="rId1"/>
          <a:stretch/>
        </p:blipFill>
        <p:spPr>
          <a:xfrm>
            <a:off x="571680" y="1071720"/>
            <a:ext cx="3714480" cy="2357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ЕЛЕНА\Д.САД\Елена\фото\20151006_140003.jpg"/>
          <p:cNvPicPr/>
          <p:nvPr/>
        </p:nvPicPr>
        <p:blipFill>
          <a:blip r:embed="rId2"/>
          <a:stretch/>
        </p:blipFill>
        <p:spPr>
          <a:xfrm>
            <a:off x="5143680" y="1071720"/>
            <a:ext cx="3500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ическ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4859280" y="1268280"/>
            <a:ext cx="3384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, наглядные пособия, энциклопедия для детей «Спорт», пиктограммы, картотека подвижных игр, дидактические игры, атрибуты, игры: кегли, хоккей, теннис, футбол и т.д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наглядными пособиями,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:\Users\ЕЛЕНА\Д.САД\Елена\фото\20151006_174422.jpg"/>
          <p:cNvPicPr/>
          <p:nvPr/>
        </p:nvPicPr>
        <p:blipFill>
          <a:blip r:embed="rId1"/>
          <a:srcRect l="16073" t="0" r="7144" b="0"/>
          <a:stretch/>
        </p:blipFill>
        <p:spPr>
          <a:xfrm>
            <a:off x="1357200" y="1571760"/>
            <a:ext cx="2786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вивающая предметно – пространственная среда</a:t>
            </a: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удожественно – эстетическ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920" y="2093760"/>
            <a:ext cx="42559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узыкальный уголо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музыкальных игр, папка «Композиторы», наглядное пособие «Музыкальные инструменты», музыкальные инструменты: барабаны,  гитара, маракасы, дудочки, аудиозаписи: «Классическая музыка», «Звуки природы», «Детские песни», «Песни из мультфильмов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5"/>
          <p:cNvSpPr/>
          <p:nvPr/>
        </p:nvSpPr>
        <p:spPr>
          <a:xfrm>
            <a:off x="4788000" y="4149720"/>
            <a:ext cx="41050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ис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, наглядные пособия «Народный промысел», «Дымковские игрушки»,  «Хохлома», «Городецкая роспись»,  «Гжель», трафареты: овощи, фрукты, животные, цветные карандаши, простые карандаши, гуашь, акварельные краски, восковые мелки, непроливайка, кисточки, пали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и, картины художников, живопись, пейзаж, портр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C:\Users\ЕЛЕНА\Д.САД\Елена\фото\20151007_131339.jpg"/>
          <p:cNvPicPr/>
          <p:nvPr/>
        </p:nvPicPr>
        <p:blipFill>
          <a:blip r:embed="rId1"/>
          <a:srcRect l="7551" t="0" r="9432" b="0"/>
          <a:stretch/>
        </p:blipFill>
        <p:spPr>
          <a:xfrm>
            <a:off x="1571760" y="1714680"/>
            <a:ext cx="2286000" cy="22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C:\Users\ЕЛЕНА\Д.САД\Елена\фото\20151007_135952.jpg"/>
          <p:cNvPicPr/>
          <p:nvPr/>
        </p:nvPicPr>
        <p:blipFill>
          <a:blip r:embed="rId2"/>
          <a:stretch/>
        </p:blipFill>
        <p:spPr>
          <a:xfrm>
            <a:off x="5643720" y="171468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2640" y="3714840"/>
            <a:ext cx="33577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Больниц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 в одежде врача, медицинский халат,  шапочка, маски, медицинский набор, лекар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5292720" y="3786120"/>
            <a:ext cx="2855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арикмах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ы, расчески, крема, шампуни, гель для душа, 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C:\Users\ЕЛЕНА\Д.САД\Елена\фото\20151006_175518.jpg"/>
          <p:cNvPicPr/>
          <p:nvPr/>
        </p:nvPicPr>
        <p:blipFill>
          <a:blip r:embed="rId1"/>
          <a:stretch/>
        </p:blipFill>
        <p:spPr>
          <a:xfrm>
            <a:off x="5143680" y="107172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Users\ЕЛЕНА\Д.САД\Елена\фото\20151006_175559.jpg"/>
          <p:cNvPicPr/>
          <p:nvPr/>
        </p:nvPicPr>
        <p:blipFill>
          <a:blip r:embed="rId2"/>
          <a:stretch/>
        </p:blipFill>
        <p:spPr>
          <a:xfrm>
            <a:off x="1143000" y="107172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539640" y="4797360"/>
            <a:ext cx="35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ухонный уг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, микроволновая печь, плита, овощи,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ирую сдел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пол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0"/>
          <p:cNvSpPr/>
          <p:nvPr/>
        </p:nvSpPr>
        <p:spPr>
          <a:xfrm flipH="1">
            <a:off x="4787280" y="47242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я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для ряженья, шляпы, украшения, сум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нарядами и украш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C:\Users\ЕЛЕНА\Д.САД\Елена\фото\20151006_180357.jpg"/>
          <p:cNvPicPr/>
          <p:nvPr/>
        </p:nvPicPr>
        <p:blipFill>
          <a:blip r:embed="rId1"/>
          <a:stretch/>
        </p:blipFill>
        <p:spPr>
          <a:xfrm>
            <a:off x="1000080" y="1643040"/>
            <a:ext cx="3500640" cy="26431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:\Users\ЕЛЕНА\Д.САД\Елена\фото\20151007_134514.jpg"/>
          <p:cNvPicPr/>
          <p:nvPr/>
        </p:nvPicPr>
        <p:blipFill>
          <a:blip r:embed="rId2"/>
          <a:stretch/>
        </p:blipFill>
        <p:spPr>
          <a:xfrm>
            <a:off x="5143680" y="1714680"/>
            <a:ext cx="30715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Прямоугольник 10"/>
          <p:cNvSpPr/>
          <p:nvPr/>
        </p:nvSpPr>
        <p:spPr>
          <a:xfrm flipH="1">
            <a:off x="4787280" y="1197000"/>
            <a:ext cx="35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у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альбомы, фотоколлажи, детские рисунки, журналы, игрушки из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ить фотоаль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C:\Users\ЕЛЕНА\Д.САД\Елена\фото\20151007_135739.jpg"/>
          <p:cNvPicPr/>
          <p:nvPr/>
        </p:nvPicPr>
        <p:blipFill>
          <a:blip r:embed="rId1"/>
          <a:stretch/>
        </p:blipFill>
        <p:spPr>
          <a:xfrm>
            <a:off x="1214280" y="114300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C:\Users\ЕЛЕНА\Д.САД\Елена\фото\20151007_142155.jpg"/>
          <p:cNvPicPr/>
          <p:nvPr/>
        </p:nvPicPr>
        <p:blipFill>
          <a:blip r:embed="rId2"/>
          <a:stretch/>
        </p:blipFill>
        <p:spPr>
          <a:xfrm>
            <a:off x="5786280" y="4000680"/>
            <a:ext cx="2786400" cy="242856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1357200" y="4500720"/>
            <a:ext cx="3929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енсор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игр по сенсорике, пирамида, большая мозаика, дом с со цветными фигурами, плакат «Цв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1643040" y="40719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324000" y="3429000"/>
            <a:ext cx="345600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ый материал (большой), констру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констру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4643280" y="4000680"/>
            <a:ext cx="3816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ФЭ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каты «Цифры», «Геометрические фигуры», «Веселый счет», дидактические игры, картотеки, раздаточный материал, счетные палочки, счет,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C:\Users\ЕЛЕНА\Д.САД\Елена\фото\20151007_133017.jpg"/>
          <p:cNvPicPr/>
          <p:nvPr/>
        </p:nvPicPr>
        <p:blipFill>
          <a:blip r:embed="rId1"/>
          <a:srcRect l="0" t="11108" r="0" b="11108"/>
          <a:stretch/>
        </p:blipFill>
        <p:spPr>
          <a:xfrm>
            <a:off x="4929120" y="1428840"/>
            <a:ext cx="3143160" cy="2214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C:\Users\ЕЛЕНА\Д.САД\Елена\фото\20151007_144914.jpg"/>
          <p:cNvPicPr/>
          <p:nvPr/>
        </p:nvPicPr>
        <p:blipFill>
          <a:blip r:embed="rId2"/>
          <a:stretch/>
        </p:blipFill>
        <p:spPr>
          <a:xfrm>
            <a:off x="928800" y="1428840"/>
            <a:ext cx="2786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51280" y="1700280"/>
            <a:ext cx="5083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«песок – вод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атрибуты и пособия для исследовательской деятельности, природные материал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250920" y="3573360"/>
            <a:ext cx="309708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 макет дороги, машины, дорожные знаки, плакаты, ширма по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безопасности, ПДД, ширма по ПД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C:\Users\ЕЛЕНА\Д.САД\Елена\фото\20151006_131515.jpg"/>
          <p:cNvPicPr/>
          <p:nvPr/>
        </p:nvPicPr>
        <p:blipFill>
          <a:blip r:embed="rId1"/>
          <a:stretch/>
        </p:blipFill>
        <p:spPr>
          <a:xfrm>
            <a:off x="571680" y="121428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C:\Users\ЕЛЕНА\Д.САД\Елена\фото\20151007_143221.jpg"/>
          <p:cNvPicPr/>
          <p:nvPr/>
        </p:nvPicPr>
        <p:blipFill>
          <a:blip r:embed="rId2"/>
          <a:stretch/>
        </p:blipFill>
        <p:spPr>
          <a:xfrm>
            <a:off x="4786200" y="121428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знавательн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324000" y="3213000"/>
            <a:ext cx="3456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дидактически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 по всем образовательным област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: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8" descr="C:\Users\Хуснутдинова\Desktop\IMG_1119.JPG"/>
          <p:cNvPicPr/>
          <p:nvPr/>
        </p:nvPicPr>
        <p:blipFill>
          <a:blip r:embed="rId1"/>
          <a:stretch/>
        </p:blipFill>
        <p:spPr>
          <a:xfrm>
            <a:off x="1258920" y="1197000"/>
            <a:ext cx="3097080" cy="16556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9" descr="C:\Users\Хуснутдинова\Desktop\IMG_1102.JPG"/>
          <p:cNvPicPr/>
          <p:nvPr/>
        </p:nvPicPr>
        <p:blipFill>
          <a:blip r:embed="rId2"/>
          <a:stretch/>
        </p:blipFill>
        <p:spPr>
          <a:xfrm>
            <a:off x="2195640" y="501336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4"/>
          <p:cNvSpPr/>
          <p:nvPr/>
        </p:nvSpPr>
        <p:spPr>
          <a:xfrm>
            <a:off x="4500720" y="4221000"/>
            <a:ext cx="431928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дидактические игры, картотеки,  календарь природы, атрибуты и пособия для исследовательской деятельности, природные матери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ь дидактическими играми, энциклопед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0" descr="C:\Users\ЕЛЕНА\Д.САД\Елена\фото\20151007_143330.jpg"/>
          <p:cNvPicPr/>
          <p:nvPr/>
        </p:nvPicPr>
        <p:blipFill>
          <a:blip r:embed="rId3"/>
          <a:stretch/>
        </p:blipFill>
        <p:spPr>
          <a:xfrm>
            <a:off x="5572080" y="121428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4448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т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-252360" y="2492280"/>
            <a:ext cx="316872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Уголок реч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речевых игр, считалки, читоговорки, скороговорки, потешки, прибаутки, дидактические игры, словес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ять дидактическими игр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3851280" y="1268280"/>
            <a:ext cx="48974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еатраль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ыло сделан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театральных игр, пальчиковый театр «Репка», «Курочка Ряба», , Театр на магнитах «Теремок», «Кто сказал мяу?» «Колобок», теневой  театр «Курочка Ряба», «Маша и медведь», папка «Герои сказок», , полума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анирую сделать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ый театр «Колобок», шир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C:\Users\ЕЛЕНА\Д.САД\Елена\фото\20151006_131951.jpg"/>
          <p:cNvPicPr/>
          <p:nvPr/>
        </p:nvPicPr>
        <p:blipFill>
          <a:blip r:embed="rId1"/>
          <a:stretch/>
        </p:blipFill>
        <p:spPr>
          <a:xfrm>
            <a:off x="285840" y="214200"/>
            <a:ext cx="3000240" cy="2143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9" descr="C:\Users\ЕЛЕНА\Д.САД\Елена\фото\20151006_133107.jpg"/>
          <p:cNvPicPr/>
          <p:nvPr/>
        </p:nvPicPr>
        <p:blipFill>
          <a:blip r:embed="rId2"/>
          <a:stretch/>
        </p:blipFill>
        <p:spPr>
          <a:xfrm>
            <a:off x="4643280" y="3643200"/>
            <a:ext cx="33577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16:51:32Z</dcterms:created>
  <dc:creator>Хуснутдинова</dc:creator>
  <dc:description/>
  <dc:language>en-US</dc:language>
  <cp:lastModifiedBy>DNS</cp:lastModifiedBy>
  <dcterms:modified xsi:type="dcterms:W3CDTF">2016-10-07T18:21:51Z</dcterms:modified>
  <cp:revision>87</cp:revision>
  <dc:subject/>
  <dc:title>Воспитатель: Хуснутдинова Гулия Хайдаровна</dc:title>
</cp:coreProperties>
</file>