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8FC-5724-459D-B318-2B067210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890-BF71-4AD2-BEFF-659DE64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3F2-469A-499F-A87F-C9E5789D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86E-030C-4865-AE18-066876CF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DAD-DCAF-49D3-9D05-6F408BF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107-06B1-41BC-9569-71C66AB8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ED1-BCD9-4873-9767-0A363CF3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BE2-D4D7-469A-9076-E337738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AAA-D3C5-4EE6-B440-005F5B08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310-86EC-43FF-8BDE-E96E91C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5BF-0095-4098-A955-64AF269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23A-6B4D-469B-958B-3B529883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A3F-C321-4F7F-8929-A8BD92DF23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9640" y="40464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nstantia"/>
              </a:rPr>
              <a:t>Удивительный мир сл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nstantia"/>
              </a:rPr>
              <a:t>Работа со словарными слова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nstantia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395280" y="33336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Вставь пропущенную бу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…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оро…, ов…щи, п…м…дор, …гурец, м…рко…ь, г…рох, к…ртоф…ль, б…кл…жан, м…ро…, п…года, д…рога, т…гда, рас…ка…, …зык, к…р…ндаш, р…бота, Мм..сква, Рр…с…ия, н…ро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9640" y="476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о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д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ов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щи, п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и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дор, 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к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в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ь, г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х, к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тоф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ель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б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кл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жан, 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з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п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ода, т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да, ра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сс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ка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з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я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зык, к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ндаш, р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бота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М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сква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Росс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ия, н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24000" y="333360"/>
            <a:ext cx="849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onstantia"/>
              </a:rPr>
              <a:t>Составьте с этими словами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щи с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да, с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ый п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дор,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зина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урцов, сл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я 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к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в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ь, з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ёный г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х, вк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ый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тоф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ь, гл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ий б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л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жан, т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кучий 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сол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ая п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ода, 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я д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га, т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да, зимой…, детский 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р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ий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я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зык, ц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тные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д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ш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т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я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ж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ё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ая 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бота, 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ая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М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ква, 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икая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Ро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ия, 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ёлый 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79280" y="260280"/>
            <a:ext cx="871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onstantia"/>
              </a:rPr>
              <a:t>Составьте с этими словами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сенью на огороде созрели овощи. Девочка набрала целую корзину огурцов, пидоров и моркови. Грядки с горохом и картофелем уже пусты. Поздно созревает баклажан. Погода в деревне стоит чудесная! Едем по извилистой дороге домой. Когда вернусь в город, тогда точно найду, что рассказать ребятам. В Москве стоит дождливая погода. Красивая страна Россия! Народ спешит с работы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kab36</cp:lastModifiedBy>
  <dcterms:modified xsi:type="dcterms:W3CDTF">2016-10-07T07:57:50Z</dcterms:modified>
  <cp:revision>201</cp:revision>
  <dc:subject/>
  <dc:title>Diapositiva 1</dc:title>
</cp:coreProperties>
</file>