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502-CCB4-4B5D-B46B-891484DF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7CD-F2A4-47A5-AFCF-14BBEA1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0DE-4C59-4457-8E55-7DB4014B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CA2-B1BC-4E4E-A115-579F40CC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C44-9214-4DDA-A985-7DA4454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3C7-779E-40D9-B581-3142A9A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332-F10A-49CD-BD03-102AA7B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550-C38B-42C4-BF5F-E2265DE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E9A-4421-4C76-B4B4-1002270B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170-F682-4579-8E23-5A9CBBF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B47-2D04-4A99-B9AB-28689F64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A3C-7DE3-42E7-BD11-1DADF9D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C15-29E2-4497-AB37-61C35F41F5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9640" y="40464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nstantia"/>
              </a:rPr>
              <a:t>Удивительный мир сл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nstantia"/>
              </a:rPr>
              <a:t>Работа со словарными словам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nstantia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395280" y="33336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Вставь пропущенную бук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…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оро…, ов…щи, п…м…дор, …гурец, м…рко…ь, г…рох, к…ртоф…ль, б…кл…жан, м…ро…, п…года, д…рога, т…гда, рас…ка…, …зык, к…р…ндаш, р…бота, Мм..сква, Рр…с…ия, н…ро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9640" y="4762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гор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д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ов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щи, п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м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и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дор, м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к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в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ь, г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ох, к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тоф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ель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б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кл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жан, м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з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п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года, т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гда, ра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сс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ка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з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я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зык, к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ндаш, р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бота, 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Мо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сква, 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Росс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ия, н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а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</a:rPr>
              <a:t>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24000" y="333360"/>
            <a:ext cx="849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onstantia"/>
              </a:rPr>
              <a:t>Составьте с этими словами словосоче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О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щи с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да, с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ч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ый п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м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дор, к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зина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урцов, сла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ая м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к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в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ь, з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ёный г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х, вку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ый к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тоф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ь, гла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ий б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л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жан, т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кучий м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, солн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ч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ая п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ода, у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ая д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га, т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гда, зимой…, детский 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сс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а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, ру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с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кий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я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зык, ц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тные к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нд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ш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, т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я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ж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ё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ая р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бота, н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очн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ая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Мо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ква, 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ликая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Росс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ия, в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ёлый н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о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79280" y="260280"/>
            <a:ext cx="871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onstantia"/>
              </a:rPr>
              <a:t>Составьте с этими словами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Осенью на огороде созрели овощи. Девочка набрала целую корзину огурцов, пидоров и моркови. Грядки с горохом и картофелем уже пусты. Поздно созревает баклажан. Погода в деревне стоит чудесная! Едем по извилистой дороге домой. Когда вернусь в город, тогда точно найду, что рассказать ребятам. В Москве стоит дождливая погода. Красивая страна Россия! Народ спешит с работы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kab36</cp:lastModifiedBy>
  <dcterms:modified xsi:type="dcterms:W3CDTF">2016-10-07T07:57:50Z</dcterms:modified>
  <cp:revision>201</cp:revision>
  <dc:subject/>
  <dc:title>Diapositiva 1</dc:title>
</cp:coreProperties>
</file>