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6E25-DC39-4888-B269-4E6611486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170B-38DE-4750-B19F-485C31DC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DACF0F-6A00-45CD-8DA2-1944770E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070C0A-5101-4BAF-BE0B-902F4360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F60C6D-DBFC-4BC6-83A6-AAFDBA4F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AF9442-FF51-491F-96EF-B0307CBD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1300CD-0742-4083-A40D-BF553966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91713F-843E-421E-B8C8-6F6D2A2A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8E6E15-95D5-4D46-99BD-5AEE2A15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3A4F61-CC16-4771-9519-FA86AB59E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BCD0C4-9B6C-417C-931E-D01E5F794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58B3-C943-4311-8FC8-3E1F5CBFC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EFEB-670B-4AA5-A273-189DE7831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8FA96-338E-490F-A329-9A893A0D3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4C191-F908-495E-A45B-7FDD2913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009758-95CE-4489-A069-E724F665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FB285-0E95-489F-97CF-22AB476E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E0BFB-79DC-436A-B3F2-B058C1DD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5A5E3E-4FD5-4291-8674-2C0E665E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9810C7-0DC6-4392-B114-F07B67BC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44AE-7CD0-4E9E-B903-332BE493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ED0625-A216-4F44-BB2E-0773E562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F3963-1BDE-46CC-A057-A98FA492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D0313-0C6F-441F-A696-4C73CA4E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1DB927-1CB1-4473-BDB9-81C320D8E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9392C-EB44-4D79-8F6B-F6DCF14E4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C4C5C-0B68-459F-BCD7-29345FFFD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80721-48E4-4E11-840F-DBE75C80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B4AA2-C3E9-4182-893E-23D5D777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E1559-1B0A-4A2A-9A19-6450B9A6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4B448-A9D3-4C4A-AB86-BF5DE1A1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2A02-E5B3-4B99-B511-06984C75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DFFCD-6D8B-4AC1-853A-CD0FE025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E3F4C-842E-48FB-8F85-85DA9150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A1443-2131-426F-860C-ED7E12DF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41CAF-B818-4E54-933D-F47FF5C6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ABFE9-EBC7-4081-AB58-A5F67839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FD840-D6F8-47E2-A735-D0966B708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0D9D6-6127-4BDF-8132-EE4528790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535F1B-3022-49E5-9CE5-B3458F6F7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69A1F6-04A9-477F-96A1-2F8D6CC3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A345F0-0CD4-407B-A300-6C9861A8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139D-6186-47D7-BB3C-3A8CB356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359D98-E0D3-4D64-B02A-1FBB1293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FE798E-B2CC-4120-AD90-78083E75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235E33-1EF1-4831-B6C4-99C94076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4C5887-A9F4-43B3-8A45-6FD0886C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4004AD-AC5F-4D81-92AC-2F68D558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D96885-34DC-48AE-9ADD-C79731C8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A99ED2-17EB-40EB-B48B-F3D28EB9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7B1F48-94A0-49E0-8BFC-B87112A63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1BE0BA-950F-4C96-90FA-6D6B754F0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5AFBD-B4CF-499C-8AA3-876A601E2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3096-F242-407C-B01F-6D767CC5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12878-F86F-4224-A31D-56F5CCBB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E367E-DF09-4B98-A5EC-DCDF436F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0835B-1C00-4519-BFE6-02BFEA51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DD8D6-D63B-4005-91E6-2011EFA6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79715-A74F-42BC-966F-8A4D4F3E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0D834-A0F0-4DE2-9A87-4436E066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61ADE-B7C8-47CD-83F8-98871EE0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255F5-8D11-4B7F-9B58-CDDCA1BD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A52C1-E968-4408-845E-FF42DD85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E4227-309E-40B4-9B9B-D3FABC863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9C90-AB75-415D-910F-3FAAE0EE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EAB6B-A073-47A2-8532-1644EEA67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6C4B3-A3AD-4B1B-8B5E-C60290947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A3E0E-B196-457F-A3F9-254163E8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3689C-E3DC-4F05-88D7-1678B6E7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73EAC-A7C9-407E-B3F9-5296FB8D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A5D02-443B-4571-8265-BC914D54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31995-12AD-4DE9-9411-148EF952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8AFC7-5D3B-406B-AB80-D25708CF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88D55-7D02-4B3B-A148-37A32EDD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89739-8F8F-4925-9749-C6C00FBD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4616-773F-4EF7-BB3E-F32736A7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BE2A4-A7D5-4262-AA33-93A6DED5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C49F0-A1DB-4621-BA7F-C8E283947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1C5B0-454F-4FA2-A9CE-269814E93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89960-DB15-47ED-BED6-8578D26E9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1423E-FEE6-40F2-9518-DF99E1BB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288C8-3213-484C-A3E7-C228F982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0AB28-2797-472E-BA9D-E702891F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90A7C-1E9D-47F3-8027-BCF8953B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B80EB-7B30-46D0-90CA-7C0CB67E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A2CE3-1E4A-482E-90D9-B3D0916B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38DD-8C10-4289-8B50-E11E3FFF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78B2A-BB11-4589-9108-0C08CD90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6EB15-0B8A-438F-86BC-9CD58B6D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C4F38-5043-4E2B-946F-0B767689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767CE-D56B-4F66-8CB0-D864A1A0C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56320-97B9-40D7-90E8-F3517516B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351660-FAA2-4AAE-815B-C44F8356E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C46AA1-2300-4AA1-BD72-DA8E8F7C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69BED9-A302-43EA-A77F-1433E144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4613A0-D45A-4A71-A059-AAAE9E93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CEDAF2-684A-49CC-8363-0AE5E9C1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3813-D1EE-416E-AE9A-00F5EC7E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4527CF-8235-408B-8745-621101FB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188153-9FB0-478A-BFEA-2E755CCE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B06BFF-F5D8-48E4-BD29-DF679FBC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FF9FEF-8330-406B-BA2A-C8180524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A91D7B-C48C-4271-A87D-D49D2475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D89116-0F66-46D9-842D-06FCF7D54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CFF744-F3DF-45C7-A8FB-EE9F252AE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542B73-7E27-4E10-B59D-712BCC095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C8BC79-EE11-4AC2-836B-2AD59150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1F7A62-2EF5-43CD-96CA-80A9F64B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2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4f5e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4f5e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62655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C587-794B-423B-B854-BDFA50DE27B1}" type="slidenum">
              <a:rPr b="0" lang="ru-RU" sz="1600" spc="-1" strike="noStrike">
                <a:solidFill>
                  <a:srgbClr val="626551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2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4f5e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4f5e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62655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FE25-D2BA-4332-AE72-49E70A298CCC}" type="slidenum">
              <a:rPr b="0" lang="ru-RU" sz="1600" spc="-1" strike="noStrike">
                <a:solidFill>
                  <a:srgbClr val="626551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2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4f5e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4f5e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62655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8299-D7C7-4300-BD7C-831A590E55B7}" type="slidenum">
              <a:rPr b="0" lang="ru-RU" sz="1600" spc="-1" strike="noStrike">
                <a:solidFill>
                  <a:srgbClr val="626551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4f5e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4f5e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62655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1C86-36D3-4E60-81BC-50B0802AC19F}" type="slidenum">
              <a:rPr b="0" lang="ru-RU" sz="1600" spc="-1" strike="noStrike">
                <a:solidFill>
                  <a:srgbClr val="626551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2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4f5e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4f5e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62655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59B7-4F2D-4277-A4FD-5D4086CDF4DE}" type="slidenum">
              <a:rPr b="0" lang="ru-RU" sz="1600" spc="-1" strike="noStrike">
                <a:solidFill>
                  <a:srgbClr val="626551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2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4f5e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4f5e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62655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0949-04E2-485B-B56B-482CDD47C02A}" type="slidenum">
              <a:rPr b="0" lang="ru-RU" sz="1600" spc="-1" strike="noStrike">
                <a:solidFill>
                  <a:srgbClr val="626551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2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4f5e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4f5e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62655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BA69-3F7B-421C-B2D3-DF5653A6D949}" type="slidenum">
              <a:rPr b="0" lang="ru-RU" sz="1600" spc="-1" strike="noStrike">
                <a:solidFill>
                  <a:srgbClr val="626551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4f5e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4f5e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62655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9E03-9FE5-4EF6-9A29-A6F320B7B42D}" type="slidenum">
              <a:rPr b="0" lang="ru-RU" sz="1600" spc="-1" strike="noStrike">
                <a:solidFill>
                  <a:srgbClr val="626551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4f5e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4f5e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62655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D757-AA8C-48A4-8420-C9EC1A261BB4}" type="slidenum">
              <a:rPr b="0" lang="ru-RU" sz="1600" spc="-1" strike="noStrike">
                <a:solidFill>
                  <a:srgbClr val="626551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420840" y="378000"/>
            <a:ext cx="8643960" cy="223668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85480" y="3499920"/>
            <a:ext cx="8550360" cy="175284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Чертеж – это конструкторский документ, содержащий изображение изделия, а также другие данные, необходимые для его изготовления и контроля. 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Заголовок 5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699400" cy="224280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2214360" y="3142800"/>
            <a:ext cx="6786360" cy="175284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Стандарт – норма, образец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Box 1"/>
          <p:cNvSpPr/>
          <p:nvPr/>
        </p:nvSpPr>
        <p:spPr>
          <a:xfrm>
            <a:off x="127800" y="714240"/>
            <a:ext cx="677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ГОСТ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- 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государственный станда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2"/>
          <p:cNvSpPr/>
          <p:nvPr/>
        </p:nvSpPr>
        <p:spPr>
          <a:xfrm>
            <a:off x="170640" y="1928880"/>
            <a:ext cx="7523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ЕСКД 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-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единая систе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конструкторской документ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3"/>
          <p:cNvSpPr/>
          <p:nvPr/>
        </p:nvSpPr>
        <p:spPr>
          <a:xfrm>
            <a:off x="500040" y="3929040"/>
            <a:ext cx="11501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Стандарты ЕСКД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устанавливают единые прав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ыполнения и оформ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конструкторской документ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о всех отраслях промышл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515440" cy="224280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2133720" y="2819520"/>
            <a:ext cx="658152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установлены ГОСТом 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для удобства  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выполнения, хранения и использования    чертежей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Рисунок 3" descr="IMAGE0018.JPG"/>
          <p:cNvPicPr/>
          <p:nvPr/>
        </p:nvPicPr>
        <p:blipFill>
          <a:blip r:embed="rId1"/>
          <a:stretch/>
        </p:blipFill>
        <p:spPr>
          <a:xfrm>
            <a:off x="3643200" y="357120"/>
            <a:ext cx="4924440" cy="6072120"/>
          </a:xfrm>
          <a:prstGeom prst="rect">
            <a:avLst/>
          </a:prstGeom>
          <a:ln w="0">
            <a:noFill/>
          </a:ln>
        </p:spPr>
      </p:pic>
      <p:sp>
        <p:nvSpPr>
          <p:cNvPr id="404" name="TextBox 4"/>
          <p:cNvSpPr/>
          <p:nvPr/>
        </p:nvSpPr>
        <p:spPr>
          <a:xfrm>
            <a:off x="160920" y="642960"/>
            <a:ext cx="328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Исход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чертежным форма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является формат А0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лощадь котор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составляет 1 м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5"/>
          <p:cNvSpPr/>
          <p:nvPr/>
        </p:nvSpPr>
        <p:spPr>
          <a:xfrm>
            <a:off x="2195640" y="184464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7"/>
          <p:cNvSpPr/>
          <p:nvPr/>
        </p:nvSpPr>
        <p:spPr>
          <a:xfrm>
            <a:off x="357120" y="3286080"/>
            <a:ext cx="392904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Формат А3   420 х 297 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располагают  и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вертикально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и горизонталь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Формат А4  297 х  210 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располагаю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только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вертикаль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C:\Documents and Settings\Ольга\Мои документы\Мои рисунки\2008-09-11\IMAGE0019.JPG"/>
          <p:cNvPicPr/>
          <p:nvPr/>
        </p:nvPicPr>
        <p:blipFill>
          <a:blip r:embed="rId1"/>
          <a:stretch/>
        </p:blipFill>
        <p:spPr>
          <a:xfrm>
            <a:off x="642960" y="1857240"/>
            <a:ext cx="7734240" cy="4572000"/>
          </a:xfrm>
          <a:prstGeom prst="rect">
            <a:avLst/>
          </a:prstGeom>
          <a:ln w="0">
            <a:noFill/>
          </a:ln>
        </p:spPr>
      </p:pic>
      <p:sp>
        <p:nvSpPr>
          <p:cNvPr id="408" name="TextBox 2"/>
          <p:cNvSpPr/>
          <p:nvPr/>
        </p:nvSpPr>
        <p:spPr>
          <a:xfrm>
            <a:off x="571680" y="357120"/>
            <a:ext cx="7961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Оформление  листа  чертежного форм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Линии рамки проводят на расстоянии 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5 мм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от верхнего, нижнего и правого краев листа и 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20 мм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от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левого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 кр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Ольга\Мои документы\Мои рисунки\2008-09-11\IMAGE0020.JPG"/>
          <p:cNvPicPr/>
          <p:nvPr/>
        </p:nvPicPr>
        <p:blipFill>
          <a:blip r:embed="rId1"/>
          <a:srcRect l="8333" t="0" r="0" b="0"/>
          <a:stretch/>
        </p:blipFill>
        <p:spPr>
          <a:xfrm>
            <a:off x="642960" y="2714760"/>
            <a:ext cx="7961400" cy="2000160"/>
          </a:xfrm>
          <a:prstGeom prst="rect">
            <a:avLst/>
          </a:prstGeom>
          <a:ln w="0">
            <a:noFill/>
          </a:ln>
        </p:spPr>
      </p:pic>
      <p:sp>
        <p:nvSpPr>
          <p:cNvPr id="410" name="TextBox 3"/>
          <p:cNvSpPr/>
          <p:nvPr/>
        </p:nvSpPr>
        <p:spPr>
          <a:xfrm>
            <a:off x="642960" y="357120"/>
            <a:ext cx="82389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Основная надпись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это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таблица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, которая содержит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еобходимую информацию о чертеже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 и отвечает  на 2 вопроса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: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КТО  ЧЕРТИЛ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и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ЧТО  ЧЕРТИЛ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Documents and Settings\Ольга\Мои документы\Мои рисунки\2008-09-11\IMAGE0021.JPG"/>
          <p:cNvPicPr/>
          <p:nvPr/>
        </p:nvPicPr>
        <p:blipFill>
          <a:blip r:embed="rId2"/>
          <a:stretch/>
        </p:blipFill>
        <p:spPr>
          <a:xfrm>
            <a:off x="611280" y="2492280"/>
            <a:ext cx="8034120" cy="2873520"/>
          </a:xfrm>
          <a:prstGeom prst="rect">
            <a:avLst/>
          </a:prstGeom>
          <a:ln w="0">
            <a:noFill/>
          </a:ln>
        </p:spPr>
      </p:pic>
      <p:sp>
        <p:nvSpPr>
          <p:cNvPr id="412" name="TextBox 5"/>
          <p:cNvSpPr/>
          <p:nvPr/>
        </p:nvSpPr>
        <p:spPr>
          <a:xfrm>
            <a:off x="571680" y="5429160"/>
            <a:ext cx="8286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Рамку и основную надпись обводя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        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сплошной основной  толстой линией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22:17:21Z</dcterms:created>
  <dc:creator>Home</dc:creator>
  <dc:description/>
  <dc:language>en-US</dc:language>
  <cp:lastModifiedBy>teacher</cp:lastModifiedBy>
  <dcterms:modified xsi:type="dcterms:W3CDTF">2015-01-12T15:03:59Z</dcterms:modified>
  <cp:revision>42</cp:revision>
  <dc:subject/>
  <dc:title>Слайд 1</dc:title>
</cp:coreProperties>
</file>