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B5A-5DD3-4F51-80FF-C515A5A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321-044A-4328-97FA-A89A42D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5A1EA-D237-4661-8BBC-51D5827D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7A099-4116-4363-BECA-C25F011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8C7EF-0137-42B8-B3F9-2655786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E2A75-3C4A-443E-9702-68BD012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14A72-9923-413A-B111-0FE1B7F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FD0A3-0E6A-4238-B022-383A2A5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9229F-088D-4102-9AD7-C8315F77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2A4F5-2DEF-449C-A754-81DBD6DF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D6DAD-A24D-4990-AA20-4D48006D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133-1DAD-4E5D-94AB-CA72ED8F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65D-97CE-48DA-9B3E-3CF30C39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11DF-D43D-4643-B005-2DFBBF2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F010A-BA0E-4250-952D-EE3C373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F8E79-B18F-44E4-BBC9-38DFF50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13759-6816-43CD-A92F-654092D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B2826-C623-4E72-B57C-13B37F3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92529-1E3A-4AE7-B101-4B2336BD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DD05F-2FA1-450A-AE9D-2751DD2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140-CC44-408C-9ADE-11960ED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1B279-5BE9-4A58-B934-5753D69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F2F91-7B72-419E-A2FB-4CFE480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D05F-6613-4CB9-93D8-C202AD54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A755A-BA2C-44C4-BF20-822F9377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E7E3-C2E5-425C-AAE8-4687A0DA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A763-1D66-4689-9DF4-1564EE5A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233C-D6DD-45E8-AE5E-9E20D1CB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0220-F6CA-4E7C-86BE-45DB64D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E99B-D08B-4F58-A2AC-92F7D61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36BB-A5CA-4872-B14E-7A2FD7D2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B59-F239-45BA-9226-FC60AAF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1760-BC86-4D60-B6A2-2548A8C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8C43-1F2B-43FB-947B-4B55F3C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3E56-B01F-4785-86A4-5C6EDA4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B10A-16B6-42E8-8AB1-02D8A84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2700-AAC1-4F2B-976D-45C2A3AC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EEEB-E4CE-47F5-A0A3-A46F94C8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F480-8A1B-4FCD-B770-E3415AA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754F9-5413-4A1D-AEE0-A1694637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B9725-18FE-43FA-8915-81BEE1CB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BC704-D0F4-442A-BCDE-D311E16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CA4-1080-4988-A3DA-8A499F8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09291-1DB2-4985-B3A9-5EE8904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D3C2E-2CE4-4D28-A9E8-E19C153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90087-99A8-44C3-88A4-77202CF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14941-493C-48B2-BF0E-4820E72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3DB4E-08DC-423B-9876-7D996F5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13394-1F42-45B7-8E24-5BFD9A2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B353E-5ACE-4BBD-9C7E-189DDDA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E678C-8CF0-40DD-8F19-8B651FE5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B75FD-AB63-445E-AA32-6E3A9C95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5D9B2-A314-4D30-A846-63A80B83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D9B-A6B5-4494-8CB4-DB2B230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A3BF-C712-4B2E-B7DB-36DCBEA2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8AB1E-4A98-48EE-B4F2-7F927EAE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AF2F-0107-4139-B0A9-43B7735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C6D8-63AD-42BA-A130-D43E27F0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7EDF-206E-4843-ADD4-4EE959C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31F6-2C76-44D9-AA76-99D0AD5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1CB6-0DD3-43FC-A94E-4A74713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6F2E-8D6E-464F-A38F-5F4F3A6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F093F-F3A5-43A9-89B5-B773AF1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8BAC3-56FD-465E-8F22-6BEA863E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433-47D0-45EF-ABC4-1D7091F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072F-2387-4924-9477-F50B764D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57E4-2C53-4789-903B-60D8BA0F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3F0F-5CF3-4915-9CC5-EA4DB6F7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9427-BABF-40B1-83B6-AE6F865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CFE0-1AAE-477D-9A31-BA57C5F2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FA9C-C10D-4894-8B61-8BB4CDD9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1B5D1-4B74-4D09-BE15-6E35811B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251E-A2D5-42E4-8FD1-D8458FB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5EB89-718B-4777-8A1E-64D3964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52F9-AA32-40D0-AA67-5C8B81C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93F-7064-45A6-B3B3-DA38EEF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23B0-E08E-4398-A805-BC99A130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65B2-9A2C-4EDD-B93D-45A73EB1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9483-2AF2-404A-B1B9-452E2C4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42EA-D167-46AD-A0E0-54F4290C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5653-2F85-40E9-81F9-FBABCCB4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562A3-5353-426E-B0D4-1D22023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2032-AEEF-41BE-9E97-5D47368D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1EE26-67DF-495C-961A-EF66801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296B-DFB0-485A-AC02-D2A7BECC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0CED-1A09-4B22-8C79-49A8900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C8F-A891-47E6-B17A-26F83FB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3E9F-E5E3-4B19-80F6-8E89BDF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8F65-FC4F-453B-B78F-A948D87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054E-3594-46AB-A68C-28C249D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20A1-8BAB-4B08-AAD9-90A51955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2AB1-E4CC-4F88-8A74-371AE589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FBA0D-379E-4B3E-ADE6-E5D48BCC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71863-B0DB-4AF8-A31D-7B4AE81F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E2B9F7-565C-44FF-88DC-2DEA06D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790C20-995D-4E85-BEEE-08686ADB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C219D-3F78-4E21-92CD-E2AEF5E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603-7778-4936-8415-13158BB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84A7F0-47BC-43E1-AC02-634BE7A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A0F21-7DD0-4AF6-966E-82DCCC3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62AFE-10DE-46D4-8F32-8004095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B1808-9E5A-4CD6-85B2-535ADFE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0D82A-D863-4226-ABFC-3788E4F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E6229-CAAE-4B6C-A900-5F65FA1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DAE53-0039-4615-B928-51BA177F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82F23-FF30-4062-BA60-CDA3F28E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E7DD37-6F26-4EB0-8C2F-28FDF7C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18408-9F82-420A-B205-1C4BE766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E4C-0219-4A3C-BC49-CE499F327586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0AE-185F-4AE1-BD44-B2ADF4C01250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39B-9E4F-4035-B9CA-6D6CD5C3709B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0A80-C669-4549-9BDB-6BB79DA1DE93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83D-E121-4F31-8F92-EF3C71EB9AD3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C22-3C97-4087-88CA-FF8D39BD70ED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277-35F2-4BD0-98C1-3C1D88D3CFBC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315-0E06-4555-8513-8F0EFC8509B6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1F4-CAD0-474C-832C-FF9BDC20B064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643960" cy="2236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85480" y="3499920"/>
            <a:ext cx="85503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Чертеж – это конструкторский документ, содержащий изображение изделия, а также другие данные, необходимые для его изготовления и контроля.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5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99400" cy="22428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214360" y="3142800"/>
            <a:ext cx="67863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Стандарт – норма, образец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27800" y="714240"/>
            <a:ext cx="67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ГОСТ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-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государственный станд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70640" y="1928880"/>
            <a:ext cx="752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ЕСКД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едина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нструкторской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500040" y="3929040"/>
            <a:ext cx="1150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тандарты ЕСКД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анавливают единые 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полнения и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нструкторской докум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 всех отраслях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15440" cy="2242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720" y="2819520"/>
            <a:ext cx="658152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установлены ГОСТом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для удобства 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выполнения, хранения и использования    чертеже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IMAGE0018.JPG"/>
          <p:cNvPicPr/>
          <p:nvPr/>
        </p:nvPicPr>
        <p:blipFill>
          <a:blip r:embed="rId1"/>
          <a:stretch/>
        </p:blipFill>
        <p:spPr>
          <a:xfrm>
            <a:off x="3643200" y="357120"/>
            <a:ext cx="4924440" cy="607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60920" y="642960"/>
            <a:ext cx="328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сход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ертежным форм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является формат А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лощадь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ставляет 1 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2195640" y="184464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357120" y="3286080"/>
            <a:ext cx="39290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ормат А3   420 х 29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асполагают 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ертикально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и горизонт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Формат А4  297 х  21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располаг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ольк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ертик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:\Documents and Settings\Ольга\Мои документы\Мои рисунки\2008-09-11\IMAGE0019.JPG"/>
          <p:cNvPicPr/>
          <p:nvPr/>
        </p:nvPicPr>
        <p:blipFill>
          <a:blip r:embed="rId1"/>
          <a:stretch/>
        </p:blipFill>
        <p:spPr>
          <a:xfrm>
            <a:off x="642960" y="1857240"/>
            <a:ext cx="773424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571680" y="357120"/>
            <a:ext cx="796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формление  листа  чертежного фор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Линии рамки проводят на расстоянии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5 мм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т верхнего, нижнего и правого краев листа и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20 мм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евог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Ольга\Мои документы\Мои рисунки\2008-09-11\IMAGE0020.JPG"/>
          <p:cNvPicPr/>
          <p:nvPr/>
        </p:nvPicPr>
        <p:blipFill>
          <a:blip r:embed="rId1"/>
          <a:srcRect l="8333" t="0" r="0" b="0"/>
          <a:stretch/>
        </p:blipFill>
        <p:spPr>
          <a:xfrm>
            <a:off x="642960" y="2714760"/>
            <a:ext cx="7961400" cy="20001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642960" y="357120"/>
            <a:ext cx="8238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сновная надпис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аблиц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которая содержит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обходимую информацию о чертеж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и отвечает  на 2 вопроса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: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ТО  ЧЕРТИЛ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ЧТО  ЧЕРТИЛ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Documents and Settings\Ольга\Мои документы\Мои рисунки\2008-09-11\IMAGE0021.JPG"/>
          <p:cNvPicPr/>
          <p:nvPr/>
        </p:nvPicPr>
        <p:blipFill>
          <a:blip r:embed="rId2"/>
          <a:stretch/>
        </p:blipFill>
        <p:spPr>
          <a:xfrm>
            <a:off x="611280" y="2492280"/>
            <a:ext cx="8034120" cy="2873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571680" y="5429160"/>
            <a:ext cx="828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мку и основную надпись обво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плошной основной  толстой линией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7:21Z</dcterms:created>
  <dc:creator>Home</dc:creator>
  <dc:description/>
  <dc:language>en-US</dc:language>
  <cp:lastModifiedBy>teacher</cp:lastModifiedBy>
  <dcterms:modified xsi:type="dcterms:W3CDTF">2015-01-12T15:03:59Z</dcterms:modified>
  <cp:revision>42</cp:revision>
  <dc:subject/>
  <dc:title>Слайд 1</dc:title>
</cp:coreProperties>
</file>