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28A-65CE-44D9-A133-92EC369B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598-61BB-4924-8B8E-21A941B8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E7D54-D0F4-4090-951A-9C28934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26290-861C-4BEC-8DD5-94636F27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45F04-689B-43D9-B580-0C9D38DE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2F91F-2D93-4E7B-9B8A-E7694FA6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F1780-89F6-4E4D-ACDF-13416D5D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CC095-7DDE-4D51-A85F-A473CDE0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DDE24-3E30-489E-A867-C6F72D09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D2613-8C31-4981-8E82-502CA77A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84EB1-B9E4-4542-99DD-49AF6787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563-5135-4836-88ED-F1E35169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C78-7510-4B42-97F0-B168AB15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E133-F6BD-4F58-B58B-D899F44F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5231-AB14-4210-96E7-C914F46D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AD6F-0472-49DD-BDAB-8C1815D2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8E38-8FAB-48D7-9E10-DC586FD0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245D-ED1C-4736-A4C2-9E9EF858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7348-112F-4A89-9080-3933BCCB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B539-EC87-4B5D-8146-72CDE7A0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C76-97F4-4391-AE02-743FF30A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E447-897E-4B4C-BB97-9909527B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61D7-77E2-4C48-BFD1-8F715BA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47B2-80EE-4432-A75D-D4A32C3A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C5B3-D5F0-47ED-AE9D-1BF9B053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AE18-25D2-4F9F-84AA-B4B275F5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D950-AE01-45C5-AAC6-A9E98FEF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872F-B7FF-42A3-BC1C-090CEA66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8CD8-9ADE-40BF-A058-560605B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C6C2-C76C-4062-A82E-A22A8727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B302-505C-4E90-B9ED-4791C4C7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47E-6C95-4FAF-AC10-25672691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424B-BB7F-48DA-A47D-AE6BFB47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E359-9489-4C63-80B6-A055F79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6B63-B2DA-4F6B-9465-03B7F8B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C315-72D7-4E3E-B0BF-8C1D853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051A-77E6-4426-85E8-FE1BD6B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0A93-DD33-4E3B-8174-2A275C84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C024-71DD-4675-BF73-83565235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67A7A-3E92-4DCB-A3BE-709F8381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F9928-DA85-4B97-B011-32D6D274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BD00-93D9-41D1-8C12-0893447F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8FB-5EBC-424A-A8C7-CF02FB85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E4F5E-A10F-4AF0-BCB4-4288F98C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2D09-3146-4861-ADB4-EB2D3D7D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C26A-6E03-4545-923C-743A4EBF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25739-C95B-4CD5-A621-7538CD46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E7BE-1C65-4BD5-94ED-5BB1A3A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708D-84CB-45E7-8762-F1D9B55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727B7-B1C8-486D-AC94-C06C07AF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C0A83-B824-4E18-83CF-1B0A85FD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5A88-C7DA-49AF-833D-7BAEDC8D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92D7-7E17-43AF-BD99-79B08898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6C2-2DB4-46DF-B5F1-747A555C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B647-8466-464D-880C-CF6CF48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5805-F06D-4B1D-A2A7-5CCFC870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B705A-6FC8-4A3E-B1FE-194FC53A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E0680-423E-4EDE-9E5B-091B8A03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99DB9-82D5-4BF1-B926-F168A626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D13DC-B046-493A-88F9-F802BD5D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3A27-D9A2-40D0-BEB1-C9164F60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3D65B-9079-43AF-B536-42C373F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F9A67-CAE4-4B55-8F3C-3D0E982B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6C7F2-F033-492D-B693-79667872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AB2-2870-459D-B912-57908B3B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FD679-9336-46C5-9220-D1589D56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3B231-A609-4D7B-9C1C-452EA701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AEDC6-B2B3-4BE8-8CAD-8D0D9A9B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1A983-7D7A-4BB1-9ACC-0C9A39D7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C8EB0-0AD7-4373-8F8A-C49EB07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AD44-A311-4DC2-BA32-22A7F5B8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34ECC-D09D-489C-9B5D-F218E766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7FF28-FCBF-4E6E-83FD-CA3E841D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6D025-6488-45FC-AAE4-4E30963E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CD99F-D817-43DE-80CC-550FBA0A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2A6-4D6A-43E4-B157-1B0511A4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DF5DB-FB08-49DD-BD9D-B043D06C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97326-993D-407F-B3DA-B183B01C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08C2-D7F9-4B84-B5E8-C56E4FA4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D2906-BA24-440E-B408-80EE853C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F03D1-2C7A-436D-94D3-88BCEE9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B994B-406F-4DA3-A605-99D895F8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2B91F-7CFD-470B-BF83-A6CC5E19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96962-1662-4233-A554-77B7EA32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2C71B-8E1F-46BE-9730-50AF89CD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1D51-DF61-4630-844D-3AB26E8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6CE-5E4A-4ED3-B568-5778FBF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B8A7F-B291-4100-9E91-06016FEA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7FFD1-994A-4A74-8494-E0A7B09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6E0B9-D0CD-41D4-A652-E9738B8B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601F9-ECAC-4905-B2B4-324640F1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021CE-D128-4BC4-97F5-CF387F17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95777-DE47-4CCA-9A51-349F0AE8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CDF32-4286-446B-B01B-8616CF46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C7A37-677B-4FD3-9E0C-85BE350C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8C229-57DA-4A1C-84CB-3B6CAB4A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520A8-3E05-42B3-B0F7-BB415AF1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46B-3D2D-47F2-8E0B-A6FFC15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D3A65-EB59-41B7-A149-423D7514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188D6-0BBB-403C-9083-A07526D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CB6F5-7B42-4F37-BC71-C76C9F4A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0CE74-A7FE-491E-9250-7E0771E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D8845-2CBA-46E9-A516-C04EE43F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953E1-2795-49F4-A804-513AB038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0842F-C948-4279-967E-97E86CA8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2F5C7-C914-4A43-8BBE-FB02A43B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18ED6-2F00-4694-BFF9-046735D6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97BDB-76CF-47C3-85A1-80C3194F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61F3-832D-4CD8-8D71-B3AB56A51715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BD13-E7F8-43EC-A211-C92AA0983443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0ECA-F3EC-4082-A8CA-22EA50076CA0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E219-C6E0-4F21-A1EF-5DEE6414AE0C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E8AC-636C-4222-9671-D19D423CF2A5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B7DC-5A47-456E-A3A4-F64F238B9EC8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A82C-CA50-4D1B-BE53-68A49C0D1AEC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99B8-F82E-4765-8D82-E5F6F6595C91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C4DB-6FDA-4610-B2EE-87F27AF73BD7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4643280" y="2714760"/>
            <a:ext cx="4071960" cy="3786120"/>
          </a:xfrm>
          <a:prstGeom prst="rect">
            <a:avLst/>
          </a:prstGeom>
          <a:ln w="0">
            <a:noFill/>
          </a:ln>
        </p:spPr>
      </p:pic>
      <p:sp>
        <p:nvSpPr>
          <p:cNvPr id="400" name="WordArt 10"/>
          <p:cNvSpPr txBox="1"/>
          <p:nvPr/>
        </p:nvSpPr>
        <p:spPr>
          <a:xfrm>
            <a:off x="0" y="0"/>
            <a:ext cx="7858080" cy="614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Древ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раз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народно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кусств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10"/>
          <p:cNvPicPr/>
          <p:nvPr/>
        </p:nvPicPr>
        <p:blipFill>
          <a:blip r:embed="rId1"/>
          <a:srcRect l="0" t="0" r="0" b="48020"/>
          <a:stretch/>
        </p:blipFill>
        <p:spPr>
          <a:xfrm>
            <a:off x="285840" y="1071720"/>
            <a:ext cx="8501040" cy="2917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78920" y="4214880"/>
            <a:ext cx="892836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Monotype Corsiva"/>
              </a:rPr>
              <a:t>Антропоморфные мотивы в крестьянской вышивке: женская фигура (Макошь) с двумя всадниками.</a:t>
            </a:r>
            <a:endParaRPr b="0" lang="en-US" sz="33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3" name="Прямоугольник 5"/>
          <p:cNvSpPr/>
          <p:nvPr/>
        </p:nvSpPr>
        <p:spPr>
          <a:xfrm>
            <a:off x="357120" y="1143000"/>
            <a:ext cx="3571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929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Вот мы руки развели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Словно удивились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И друг другу до земл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В пояс поклонились!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Наклонились, выпрямились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Наклонились, выпрямились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Ниже, ниже, не ленись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Поклонись и улыбнусь.</a:t>
            </a:r>
            <a:br>
              <a:rPr sz="4000"/>
            </a:br>
            <a:endParaRPr b="0" lang="en-US" sz="40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Поющее дерево."/>
          <p:cNvPicPr/>
          <p:nvPr/>
        </p:nvPicPr>
        <p:blipFill>
          <a:blip r:embed="rId1"/>
          <a:stretch/>
        </p:blipFill>
        <p:spPr>
          <a:xfrm>
            <a:off x="214200" y="285840"/>
            <a:ext cx="2826000" cy="6215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Русская вышивка"/>
          <p:cNvPicPr/>
          <p:nvPr/>
        </p:nvPicPr>
        <p:blipFill>
          <a:blip r:embed="rId2"/>
          <a:srcRect l="6143" t="0" r="6074" b="8321"/>
          <a:stretch/>
        </p:blipFill>
        <p:spPr>
          <a:xfrm>
            <a:off x="5962680" y="285840"/>
            <a:ext cx="2967120" cy="62150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Русская вышивка"/>
          <p:cNvPicPr/>
          <p:nvPr/>
        </p:nvPicPr>
        <p:blipFill>
          <a:blip r:embed="rId3"/>
          <a:stretch/>
        </p:blipFill>
        <p:spPr>
          <a:xfrm>
            <a:off x="3132000" y="285840"/>
            <a:ext cx="2791080" cy="621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214200" y="-785520"/>
            <a:ext cx="8929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Распределить поровну  обязанности в па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одумать идею, замысел уз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тложить бумагу нужных цвет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ыполнить аппликац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рисовать в композиции необходимые детал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8920" y="428760"/>
            <a:ext cx="875052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Franklin Gothic Book"/>
              </a:rPr>
              <a:t>   </a:t>
            </a: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Если желаешь подняться в воздух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Стань птицей,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Если желаешь подняться выше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Стань орлом,</a:t>
            </a:r>
            <a:endParaRPr b="0" lang="en-US" sz="4800" spc="-1" strike="noStrike">
              <a:solidFill>
                <a:srgbClr val="444d26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   </a:t>
            </a: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Становись ветром,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Monotype Corsiva"/>
              </a:rPr>
              <a:t>Если угодно познать мир.</a:t>
            </a:r>
            <a:endParaRPr b="0" lang="en-US" sz="4800" spc="-1" strike="noStrike">
              <a:solidFill>
                <a:srgbClr val="444d26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11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1214280" y="714240"/>
            <a:ext cx="7000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.. Выйдет добрый молодец за порог родительского дома. Внятен ему язык природы. "Что выше леса, краше света?" - Ясно солнышк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"Поле не мерено, овцы не считаны, пастух рогат!" - Вселенная. Звезды. Месяц. Утешно ему, возросшему на прадедовских представлениях о мироздании, о древнем родстве с матушкой-природой, всюду под покровом небес, как в родной изб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0" y="39240"/>
            <a:ext cx="88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разительно слово древнего заговора, отражающего мироощущение предков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    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Умываюсь медвяною росою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    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Утираюсь солнцем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    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Облекаюсь облаками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    </a:t>
            </a: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Опоясываюсь звездами.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Oval 5"/>
          <p:cNvGrpSpPr/>
          <p:nvPr/>
        </p:nvGrpSpPr>
        <p:grpSpPr>
          <a:xfrm>
            <a:off x="2603520" y="2822400"/>
            <a:ext cx="1285920" cy="1121040"/>
            <a:chOff x="2603520" y="2822400"/>
            <a:chExt cx="1285920" cy="1121040"/>
          </a:xfrm>
        </p:grpSpPr>
        <p:pic>
          <p:nvPicPr>
            <p:cNvPr id="404" name="Oval 5" descr=""/>
            <p:cNvPicPr/>
            <p:nvPr/>
          </p:nvPicPr>
          <p:blipFill>
            <a:blip r:embed="rId1"/>
            <a:stretch/>
          </p:blipFill>
          <p:spPr>
            <a:xfrm>
              <a:off x="2603520" y="2822400"/>
              <a:ext cx="12859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816280" y="3014640"/>
              <a:ext cx="8636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Line 6"/>
          <p:cNvGrpSpPr/>
          <p:nvPr/>
        </p:nvGrpSpPr>
        <p:grpSpPr>
          <a:xfrm>
            <a:off x="2828880" y="2968560"/>
            <a:ext cx="841320" cy="860400"/>
            <a:chOff x="2828880" y="2968560"/>
            <a:chExt cx="841320" cy="860400"/>
          </a:xfrm>
        </p:grpSpPr>
        <p:pic>
          <p:nvPicPr>
            <p:cNvPr id="407" name="Line 6" descr=""/>
            <p:cNvPicPr/>
            <p:nvPr/>
          </p:nvPicPr>
          <p:blipFill>
            <a:blip r:embed="rId2"/>
            <a:stretch/>
          </p:blipFill>
          <p:spPr>
            <a:xfrm>
              <a:off x="2828880" y="2968560"/>
              <a:ext cx="8413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857680" y="3000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Line 7"/>
          <p:cNvGrpSpPr/>
          <p:nvPr/>
        </p:nvGrpSpPr>
        <p:grpSpPr>
          <a:xfrm>
            <a:off x="2822400" y="2968560"/>
            <a:ext cx="871560" cy="860400"/>
            <a:chOff x="2822400" y="2968560"/>
            <a:chExt cx="871560" cy="860400"/>
          </a:xfrm>
        </p:grpSpPr>
        <p:pic>
          <p:nvPicPr>
            <p:cNvPr id="410" name="Line 7" descr=""/>
            <p:cNvPicPr/>
            <p:nvPr/>
          </p:nvPicPr>
          <p:blipFill>
            <a:blip r:embed="rId3"/>
            <a:stretch/>
          </p:blipFill>
          <p:spPr>
            <a:xfrm>
              <a:off x="2822400" y="2968560"/>
              <a:ext cx="8715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3666960" y="3002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Line 8"/>
          <p:cNvGrpSpPr/>
          <p:nvPr/>
        </p:nvGrpSpPr>
        <p:grpSpPr>
          <a:xfrm>
            <a:off x="3176640" y="2840040"/>
            <a:ext cx="115920" cy="1103400"/>
            <a:chOff x="3176640" y="2840040"/>
            <a:chExt cx="115920" cy="1103400"/>
          </a:xfrm>
        </p:grpSpPr>
        <p:pic>
          <p:nvPicPr>
            <p:cNvPr id="413" name="Line 8" descr=""/>
            <p:cNvPicPr/>
            <p:nvPr/>
          </p:nvPicPr>
          <p:blipFill>
            <a:blip r:embed="rId4"/>
            <a:stretch/>
          </p:blipFill>
          <p:spPr>
            <a:xfrm>
              <a:off x="3176640" y="2840040"/>
              <a:ext cx="1159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214800" y="2857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Line 9"/>
          <p:cNvGrpSpPr/>
          <p:nvPr/>
        </p:nvGrpSpPr>
        <p:grpSpPr>
          <a:xfrm>
            <a:off x="2620800" y="3322800"/>
            <a:ext cx="1256040" cy="109440"/>
            <a:chOff x="2620800" y="3322800"/>
            <a:chExt cx="1256040" cy="109440"/>
          </a:xfrm>
        </p:grpSpPr>
        <p:pic>
          <p:nvPicPr>
            <p:cNvPr id="416" name="Line 9" descr=""/>
            <p:cNvPicPr/>
            <p:nvPr/>
          </p:nvPicPr>
          <p:blipFill>
            <a:blip r:embed="rId5"/>
            <a:stretch/>
          </p:blipFill>
          <p:spPr>
            <a:xfrm>
              <a:off x="2620800" y="3322800"/>
              <a:ext cx="1256040" cy="1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643120" y="3357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AutoShape 10"/>
          <p:cNvSpPr/>
          <p:nvPr/>
        </p:nvSpPr>
        <p:spPr>
          <a:xfrm>
            <a:off x="1201680" y="4071960"/>
            <a:ext cx="1081080" cy="122400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1"/>
          <p:cNvSpPr/>
          <p:nvPr/>
        </p:nvSpPr>
        <p:spPr>
          <a:xfrm>
            <a:off x="1706400" y="464832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2"/>
          <p:cNvSpPr/>
          <p:nvPr/>
        </p:nvSpPr>
        <p:spPr>
          <a:xfrm>
            <a:off x="1706400" y="4359240"/>
            <a:ext cx="71640" cy="7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3"/>
          <p:cNvSpPr/>
          <p:nvPr/>
        </p:nvSpPr>
        <p:spPr>
          <a:xfrm>
            <a:off x="1706400" y="493560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4"/>
          <p:cNvSpPr/>
          <p:nvPr/>
        </p:nvSpPr>
        <p:spPr>
          <a:xfrm>
            <a:off x="2000160" y="4643280"/>
            <a:ext cx="71640" cy="7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5"/>
          <p:cNvSpPr/>
          <p:nvPr/>
        </p:nvSpPr>
        <p:spPr>
          <a:xfrm>
            <a:off x="1419120" y="464832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2786040" y="4143240"/>
            <a:ext cx="108108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7"/>
          <p:cNvSpPr/>
          <p:nvPr/>
        </p:nvSpPr>
        <p:spPr>
          <a:xfrm>
            <a:off x="3214800" y="4572000"/>
            <a:ext cx="209520" cy="209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1108080" y="59500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20"/>
          <p:cNvSpPr/>
          <p:nvPr/>
        </p:nvSpPr>
        <p:spPr>
          <a:xfrm>
            <a:off x="2405160" y="5878440"/>
            <a:ext cx="1800000" cy="154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4071960" y="3000240"/>
            <a:ext cx="350028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- солнц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4286160" y="4429080"/>
            <a:ext cx="35719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-  зем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4500720" y="5286240"/>
            <a:ext cx="314316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- в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8"/>
          <p:cNvSpPr/>
          <p:nvPr/>
        </p:nvSpPr>
        <p:spPr>
          <a:xfrm>
            <a:off x="142920" y="142920"/>
            <a:ext cx="885816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7"/>
          <p:cNvSpPr/>
          <p:nvPr/>
        </p:nvSpPr>
        <p:spPr>
          <a:xfrm>
            <a:off x="142920" y="5572080"/>
            <a:ext cx="8786880" cy="1000080"/>
          </a:xfrm>
          <a:prstGeom prst="rect">
            <a:avLst/>
          </a:prstGeom>
          <a:solidFill>
            <a:srgbClr val="6600cc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6"/>
          <p:cNvSpPr/>
          <p:nvPr/>
        </p:nvSpPr>
        <p:spPr>
          <a:xfrm>
            <a:off x="142920" y="4857840"/>
            <a:ext cx="8786880" cy="571320"/>
          </a:xfrm>
          <a:prstGeom prst="rect">
            <a:avLst/>
          </a:prstGeom>
          <a:solidFill>
            <a:srgbClr val="0066ff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15"/>
          <p:cNvSpPr/>
          <p:nvPr/>
        </p:nvSpPr>
        <p:spPr>
          <a:xfrm>
            <a:off x="142920" y="4286160"/>
            <a:ext cx="87868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14"/>
          <p:cNvSpPr/>
          <p:nvPr/>
        </p:nvSpPr>
        <p:spPr>
          <a:xfrm>
            <a:off x="142920" y="3786120"/>
            <a:ext cx="8786880" cy="428760"/>
          </a:xfrm>
          <a:prstGeom prst="rect">
            <a:avLst/>
          </a:prstGeom>
          <a:solidFill>
            <a:srgbClr val="0d0d0d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142920" y="2786040"/>
            <a:ext cx="8786880" cy="928800"/>
          </a:xfrm>
          <a:prstGeom prst="rect">
            <a:avLst/>
          </a:prstGeom>
          <a:solidFill>
            <a:srgbClr val="00cc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11"/>
          <p:cNvSpPr/>
          <p:nvPr/>
        </p:nvSpPr>
        <p:spPr>
          <a:xfrm>
            <a:off x="142920" y="1714680"/>
            <a:ext cx="8786880" cy="1000080"/>
          </a:xfrm>
          <a:prstGeom prst="rect">
            <a:avLst/>
          </a:prstGeom>
          <a:solidFill>
            <a:srgbClr val="ff0000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Белый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Связан с идеей Света, чистоты и священности (Белый Свет, Белый Царь – над царями царь и т.п.);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в то же время – цвет Смерти, траура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Book Antiqua"/>
              </a:rPr>
              <a:t>Красный – Огонь,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Book Antiqua"/>
              </a:rPr>
              <a:t>(Солнце – как небесный Огонь), кровь (жизненная Сила). </a:t>
            </a:r>
            <a:br>
              <a:rPr sz="2400"/>
            </a:b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Зелёный – Растительность, Жизнь. </a:t>
            </a:r>
            <a:br>
              <a:rPr sz="2400"/>
            </a:b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ёрный – Земля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Золотой – Солнце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Book Antiqua"/>
              </a:rPr>
              <a:t>Синий – Небо, Воды. </a:t>
            </a:r>
            <a:br>
              <a:rPr sz="2400"/>
            </a:b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marL="332640" indent="-332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Фиолетовый, цвет связывающий нас с высшими силами.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-36360" y="2428920"/>
            <a:ext cx="91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лярная орнаментика.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ревний языческий символ солнца в крестьянской рез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1760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"/>
          <p:cNvPicPr/>
          <p:nvPr/>
        </p:nvPicPr>
        <p:blipFill>
          <a:blip r:embed="rId2"/>
          <a:stretch/>
        </p:blipFill>
        <p:spPr>
          <a:xfrm>
            <a:off x="2143080" y="3571920"/>
            <a:ext cx="4888080" cy="285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034"/>
          <p:cNvPicPr/>
          <p:nvPr/>
        </p:nvPicPr>
        <p:blipFill>
          <a:blip r:embed="rId1"/>
          <a:srcRect l="0" t="4443" r="0" b="1443"/>
          <a:stretch/>
        </p:blipFill>
        <p:spPr>
          <a:xfrm>
            <a:off x="428760" y="142920"/>
            <a:ext cx="835812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08000" y="5648040"/>
            <a:ext cx="88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имволы солнца и земли на резных полотенцах крестьянских из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45"/>
          <p:cNvPicPr/>
          <p:nvPr/>
        </p:nvPicPr>
        <p:blipFill>
          <a:blip r:embed="rId1"/>
          <a:stretch/>
        </p:blipFill>
        <p:spPr>
          <a:xfrm>
            <a:off x="142920" y="549360"/>
            <a:ext cx="8858160" cy="371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6"/>
          <p:cNvSpPr/>
          <p:nvPr/>
        </p:nvSpPr>
        <p:spPr>
          <a:xfrm>
            <a:off x="468360" y="494712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Вариации древа жизни в крестьянской вышивке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5" descr="9-1"/>
          <p:cNvPicPr/>
          <p:nvPr/>
        </p:nvPicPr>
        <p:blipFill>
          <a:blip r:embed="rId1"/>
          <a:stretch/>
        </p:blipFill>
        <p:spPr>
          <a:xfrm>
            <a:off x="214200" y="3143160"/>
            <a:ext cx="5756400" cy="35719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6"/>
          <p:cNvSpPr/>
          <p:nvPr/>
        </p:nvSpPr>
        <p:spPr>
          <a:xfrm>
            <a:off x="108000" y="-88920"/>
            <a:ext cx="5964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рнитоморфные изобразительные мотивы в крестьянской выши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1" descr="no18_12"/>
          <p:cNvPicPr/>
          <p:nvPr/>
        </p:nvPicPr>
        <p:blipFill>
          <a:blip r:embed="rId2"/>
          <a:stretch/>
        </p:blipFill>
        <p:spPr>
          <a:xfrm>
            <a:off x="6286680" y="214200"/>
            <a:ext cx="2643120" cy="6357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9-2"/>
          <p:cNvPicPr/>
          <p:nvPr/>
        </p:nvPicPr>
        <p:blipFill>
          <a:blip r:embed="rId1"/>
          <a:stretch/>
        </p:blipFill>
        <p:spPr>
          <a:xfrm>
            <a:off x="785880" y="1214280"/>
            <a:ext cx="7751520" cy="47865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34920" y="214200"/>
            <a:ext cx="905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зображение коней и всадников в крестьянской вышив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6:31:56Z</dcterms:created>
  <dc:creator>usser</dc:creator>
  <dc:description/>
  <dc:language>en-US</dc:language>
  <cp:lastModifiedBy>777</cp:lastModifiedBy>
  <dcterms:modified xsi:type="dcterms:W3CDTF">2012-07-15T20:44:50Z</dcterms:modified>
  <cp:revision>11</cp:revision>
  <dc:subject/>
  <dc:title>Слайд 1</dc:title>
</cp:coreProperties>
</file>