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7B4-C07E-4B14-817D-F9B3ABDF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608-B334-44E9-B275-810F9E2A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0EB93-AE71-44A4-8219-44A261E0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EB8BE-463E-4B52-B053-E3951CD1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D832A-0660-43E6-93F7-F98CA3FA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CA899-26C1-45F4-9445-40994AE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F406B-CFC5-4D9A-B837-B52CFC0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764C1-09BE-4309-8871-7DC50888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FCDF4-7734-4244-9D6E-B3FC78E3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45F12-15D9-467D-B8FF-AFA2BAEF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124B6-9892-4668-964C-99E4D53E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FBE-2FA2-4AAA-996D-FEDD8EC9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627-47F2-40C4-8863-EADA9788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B790-E09B-4E35-8B8A-D2F1B0B4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046B-783C-4907-8B6F-5D6F7A71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4B46-1288-4BC6-A99F-5402B503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0003-0327-43FA-ABA3-CAC436C3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B7B1-9940-4A9C-9108-92EDB518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8B0D-0505-4C55-9DB8-F78678A7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41EE-AE3B-4AB0-AABD-555ACF3C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60F-A46E-4EAA-94DA-246F387E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B2A8-A89B-429E-A297-65B30265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620C-FEA4-4F63-A5A6-38ED187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828A-0232-4A24-82E8-7513D6E3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6EB0-082D-4374-A9DE-5F39C82B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53C6-D161-4C41-9133-E01F792D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F359-744D-4AEA-8FB1-012ABA19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685D-7C4A-4A30-B795-1592C522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0B1DE-7785-42A4-8ED8-7854A8F8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C76C-FFCE-43EB-8D72-DC3450E9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2EDB-9BB4-4495-98F7-DA4928DE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AFA-C29A-48AB-8BB5-637BCCB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10FE-6E90-44FC-BD20-D3C1D68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B782-553B-4D7D-93C5-A750F9E4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C174-C0E7-4C0A-AA55-39567A1D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2A2B-3EF8-4BE5-BCB8-D9CB37D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5117-1777-4BA7-8F1E-6F5CDDE0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5614-FAA2-4F37-A530-0B8356BB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F362-F92B-4D83-84EE-23B64478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3E8EF-5730-4DB4-83D6-BECB3D29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BC937-985C-413E-BB27-DFF466AF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1556-AFA3-4C7A-937B-A63E833D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1B0-2174-4E37-96CB-44B1425C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FDAE-AC6C-466E-B483-90231A5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24E6-476F-4F28-9E2A-761B8C01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16A5-85ED-432A-959E-2A962485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8CD0-7BB9-46C9-960A-4EC7099E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032D-25F3-4105-837B-A1F6DE1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FB74-ED20-4D6F-85B0-6367E56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7C7CD-3270-416E-A4B7-08334B82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3ABBD-A187-4CCD-8EC7-93A8B6C1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17D71-8401-4E45-B25E-64C35212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A2BD0-BEE2-41FE-91DC-53AE055B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F93-C29A-4FBE-B5ED-4D63AFC0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61C14-09BA-4204-97CB-B290ED16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2455D-F8D5-43D0-8F0E-11A6F8B2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B6D3-1F40-46DF-9C0C-47F98266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8C6E-9CF5-48EE-A818-2D3C51C4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3491-8477-4922-999D-AEA8579E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5559D-63A5-4218-96B2-1EEEEC0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9AC0-76A0-4294-ABD1-FB5D742C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006ED-11C8-445F-B87D-8BB151B0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D3CC0-2800-4999-965F-A66029EE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90BE-6BC7-4AC9-97AD-FAC84D11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669-CA5D-4C30-8141-60E0380F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AA98-DB17-4624-ADCA-B071487C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E6E10-82F2-4491-8A2C-A392F643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68FD4-9ACD-4B6F-A0DE-28125123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72B8F-89F3-49E9-B699-53D51E3D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ECF6E-5AF9-4E9B-B858-07919BFA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FF9F-DFD8-4DFE-8F3F-2ADC057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6F2A1-C6C0-41B7-999F-4D45EC2D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30443-3592-4A87-866D-933ED79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7CDB1-BC12-40C6-BA6D-341E7C9E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9171-4ECA-43A5-AD81-44A03C9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AF5-7FFE-4C50-AF7C-ACE19426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10189-B68A-4B35-8BD4-AC22F114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50340-BD89-425C-B13F-22C02802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58829-3703-424B-B069-6B29634A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47AE6-D97E-47CF-B91B-CF8100CC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A87FE-82E9-4222-8C99-025472F8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1C56-3024-4282-A3A7-B162FF4C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04576-C66D-4B7D-BACE-5BDC2736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D2709-C309-4E5F-B6A1-33E21AB8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EFE47-AFBB-45CF-ACAD-356901AA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81F29-67CF-42AF-9306-431128B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E83-0440-47D4-ABEA-63F5D4A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BEF81-CBF7-49F9-8C6F-39985BC4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D6ADE-B863-4E92-98A7-11912090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FCEF0-D73B-480F-8A26-87367830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CFD28-7EBE-46F9-B4AD-AD5DD31F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8BAF9-14D9-4675-AA3E-ABBA5D9D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B2E9F-CAFF-4D29-ACB6-9CA4D9CD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2EDDC-5967-4C42-8439-331817BF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571B1-4B4A-4C86-AA35-6A7493CD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71667-F07B-44AB-8C61-010D7391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0E200-FFD8-4D35-B038-507FCA87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F13-DA3B-46B3-BB51-7AEF2182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CE0E2-2BE3-43D6-B8EF-B4A947E9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F22FD-637C-43C2-8333-F91382C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050BC-A198-4844-B7C5-115CEB5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59943-41F9-4433-810B-0586F6C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69F2D-E3E7-478D-B596-65A42FB9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2C67-228A-4974-A2CF-5341A3AF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5574-F3BD-4EE0-962D-BBBDE256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20AA9-0919-467A-872C-E70E5009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DF240-CE0C-4E0D-A8E0-A0BD87E3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BFF7E-7A91-430B-B1E3-36ECEB0F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73F2-86AE-4A11-AC66-C4C655A40AEB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B09A-BCD0-484B-8971-40BEEDD08DBF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AB3D-0E60-40DB-8A81-AE933048FD9E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FCE4-C31F-41B2-A3BF-31137E7D68BD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9B76-CBE6-463B-8CF1-1C8C4D84C8A3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20E4-851A-4E98-BF18-EDAD78E1065A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30F2-A092-40A5-9E4C-163692135DF2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5C89-02E6-4B90-8217-FAF63F530BA9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BC75-5618-4F3D-AEC7-81066EEF5048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4643280" y="2714760"/>
            <a:ext cx="4071960" cy="3786120"/>
          </a:xfrm>
          <a:prstGeom prst="rect">
            <a:avLst/>
          </a:prstGeom>
          <a:ln w="0">
            <a:noFill/>
          </a:ln>
        </p:spPr>
      </p:pic>
      <p:sp>
        <p:nvSpPr>
          <p:cNvPr id="400" name="WordArt 10"/>
          <p:cNvSpPr txBox="1"/>
          <p:nvPr/>
        </p:nvSpPr>
        <p:spPr>
          <a:xfrm>
            <a:off x="0" y="0"/>
            <a:ext cx="7858080" cy="614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Древ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раз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народно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кусств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10"/>
          <p:cNvPicPr/>
          <p:nvPr/>
        </p:nvPicPr>
        <p:blipFill>
          <a:blip r:embed="rId1"/>
          <a:srcRect l="0" t="0" r="0" b="48020"/>
          <a:stretch/>
        </p:blipFill>
        <p:spPr>
          <a:xfrm>
            <a:off x="285840" y="1071720"/>
            <a:ext cx="8501040" cy="2917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78920" y="4214880"/>
            <a:ext cx="892836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Monotype Corsiva"/>
              </a:rPr>
              <a:t>Антропоморфные мотивы в крестьянской вышивке: женская фигура (Макошь) с двумя всадниками.</a:t>
            </a:r>
            <a:endParaRPr b="0" lang="en-US" sz="33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3" name="Прямоугольник 5"/>
          <p:cNvSpPr/>
          <p:nvPr/>
        </p:nvSpPr>
        <p:spPr>
          <a:xfrm>
            <a:off x="357120" y="1143000"/>
            <a:ext cx="3571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929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Вот мы руки развели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Словно удивились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И друг другу до земл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В пояс поклонились!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Наклонились, выпрямились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Наклонились, выпрямились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Ниже, ниже, не ленись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Поклонись и улыбнусь.</a:t>
            </a:r>
            <a:br>
              <a:rPr sz="4000"/>
            </a:b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Поющее дерево."/>
          <p:cNvPicPr/>
          <p:nvPr/>
        </p:nvPicPr>
        <p:blipFill>
          <a:blip r:embed="rId1"/>
          <a:stretch/>
        </p:blipFill>
        <p:spPr>
          <a:xfrm>
            <a:off x="214200" y="285840"/>
            <a:ext cx="2826000" cy="6215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Русская вышивка"/>
          <p:cNvPicPr/>
          <p:nvPr/>
        </p:nvPicPr>
        <p:blipFill>
          <a:blip r:embed="rId2"/>
          <a:srcRect l="6143" t="0" r="6074" b="8321"/>
          <a:stretch/>
        </p:blipFill>
        <p:spPr>
          <a:xfrm>
            <a:off x="5962680" y="285840"/>
            <a:ext cx="2967120" cy="62150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Русская вышивка"/>
          <p:cNvPicPr/>
          <p:nvPr/>
        </p:nvPicPr>
        <p:blipFill>
          <a:blip r:embed="rId3"/>
          <a:stretch/>
        </p:blipFill>
        <p:spPr>
          <a:xfrm>
            <a:off x="3132000" y="285840"/>
            <a:ext cx="2791080" cy="621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214200" y="-785520"/>
            <a:ext cx="8929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Распределить поровну  обязанности в па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одумать идею, замысел уз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тложить бумагу нужных цвет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ыполнить аппликац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рисовать в композиции необходимые детал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8920" y="428760"/>
            <a:ext cx="87505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Franklin Gothic Book"/>
              </a:rPr>
              <a:t>   </a:t>
            </a: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Если желаешь подняться в воздух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Стань птицей,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Если желаешь подняться выше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Стань орлом,</a:t>
            </a:r>
            <a:endParaRPr b="0" lang="en-US" sz="4800" spc="-1" strike="noStrike">
              <a:solidFill>
                <a:srgbClr val="444d26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   </a:t>
            </a: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Становись ветром,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Если угодно познать мир.</a:t>
            </a:r>
            <a:endParaRPr b="0" lang="en-US" sz="4800" spc="-1" strike="noStrike">
              <a:solidFill>
                <a:srgbClr val="444d26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11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1214280" y="714240"/>
            <a:ext cx="7000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.. Выйдет добрый молодец за порог родительского дома. Внятен ему язык природы. "Что выше леса, краше света?" - Ясно солнышк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"Поле не мерено, овцы не считаны, пастух рогат!" - Вселенная. Звезды. Месяц. Утешно ему, возросшему на прадедовских представлениях о мироздании, о древнем родстве с матушкой-природой, всюду под покровом небес, как в родной изб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0" y="39240"/>
            <a:ext cx="88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разительно слово древнего заговора, отражающего мироощущение предков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    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Умываюсь медвяною росою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    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Утираюсь солнцем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    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Облекаюсь облаками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    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Опоясываюсь звездами.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Oval 5"/>
          <p:cNvGrpSpPr/>
          <p:nvPr/>
        </p:nvGrpSpPr>
        <p:grpSpPr>
          <a:xfrm>
            <a:off x="2603520" y="2822400"/>
            <a:ext cx="1285920" cy="1121040"/>
            <a:chOff x="2603520" y="2822400"/>
            <a:chExt cx="1285920" cy="1121040"/>
          </a:xfrm>
        </p:grpSpPr>
        <p:pic>
          <p:nvPicPr>
            <p:cNvPr id="404" name="Oval 5" descr=""/>
            <p:cNvPicPr/>
            <p:nvPr/>
          </p:nvPicPr>
          <p:blipFill>
            <a:blip r:embed="rId1"/>
            <a:stretch/>
          </p:blipFill>
          <p:spPr>
            <a:xfrm>
              <a:off x="2603520" y="2822400"/>
              <a:ext cx="12859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816280" y="3014640"/>
              <a:ext cx="8636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Line 6"/>
          <p:cNvGrpSpPr/>
          <p:nvPr/>
        </p:nvGrpSpPr>
        <p:grpSpPr>
          <a:xfrm>
            <a:off x="2828880" y="2968560"/>
            <a:ext cx="841320" cy="860400"/>
            <a:chOff x="2828880" y="2968560"/>
            <a:chExt cx="841320" cy="860400"/>
          </a:xfrm>
        </p:grpSpPr>
        <p:pic>
          <p:nvPicPr>
            <p:cNvPr id="407" name="Line 6" descr=""/>
            <p:cNvPicPr/>
            <p:nvPr/>
          </p:nvPicPr>
          <p:blipFill>
            <a:blip r:embed="rId2"/>
            <a:stretch/>
          </p:blipFill>
          <p:spPr>
            <a:xfrm>
              <a:off x="2828880" y="2968560"/>
              <a:ext cx="8413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857680" y="3000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Line 7"/>
          <p:cNvGrpSpPr/>
          <p:nvPr/>
        </p:nvGrpSpPr>
        <p:grpSpPr>
          <a:xfrm>
            <a:off x="2822400" y="2968560"/>
            <a:ext cx="871560" cy="860400"/>
            <a:chOff x="2822400" y="2968560"/>
            <a:chExt cx="871560" cy="860400"/>
          </a:xfrm>
        </p:grpSpPr>
        <p:pic>
          <p:nvPicPr>
            <p:cNvPr id="410" name="Line 7" descr=""/>
            <p:cNvPicPr/>
            <p:nvPr/>
          </p:nvPicPr>
          <p:blipFill>
            <a:blip r:embed="rId3"/>
            <a:stretch/>
          </p:blipFill>
          <p:spPr>
            <a:xfrm>
              <a:off x="2822400" y="2968560"/>
              <a:ext cx="8715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3666960" y="3002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Line 8"/>
          <p:cNvGrpSpPr/>
          <p:nvPr/>
        </p:nvGrpSpPr>
        <p:grpSpPr>
          <a:xfrm>
            <a:off x="3176640" y="2840040"/>
            <a:ext cx="115920" cy="1103400"/>
            <a:chOff x="3176640" y="2840040"/>
            <a:chExt cx="115920" cy="1103400"/>
          </a:xfrm>
        </p:grpSpPr>
        <p:pic>
          <p:nvPicPr>
            <p:cNvPr id="413" name="Line 8" descr=""/>
            <p:cNvPicPr/>
            <p:nvPr/>
          </p:nvPicPr>
          <p:blipFill>
            <a:blip r:embed="rId4"/>
            <a:stretch/>
          </p:blipFill>
          <p:spPr>
            <a:xfrm>
              <a:off x="3176640" y="2840040"/>
              <a:ext cx="115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214800" y="2857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Line 9"/>
          <p:cNvGrpSpPr/>
          <p:nvPr/>
        </p:nvGrpSpPr>
        <p:grpSpPr>
          <a:xfrm>
            <a:off x="2620800" y="3322800"/>
            <a:ext cx="1256040" cy="109440"/>
            <a:chOff x="2620800" y="3322800"/>
            <a:chExt cx="1256040" cy="109440"/>
          </a:xfrm>
        </p:grpSpPr>
        <p:pic>
          <p:nvPicPr>
            <p:cNvPr id="416" name="Line 9" descr=""/>
            <p:cNvPicPr/>
            <p:nvPr/>
          </p:nvPicPr>
          <p:blipFill>
            <a:blip r:embed="rId5"/>
            <a:stretch/>
          </p:blipFill>
          <p:spPr>
            <a:xfrm>
              <a:off x="2620800" y="3322800"/>
              <a:ext cx="125604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643120" y="3357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AutoShape 10"/>
          <p:cNvSpPr/>
          <p:nvPr/>
        </p:nvSpPr>
        <p:spPr>
          <a:xfrm>
            <a:off x="1201680" y="4071960"/>
            <a:ext cx="1081080" cy="122400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1"/>
          <p:cNvSpPr/>
          <p:nvPr/>
        </p:nvSpPr>
        <p:spPr>
          <a:xfrm>
            <a:off x="1706400" y="464832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2"/>
          <p:cNvSpPr/>
          <p:nvPr/>
        </p:nvSpPr>
        <p:spPr>
          <a:xfrm>
            <a:off x="1706400" y="4359240"/>
            <a:ext cx="71640" cy="7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3"/>
          <p:cNvSpPr/>
          <p:nvPr/>
        </p:nvSpPr>
        <p:spPr>
          <a:xfrm>
            <a:off x="1706400" y="493560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4"/>
          <p:cNvSpPr/>
          <p:nvPr/>
        </p:nvSpPr>
        <p:spPr>
          <a:xfrm>
            <a:off x="2000160" y="4643280"/>
            <a:ext cx="71640" cy="7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5"/>
          <p:cNvSpPr/>
          <p:nvPr/>
        </p:nvSpPr>
        <p:spPr>
          <a:xfrm>
            <a:off x="1419120" y="464832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2786040" y="4143240"/>
            <a:ext cx="108108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7"/>
          <p:cNvSpPr/>
          <p:nvPr/>
        </p:nvSpPr>
        <p:spPr>
          <a:xfrm>
            <a:off x="3214800" y="4572000"/>
            <a:ext cx="209520" cy="209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1108080" y="59500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20"/>
          <p:cNvSpPr/>
          <p:nvPr/>
        </p:nvSpPr>
        <p:spPr>
          <a:xfrm>
            <a:off x="2405160" y="5878440"/>
            <a:ext cx="1800000" cy="154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4071960" y="3000240"/>
            <a:ext cx="350028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- солнц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4286160" y="4429080"/>
            <a:ext cx="35719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-  зем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4500720" y="5286240"/>
            <a:ext cx="314316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- 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8"/>
          <p:cNvSpPr/>
          <p:nvPr/>
        </p:nvSpPr>
        <p:spPr>
          <a:xfrm>
            <a:off x="142920" y="142920"/>
            <a:ext cx="885816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7"/>
          <p:cNvSpPr/>
          <p:nvPr/>
        </p:nvSpPr>
        <p:spPr>
          <a:xfrm>
            <a:off x="142920" y="5572080"/>
            <a:ext cx="8786880" cy="1000080"/>
          </a:xfrm>
          <a:prstGeom prst="rect">
            <a:avLst/>
          </a:prstGeom>
          <a:solidFill>
            <a:srgbClr val="6600cc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6"/>
          <p:cNvSpPr/>
          <p:nvPr/>
        </p:nvSpPr>
        <p:spPr>
          <a:xfrm>
            <a:off x="142920" y="4857840"/>
            <a:ext cx="8786880" cy="571320"/>
          </a:xfrm>
          <a:prstGeom prst="rect">
            <a:avLst/>
          </a:prstGeom>
          <a:solidFill>
            <a:srgbClr val="0066ff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15"/>
          <p:cNvSpPr/>
          <p:nvPr/>
        </p:nvSpPr>
        <p:spPr>
          <a:xfrm>
            <a:off x="142920" y="4286160"/>
            <a:ext cx="87868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14"/>
          <p:cNvSpPr/>
          <p:nvPr/>
        </p:nvSpPr>
        <p:spPr>
          <a:xfrm>
            <a:off x="142920" y="3786120"/>
            <a:ext cx="8786880" cy="428760"/>
          </a:xfrm>
          <a:prstGeom prst="rect">
            <a:avLst/>
          </a:prstGeom>
          <a:solidFill>
            <a:srgbClr val="0d0d0d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142920" y="2786040"/>
            <a:ext cx="8786880" cy="928800"/>
          </a:xfrm>
          <a:prstGeom prst="rect">
            <a:avLst/>
          </a:prstGeom>
          <a:solidFill>
            <a:srgbClr val="00cc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11"/>
          <p:cNvSpPr/>
          <p:nvPr/>
        </p:nvSpPr>
        <p:spPr>
          <a:xfrm>
            <a:off x="142920" y="1714680"/>
            <a:ext cx="8786880" cy="1000080"/>
          </a:xfrm>
          <a:prstGeom prst="rect">
            <a:avLst/>
          </a:pr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Белый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Связан с идеей Света, чистоты и священности (Белый Свет, Белый Царь – над царями царь и т.п.);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в то же время – цвет Смерти, траура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Book Antiqua"/>
              </a:rPr>
              <a:t>Красный – Огонь,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Book Antiqua"/>
              </a:rPr>
              <a:t>(Солнце – как небесный Огонь), кровь (жизненная Сила). </a:t>
            </a:r>
            <a:br>
              <a:rPr sz="2400"/>
            </a:b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Зелёный – Растительность, Жизнь. </a:t>
            </a:r>
            <a:br>
              <a:rPr sz="2400"/>
            </a:b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ёрный – Земля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Золотой – Солнце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Синий – Небо, Воды. </a:t>
            </a:r>
            <a:br>
              <a:rPr sz="2400"/>
            </a:b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Фиолетовый, цвет связывающий нас с высшими силами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-36360" y="2428920"/>
            <a:ext cx="91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лярная орнаментика.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ревний языческий символ солнца в крестьянской рез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1760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"/>
          <p:cNvPicPr/>
          <p:nvPr/>
        </p:nvPicPr>
        <p:blipFill>
          <a:blip r:embed="rId2"/>
          <a:stretch/>
        </p:blipFill>
        <p:spPr>
          <a:xfrm>
            <a:off x="2143080" y="3571920"/>
            <a:ext cx="4888080" cy="285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034"/>
          <p:cNvPicPr/>
          <p:nvPr/>
        </p:nvPicPr>
        <p:blipFill>
          <a:blip r:embed="rId1"/>
          <a:srcRect l="0" t="4443" r="0" b="1443"/>
          <a:stretch/>
        </p:blipFill>
        <p:spPr>
          <a:xfrm>
            <a:off x="428760" y="142920"/>
            <a:ext cx="835812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08000" y="5648040"/>
            <a:ext cx="88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имволы солнца и земли на резных полотенцах крестьянских из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45"/>
          <p:cNvPicPr/>
          <p:nvPr/>
        </p:nvPicPr>
        <p:blipFill>
          <a:blip r:embed="rId1"/>
          <a:stretch/>
        </p:blipFill>
        <p:spPr>
          <a:xfrm>
            <a:off x="142920" y="549360"/>
            <a:ext cx="8858160" cy="371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6"/>
          <p:cNvSpPr/>
          <p:nvPr/>
        </p:nvSpPr>
        <p:spPr>
          <a:xfrm>
            <a:off x="468360" y="494712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Вариации древа жизни в крестьянской вышивке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5" descr="9-1"/>
          <p:cNvPicPr/>
          <p:nvPr/>
        </p:nvPicPr>
        <p:blipFill>
          <a:blip r:embed="rId1"/>
          <a:stretch/>
        </p:blipFill>
        <p:spPr>
          <a:xfrm>
            <a:off x="214200" y="3143160"/>
            <a:ext cx="5756400" cy="35719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6"/>
          <p:cNvSpPr/>
          <p:nvPr/>
        </p:nvSpPr>
        <p:spPr>
          <a:xfrm>
            <a:off x="108000" y="-88920"/>
            <a:ext cx="5964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рнитоморфные изобразительные мотивы в крестьянской выши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1" descr="no18_12"/>
          <p:cNvPicPr/>
          <p:nvPr/>
        </p:nvPicPr>
        <p:blipFill>
          <a:blip r:embed="rId2"/>
          <a:stretch/>
        </p:blipFill>
        <p:spPr>
          <a:xfrm>
            <a:off x="6286680" y="214200"/>
            <a:ext cx="2643120" cy="6357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9-2"/>
          <p:cNvPicPr/>
          <p:nvPr/>
        </p:nvPicPr>
        <p:blipFill>
          <a:blip r:embed="rId1"/>
          <a:stretch/>
        </p:blipFill>
        <p:spPr>
          <a:xfrm>
            <a:off x="785880" y="1214280"/>
            <a:ext cx="7751520" cy="47865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34920" y="214200"/>
            <a:ext cx="905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зображение коней и всадников в крестьянской вышив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6:31:56Z</dcterms:created>
  <dc:creator>usser</dc:creator>
  <dc:description/>
  <dc:language>en-US</dc:language>
  <cp:lastModifiedBy>777</cp:lastModifiedBy>
  <dcterms:modified xsi:type="dcterms:W3CDTF">2012-07-15T20:44:50Z</dcterms:modified>
  <cp:revision>11</cp:revision>
  <dc:subject/>
  <dc:title>Слайд 1</dc:title>
</cp:coreProperties>
</file>