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DEE-41A4-48A7-B9DE-FF5BBFCB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DE8-C35D-4754-A68C-235EFF6E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796-9F2C-4BA8-8E85-39FD1FAA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B6A-AB25-41B5-826E-79B270E0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F2771-BBF5-4BAE-8560-C7B1027D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3C2B-633E-4F92-8A42-CAD8183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3918-5D4B-417E-AAF5-86792E32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850C-806F-42DA-8EC2-F1A83FA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9C2C-D3C5-413C-85C6-90CFA45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F3979-FAE2-4F6E-A854-9F0DF5DD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C7A3F-206D-43FE-8853-76042E3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C5A-8591-472B-85B7-6F7B93D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2760-97C2-40D2-8DAE-D1FE909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4F0D-6A0D-4F4F-9140-F359514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E60C-310F-4DFB-ADBA-34A75056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F14BC-A17C-403D-9EC8-7EDA183F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F0C5-4665-4164-ADC3-C20344E9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199F-5D5D-4701-8737-0035F579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E329-78D2-41AC-B93A-14FAB5E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43B6-403B-47ED-AB25-F400A7B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441F-3338-4C97-8BA7-2D40AAB4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B1ED-EEC3-4F61-92CF-03CF2BFF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DCC-37B6-4C15-A311-C331495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8591-231E-4E40-B923-3F49328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B31C-AAD0-489B-8401-8AFFE42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F56C-0E82-4527-BF21-89B7B377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9146-208B-40D3-9FF5-1AB1EBB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6E63-759E-4FA4-8868-EE150131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C219-C771-4B22-A0BA-E88B4AFE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8A2D-CC0C-4267-A069-9E51D81E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9DC3E-0D30-43E0-931D-A8F8E766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5E122-429C-48D9-9545-1419E0B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CD07B-E6D7-44D0-B720-A30BEB33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8FE-8584-431F-95D8-F230EE24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FEA8E-A5EC-4AAF-BB14-EF82335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47ECA-0EDD-4078-89E0-D8DFFED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10AB5-F798-4B8E-BE2D-57D5225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13B63-DA8F-4D7B-ACFA-413F28E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13CC7-CECE-4515-9CB0-5473F7B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5FC2C7-7F2D-47C4-BC76-ED9F6D2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276E0-1910-4061-B5BD-EAC566FE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CA233-833E-47E5-B83E-09E80F9A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75512-57D1-4B0A-86BE-CA8DA48C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FC0B4-CE7E-4424-922C-4CCECC4C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6C8-3A8D-461D-BF26-DDC07CCA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24409-7895-4CF0-9F41-A7C3549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22BAE-F12E-4249-9AAA-1E49F21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AA9AC-7E34-4CD5-B2E9-84581F7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2A3C6-B9C3-41A2-906D-8E0FA35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71852-25E1-4822-84B8-D855112F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9B617-802A-4D75-AE38-85CFF60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8F5CD-CD1E-44CB-976C-009C69F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5A085-6892-4E3B-913B-76C1316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B6E65-9823-4E22-AC01-17A4AFA2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D48D5-0AD8-48ED-9E32-FE6CB3F2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0F6-9514-49AB-B3A2-49229A44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DFA89-1225-4919-BB79-FBC55160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49328-ACD6-4953-A53D-C5D4508F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03067-63F2-49A0-ACEB-6223EFB3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E6795-EA7D-4354-A381-533F2E05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48DFF-AAB1-4491-B47D-155CA1A8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E2450-19FB-4264-82FE-745CDCD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80AE6-02C2-4D01-91CE-65DF9DF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64065-5B8B-4DA2-BE68-F0074EC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FF388-459F-4E3C-9EA0-6B7F37F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0E6AF-4BAB-4D43-BA8C-7A1BE07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D1-1A25-4912-B2B9-E7A0EE9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79805-47A6-46D1-B86B-40E2606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06034-B1F8-4675-924B-3563051B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F110F-9EE6-4428-AA83-CFF7E8E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A90-26A0-45E3-85E4-4BE57C8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5AC-F14A-495F-83F9-B23B654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2C8-B7C5-4B97-95BA-EC40E022EEF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D16-3834-4CA3-A495-051E68F66B6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CF2-D5E8-4CAD-9FB3-A2EBB930B10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AD6-D795-449C-B905-B0951248E94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6358-0CDC-4CF8-838C-290DC9FA3B9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A98-BA58-456B-9187-DB9821287A2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Times New Roman"/>
              </a:rPr>
              <a:t>Дыхательные упражнения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родолжительность дыхательных упражнений не должна превышать 3-5 минут. При повышенном тонусе работу с детьми следует начинать с расслабляющих дыхательных, физических упражнений и расслабляющего массажа, при пониженном тонусе следует активизировать мышечный тонус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енку предлагается подуть на поролоновый или ватный шарик и перемещать его струёй воздуха  по поверхности стола  в течении 1-2 минут. При совместном выполнении данного упражнения возможно введение соревновательного элемента, выигрывает тот, кто первым загонит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яч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в ворот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fs.nashaucheba.ru/tw_files2/urls_3/1463/d-1462871/1462871_html_m67da5633.jpg"/>
          <p:cNvPicPr/>
          <p:nvPr/>
        </p:nvPicPr>
        <p:blipFill>
          <a:blip r:embed="rId3"/>
          <a:stretch/>
        </p:blipFill>
        <p:spPr>
          <a:xfrm>
            <a:off x="2195640" y="3284640"/>
            <a:ext cx="489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помощью  одноразовых трубочек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бёнку предлагается выдуть  мыльны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узыри в течении  1-2 минут. Выигрывает тот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й пузырь окажется большого размер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ольше других не лопается и т.д 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www.ivanovomama.ru/files/mylnye-puzyri(2).jpg"/>
          <p:cNvPicPr/>
          <p:nvPr/>
        </p:nvPicPr>
        <p:blipFill>
          <a:blip r:embed="rId3"/>
          <a:stretch/>
        </p:blipFill>
        <p:spPr>
          <a:xfrm>
            <a:off x="4356000" y="3357720"/>
            <a:ext cx="4464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ёнку дается инструкция  «Сядь на стульчик», сделай глубокий вдох , при этом руки подними через стороны вверх , соедини  ладони и задержи дыхание. Выдохни  медленно через рот, наклоняясь вперёд и опуская руки вниз, положи ладони на плечи.  А теперь сделай глубокий вдох через рот , подними руки и задержи дыхание. Выдыхая, опусти руки на плечи, и наклонившись вперёд произнести на выдохе своё «имя». Упражнение выполнять 1 ра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0_72e08_352af212_L.jpg"/>
          <p:cNvPicPr/>
          <p:nvPr/>
        </p:nvPicPr>
        <p:blipFill>
          <a:blip r:embed="rId3"/>
          <a:stretch/>
        </p:blipFill>
        <p:spPr>
          <a:xfrm>
            <a:off x="4500720" y="3933720"/>
            <a:ext cx="3816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Ребёнку даётся  бумажная бабочка, затем он делает глубокий вдох  и медленно выдыхает , так чтобы  бабочка начала  крутиться по часовой стрелке, затем наоборо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Упражнение выполняется 1-3 раз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i.jpg"/>
          <p:cNvPicPr/>
          <p:nvPr/>
        </p:nvPicPr>
        <p:blipFill>
          <a:blip r:embed="rId3"/>
          <a:stretch/>
        </p:blipFill>
        <p:spPr>
          <a:xfrm>
            <a:off x="4211640" y="3573360"/>
            <a:ext cx="4392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Содержимое 3" descr="1258640442_20.jpg"/>
          <p:cNvPicPr/>
          <p:nvPr/>
        </p:nvPicPr>
        <p:blipFill>
          <a:blip r:embed="rId2"/>
          <a:stretch/>
        </p:blipFill>
        <p:spPr>
          <a:xfrm>
            <a:off x="611280" y="1557360"/>
            <a:ext cx="3257280" cy="4000320"/>
          </a:xfrm>
          <a:prstGeom prst="rect">
            <a:avLst/>
          </a:prstGeom>
          <a:ln w="0">
            <a:noFill/>
          </a:ln>
        </p:spPr>
      </p:pic>
      <p:pic>
        <p:nvPicPr>
          <p:cNvPr id="267" name="Заголовок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284720" y="177336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бёнку даётся  на ладони немного муки. Затем делает глубокий вдох через нос, задержать дыхание на 1-2 сек и выдохнуть медленно через рот сдувая муку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жнение выполняется 1-3 раз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10:34:11Z</dcterms:created>
  <dc:creator>Админ</dc:creator>
  <dc:description/>
  <dc:language>en-US</dc:language>
  <cp:lastModifiedBy>Ирина</cp:lastModifiedBy>
  <dcterms:modified xsi:type="dcterms:W3CDTF">2014-10-14T14:16:46Z</dcterms:modified>
  <cp:revision>9</cp:revision>
  <dc:subject/>
  <dc:title>Дыхательные и расслабляющие упражнения для детей с ДЦП</dc:title>
</cp:coreProperties>
</file>