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8F8-52F8-44D8-9EB3-883526F6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7FF-EC93-4F33-80D2-20A95E7F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FB4-1172-4CC4-8204-DF635AF9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A6C-9299-45D8-8CD0-41648180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75EBB-47C0-4140-8D48-70372E6A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14D5F-BCCA-4586-B615-6BC9B78A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04E51-CA05-457D-BBC0-C45E311A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4CFEF-7B03-4624-8F8D-F83A6DF9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DB846-4A94-4272-80EE-E3B43A2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DD849-56EF-459F-A4B1-BF61B4E0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15DDD-2058-46E4-993A-D41170E7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C5C-86AB-4D42-A506-A2F60FDD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4CF9B-B19B-4F25-9D06-F0E1FC9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58F4-5B03-494B-986E-BEC300F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3E7FA-BD1A-46E6-9493-D9944637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AE14C-4115-4934-9EAF-70ED870A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513C-D939-42C1-A9A5-2D74F5BE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948C-0D0B-42CF-92F2-3F408D5A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A858-9CBC-44E2-AA7B-58101023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2366-98F3-4690-97FE-C646257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D507-B529-431E-8D36-F8A123B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048B-0566-4B91-8FBE-62AC7F89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581-8FE6-4B34-BDC5-0494D785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1C8F-E200-4750-993B-05F5262A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E8A4-055E-46A6-92D0-94991D9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342E-F178-483B-9EA6-D0F3D2A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BB1E-B135-4A61-8A91-C9A55D3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546B-E5C2-46A9-9AF0-9E33CC8F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A55F-A10F-48B7-8FF8-593003DF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F7C2-FAF1-4039-87ED-1F5128DC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3CEA2-A58F-4A48-B93D-2701180B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E747B-3E89-47EA-87E2-AC44DDA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63C02-EFA1-4443-95BA-7B599A9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2C3-E0CA-4C1B-946A-39317FC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44708-4D34-41F7-ADA6-34263395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FE8BA-AAB4-47AB-B320-BF1D166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6C038-D2A9-4110-B011-27B8ABE4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78E7B-4928-4023-BA7E-6EE0FF4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FE29E-82C4-47BE-9EE1-D5BB2996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778782-1539-4863-B66D-EBAD336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F40C0-C573-41EF-BF6E-ADAD33B6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37A00-6C73-4D74-83D0-3DCDBD57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A98CC-B353-4C74-85CF-A43681C3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BD2D5-9153-4827-A153-838F4DC9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508-0AA2-4D16-BCF0-52DD136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BF016-FC87-4252-8E66-8671B50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5253B-A376-4641-8B62-DBE6FC0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9A347-41A6-4F56-8F6C-A9B776F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8E2CF-047F-4DC5-B780-CD4D4B8D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B26A4-B42B-46FD-848A-A8227F9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9CD59-05E2-44FC-AF2F-5FCF380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4B6F6-F9B8-4261-8412-96B0F514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46D13-92BC-41A1-98DF-1CD86B0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A2D8F-24AF-4CA1-A92F-6A94939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C3103-C374-4AAF-A479-0106796E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681-B7BE-4B52-BA9B-5D0E3FB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9BF7B-433B-43C3-A538-9827966B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758E0-6EC2-4C78-B601-DEAA238B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A6A26-B401-46B7-B006-B5F6CEF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64F2D-18DE-42DF-803C-D29EAB4D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F604E-1EAB-4171-9D08-9F5E144F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F7087-5B9A-456E-9150-303D4B91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39D89-6DD7-4D1B-A679-58D5425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A2A6C-C411-4B36-B186-DA98DD0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DE01B-FE15-4A25-ABE9-BC08094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D85B4-B766-4521-A4BE-8ADCC75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FFF-CAFB-4311-996B-B2077BC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39FF6-C1EC-4D0B-BB5F-53C46FAC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6E7EC-DE4A-4BCD-98F7-434426CB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88886-C605-49C5-8A77-CE0E3586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B8D-2870-40CB-9431-9951183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E22-0DA9-42CE-B89B-590F94F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5096-0D91-42A4-A926-01E9D73B849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4AFE-9DCA-46A3-B186-3199F2C9FBE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968C-1FE2-4567-B899-C8517C18436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581-3FA3-4BBA-800E-DB143CE0C85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4D1-C67B-4E24-A403-EEFD1C5D89C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C85-6A87-4B11-BF5B-024FEE7BBA1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Times New Roman"/>
              </a:rPr>
              <a:t>Дыхательные упражнени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родолжительность дыхательных упражнений не должна превышать 3-5 минут. При повышенном тонусе работу с детьми следует начинать с расслабляющих дыхательных, физических упражнений и расслабляющего массажа, при пониженном тонусе следует активизировать мышечный тонус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ебенку предлагается подуть на поролоновый или ватный шарик и перемещать его струёй воздуха  по поверхности стола  в течении 1-2 минут. При совместном выполнении данного упражнения возможно введение соревновательного элемента, выигрывает тот, кто первым загонит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мяч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 ворот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fs.nashaucheba.ru/tw_files2/urls_3/1463/d-1462871/1462871_html_m67da5633.jpg"/>
          <p:cNvPicPr/>
          <p:nvPr/>
        </p:nvPicPr>
        <p:blipFill>
          <a:blip r:embed="rId3"/>
          <a:stretch/>
        </p:blipFill>
        <p:spPr>
          <a:xfrm>
            <a:off x="2195640" y="3284640"/>
            <a:ext cx="4897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помощью  одноразовых трубочек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бёнку предлагается выдуть  мыльны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узыри в течении  1-2 минут. Выигрывает тот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й пузырь окажется большого размер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ольше других не лопается и т.д 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www.ivanovomama.ru/files/mylnye-puzyri(2).jpg"/>
          <p:cNvPicPr/>
          <p:nvPr/>
        </p:nvPicPr>
        <p:blipFill>
          <a:blip r:embed="rId3"/>
          <a:stretch/>
        </p:blipFill>
        <p:spPr>
          <a:xfrm>
            <a:off x="4356000" y="3357720"/>
            <a:ext cx="4464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ебёнку дается инструкция  «Сядь на стульчик», сделай глубокий вдох , при этом руки подними через стороны вверх , соедини  ладони и задержи дыхание. Выдохни  медленно через рот, наклоняясь вперёд и опуская руки вниз, положи ладони на плечи.  А теперь сделай глубокий вдох через рот , подними руки и задержи дыхание. Выдыхая, опусти руки на плечи, и наклонившись вперёд произнести на выдохе своё «имя». Упражнение выполнять 1 раз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0_72e08_352af212_L.jpg"/>
          <p:cNvPicPr/>
          <p:nvPr/>
        </p:nvPicPr>
        <p:blipFill>
          <a:blip r:embed="rId3"/>
          <a:stretch/>
        </p:blipFill>
        <p:spPr>
          <a:xfrm>
            <a:off x="4500720" y="3933720"/>
            <a:ext cx="3816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ебёнку даётся  бумажная бабочка, затем он делает глубокий вдох  и медленно выдыхает , так чтобы  бабочка начала  крутиться по часовой стрелке, затем наоборот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Упражнение выполняется 1-3 раз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i.jpg"/>
          <p:cNvPicPr/>
          <p:nvPr/>
        </p:nvPicPr>
        <p:blipFill>
          <a:blip r:embed="rId3"/>
          <a:stretch/>
        </p:blipFill>
        <p:spPr>
          <a:xfrm>
            <a:off x="4211640" y="3573360"/>
            <a:ext cx="4392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3" descr="1258640442_20.jpg"/>
          <p:cNvPicPr/>
          <p:nvPr/>
        </p:nvPicPr>
        <p:blipFill>
          <a:blip r:embed="rId2"/>
          <a:stretch/>
        </p:blipFill>
        <p:spPr>
          <a:xfrm>
            <a:off x="611280" y="1557360"/>
            <a:ext cx="3257280" cy="4000320"/>
          </a:xfrm>
          <a:prstGeom prst="rect">
            <a:avLst/>
          </a:prstGeom>
          <a:ln w="0">
            <a:noFill/>
          </a:ln>
        </p:spPr>
      </p:pic>
      <p:pic>
        <p:nvPicPr>
          <p:cNvPr id="267" name="Заголовок 2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284720" y="177336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бёнку даётся  на ладони немного муки. Затем делает глубокий вдох через нос, задержать дыхание на 1-2 сек и выдохнуть медленно через рот сдувая мук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жнение выполняется 1-3 раз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10:34:11Z</dcterms:created>
  <dc:creator>Админ</dc:creator>
  <dc:description/>
  <dc:language>en-US</dc:language>
  <cp:lastModifiedBy>Ирина</cp:lastModifiedBy>
  <dcterms:modified xsi:type="dcterms:W3CDTF">2014-10-14T14:16:46Z</dcterms:modified>
  <cp:revision>9</cp:revision>
  <dc:subject/>
  <dc:title>Дыхательные и расслабляющие упражнения для детей с ДЦП</dc:title>
</cp:coreProperties>
</file>