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819-D552-4BE9-BAD2-1ECBD7DD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BF6-340F-4A29-B2E3-3BC17B9C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B56-408F-4A79-BA6B-21C67DCF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1D8-9E4B-4A1F-9AC4-8DA118A4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5EB-9470-4AAF-ABC2-326289FA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A98-EA58-4FBF-93D3-6279D874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BE9-6C9C-47EC-8EBA-4A7A09E1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5717-3F18-41EF-B276-5ADEA7BD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8B1-27F6-48A7-8587-92135481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ACE-D661-43D7-B1D2-4DBAEE68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4B8-3992-4326-A9DE-CFE1C089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643-9309-4D97-8959-00CCBCFB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088B-E97F-435A-A9F5-BF462EE0F9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Эльвира\Desktop\Новая папка\linii_vertikalnyy_raduzhnyy_fon_2560x1600.jpg"/>
          <p:cNvPicPr/>
          <p:nvPr/>
        </p:nvPicPr>
        <p:blipFill>
          <a:blip r:embed="rId1"/>
          <a:stretch/>
        </p:blipFill>
        <p:spPr>
          <a:xfrm>
            <a:off x="6480" y="-68400"/>
            <a:ext cx="9144000" cy="695664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304920" y="268200"/>
            <a:ext cx="8156520" cy="466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Эльвира\Desktop\Новая папка\a5.gif"/>
          <p:cNvPicPr/>
          <p:nvPr/>
        </p:nvPicPr>
        <p:blipFill>
          <a:blip r:embed="rId3"/>
          <a:stretch/>
        </p:blipFill>
        <p:spPr>
          <a:xfrm>
            <a:off x="0" y="5203800"/>
            <a:ext cx="1708200" cy="1616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7016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E:\Я УЧИТЕЛЬ\ЗА НРАВСТВЕННЫЙ ПОДВИГ УЧИТЕЛЯ\МБОУ СОШ №1 Ярмак Наталья Викторовна.jpg"/>
          <p:cNvPicPr/>
          <p:nvPr/>
        </p:nvPicPr>
        <p:blipFill>
          <a:blip r:embed="rId4"/>
          <a:stretch/>
        </p:blipFill>
        <p:spPr>
          <a:xfrm>
            <a:off x="5292720" y="692280"/>
            <a:ext cx="385776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C:\Users\Эльвира\Desktop\Новая папка\linii_vertikalnyy_raduzhnyy_fon_2560x1600.jp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pic>
        <p:nvPicPr>
          <p:cNvPr id="47" name="Подзаголовок 2" descr=""/>
          <p:cNvPicPr/>
          <p:nvPr/>
        </p:nvPicPr>
        <p:blipFill>
          <a:blip r:embed="rId2"/>
          <a:stretch/>
        </p:blipFill>
        <p:spPr>
          <a:xfrm>
            <a:off x="152280" y="622440"/>
            <a:ext cx="8570880" cy="50353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3" descr=""/>
          <p:cNvPicPr/>
          <p:nvPr/>
        </p:nvPicPr>
        <p:blipFill>
          <a:blip r:embed="rId3"/>
          <a:stretch/>
        </p:blipFill>
        <p:spPr>
          <a:xfrm>
            <a:off x="-146160" y="-12600"/>
            <a:ext cx="9015480" cy="1749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Эльвира\Desktop\Новая папка\a5.gif"/>
          <p:cNvPicPr/>
          <p:nvPr/>
        </p:nvPicPr>
        <p:blipFill>
          <a:blip r:embed="rId4"/>
          <a:stretch/>
        </p:blipFill>
        <p:spPr>
          <a:xfrm>
            <a:off x="0" y="4724280"/>
            <a:ext cx="19796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C:\Users\Эльвира\Desktop\Новая папка\linii_vertikalnyy_raduzhnyy_fon_2560x1600.jp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341360"/>
            <a:ext cx="829152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достоверение о повышении квалификации №1495 по программе «Организация деятельности педагогических работников в соответствии с профессиональным стандартом (уровень общего образования)» (2016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плом о профессиональной переподготовке №000657 по программе </a:t>
            </a:r>
            <a:r>
              <a:rPr b="1" lang="ru-RU" sz="1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«Менеджмент в образовании</a:t>
            </a: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»(2014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достоверение о повышение квалификации 862400679045 по программе </a:t>
            </a:r>
            <a:r>
              <a:rPr b="1" lang="ru-RU" sz="1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«Инклюзивная форма обучения и воспитания в общеобразовательной школе</a:t>
            </a: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» (2014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достоверение о повышении квалификации №5780 по программе </a:t>
            </a:r>
            <a:r>
              <a:rPr b="1" lang="ru-RU" sz="1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«Реализация успешных моделей социальной адаптации и социально-психологического сопровождения выпускников организаций для детей-сирот и детей, оставшихся без попечения родителей</a:t>
            </a: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» (2014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достоверение о повышении квалификации №2605 по </a:t>
            </a:r>
            <a:r>
              <a:rPr b="1" lang="ru-RU" sz="1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ограмме «Основы религиозных культур и светской этики</a:t>
            </a: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» (2012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достоверение о повышении квалификации №681 по программе «Теория и методика преподавания курса </a:t>
            </a:r>
            <a:r>
              <a:rPr b="1" lang="ru-RU" sz="1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«Социокультурные истоки</a:t>
            </a: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» (2011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достоверение о повышении квалификации №6035 по программе «</a:t>
            </a:r>
            <a:r>
              <a:rPr b="1" lang="ru-RU" sz="1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Основы управления общеобразовательным учреждением»</a:t>
            </a: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2010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достоверение о повышении квалификации №15454 по программе </a:t>
            </a:r>
            <a:r>
              <a:rPr b="1" lang="ru-RU" sz="17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«Педагогическое мастерство</a:t>
            </a:r>
            <a:r>
              <a:rPr b="1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» (2009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4" descr=""/>
          <p:cNvPicPr/>
          <p:nvPr/>
        </p:nvPicPr>
        <p:blipFill>
          <a:blip r:embed="rId2"/>
          <a:stretch/>
        </p:blipFill>
        <p:spPr>
          <a:xfrm>
            <a:off x="-85680" y="-152280"/>
            <a:ext cx="9388440" cy="151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Эльвира\Desktop\Новая папка\a5.gif"/>
          <p:cNvPicPr/>
          <p:nvPr/>
        </p:nvPicPr>
        <p:blipFill>
          <a:blip r:embed="rId3"/>
          <a:stretch/>
        </p:blipFill>
        <p:spPr>
          <a:xfrm>
            <a:off x="7620120" y="5919840"/>
            <a:ext cx="1450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C:\Users\Эльвира\Desktop\Новая папка\linii_vertikalnyy_raduzhnyy_fon_2560x1600.jp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000" y="1628280"/>
            <a:ext cx="8218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Диплом </a:t>
            </a:r>
            <a:r>
              <a:rPr b="1" lang="en-US" sz="18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III</a:t>
            </a:r>
            <a:r>
              <a:rPr b="1" lang="ru-RU" sz="18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 степени городского интеллектуального марафона 2013-2014 </a:t>
            </a: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ебного года в соревновании юных исследователей «ШАГ В БУДУЩЕЕ.ЮНИОР-2014» (секция Обществознание) (апрель 2014г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иплом </a:t>
            </a:r>
            <a:r>
              <a:rPr b="1" lang="en-US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степени Окружного конкурса программ и проектов организаций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занимающихся профилактикой правонарушений среди несовершеннолетних и молодежи и защиты их прав. (Грант 35 тыс. рублей) Проект «От школы безопасности к жизни без опас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евраль 2015г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налист городского проекта «Компетентные родители».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«Ценности, которым нет цены…»              (апрель 2015г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плом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I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тепени городского конкурса программ и проектов по профилактике дорожно-транспортных происшествий. Программа внеурочной деятельности «Дорожная азбука» (октябрь 2015г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российский конкурс в области педагогики, воспитания и работы с детьми и молодежью до 20 лет на соискание премии «За нравственный подвиг учителя» </a:t>
            </a:r>
            <a:r>
              <a:rPr b="1" lang="ru-RU" sz="19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бедитель -1 место в номинации «За организацию духовно-нравственного воспитания в рамках ОУ» </a:t>
            </a:r>
            <a:r>
              <a:rPr b="1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риказ департамента образования Администрации города №12-27-372/16 от 18.05.16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Прямоугольник 4" descr=""/>
          <p:cNvPicPr/>
          <p:nvPr/>
        </p:nvPicPr>
        <p:blipFill>
          <a:blip r:embed="rId2"/>
          <a:stretch/>
        </p:blipFill>
        <p:spPr>
          <a:xfrm>
            <a:off x="-171360" y="-6480"/>
            <a:ext cx="9327960" cy="1749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Эльвира\Desktop\Новая папка\a5.gif"/>
          <p:cNvPicPr/>
          <p:nvPr/>
        </p:nvPicPr>
        <p:blipFill>
          <a:blip r:embed="rId3"/>
          <a:stretch/>
        </p:blipFill>
        <p:spPr>
          <a:xfrm>
            <a:off x="7380360" y="5973840"/>
            <a:ext cx="18255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C:\Users\Эльвира\Desktop\Новая папка\linii_vertikalnyy_raduzhnyy_fon_2560x1600.jp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Статья «Воспитание игрой как основа формирования нравственного поведения младших школьников» (сертификат №ПМ-61-13-14, 2013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татья О.Г.Корниенко (краевед, режиссер «Из опыта работы в рамках окружной пилотной площадки по социализации и адаптации детей мигрантов и их сем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http://ugra.mk.ru/articles/2014/12/16/cennosti-kotorym-net-ceny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Прямоугольник 4" descr=""/>
          <p:cNvPicPr/>
          <p:nvPr/>
        </p:nvPicPr>
        <p:blipFill>
          <a:blip r:embed="rId2"/>
          <a:stretch/>
        </p:blipFill>
        <p:spPr>
          <a:xfrm>
            <a:off x="-237960" y="-85680"/>
            <a:ext cx="9321480" cy="1749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Эльвира\Desktop\Новая папка\a5.gif"/>
          <p:cNvPicPr/>
          <p:nvPr/>
        </p:nvPicPr>
        <p:blipFill>
          <a:blip r:embed="rId3"/>
          <a:stretch/>
        </p:blipFill>
        <p:spPr>
          <a:xfrm>
            <a:off x="33480" y="5661000"/>
            <a:ext cx="1825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C:\Users\Эльвира\Desktop\Новая папка\linii_vertikalnyy_raduzhnyy_fon_2560x1600.jp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очетная грамота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епартамента образования и науки Администрации города Сургута (2002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Благодарственное письмо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епартамента образования и молодежной политики Ханты-Мансийского автономного округа-Югры (2014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Прямоугольник 4" descr=""/>
          <p:cNvPicPr/>
          <p:nvPr/>
        </p:nvPicPr>
        <p:blipFill>
          <a:blip r:embed="rId2"/>
          <a:stretch/>
        </p:blipFill>
        <p:spPr>
          <a:xfrm>
            <a:off x="-237960" y="-85680"/>
            <a:ext cx="9321480" cy="1749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Эльвира\Desktop\Новая папка\a5.gif"/>
          <p:cNvPicPr/>
          <p:nvPr/>
        </p:nvPicPr>
        <p:blipFill>
          <a:blip r:embed="rId3"/>
          <a:stretch/>
        </p:blipFill>
        <p:spPr>
          <a:xfrm>
            <a:off x="23760" y="5129280"/>
            <a:ext cx="1825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C:\Users\Эльвира\Desktop\Новая папка\linii_vertikalnyy_raduzhnyy_fon_2560x1600.jp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о-патриотичес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-нравствен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эстетичес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ориентацион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Прямоугольник 6" descr=""/>
          <p:cNvPicPr/>
          <p:nvPr/>
        </p:nvPicPr>
        <p:blipFill>
          <a:blip r:embed="rId2"/>
          <a:stretch/>
        </p:blipFill>
        <p:spPr>
          <a:xfrm>
            <a:off x="-73080" y="-171360"/>
            <a:ext cx="9290160" cy="140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thermaltake\Downloads\09-03-2015_21-51-38\SAM_0366.JPG"/>
          <p:cNvPicPr/>
          <p:nvPr/>
        </p:nvPicPr>
        <p:blipFill>
          <a:blip r:embed="rId3"/>
          <a:stretch/>
        </p:blipFill>
        <p:spPr>
          <a:xfrm>
            <a:off x="5035680" y="3730680"/>
            <a:ext cx="4230720" cy="2566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thermaltake\Desktop\lenta.png"/>
          <p:cNvPicPr/>
          <p:nvPr/>
        </p:nvPicPr>
        <p:blipFill>
          <a:blip r:embed="rId4"/>
          <a:stretch/>
        </p:blipFill>
        <p:spPr>
          <a:xfrm>
            <a:off x="4680" y="4365720"/>
            <a:ext cx="8064720" cy="2852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5"/>
          <a:stretch/>
        </p:blipFill>
        <p:spPr>
          <a:xfrm>
            <a:off x="6089760" y="1941480"/>
            <a:ext cx="30286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C:\Users\Эльвира\Desktop\Новая папка\linii_vertikalnyy_raduzhnyy_fon_2560x1600.jp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Сертификат на авторство программы «От школы безопасности к жизни без опасности» (декабрь 2015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Участие в работе городского методического объединения социальных педагогов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бщеобразовательных организаций с выступлением на тему : «Ранняя профилактика правонарушений и преступлений в начальной школе как фактор успешной социализации младших школьников» (февраль 2015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Участие в окружных курсах повышения квалификации по теме «Основы управления общеобразовательным учреждением»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 презентацией собственного опыта работы по теме «Формирование социокультурного образовательного пространства Школы полного дня» (декабрь 2010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Прямоугольник 4" descr=""/>
          <p:cNvPicPr/>
          <p:nvPr/>
        </p:nvPicPr>
        <p:blipFill>
          <a:blip r:embed="rId2"/>
          <a:stretch/>
        </p:blipFill>
        <p:spPr>
          <a:xfrm>
            <a:off x="55440" y="-139680"/>
            <a:ext cx="90280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03:11:18Z</dcterms:created>
  <dc:creator>Эльвира</dc:creator>
  <dc:description/>
  <dc:language>en-US</dc:language>
  <cp:lastModifiedBy>GYPNORION</cp:lastModifiedBy>
  <dcterms:modified xsi:type="dcterms:W3CDTF">2016-10-08T09:23:47Z</dcterms:modified>
  <cp:revision>28</cp:revision>
  <dc:subject/>
  <dc:title>Презентация PowerPoint</dc:title>
</cp:coreProperties>
</file>