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5B068-0C4A-4C7E-A916-9A18CC5C1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66D9C-C949-4E39-AD10-0260249C4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0E104-79E9-4709-8D8C-FF74CD9A9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FA44E-FB29-4614-8A56-5D986DBFB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BA497-DAB1-4873-BE7C-CFBD98C50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A02D2-1FE7-484B-BD3D-BFD374A3A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B2F0E-BE1F-4CAE-A5C1-C612E1D68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6722D-3BD8-4141-88A3-4BEC37B07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25F34-DDD2-4341-B09C-068FBB8B0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1D2C1-AD58-42AF-8C7E-548EE1232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E107D-3E98-437A-AB5C-C2BAA67CC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00544-D833-428D-B055-6D072D3A0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EF195-87E3-420B-B074-B982D3135BF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C:\Users\Эльвира\Desktop\Новая папка\linii_vertikalnyy_raduzhnyy_fon_2560x1600.jpg"/>
          <p:cNvPicPr/>
          <p:nvPr/>
        </p:nvPicPr>
        <p:blipFill>
          <a:blip r:embed="rId1"/>
          <a:stretch/>
        </p:blipFill>
        <p:spPr>
          <a:xfrm>
            <a:off x="6480" y="-68400"/>
            <a:ext cx="9144000" cy="6956640"/>
          </a:xfrm>
          <a:prstGeom prst="rect">
            <a:avLst/>
          </a:prstGeom>
          <a:ln w="0">
            <a:noFill/>
          </a:ln>
        </p:spPr>
      </p:pic>
      <p:pic>
        <p:nvPicPr>
          <p:cNvPr id="42" name="Заголовок 1" descr=""/>
          <p:cNvPicPr/>
          <p:nvPr/>
        </p:nvPicPr>
        <p:blipFill>
          <a:blip r:embed="rId2"/>
          <a:stretch/>
        </p:blipFill>
        <p:spPr>
          <a:xfrm>
            <a:off x="304920" y="268200"/>
            <a:ext cx="8156520" cy="466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C:\Users\Эльвира\Desktop\Новая папка\a5.gif"/>
          <p:cNvPicPr/>
          <p:nvPr/>
        </p:nvPicPr>
        <p:blipFill>
          <a:blip r:embed="rId3"/>
          <a:stretch/>
        </p:blipFill>
        <p:spPr>
          <a:xfrm>
            <a:off x="0" y="5203800"/>
            <a:ext cx="1708200" cy="1616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755280" y="3886200"/>
            <a:ext cx="70167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5" name="Picture 2" descr="E:\Я УЧИТЕЛЬ\ЗА НРАВСТВЕННЫЙ ПОДВИГ УЧИТЕЛЯ\МБОУ СОШ №1 Ярмак Наталья Викторовна.jpg"/>
          <p:cNvPicPr/>
          <p:nvPr/>
        </p:nvPicPr>
        <p:blipFill>
          <a:blip r:embed="rId4"/>
          <a:stretch/>
        </p:blipFill>
        <p:spPr>
          <a:xfrm>
            <a:off x="5292720" y="692280"/>
            <a:ext cx="3857760" cy="61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6" descr="C:\Users\Эльвира\Desktop\Новая папка\linii_vertikalnyy_raduzhnyy_fon_2560x1600.jpg"/>
          <p:cNvPicPr/>
          <p:nvPr/>
        </p:nvPicPr>
        <p:blipFill>
          <a:blip r:embed="rId1"/>
          <a:stretch/>
        </p:blipFill>
        <p:spPr>
          <a:xfrm>
            <a:off x="0" y="-98280"/>
            <a:ext cx="9144000" cy="6956280"/>
          </a:xfrm>
          <a:prstGeom prst="rect">
            <a:avLst/>
          </a:prstGeom>
          <a:ln w="0">
            <a:noFill/>
          </a:ln>
        </p:spPr>
      </p:pic>
      <p:pic>
        <p:nvPicPr>
          <p:cNvPr id="47" name="Подзаголовок 2" descr=""/>
          <p:cNvPicPr/>
          <p:nvPr/>
        </p:nvPicPr>
        <p:blipFill>
          <a:blip r:embed="rId2"/>
          <a:stretch/>
        </p:blipFill>
        <p:spPr>
          <a:xfrm>
            <a:off x="152280" y="622440"/>
            <a:ext cx="8570880" cy="5035320"/>
          </a:xfrm>
          <a:prstGeom prst="rect">
            <a:avLst/>
          </a:prstGeom>
          <a:ln w="0">
            <a:noFill/>
          </a:ln>
        </p:spPr>
      </p:pic>
      <p:pic>
        <p:nvPicPr>
          <p:cNvPr id="48" name="Прямоугольник 3" descr=""/>
          <p:cNvPicPr/>
          <p:nvPr/>
        </p:nvPicPr>
        <p:blipFill>
          <a:blip r:embed="rId3"/>
          <a:stretch/>
        </p:blipFill>
        <p:spPr>
          <a:xfrm>
            <a:off x="-146160" y="-12600"/>
            <a:ext cx="9015480" cy="17492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C:\Users\Эльвира\Desktop\Новая папка\a5.gif"/>
          <p:cNvPicPr/>
          <p:nvPr/>
        </p:nvPicPr>
        <p:blipFill>
          <a:blip r:embed="rId4"/>
          <a:stretch/>
        </p:blipFill>
        <p:spPr>
          <a:xfrm>
            <a:off x="0" y="4724280"/>
            <a:ext cx="1979640" cy="20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6" descr="C:\Users\Эльвира\Desktop\Новая папка\linii_vertikalnyy_raduzhnyy_fon_2560x1600.jpg"/>
          <p:cNvPicPr/>
          <p:nvPr/>
        </p:nvPicPr>
        <p:blipFill>
          <a:blip r:embed="rId1"/>
          <a:stretch/>
        </p:blipFill>
        <p:spPr>
          <a:xfrm>
            <a:off x="0" y="-98280"/>
            <a:ext cx="9144000" cy="695628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395280" y="1341360"/>
            <a:ext cx="8291520" cy="491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lnSpc>
                <a:spcPct val="80000"/>
              </a:lnSpc>
              <a:spcBef>
                <a:spcPts val="425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80000"/>
              </a:lnSpc>
              <a:spcBef>
                <a:spcPts val="425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Удостоверение о повышении квалификации №1495 по программе «Организация деятельности педагогических работников в соответствии с профессиональным стандартом (уровень общего образования)» (2016г.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80000"/>
              </a:lnSpc>
              <a:spcBef>
                <a:spcPts val="425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Диплом о профессиональной переподготовке №000657 по программе </a:t>
            </a:r>
            <a:r>
              <a:rPr b="1" lang="ru-RU" sz="1700" spc="-1" strike="noStrike" u="sng">
                <a:solidFill>
                  <a:srgbClr val="17375e"/>
                </a:solidFill>
                <a:uFillTx/>
                <a:latin typeface="Times New Roman"/>
                <a:ea typeface="Times New Roman"/>
              </a:rPr>
              <a:t>«Менеджмент в образовании</a:t>
            </a:r>
            <a:r>
              <a:rPr b="1" lang="ru-RU" sz="17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»(2014г.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80000"/>
              </a:lnSpc>
              <a:spcBef>
                <a:spcPts val="425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Удостоверение о повышение квалификации 862400679045 по программе </a:t>
            </a:r>
            <a:r>
              <a:rPr b="1" lang="ru-RU" sz="1700" spc="-1" strike="noStrike" u="sng">
                <a:solidFill>
                  <a:srgbClr val="17375e"/>
                </a:solidFill>
                <a:uFillTx/>
                <a:latin typeface="Times New Roman"/>
                <a:ea typeface="Times New Roman"/>
              </a:rPr>
              <a:t>«Инклюзивная форма обучения и воспитания в общеобразовательной школе</a:t>
            </a:r>
            <a:r>
              <a:rPr b="1" lang="ru-RU" sz="17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» (2014г.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80000"/>
              </a:lnSpc>
              <a:spcBef>
                <a:spcPts val="425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Удостоверение о повышении квалификации №5780 по программе </a:t>
            </a:r>
            <a:r>
              <a:rPr b="1" lang="ru-RU" sz="1700" spc="-1" strike="noStrike" u="sng">
                <a:solidFill>
                  <a:srgbClr val="17375e"/>
                </a:solidFill>
                <a:uFillTx/>
                <a:latin typeface="Times New Roman"/>
                <a:ea typeface="Times New Roman"/>
              </a:rPr>
              <a:t>«Реализация успешных моделей социальной адаптации и социально-психологического сопровождения выпускников организаций для детей-сирот и детей, оставшихся без попечения родителей</a:t>
            </a:r>
            <a:r>
              <a:rPr b="1" lang="ru-RU" sz="17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» (2014г.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80000"/>
              </a:lnSpc>
              <a:spcBef>
                <a:spcPts val="425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Удостоверение о повышении квалификации №2605 по </a:t>
            </a:r>
            <a:r>
              <a:rPr b="1" lang="ru-RU" sz="1700" spc="-1" strike="noStrike" u="sng">
                <a:solidFill>
                  <a:srgbClr val="17375e"/>
                </a:solidFill>
                <a:uFillTx/>
                <a:latin typeface="Times New Roman"/>
                <a:ea typeface="Times New Roman"/>
              </a:rPr>
              <a:t>программе «Основы религиозных культур и светской этики</a:t>
            </a:r>
            <a:r>
              <a:rPr b="1" lang="ru-RU" sz="17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» (2012г.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80000"/>
              </a:lnSpc>
              <a:spcBef>
                <a:spcPts val="425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Удостоверение о повышении квалификации №681 по программе «Теория и методика преподавания курса </a:t>
            </a:r>
            <a:r>
              <a:rPr b="1" lang="ru-RU" sz="1700" spc="-1" strike="noStrike" u="sng">
                <a:solidFill>
                  <a:srgbClr val="17375e"/>
                </a:solidFill>
                <a:uFillTx/>
                <a:latin typeface="Times New Roman"/>
                <a:ea typeface="Times New Roman"/>
              </a:rPr>
              <a:t>«Социокультурные истоки</a:t>
            </a:r>
            <a:r>
              <a:rPr b="1" lang="ru-RU" sz="17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» (2011г.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80000"/>
              </a:lnSpc>
              <a:spcBef>
                <a:spcPts val="425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Удостоверение о повышении квалификации №6035 по программе «</a:t>
            </a:r>
            <a:r>
              <a:rPr b="1" lang="ru-RU" sz="1700" spc="-1" strike="noStrike" u="sng">
                <a:solidFill>
                  <a:srgbClr val="17375e"/>
                </a:solidFill>
                <a:uFillTx/>
                <a:latin typeface="Times New Roman"/>
                <a:ea typeface="Times New Roman"/>
              </a:rPr>
              <a:t>Основы управления общеобразовательным учреждением»</a:t>
            </a:r>
            <a:r>
              <a:rPr b="1" lang="ru-RU" sz="17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 (2010г.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80000"/>
              </a:lnSpc>
              <a:spcBef>
                <a:spcPts val="425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Удостоверение о повышении квалификации №15454 по программе </a:t>
            </a:r>
            <a:r>
              <a:rPr b="1" lang="ru-RU" sz="1700" spc="-1" strike="noStrike" u="sng">
                <a:solidFill>
                  <a:srgbClr val="17375e"/>
                </a:solidFill>
                <a:uFillTx/>
                <a:latin typeface="Times New Roman"/>
                <a:ea typeface="Times New Roman"/>
              </a:rPr>
              <a:t>«Педагогическое мастерство</a:t>
            </a:r>
            <a:r>
              <a:rPr b="1" lang="ru-RU" sz="17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» (2009г.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Прямоугольник 4" descr=""/>
          <p:cNvPicPr/>
          <p:nvPr/>
        </p:nvPicPr>
        <p:blipFill>
          <a:blip r:embed="rId2"/>
          <a:stretch/>
        </p:blipFill>
        <p:spPr>
          <a:xfrm>
            <a:off x="-85680" y="-152280"/>
            <a:ext cx="9388440" cy="15174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" descr="C:\Users\Эльвира\Desktop\Новая папка\a5.gif"/>
          <p:cNvPicPr/>
          <p:nvPr/>
        </p:nvPicPr>
        <p:blipFill>
          <a:blip r:embed="rId3"/>
          <a:stretch/>
        </p:blipFill>
        <p:spPr>
          <a:xfrm>
            <a:off x="7620120" y="5919840"/>
            <a:ext cx="145080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6" descr="C:\Users\Эльвира\Desktop\Новая папка\linii_vertikalnyy_raduzhnyy_fon_2560x1600.jpg"/>
          <p:cNvPicPr/>
          <p:nvPr/>
        </p:nvPicPr>
        <p:blipFill>
          <a:blip r:embed="rId1"/>
          <a:stretch/>
        </p:blipFill>
        <p:spPr>
          <a:xfrm>
            <a:off x="0" y="-98280"/>
            <a:ext cx="9144000" cy="695628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50752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68000" y="1628280"/>
            <a:ext cx="821844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17375e"/>
                </a:solidFill>
                <a:uFillTx/>
                <a:latin typeface="Times New Roman"/>
                <a:ea typeface="Times New Roman"/>
              </a:rPr>
              <a:t>Диплом </a:t>
            </a:r>
            <a:r>
              <a:rPr b="1" lang="en-US" sz="1800" spc="-1" strike="noStrike" u="sng">
                <a:solidFill>
                  <a:srgbClr val="17375e"/>
                </a:solidFill>
                <a:uFillTx/>
                <a:latin typeface="Times New Roman"/>
                <a:ea typeface="Times New Roman"/>
              </a:rPr>
              <a:t>III</a:t>
            </a:r>
            <a:r>
              <a:rPr b="1" lang="ru-RU" sz="1800" spc="-1" strike="noStrike" u="sng">
                <a:solidFill>
                  <a:srgbClr val="17375e"/>
                </a:solidFill>
                <a:uFillTx/>
                <a:latin typeface="Times New Roman"/>
                <a:ea typeface="Times New Roman"/>
              </a:rPr>
              <a:t> степени городского интеллектуального марафона 2013-2014 </a:t>
            </a:r>
            <a:r>
              <a:rPr b="1" lang="ru-RU" sz="18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учебного года в соревновании юных исследователей «ШАГ В БУДУЩЕЕ.ЮНИОР-2014» (секция Обществознание) (апрель 2014г.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Диплом </a:t>
            </a:r>
            <a:r>
              <a:rPr b="1" lang="en-US" sz="18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II</a:t>
            </a:r>
            <a:r>
              <a:rPr b="1" lang="ru-RU" sz="18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 степени Окружного конкурса программ и проектов организаций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, занимающихся профилактикой правонарушений среди несовершеннолетних и молодежи и защиты их прав. (Грант 35 тыс. рублей) Проект «От школы безопасности к жизни без опасности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(февраль 2015г.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Финалист городского проекта «Компетентные родители». 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оект «Ценности, которым нет цены…»              (апрель 2015г.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иплом </a:t>
            </a:r>
            <a:r>
              <a:rPr b="1" lang="en-US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III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степени городского конкурса программ и проектов по профилактике дорожно-транспортных происшествий. Программа внеурочной деятельности «Дорожная азбука» (октябрь 2015г.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сероссийский конкурс в области педагогики, воспитания и работы с детьми и молодежью до 20 лет на соискание премии «За нравственный подвиг учителя» </a:t>
            </a:r>
            <a:r>
              <a:rPr b="1" lang="ru-RU" sz="19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Победитель -1 место в номинации «За организацию духовно-нравственного воспитания в рамках ОУ» </a:t>
            </a:r>
            <a:r>
              <a:rPr b="1" lang="ru-RU" sz="19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(приказ департамента образования Администрации города №12-27-372/16 от 18.05.16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Прямоугольник 4" descr=""/>
          <p:cNvPicPr/>
          <p:nvPr/>
        </p:nvPicPr>
        <p:blipFill>
          <a:blip r:embed="rId2"/>
          <a:stretch/>
        </p:blipFill>
        <p:spPr>
          <a:xfrm>
            <a:off x="-171360" y="-6480"/>
            <a:ext cx="9327960" cy="17496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" descr="C:\Users\Эльвира\Desktop\Новая папка\a5.gif"/>
          <p:cNvPicPr/>
          <p:nvPr/>
        </p:nvPicPr>
        <p:blipFill>
          <a:blip r:embed="rId3"/>
          <a:stretch/>
        </p:blipFill>
        <p:spPr>
          <a:xfrm>
            <a:off x="7380360" y="5973840"/>
            <a:ext cx="1825560" cy="90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6" descr="C:\Users\Эльвира\Desktop\Новая папка\linii_vertikalnyy_raduzhnyy_fon_2560x1600.jpg"/>
          <p:cNvPicPr/>
          <p:nvPr/>
        </p:nvPicPr>
        <p:blipFill>
          <a:blip r:embed="rId1"/>
          <a:stretch/>
        </p:blipFill>
        <p:spPr>
          <a:xfrm>
            <a:off x="0" y="-98280"/>
            <a:ext cx="9144000" cy="695628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17375e"/>
                </a:solidFill>
                <a:uFillTx/>
                <a:latin typeface="Times New Roman"/>
                <a:ea typeface="Times New Roman"/>
              </a:rPr>
              <a:t>Статья «Воспитание игрой как основа формирования нравственного поведения младших школьников» (сертификат №ПМ-61-13-14, 2013г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Статья О.Г.Корниенко (краевед, режиссер «Из опыта работы в рамках окружной пилотной площадки по социализации и адаптации детей мигрантов и их семе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http://ugra.mk.ru/articles/2014/12/16/cennosti-kotorym-net-ceny.htm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Прямоугольник 4" descr=""/>
          <p:cNvPicPr/>
          <p:nvPr/>
        </p:nvPicPr>
        <p:blipFill>
          <a:blip r:embed="rId2"/>
          <a:stretch/>
        </p:blipFill>
        <p:spPr>
          <a:xfrm>
            <a:off x="-237960" y="-85680"/>
            <a:ext cx="9321480" cy="17492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" descr="C:\Users\Эльвира\Desktop\Новая папка\a5.gif"/>
          <p:cNvPicPr/>
          <p:nvPr/>
        </p:nvPicPr>
        <p:blipFill>
          <a:blip r:embed="rId3"/>
          <a:stretch/>
        </p:blipFill>
        <p:spPr>
          <a:xfrm>
            <a:off x="33480" y="5661000"/>
            <a:ext cx="182556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6" descr="C:\Users\Эльвира\Desktop\Новая папка\linii_vertikalnyy_raduzhnyy_fon_2560x1600.jpg"/>
          <p:cNvPicPr/>
          <p:nvPr/>
        </p:nvPicPr>
        <p:blipFill>
          <a:blip r:embed="rId1"/>
          <a:stretch/>
        </p:blipFill>
        <p:spPr>
          <a:xfrm>
            <a:off x="0" y="-98280"/>
            <a:ext cx="9144000" cy="695628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17375e"/>
                </a:solidFill>
                <a:uFillTx/>
                <a:latin typeface="Times New Roman"/>
                <a:ea typeface="Times New Roman"/>
              </a:rPr>
              <a:t>Почетная грамота </a:t>
            </a:r>
            <a:r>
              <a:rPr b="1" lang="ru-RU" sz="3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Департамента образования и науки Администрации города Сургута (2002г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17375e"/>
                </a:solidFill>
                <a:uFillTx/>
                <a:latin typeface="Times New Roman"/>
                <a:ea typeface="Times New Roman"/>
              </a:rPr>
              <a:t>Благодарственное письмо </a:t>
            </a:r>
            <a:r>
              <a:rPr b="1" lang="ru-RU" sz="3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Департамента образования и молодежной политики Ханты-Мансийского автономного округа-Югры (2014г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Прямоугольник 4" descr=""/>
          <p:cNvPicPr/>
          <p:nvPr/>
        </p:nvPicPr>
        <p:blipFill>
          <a:blip r:embed="rId2"/>
          <a:stretch/>
        </p:blipFill>
        <p:spPr>
          <a:xfrm>
            <a:off x="-237960" y="-85680"/>
            <a:ext cx="9321480" cy="17492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4" descr="C:\Users\Эльвира\Desktop\Новая папка\a5.gif"/>
          <p:cNvPicPr/>
          <p:nvPr/>
        </p:nvPicPr>
        <p:blipFill>
          <a:blip r:embed="rId3"/>
          <a:stretch/>
        </p:blipFill>
        <p:spPr>
          <a:xfrm>
            <a:off x="23760" y="5129280"/>
            <a:ext cx="182556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6" descr="C:\Users\Эльвира\Desktop\Новая папка\linii_vertikalnyy_raduzhnyy_fon_2560x1600.jpg"/>
          <p:cNvPicPr/>
          <p:nvPr/>
        </p:nvPicPr>
        <p:blipFill>
          <a:blip r:embed="rId1"/>
          <a:stretch/>
        </p:blipFill>
        <p:spPr>
          <a:xfrm>
            <a:off x="0" y="-98280"/>
            <a:ext cx="9144000" cy="69562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жданско-патриотическо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уховно-нравственно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удожественно-эстетическо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ологическо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фориентационно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опасност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Прямоугольник 6" descr=""/>
          <p:cNvPicPr/>
          <p:nvPr/>
        </p:nvPicPr>
        <p:blipFill>
          <a:blip r:embed="rId2"/>
          <a:stretch/>
        </p:blipFill>
        <p:spPr>
          <a:xfrm>
            <a:off x="-73080" y="-171360"/>
            <a:ext cx="9290160" cy="14097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2" descr="C:\Users\thermaltake\Downloads\09-03-2015_21-51-38\SAM_0366.JPG"/>
          <p:cNvPicPr/>
          <p:nvPr/>
        </p:nvPicPr>
        <p:blipFill>
          <a:blip r:embed="rId3"/>
          <a:stretch/>
        </p:blipFill>
        <p:spPr>
          <a:xfrm>
            <a:off x="5035680" y="3730680"/>
            <a:ext cx="4230720" cy="25668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5" descr="C:\Users\thermaltake\Desktop\lenta.png"/>
          <p:cNvPicPr/>
          <p:nvPr/>
        </p:nvPicPr>
        <p:blipFill>
          <a:blip r:embed="rId4"/>
          <a:stretch/>
        </p:blipFill>
        <p:spPr>
          <a:xfrm>
            <a:off x="4680" y="4365720"/>
            <a:ext cx="8064720" cy="28526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" descr=""/>
          <p:cNvPicPr/>
          <p:nvPr/>
        </p:nvPicPr>
        <p:blipFill>
          <a:blip r:embed="rId5"/>
          <a:stretch/>
        </p:blipFill>
        <p:spPr>
          <a:xfrm>
            <a:off x="6089760" y="1941480"/>
            <a:ext cx="3028680" cy="20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6" descr="C:\Users\Эльвира\Desktop\Новая папка\linii_vertikalnyy_raduzhnyy_fon_2560x1600.jpg"/>
          <p:cNvPicPr/>
          <p:nvPr/>
        </p:nvPicPr>
        <p:blipFill>
          <a:blip r:embed="rId1"/>
          <a:stretch/>
        </p:blipFill>
        <p:spPr>
          <a:xfrm>
            <a:off x="0" y="-98280"/>
            <a:ext cx="9144000" cy="695628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17375e"/>
                </a:solidFill>
                <a:uFillTx/>
                <a:latin typeface="Times New Roman"/>
                <a:ea typeface="Times New Roman"/>
              </a:rPr>
              <a:t>Сертификат на авторство программы «От школы безопасности к жизни без опасности» (декабрь 2015г.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17375e"/>
                </a:solidFill>
                <a:uFillTx/>
                <a:latin typeface="Times New Roman"/>
                <a:ea typeface="Times New Roman"/>
              </a:rPr>
              <a:t>Участие в работе городского методического объединения социальных педагогов </a:t>
            </a:r>
            <a:r>
              <a:rPr b="1" lang="ru-RU" sz="20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общеобразовательных организаций с выступлением на тему : «Ранняя профилактика правонарушений и преступлений в начальной школе как фактор успешной социализации младших школьников» (февраль 2015г.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17375e"/>
                </a:solidFill>
                <a:uFillTx/>
                <a:latin typeface="Times New Roman"/>
                <a:ea typeface="Times New Roman"/>
              </a:rPr>
              <a:t>Участие в окружных курсах повышения квалификации по теме «Основы управления общеобразовательным учреждением» </a:t>
            </a:r>
            <a:r>
              <a:rPr b="1" lang="ru-RU" sz="20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с презентацией собственного опыта работы по теме «Формирование социокультурного образовательного пространства Школы полного дня» (декабрь 2010г.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Прямоугольник 4" descr=""/>
          <p:cNvPicPr/>
          <p:nvPr/>
        </p:nvPicPr>
        <p:blipFill>
          <a:blip r:embed="rId2"/>
          <a:stretch/>
        </p:blipFill>
        <p:spPr>
          <a:xfrm>
            <a:off x="55440" y="-139680"/>
            <a:ext cx="9028080" cy="17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10T03:11:18Z</dcterms:created>
  <dc:creator>Эльвира</dc:creator>
  <dc:description/>
  <dc:language>en-US</dc:language>
  <cp:lastModifiedBy>GYPNORION</cp:lastModifiedBy>
  <dcterms:modified xsi:type="dcterms:W3CDTF">2016-10-08T09:23:47Z</dcterms:modified>
  <cp:revision>28</cp:revision>
  <dc:subject/>
  <dc:title>Презентация PowerPoint</dc:title>
</cp:coreProperties>
</file>