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9F60-0B19-4DD0-9097-8ABDC821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9E26-55BB-4814-9464-179FAF10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CB3A-A373-4FCB-8CE6-BF88A128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9BA0-0E3C-4C24-B9D2-F2740EB4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93B2-C349-4429-8C0A-B8CBC55E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E613-1DF8-4312-847B-94B5AF38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9B0C-ADD0-431B-B0D1-817F0A88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F127-D965-49A8-999B-48F05BC1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8D3B-8CC4-4E8B-8477-A2EA6CF9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EB6A-63C1-4DB0-87A3-740CDF56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AA3A-BAB0-474B-9100-80B1FBB9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F9A0-B9BD-47DB-9348-2098386D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2FB9-316B-4B68-A2F4-B626866E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4956-C2A3-4A45-8CB3-8EED8BA1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2912-D03A-4574-BCBC-D42CE9A7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11C4-F226-4EA3-B0C0-45511F76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9A3C-82BF-4605-8A7B-BF1864E9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669D-8F77-4746-92BA-32F6D2F9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F2D1-F0F4-472E-9CF9-114A3924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989C-1105-4C2E-9D89-890DD200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8FD1-CA70-46DC-B2BB-0D19C734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1164-692C-440F-AD9E-AD5DD0CE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9727-179E-44D2-A2B2-2B4361A3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FE42-A8C8-42BC-8EF8-B6CB0784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4551-4934-4038-AFC1-EDB3173AC3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FBF7-23A0-4025-8D4C-349EF9FCAD8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5.%20&#1058;&#1077;&#1084;&#1072;&#1090;&#1080;&#1095;&#1077;&#1089;&#1082;&#1086;&#1077;%20&#1087;&#1083;&#1072;&#1085;&#1080;&#1088;&#1086;&#1074;&#1072;&#1085;&#1080;&#1077;.%20&#1060;&#1088;&#1072;&#1075;&#1084;&#1077;&#1085;&#1090;..docx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95640" y="1341360"/>
            <a:ext cx="46800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нтегрированный урок  по физике и би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2916360" y="4437000"/>
            <a:ext cx="597672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Авторы:</a:t>
            </a: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емская Наталья  Витальевн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физики МАОУ «Средняя школа №8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 Когалы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арина Евгения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2771640" y="6021360"/>
            <a:ext cx="47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меты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ка и биолог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асс: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3851280" y="3141720"/>
            <a:ext cx="48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ический 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4067280" y="5732640"/>
            <a:ext cx="50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биологии МАОУ «Средняя школа №8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 Когалы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23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ли человек использовать в повседневной жизни «биоэлектричество»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Рефлексия: 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(10 мин)</a:t>
            </a: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468360" y="1052640"/>
            <a:ext cx="820728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этапа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ация новой информации по отношению  к уже имеющей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539640" y="1773360"/>
            <a:ext cx="4537080" cy="22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учите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последнюю  колонку  таблицы и внести дополнения в первые две коло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ит учащихся  высказаться о своих впечатлениях после заполнения таблиц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учащимся обменяться мнениями об уро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5219640" y="1773360"/>
            <a:ext cx="3313080" cy="22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учен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последнюю  колонку таблицы «З – Х – У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осят «новую» информацию со стар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ют на вопро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иваются  мне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7"/>
          <p:cNvSpPr/>
          <p:nvPr/>
        </p:nvSpPr>
        <p:spPr>
          <a:xfrm>
            <a:off x="5286240" y="4429080"/>
            <a:ext cx="3024360" cy="1655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обуч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ристическая бес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1714680" y="4286160"/>
            <a:ext cx="3024000" cy="21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мый результа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ие собственных 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полученных знаний , предметных компетенций в нестандартных ситуа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2160" y="32652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7"/>
          <p:cNvSpPr/>
          <p:nvPr/>
        </p:nvSpPr>
        <p:spPr>
          <a:xfrm>
            <a:off x="1979640" y="1197000"/>
            <a:ext cx="6192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сегодня я узнал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было интересно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было трудно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я выполнял задания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я понял, что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теперь я могу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я почувствовал, что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826920" y="1440360"/>
            <a:ext cx="7705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ья насекомоядных растений, как и ткани животных, производят, оказывается, электричество. Если замкнуть между контактами гальванометра лист мухоловки, то стрелка прибора отклонится: прибор зарегистрирует ток! От основания к вершине листа течет биоток положительного знака, а по черешку - отрицательного. Предложите несколько способов использования биотоков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зучите азы науки, прежде чем взойти на её вершины. Никогда не беритесь за последующее, не повторив предыдущее»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П. Павл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768320" y="428760"/>
            <a:ext cx="6850080" cy="5143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Место занятия  в изучаемом  разде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755640" y="1700280"/>
            <a:ext cx="792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Тема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«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Электрические явления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» -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29ч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нятие 27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гревание проводников                                электрическим то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Calibri"/>
                <a:hlinkClick r:id="rId1"/>
              </a:rPr>
              <a:t>Занятие 28.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Обобщающий урок по т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                  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« Электрический т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нятие 29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трольная работа по те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лектрический т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и урок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3880" y="1214280"/>
            <a:ext cx="78901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здать условия (содержательные, организационные и методические) для формирования у школьников различных видов УУ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знаватель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чност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гулятив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ммуникативны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1071720" y="785880"/>
            <a:ext cx="746100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н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таких понятий как «электрический ток»,  «гальванический элемент», «условия существования электрического тока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рвный импульс», «биоэлектричество», «принцип работы нервной системы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ме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в группах, иметь навыки  участия в дебат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с текстом,  находить ключевые слова,      формулировать проблемный вопро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владе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ами применения полученных знаний , предметных компетенций в нестандартных ситуац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571680" y="64296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беспечить достижение следующих образовательных результа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468360" y="40464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Задачи урока</a:t>
            </a: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1476360" y="981000"/>
            <a:ext cx="7199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овате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истематизировать знания учащихся по теме «Электрический то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ющ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владеть  навыками самостоятельного приобретения новых знаний, организации учебной деятельности, постановки целей, планирования, самоконтроля и оценки результатов свое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формировать познавательные интересы, интеллектуальные и творческие спосо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нать  и уметь работать с текстом,  находить ключевые слова, формулировать проблемный вопро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спитать  умения работать в группах и парах, слушать и быть услыша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Тип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1714680" y="1268280"/>
            <a:ext cx="6858000" cy="46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п урока: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систематизации обобщение знаний и умений  (урок обобще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ованный урок физики и биоло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  обу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ристическая бесе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ое изло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 критического мышления через чтение и письм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ласте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«З-Х-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прос-итог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Стадия вызова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(10 мин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611280" y="1052640"/>
            <a:ext cx="7848360" cy="10087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этапа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ация учащихся, систематизация знаний по теме «Электрический ток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428760" y="2071800"/>
            <a:ext cx="4824360" cy="2571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учащимся  посмотреть на экран и ответить на вопро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 вы думаете, что между ними общего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ует с учени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заполнить первые две колонки таблицы «З-Х-У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ученикам сформулировать  тему и цель уро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5357880" y="2071800"/>
            <a:ext cx="3240000" cy="2571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ученика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о фронтальной бесе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ют свои предпо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табли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уют тему и цель уро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ывают тему урока в 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1763640" y="4714920"/>
            <a:ext cx="3384720" cy="1643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мый результа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ация знаний по теме «Электрический ток»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ание учениками темы и цели уро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9"/>
          <p:cNvSpPr/>
          <p:nvPr/>
        </p:nvSpPr>
        <p:spPr>
          <a:xfrm>
            <a:off x="5286240" y="4786200"/>
            <a:ext cx="3311640" cy="1368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обуч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ация матери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ристическая бес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мысление содержания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 20 мин)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571680" y="1000080"/>
            <a:ext cx="8001000" cy="642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этапа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новой информацией, выявление противоречий и затруд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642960" y="1785960"/>
            <a:ext cx="3500280" cy="4429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учителя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прочитать текст « От лягушачьих лапок к Вольтову столбу»  и ответить на вопрос: 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, по Вашему мнению, был прав: Вольта или Гальвани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дебаты и предлагает заполнить  клас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ирует ролики «Гальванический элемент» и «Электрический ска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одит итоги деятельности  учащихся и спрашива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же из учёных был прав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ет вопрос: на закрепление полученных зн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7"/>
          <p:cNvSpPr/>
          <p:nvPr/>
        </p:nvSpPr>
        <p:spPr>
          <a:xfrm>
            <a:off x="4214880" y="1785960"/>
            <a:ext cx="4214880" cy="2071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ают в дебаты по вопросу «два взгляда на существование «биоэлектричества»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ируют  полученную информац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«класте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ят к выводу о единстве возникновения и условиях существования любого электрического т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071960" y="1875240"/>
            <a:ext cx="453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учени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9"/>
          <p:cNvSpPr/>
          <p:nvPr/>
        </p:nvSpPr>
        <p:spPr>
          <a:xfrm>
            <a:off x="4286160" y="3929040"/>
            <a:ext cx="407196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мый результа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ание учен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а о единстве возникновения и условиях существования любого электрического т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0"/>
          <p:cNvSpPr/>
          <p:nvPr/>
        </p:nvSpPr>
        <p:spPr>
          <a:xfrm>
            <a:off x="4929120" y="5429160"/>
            <a:ext cx="285768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обуч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ое изло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7:44:30Z</dcterms:created>
  <dc:creator/>
  <dc:description/>
  <dc:language>en-US</dc:language>
  <cp:lastModifiedBy>User</cp:lastModifiedBy>
  <dcterms:modified xsi:type="dcterms:W3CDTF">2014-01-28T05:27:08Z</dcterms:modified>
  <cp:revision>195</cp:revision>
  <dc:subject/>
  <dc:title>Сила трения.Трение в природе и технике.</dc:title>
</cp:coreProperties>
</file>