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4B6-784F-489A-AB7B-B6D5CD9A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793-75C6-41B5-8DC8-A9AF3F5E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5F9-A7C8-4784-84EC-E320B5DD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319-FF0C-4F93-84D5-32589F4D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BEC9-2519-4737-A4F3-76E6CD52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AEA-0CCB-4331-8470-6B9049D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8C0-2F68-4378-A297-895CFDA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BFC1-EE80-4176-A6A6-E72EFA81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485-1D40-4D4C-8CE7-10E74EE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642D-D94D-467E-AFA2-F9E6B42A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BFE7-393A-4F35-A784-25CB3149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684-5BBC-4ABD-94E0-0A592833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55E-60E1-45D8-95D5-F8DB52C4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8EBB-3E00-4432-93C5-F1443D4F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59A4-3127-4AC7-AD89-01286BE4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AAE-4AAB-44EC-A21A-B8FC311C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859-81B0-45C7-AAA9-64844A23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A1E-C46E-4C9B-9A35-B474EAE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B87-2943-439E-AA9F-B9E5E18D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890-80D1-43F9-9F6E-96AB6249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FDE-8AC5-4674-961D-BEAE5886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DDC-17D3-47F2-B58D-4B223D8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54E-FE42-497B-B7C3-DA78FD6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EEA-5D8B-4357-B66F-E127DE1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9C4-AD1D-4284-864E-BE6A182697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3FCA-E3E7-4B46-931A-686B3D439E4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5.%20&#1058;&#1077;&#1084;&#1072;&#1090;&#1080;&#1095;&#1077;&#1089;&#1082;&#1086;&#1077;%20&#1087;&#1083;&#1072;&#1085;&#1080;&#1088;&#1086;&#1074;&#1072;&#1085;&#1080;&#1077;.%20&#1060;&#1088;&#1072;&#1075;&#1084;&#1077;&#1085;&#1090;..docx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5640" y="1341360"/>
            <a:ext cx="4680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тегрированный урок  по физике и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916360" y="4437000"/>
            <a:ext cx="5976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вторы:</a:t>
            </a:r>
            <a:r>
              <a:rPr b="1" lang="ru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мская Наталья  Витальев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МАОУ «Средняя школа №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 Когал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арина Евгени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771640" y="6021360"/>
            <a:ext cx="47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 и биоло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3851280" y="314172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067280" y="5732640"/>
            <a:ext cx="50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МАОУ «Средняя школа №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 Когал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человек использовать в повседневной жизни «биоэлектричество»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флексия: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(10 мин)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68360" y="1052640"/>
            <a:ext cx="820728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этап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новой информации по отношению  к уже имеюще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539640" y="1773360"/>
            <a:ext cx="453708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оследнюю  колонку  таблицы и внести дополнения в первые две коло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т учащихся  высказаться о своих впечатлениях после заполнения табл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учащимся обменяться мнениями об уро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5219640" y="1773360"/>
            <a:ext cx="331308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последнюю  колонку таблицы «З – Х – 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сят «новую» информацию со ста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ют на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иваются  мн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5286240" y="4429080"/>
            <a:ext cx="3024360" cy="165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ая бес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4286160"/>
            <a:ext cx="3024000" cy="214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й результа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обствен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лученных знаний , предметных компетенций в нестандарт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160" y="3265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1979640" y="1197000"/>
            <a:ext cx="619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сегодня я узнал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ыло интересн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ыло трудн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я выполнял задания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я понял, чт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еперь я могу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я почувствовал, что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26920" y="14403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асекомоядных растений, как и ткани животных, производят, оказывается, электричество. Если замкнуть между контактами гальванометра лист мухоловки, то стрелка прибора отклонится: прибор зарегистрирует ток! От основания к вершине листа течет биоток положительного знака, а по черешку - отрицательного. Предложите несколько способов использования биотоков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учите азы науки, прежде чем взойти на её вершины. Никогда не беритесь за последующее, не повторив предыдущее»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П. Пав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768320" y="428760"/>
            <a:ext cx="685008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есто занятия  в изучаемом  разд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755640" y="170028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м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Электрические явления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» -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29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е 27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гревание проводников                                электрическим 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1"/>
              </a:rPr>
              <a:t>Занятие 28.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Обобщающий урок 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« Электрический 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е 29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ая работа по те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ический 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3880" y="1214280"/>
            <a:ext cx="7890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условия (содержательные, организационные и методические) для формирования у школьников различных видов УУ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наватель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тив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муникативны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071720" y="785880"/>
            <a:ext cx="74610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аких понятий как «электрический ток»,  «гальванический элемент», «условия существования электрического то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рвный импульс», «биоэлектричество», «принцип работы нервной систем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в группах, иметь навыки  участия в деба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с текстом,  находить ключевые слова,      формулировать проблемный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ладе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ми применения полученных знаний , предметных компетенций в нестандарт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71680" y="6429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еспечить достижение следующих образовательны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68360" y="404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адачи урока</a:t>
            </a: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1476360" y="981000"/>
            <a:ext cx="7199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истематизировать знания учащихся по теме «Электрический т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владеть  навыками самостоятельного приобретения новых знаний, организации учебной деятельности, постановки целей, планирования, самоконтроля и оценки результатов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формировать познавательные интересы, интеллектуальные и творческие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ть  и уметь работать с текстом,  находить ключевые слова, формулировать проблемный в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питать  умения работать в группах и парах, слушать и быть услыш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Тип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714680" y="1268280"/>
            <a:ext cx="685800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 урока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истематизации обобщение знаний и умений  (урок обобщ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урок физики и би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ая бесе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критического мышления через чтение и письм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З-Х-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рос-ито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тадия вызова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10 мин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1280" y="1052640"/>
            <a:ext cx="7848360" cy="1008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этап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учащихся, систематизация знаний по теме «Электрический то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428760" y="2071800"/>
            <a:ext cx="482436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учащимся  посмотреть на экран и ответить на вопро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вы думаете, что между ними общего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ует с уче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заполнить первые две колонки таблицы «З-Х-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ученикам сформулировать  тему и цель ур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5357880" y="2071800"/>
            <a:ext cx="324000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еник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 фронтальной бес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ют свои пред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табли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 тему и цель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ют тему урока в 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1763640" y="4714920"/>
            <a:ext cx="3384720" cy="1643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по теме «Электрический ток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учениками темы и цели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5286240" y="4786200"/>
            <a:ext cx="3311640" cy="13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ая бес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I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мысление содержа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20 мин)</a:t>
            </a: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571680" y="1000080"/>
            <a:ext cx="800100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этапа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новой информацией, выявление противоречий и затруд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1785960"/>
            <a:ext cx="3500280" cy="442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прочитать текст « От лягушачьих лапок к Вольтову столбу»  и ответить на вопрос: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по Вашему мнению, был прав: Вольта или Гальван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дебаты и предлагает заполнить  клас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ет ролики «Гальванический элемент» и «Электрический ск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 итоги деятельности  учащихся и спрашива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из учёных был прав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ет вопрос: на закрепление полученных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4214880" y="1785960"/>
            <a:ext cx="4214880" cy="2071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ют в дебаты по вопросу «два взгляда на существование «биоэлектричества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ют  полученную информ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«класт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ят к выводу о единстве возникновения и условиях существования любого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071960" y="18752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ен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4286160" y="3929040"/>
            <a:ext cx="407196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уче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а о единстве возникновения и условиях существования любого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4929120" y="5429160"/>
            <a:ext cx="285768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User</cp:lastModifiedBy>
  <dcterms:modified xsi:type="dcterms:W3CDTF">2014-01-28T05:27:08Z</dcterms:modified>
  <cp:revision>195</cp:revision>
  <dc:subject/>
  <dc:title>Сила трения.Трение в природе и технике.</dc:title>
</cp:coreProperties>
</file>