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4C0-5622-47FE-92A4-2CB7261E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F20-48A3-4E05-B708-DCB0EA16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C22-79E7-45B4-9E23-653493E6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D02-68B2-4E82-9AB0-3407701B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7173-A385-46AF-88E7-E1F3A8B4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7F15-738C-4D60-8A01-D163C8B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CE2C-737A-491B-9458-127E65A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034F-E458-44D8-B244-E1BDD99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48AA-0779-4139-8B72-97177FCD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355B-75DF-4F26-93F1-6944650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E1C5-82E5-4587-A1FF-E80DCCD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B84-2EF7-4069-B326-E1ACC7C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FC0A-0024-47CA-AC69-FB9A6C5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7DF1-344F-43A5-977A-5BE2F53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7B2A-30B6-4525-B3B4-46D3A2BB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4176-73AF-4E00-9846-0FFE0848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48F-18C4-42EA-B6EB-833B6BBF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EBB-4FAF-4130-ADAA-DC0CDED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239-6042-40CA-A166-8EBE5D3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1D1-AB69-479B-8255-493C8EC9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484-AAE4-45B5-86D6-87BDAB22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64E-08BF-44EC-9ADC-92BA190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4C3-8194-4DC8-AC28-BA938647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7EF-5E46-4FE9-8FBF-E233BFB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23326D-046E-4C25-8983-C52958EA73AB}" type="datetime">
              <a:rPr b="0" lang="en-US" sz="9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9E39E2-7B5E-4A4D-B170-3618DE21445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C32904-5B34-4B1A-8DB8-A4FB29CE1220}" type="datetime">
              <a:rPr b="0" lang="en-US" sz="9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EF2D94-250C-4DD2-9DA5-47F8BD7012EC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680" y="981000"/>
            <a:ext cx="9144000" cy="216072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Буква Я,я. </a:t>
            </a:r>
            <a:br>
              <a:rPr sz="9600"/>
            </a:b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Звуки [</a:t>
            </a:r>
            <a:r>
              <a:rPr b="0" lang="ru-RU" sz="9600" spc="-1" strike="noStrike">
                <a:solidFill>
                  <a:srgbClr val="00b050"/>
                </a:solidFill>
                <a:latin typeface="Times New Roman"/>
                <a:ea typeface="Droid Sans Fallback"/>
              </a:rPr>
              <a:t>Й</a:t>
            </a: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] [ 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Droid Sans Fallback"/>
              </a:rPr>
              <a:t>А</a:t>
            </a:r>
            <a:r>
              <a:rPr b="0" lang="ru-RU" sz="9600" spc="-1" strike="noStrike">
                <a:solidFill>
                  <a:srgbClr val="002060"/>
                </a:solidFill>
                <a:latin typeface="Times New Roman"/>
                <a:ea typeface="Droid Sans Fallback"/>
              </a:rPr>
              <a:t>]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363528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9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вуки букв могут бы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68360" y="1773360"/>
            <a:ext cx="3959280" cy="177804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cap="sq" w="5724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огласны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932360" y="1844640"/>
            <a:ext cx="3743280" cy="1706760"/>
          </a:xfrm>
          <a:prstGeom prst="rect">
            <a:avLst/>
          </a:prstGeom>
          <a:solidFill>
            <a:srgbClr val="ffcccc"/>
          </a:solidFill>
          <a:ln cap="sq" w="5724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Гласны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Буквы гласных звук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2952720" cy="2765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3276720" y="1557360"/>
            <a:ext cx="3024000" cy="2763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516720" y="1628640"/>
            <a:ext cx="2346120" cy="243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5"/>
          <a:stretch/>
        </p:blipFill>
        <p:spPr>
          <a:xfrm>
            <a:off x="395280" y="4365720"/>
            <a:ext cx="2438280" cy="2055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6"/>
          <a:stretch/>
        </p:blipFill>
        <p:spPr>
          <a:xfrm>
            <a:off x="3564000" y="4448160"/>
            <a:ext cx="2392200" cy="240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7"/>
          <a:stretch/>
        </p:blipFill>
        <p:spPr>
          <a:xfrm>
            <a:off x="6718320" y="4221000"/>
            <a:ext cx="242568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684360" y="333360"/>
            <a:ext cx="800244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390600" y="1305000"/>
            <a:ext cx="9887040" cy="40352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324000" y="2997360"/>
            <a:ext cx="1871640" cy="1584000"/>
          </a:xfrm>
          <a:prstGeom prst="triangle">
            <a:avLst>
              <a:gd name="adj" fmla="val 0"/>
            </a:avLst>
          </a:prstGeom>
          <a:solidFill>
            <a:srgbClr val="00b050"/>
          </a:solidFill>
          <a:ln cap="sq"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5148360" y="2997360"/>
            <a:ext cx="1871640" cy="1584000"/>
          </a:xfrm>
          <a:prstGeom prst="triangle">
            <a:avLst>
              <a:gd name="adj" fmla="val 0"/>
            </a:avLst>
          </a:prstGeom>
          <a:solidFill>
            <a:srgbClr val="00b050"/>
          </a:solidFill>
          <a:ln cap="sq"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>
            <a:hlinkClick r:id="rId2" action="ppaction://hlinksldjump"/>
          </p:cNvPr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1"/>
          <p:cNvSpPr/>
          <p:nvPr/>
        </p:nvSpPr>
        <p:spPr>
          <a:xfrm>
            <a:off x="468360" y="4762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10238" r="58192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185" name="Line 3"/>
          <p:cNvSpPr/>
          <p:nvPr/>
        </p:nvSpPr>
        <p:spPr>
          <a:xfrm>
            <a:off x="468360" y="227664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468360" y="59500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95280" y="4149720"/>
            <a:ext cx="828036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2"/>
          <a:stretch/>
        </p:blipFill>
        <p:spPr>
          <a:xfrm rot="20400000">
            <a:off x="6370200" y="44388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par>
              <p:cTn id="79" nodeType="interactiveSeq" fill="hold">
                <p:childTnLst>
                  <p:par>
                    <p:cTn id="80" fill="hold"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87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1"/>
          <p:cNvSpPr/>
          <p:nvPr/>
        </p:nvSpPr>
        <p:spPr>
          <a:xfrm>
            <a:off x="468360" y="47628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468360" y="602136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611280" y="213372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9640" y="3789360"/>
            <a:ext cx="8280360" cy="1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 rot="20340000">
            <a:off x="6442200" y="44384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par>
              <p:cTn id="89" nodeType="interactiveSeq" fill="hold">
                <p:childTnLst>
                  <p:par>
                    <p:cTn id="90" fill="hold"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9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97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cp:keywords/>
  <dc:language>en-US</dc:language>
  <cp:lastModifiedBy>админ</cp:lastModifiedBy>
  <dcterms:modified xsi:type="dcterms:W3CDTF">2016-10-08T19:15:25Z</dcterms:modified>
  <cp:revision>237</cp:revision>
  <dc:subject/>
  <dc:title>Слайд 1</dc:title>
</cp:coreProperties>
</file>