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287E-C3CD-4102-90CC-3ED9186E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24A6-67B7-4CE7-A6F3-D25EE6D3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807D-7B22-4D83-ADFB-98145AFC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709B-A548-4ADB-A0A9-037986F3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5231-A397-44D2-8E44-BB9DBE2D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3772-95EC-4BC3-9E92-9B918661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D90D-DFAE-43B8-939E-9543DC63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2878-3BA9-4E55-AC59-F31D8B64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486B-983D-493E-88E7-E80408EF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19C4-5914-4C41-BA7B-690790EC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A306-75F3-4D1E-8070-7C21B069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432-A875-439D-AE10-6AE66490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736A-9B0E-4821-990D-E4B77919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85D4-3F38-433D-B9B4-CF7A2039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57EC-3484-459B-BAD7-179E2EA8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6725-A98A-4D9E-A0B4-E9102852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CE0B-695A-4477-9ADC-171523FC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8392-B6A9-4446-9384-D4C00602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5D5-B712-4DEA-ACAB-08FD2B81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B1BB-E53E-45B2-A17C-271CB9F6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CDEB-7B1E-42B2-9B91-3F47CA0E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5B70-967F-42AD-A817-A41BEAA2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2416-5821-4237-849A-0BDA9F5F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C697-3E05-4325-858C-3A241682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8E2A5B-2781-4175-8D38-0EBC9338C786}" type="datetime">
              <a:rPr b="0" lang="en-US" sz="900" spc="-1" strike="noStrike">
                <a:solidFill>
                  <a:srgbClr val="404040"/>
                </a:solidFill>
                <a:latin typeface="Arial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387017-30A1-4732-8A4C-FF0D617EFC20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57240" y="1424880"/>
              <a:ext cx="1108800" cy="1099080"/>
              <a:chOff x="5457240" y="1424880"/>
              <a:chExt cx="11088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57240" y="1424880"/>
                <a:ext cx="11088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5440" y="1600920"/>
                <a:ext cx="75132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4280" y="1401120"/>
              <a:ext cx="858240" cy="844920"/>
              <a:chOff x="5624280" y="1401120"/>
              <a:chExt cx="85824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4280" y="1401120"/>
                <a:ext cx="85824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6480" y="1540080"/>
                <a:ext cx="57420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68040"/>
              <a:ext cx="631800" cy="626400"/>
              <a:chOff x="5242680" y="1868040"/>
              <a:chExt cx="63180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68040"/>
                <a:ext cx="63180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48160" y="1975680"/>
                <a:ext cx="41652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3600" y="1791360"/>
              <a:ext cx="524520" cy="514080"/>
              <a:chOff x="5403600" y="1791360"/>
              <a:chExt cx="5245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3600" y="1791360"/>
                <a:ext cx="5245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6120" y="1879200"/>
                <a:ext cx="338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1960" cy="289440"/>
              <a:chOff x="4718160" y="2051280"/>
              <a:chExt cx="291960" cy="28944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1960" cy="28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3240" y="210996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5160" y="993600"/>
              <a:ext cx="298080" cy="295200"/>
              <a:chOff x="6095160" y="993600"/>
              <a:chExt cx="29808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5160" y="993600"/>
                <a:ext cx="2980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5280" y="105300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45760" y="1868040"/>
              <a:ext cx="238320" cy="236160"/>
              <a:chOff x="5045760" y="1868040"/>
              <a:chExt cx="23832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45760" y="186804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097600" y="19180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3160" y="1058400"/>
              <a:ext cx="238320" cy="236160"/>
              <a:chOff x="6113160" y="1058400"/>
              <a:chExt cx="238320" cy="23616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3160" y="105840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3200" y="11098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81EA58-8D9B-4F84-81E0-E180F45112B2}" type="datetime">
              <a:rPr b="0" lang="en-US" sz="900" spc="-1" strike="noStrike">
                <a:solidFill>
                  <a:srgbClr val="404040"/>
                </a:solidFill>
                <a:latin typeface="Arial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3CEAAE-AE11-45C8-A5F6-79459DE9976D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4680" y="981000"/>
            <a:ext cx="9144000" cy="216072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2060"/>
                </a:solidFill>
                <a:latin typeface="Times New Roman"/>
                <a:ea typeface="Droid Sans Fallback"/>
              </a:rPr>
              <a:t>Буква Я,я. </a:t>
            </a:r>
            <a:br>
              <a:rPr sz="9600"/>
            </a:br>
            <a:r>
              <a:rPr b="0" lang="ru-RU" sz="9600" spc="-1" strike="noStrike">
                <a:solidFill>
                  <a:srgbClr val="002060"/>
                </a:solidFill>
                <a:latin typeface="Times New Roman"/>
                <a:ea typeface="Droid Sans Fallback"/>
              </a:rPr>
              <a:t>Звуки [</a:t>
            </a:r>
            <a:r>
              <a:rPr b="0" lang="ru-RU" sz="9600" spc="-1" strike="noStrike">
                <a:solidFill>
                  <a:srgbClr val="00b050"/>
                </a:solidFill>
                <a:latin typeface="Times New Roman"/>
                <a:ea typeface="Droid Sans Fallback"/>
              </a:rPr>
              <a:t>Й</a:t>
            </a:r>
            <a:r>
              <a:rPr b="0" lang="ru-RU" sz="9600" spc="-1" strike="noStrike">
                <a:solidFill>
                  <a:srgbClr val="002060"/>
                </a:solidFill>
                <a:latin typeface="Times New Roman"/>
                <a:ea typeface="Droid Sans Fallback"/>
              </a:rPr>
              <a:t>] [ </a:t>
            </a: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Droid Sans Fallback"/>
              </a:rPr>
              <a:t>А</a:t>
            </a:r>
            <a:r>
              <a:rPr b="0" lang="ru-RU" sz="9600" spc="-1" strike="noStrike">
                <a:solidFill>
                  <a:srgbClr val="002060"/>
                </a:solidFill>
                <a:latin typeface="Times New Roman"/>
                <a:ea typeface="Droid Sans Fallback"/>
              </a:rPr>
              <a:t>]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5508720" y="3141720"/>
            <a:ext cx="3635280" cy="339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29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29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29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Звуки букв могут быт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468360" y="1773360"/>
            <a:ext cx="3959280" cy="1778040"/>
          </a:xfrm>
          <a:prstGeom prst="rect">
            <a:avLst/>
          </a:prstGeom>
          <a:gradFill rotWithShape="0">
            <a:gsLst>
              <a:gs pos="0">
                <a:srgbClr val="e9e9f7"/>
              </a:gs>
              <a:gs pos="100000">
                <a:srgbClr val="acace1"/>
              </a:gs>
            </a:gsLst>
            <a:lin ang="5400000"/>
          </a:gradFill>
          <a:ln cap="sq" w="5724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Согласные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932360" y="1844640"/>
            <a:ext cx="3743280" cy="1706760"/>
          </a:xfrm>
          <a:prstGeom prst="rect">
            <a:avLst/>
          </a:prstGeom>
          <a:solidFill>
            <a:srgbClr val="ffcccc"/>
          </a:solidFill>
          <a:ln cap="sq" w="5724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Гласны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Буквы гласных звуко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179280" y="1600200"/>
            <a:ext cx="2952720" cy="2765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3"/>
          <a:stretch/>
        </p:blipFill>
        <p:spPr>
          <a:xfrm>
            <a:off x="3276720" y="1557360"/>
            <a:ext cx="3024000" cy="2763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4"/>
          <a:stretch/>
        </p:blipFill>
        <p:spPr>
          <a:xfrm>
            <a:off x="6516720" y="1628640"/>
            <a:ext cx="2346120" cy="2438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5"/>
          <a:stretch/>
        </p:blipFill>
        <p:spPr>
          <a:xfrm>
            <a:off x="395280" y="4365720"/>
            <a:ext cx="2438280" cy="2055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6"/>
          <a:stretch/>
        </p:blipFill>
        <p:spPr>
          <a:xfrm>
            <a:off x="3564000" y="4448160"/>
            <a:ext cx="2392200" cy="2409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7"/>
          <a:stretch/>
        </p:blipFill>
        <p:spPr>
          <a:xfrm>
            <a:off x="6718320" y="4221000"/>
            <a:ext cx="2425680" cy="24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684360" y="333360"/>
            <a:ext cx="8002440" cy="57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390600" y="1305000"/>
            <a:ext cx="9887040" cy="403524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4"/>
          <p:cNvSpPr/>
          <p:nvPr/>
        </p:nvSpPr>
        <p:spPr>
          <a:xfrm>
            <a:off x="324000" y="2997360"/>
            <a:ext cx="1871640" cy="1584000"/>
          </a:xfrm>
          <a:prstGeom prst="triangle">
            <a:avLst>
              <a:gd name="adj" fmla="val 0"/>
            </a:avLst>
          </a:prstGeom>
          <a:solidFill>
            <a:srgbClr val="00b050"/>
          </a:solidFill>
          <a:ln cap="sq"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5148360" y="2997360"/>
            <a:ext cx="1871640" cy="1584000"/>
          </a:xfrm>
          <a:prstGeom prst="triangle">
            <a:avLst>
              <a:gd name="adj" fmla="val 0"/>
            </a:avLst>
          </a:prstGeom>
          <a:solidFill>
            <a:srgbClr val="00b050"/>
          </a:solidFill>
          <a:ln cap="sq"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848720" cy="536904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2">
            <a:hlinkClick r:id="rId2" action="ppaction://hlinksldjump"/>
          </p:cNvPr>
          <p:cNvSpPr/>
          <p:nvPr/>
        </p:nvSpPr>
        <p:spPr>
          <a:xfrm>
            <a:off x="500364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">
            <a:hlinkClick r:id="rId3" action="ppaction://hlinksldjump"/>
          </p:cNvPr>
          <p:cNvSpPr/>
          <p:nvPr/>
        </p:nvSpPr>
        <p:spPr>
          <a:xfrm>
            <a:off x="169236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4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1"/>
          <p:cNvSpPr/>
          <p:nvPr/>
        </p:nvSpPr>
        <p:spPr>
          <a:xfrm>
            <a:off x="468360" y="476280"/>
            <a:ext cx="828036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rcRect l="0" t="10238" r="58192" b="0"/>
          <a:stretch/>
        </p:blipFill>
        <p:spPr>
          <a:xfrm>
            <a:off x="2484360" y="692280"/>
            <a:ext cx="3629160" cy="5329080"/>
          </a:xfrm>
          <a:prstGeom prst="rect">
            <a:avLst/>
          </a:prstGeom>
          <a:ln w="0">
            <a:noFill/>
          </a:ln>
        </p:spPr>
      </p:pic>
      <p:sp>
        <p:nvSpPr>
          <p:cNvPr id="185" name="Line 3"/>
          <p:cNvSpPr/>
          <p:nvPr/>
        </p:nvSpPr>
        <p:spPr>
          <a:xfrm>
            <a:off x="468360" y="2276640"/>
            <a:ext cx="8280360" cy="1440"/>
          </a:xfrm>
          <a:prstGeom prst="line">
            <a:avLst/>
          </a:prstGeom>
          <a:ln cap="sq" w="381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468360" y="5950080"/>
            <a:ext cx="828036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395280" y="4149720"/>
            <a:ext cx="8280360" cy="1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2484360" y="551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2"/>
          <a:stretch/>
        </p:blipFill>
        <p:spPr>
          <a:xfrm rot="20400000">
            <a:off x="6370200" y="44388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8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par>
              <p:cTn id="79" nodeType="interactiveSeq" fill="hold">
                <p:childTnLst>
                  <p:par>
                    <p:cTn id="80" fill="hold"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2118 0.09921 E">
                                      <p:cBhvr>
                                        <p:cTn id="83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09922 C -0.4198 0.10246 -0.4158 0.11518 -0.41302 0.11934 C -0.41025 0.1235 -0.40973 0.12234 -0.40486 0.12466 C -0.4 0.12697 -0.39028 0.13229 -0.3842 0.13391 C -0.37813 0.13553 -0.37639 0.13691 -0.36789 0.13391 C -0.35938 0.1309 -0.34427 0.12512 -0.33351 0.11564 C -0.32275 0.10616 -0.3158 0.09344 -0.30348 0.07725 C -0.29115 0.06106 -0.26823 0.03169 -0.25955 0.01897 C -0.25087 0.00625 -0.26146 0.01874 -0.25139 0.0007 C -0.24132 -0.01734 -0.21615 -0.05504 -0.19931 -0.0888 C -0.18247 -0.12257 -0.16789 -0.15541 -0.15 -0.20189 C -0.13212 -0.24838 -0.10261 -0.33163 -0.09254 -0.36794 C -0.08247 -0.40425 -0.08976 -0.40656 -0.08976 -0.41905 C -0.08976 -0.43154 -0.09028 -0.43293 -0.09254 -0.44287 C -0.0948 -0.45282 -0.0974 -0.4697 -0.10348 -0.47918 C -0.10955 -0.48866 -0.11927 -0.49768 -0.12952 -0.4993 C -0.13976 -0.50092 -0.15226 -0.49815 -0.16511 -0.48843 C -0.17795 -0.47872 -0.19289 -0.46207 -0.20625 -0.44102 C -0.21962 -0.41998 -0.23577 -0.38367 -0.24584 -0.36239 C -0.25591 -0.34112 -0.26059 -0.33256 -0.2665 -0.31313 C -0.2724 -0.29371 -0.27934 -0.26526 -0.2816 -0.2456 C -0.28386 -0.22594 -0.28195 -0.20999 -0.28021 -0.19449 C -0.27848 -0.179 -0.27657 -0.1635 -0.27066 -0.15263 C -0.26476 -0.14176 -0.2533 -0.13297 -0.24462 -0.12881 C -0.23594 -0.12465 -0.22882 -0.12326 -0.21858 -0.12719 C -0.20834 -0.13112 -0.19375 -0.14061 -0.18299 -0.15263 C -0.17223 -0.16466 -0.16302 -0.18177 -0.15417 -0.20004 C -0.14532 -0.21831 -0.13872 -0.23681 -0.12952 -0.26202 C -0.12032 -0.28723 -0.11007 -0.31868 -0.09931 -0.35152 C -0.08855 -0.38436 -0.07327 -0.43362 -0.06511 -0.45929 C -0.05695 -0.48496 -0.05139 -0.50115 -0.05 -0.50485 C -0.04861 -0.50855 -0.04879 -0.5067 -0.05695 -0.48103 C -0.06511 -0.45536 -0.08525 -0.39523 -0.09931 -0.35152 C -0.11337 -0.30781 -0.12709 -0.26503 -0.14184 -0.21831 C -0.1566 -0.1716 -0.17535 -0.11077 -0.18837 -0.07053 C -0.20139 -0.03029 -0.21198 -0.00254 -0.21997 0.02267 C -0.22795 0.04788 -0.23316 0.06522 -0.23629 0.08095 C -0.23941 0.09667 -0.2415 0.10847 -0.23907 0.11749 C -0.23664 0.12651 -0.22691 0.13345 -0.22118 0.13576 C -0.21545 0.13807 -0.21233 0.13668 -0.20486 0.13206 C -0.1974 0.12743 -0.18594 0.11772 -0.17605 0.10824 C -0.16615 0.09876 -0.15295 0.08326 -0.14584 0.0754 C -0.13872 0.06753 -0.13611 0.06407 -0.13351 0.06083 E">
                                      <p:cBhvr>
                                        <p:cTn id="87" dur="10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Line 1"/>
          <p:cNvSpPr/>
          <p:nvPr/>
        </p:nvSpPr>
        <p:spPr>
          <a:xfrm>
            <a:off x="468360" y="476280"/>
            <a:ext cx="828036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968560" y="3774960"/>
            <a:ext cx="2324160" cy="2246400"/>
          </a:xfrm>
          <a:prstGeom prst="rect">
            <a:avLst/>
          </a:prstGeom>
          <a:ln w="0">
            <a:noFill/>
          </a:ln>
        </p:spPr>
      </p:pic>
      <p:sp>
        <p:nvSpPr>
          <p:cNvPr id="194" name="Line 3"/>
          <p:cNvSpPr/>
          <p:nvPr/>
        </p:nvSpPr>
        <p:spPr>
          <a:xfrm>
            <a:off x="468360" y="6021360"/>
            <a:ext cx="828036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611280" y="2133720"/>
            <a:ext cx="8280360" cy="1440"/>
          </a:xfrm>
          <a:prstGeom prst="line">
            <a:avLst/>
          </a:prstGeom>
          <a:ln cap="sq" w="381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539640" y="3789360"/>
            <a:ext cx="828036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298764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 rot="20340000">
            <a:off x="6442200" y="44384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9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par>
              <p:cTn id="89" nodeType="interactiveSeq" fill="hold">
                <p:childTnLst>
                  <p:par>
                    <p:cTn id="90" fill="hold"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2222E-006 L -0.36615 0.10972 E">
                                      <p:cBhvr>
                                        <p:cTn id="93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615 0.10962 C -0.36459 0.11424 -0.36302 0.1191 -0.35851 0.12488 C -0.354 0.13066 -0.34636 0.14061 -0.33941 0.145 C -0.33247 0.1494 -0.32448 0.15379 -0.31667 0.15194 C -0.30886 0.15009 -0.30625 0.14847 -0.29271 0.13321 C -0.27917 0.11794 -0.25156 0.08533 -0.23577 0.06082 C -0.21997 0.03631 -0.20868 0.01364 -0.19775 -0.01342 C -0.18681 -0.04048 -0.17257 -0.08025 -0.16979 -0.10107 C -0.16702 -0.12188 -0.17639 -0.12905 -0.18125 -0.13807 C -0.18611 -0.14709 -0.19236 -0.15125 -0.19896 -0.15495 C -0.20556 -0.15865 -0.21476 -0.1605 -0.22101 -0.1605 C -0.22726 -0.1605 -0.22986 -0.15958 -0.23629 -0.15542 C -0.24271 -0.15125 -0.25174 -0.14524 -0.25972 -0.13483 C -0.26771 -0.12443 -0.27795 -0.10754 -0.28386 -0.09274 C -0.28976 -0.07794 -0.29323 -0.05944 -0.29514 -0.04533 C -0.29705 -0.03122 -0.29757 -0.01943 -0.29514 -0.00833 C -0.29271 0.00277 -0.28854 0.01549 -0.28004 0.02197 C -0.27153 0.02844 -0.25538 0.03191 -0.24462 0.03052 C -0.23386 0.02914 -0.22639 0.02798 -0.21545 0.01364 C -0.20452 -0.000699999999999999 -0.18889 -0.03169 -0.17865 -0.05551 C -0.16841 -0.07933 -0.15868 -0.1124 -0.15347 -0.12974 C -0.14827 -0.14709 -0.14705 -0.15958 -0.14705 -0.16004 C -0.14705 -0.1605 -0.14931 -0.14917 -0.15347 -0.13321 C -0.15764 -0.11726 -0.16736 -0.0784 -0.1724 -0.06406 C -0.17743 -0.04973 -0.17865 -0.06036 -0.18386 -0.04718 C -0.18906 -0.034 -0.19792 -0.00301 -0.204 0.01526 C -0.21007 0.03353 -0.21563 0.04764 -0.22049 0.06244 C -0.22535 0.07724 -0.23091 0.09273 -0.23316 0.10453 C -0.23542 0.11632 -0.23525 0.12627 -0.23438 0.13321 C -0.23351 0.14014 -0.23177 0.14431 -0.22813 0.14685 C -0.22448 0.1494 -0.2191 0.14963 -0.21216 0.14801 C -0.20521 0.14639 -0.19549 0.14384 -0.18629 0.13668 C -0.17709 0.12951 -0.16268 0.11147 -0.15729 0.10453 C -0.15191 0.09759 -0.15278 0.09597 -0.15347 0.09458 E">
                                      <p:cBhvr>
                                        <p:cTn id="97" dur="5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12:50:42Z</dcterms:created>
  <dc:creator>User</dc:creator>
  <dc:description/>
  <cp:keywords/>
  <dc:language>en-US</dc:language>
  <cp:lastModifiedBy>админ</cp:lastModifiedBy>
  <dcterms:modified xsi:type="dcterms:W3CDTF">2016-10-08T19:15:25Z</dcterms:modified>
  <cp:revision>237</cp:revision>
  <dc:subject/>
  <dc:title>Слайд 1</dc:title>
</cp:coreProperties>
</file>