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685-EAAE-4EA0-9146-29AE52E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6B9-AB4A-440E-A18C-55397B2C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D40-EBB1-43E9-9C3E-8FD9943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1F2-ADDB-4964-BFDB-889FB8D3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FC71-8AE8-42A4-865E-A2870EC6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E172-FE7C-4259-B2E7-D3F495D9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6027-64F2-4038-B007-4014055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B08-E71A-468E-A181-EF59EAE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1E29-C6B2-4364-962B-04715449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0B0-C0A6-493A-BF75-A5F6321C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3D5A-D57B-496A-9B4D-566750D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17D-0AFB-4D1F-B759-250466E2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BA1F-1F65-4996-8BDA-E0C91B6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8599-21CC-4EE2-903A-FF00A49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824-6184-4CF6-B297-BDFF23D1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87F-915E-4B3D-86F7-DCBB328F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4BF2-1B42-4521-8E3D-4A1B1131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56D-777A-4004-9BE1-6A8B2E62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159-1A90-41CC-9A4A-CCBF76E0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3AD-4EEE-4033-A1D8-79616266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E84-C84E-486D-B39B-5DFC2BD1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5D2-3BDF-456F-A781-7333B1DE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625-9467-4E56-91C8-D93A47A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49F-AF94-44A6-A57B-F8C40BA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1DAD-DAF9-47A4-AA97-4A28380858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2499-54E2-4560-AA69-AE3D813ACB4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остров кораб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1430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004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9436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0292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1148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286000" y="34290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75438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6294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57150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48006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38862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9718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057400" y="6858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41148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50292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59436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75438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66294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57150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з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48006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38862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29718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0574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1143000" y="16002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22860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3200400" y="434340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aramond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крузо.jpg"/>
          <p:cNvPicPr/>
          <p:nvPr/>
        </p:nvPicPr>
        <p:blipFill>
          <a:blip r:embed="rId1"/>
          <a:stretch/>
        </p:blipFill>
        <p:spPr>
          <a:xfrm>
            <a:off x="2038320" y="0"/>
            <a:ext cx="5191200" cy="6697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495440" y="985680"/>
            <a:ext cx="62434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Garamond"/>
              </a:rPr>
              <a:t>Тема урока:</a:t>
            </a: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ff0000"/>
                </a:solidFill>
                <a:latin typeface="Garamond"/>
              </a:rPr>
              <a:t>Умножение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1480" y="-868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Физкультминутка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14360" y="116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тали прямо, подтянулис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друг другу улыбнулис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беда, что места мал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омнемся для начал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ва хлопка над голово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ва хлопка перед соб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коленкам бьем ладошко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ыгаем на правой ножк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на левой непремен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месте прыгаем сейча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сначала еще раз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38320" y="533520"/>
            <a:ext cx="1628640" cy="15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203832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0" y="533520"/>
            <a:ext cx="1628640" cy="153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Box 37"/>
          <p:cNvSpPr/>
          <p:nvPr/>
        </p:nvSpPr>
        <p:spPr>
          <a:xfrm>
            <a:off x="457200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Box 41"/>
          <p:cNvSpPr/>
          <p:nvPr/>
        </p:nvSpPr>
        <p:spPr>
          <a:xfrm>
            <a:off x="1495440" y="2523960"/>
            <a:ext cx="65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6+6=12 (кг)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2"/>
          <p:cNvSpPr/>
          <p:nvPr/>
        </p:nvSpPr>
        <p:spPr>
          <a:xfrm>
            <a:off x="1042920" y="442800"/>
            <a:ext cx="1900440" cy="1719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22400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3757680" y="442800"/>
            <a:ext cx="1900080" cy="1719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938760" y="533520"/>
            <a:ext cx="2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6381720" y="442800"/>
            <a:ext cx="1900440" cy="1719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562800" y="533520"/>
            <a:ext cx="226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33"/>
                </a:solidFill>
                <a:latin typeface="Garamond"/>
              </a:rPr>
              <a:t>6</a:t>
            </a:r>
            <a:r>
              <a:rPr b="1" lang="ru-RU" sz="5400" spc="-1" strike="noStrike">
                <a:solidFill>
                  <a:srgbClr val="003333"/>
                </a:solidFill>
                <a:latin typeface="Garamond"/>
              </a:rPr>
              <a:t>к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1133640" y="2705040"/>
            <a:ext cx="73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6+6+6=18 кг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4" descr="крузо.jpg"/>
          <p:cNvPicPr/>
          <p:nvPr/>
        </p:nvPicPr>
        <p:blipFill>
          <a:blip r:embed="rId1"/>
          <a:stretch/>
        </p:blipFill>
        <p:spPr>
          <a:xfrm>
            <a:off x="2038320" y="0"/>
            <a:ext cx="51912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040" y="35244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400480" y="442800"/>
            <a:ext cx="62006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Молодец, все выполнено верн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Есть незначительные  ошибки,  неточности, но в целом темя усвое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Много ошибок, материал не понят, нужна помощ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Плюс 4"/>
          <p:cNvSpPr/>
          <p:nvPr/>
        </p:nvSpPr>
        <p:spPr>
          <a:xfrm>
            <a:off x="952560" y="2795760"/>
            <a:ext cx="995400" cy="995040"/>
          </a:xfrm>
          <a:custGeom>
            <a:avLst/>
            <a:gdLst>
              <a:gd name="textAreaLeft" fmla="*/ 131760 w 995400"/>
              <a:gd name="textAreaRight" fmla="*/ 863640 w 995400"/>
              <a:gd name="textAreaTop" fmla="*/ 380520 h 995040"/>
              <a:gd name="textAreaBottom" fmla="*/ 614520 h 995040"/>
            </a:gdLst>
            <a:ahLst/>
            <a:rect l="textAreaLeft" t="textAreaTop" r="textAreaRight" b="textAreaBottom"/>
            <a:pathLst>
              <a:path w="995363" h="995362">
                <a:moveTo>
                  <a:pt x="131935" y="380626"/>
                </a:moveTo>
                <a:lnTo>
                  <a:pt x="380627" y="380626"/>
                </a:lnTo>
                <a:lnTo>
                  <a:pt x="380627" y="131935"/>
                </a:lnTo>
                <a:lnTo>
                  <a:pt x="614736" y="131935"/>
                </a:lnTo>
                <a:lnTo>
                  <a:pt x="614736" y="380626"/>
                </a:lnTo>
                <a:lnTo>
                  <a:pt x="863428" y="380626"/>
                </a:lnTo>
                <a:lnTo>
                  <a:pt x="863428" y="614736"/>
                </a:lnTo>
                <a:lnTo>
                  <a:pt x="614736" y="614736"/>
                </a:lnTo>
                <a:lnTo>
                  <a:pt x="614736" y="863427"/>
                </a:lnTo>
                <a:lnTo>
                  <a:pt x="380627" y="863427"/>
                </a:lnTo>
                <a:lnTo>
                  <a:pt x="380627" y="614736"/>
                </a:lnTo>
                <a:lnTo>
                  <a:pt x="131935" y="6147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инус 5"/>
          <p:cNvSpPr/>
          <p:nvPr/>
        </p:nvSpPr>
        <p:spPr>
          <a:xfrm>
            <a:off x="952560" y="5510160"/>
            <a:ext cx="1085760" cy="723960"/>
          </a:xfrm>
          <a:custGeom>
            <a:avLst/>
            <a:gdLst>
              <a:gd name="textAreaLeft" fmla="*/ 143640 w 1085760"/>
              <a:gd name="textAreaRight" fmla="*/ 942120 w 1085760"/>
              <a:gd name="textAreaTop" fmla="*/ 276840 h 723960"/>
              <a:gd name="textAreaBottom" fmla="*/ 447120 h 723960"/>
            </a:gdLst>
            <a:ahLst/>
            <a:rect l="textAreaLeft" t="textAreaTop" r="textAreaRight" b="textAreaBottom"/>
            <a:pathLst>
              <a:path w="1085850" h="723900">
                <a:moveTo>
                  <a:pt x="143929" y="276819"/>
                </a:moveTo>
                <a:lnTo>
                  <a:pt x="941921" y="276819"/>
                </a:lnTo>
                <a:lnTo>
                  <a:pt x="941921" y="447081"/>
                </a:lnTo>
                <a:lnTo>
                  <a:pt x="143929" y="44708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9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8960" y="985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Р.т. с.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№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4, №5, №6, №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Творческое задание: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идумать свои варианты способа записи сумм, состоящих из одинаковых слагаемых и записать её с помощью знака умножения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оничка</cp:lastModifiedBy>
  <dcterms:modified xsi:type="dcterms:W3CDTF">2016-09-27T23:39:2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