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445-A07D-4FE1-A78C-5DDB7319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DDB-68CE-4195-8DFB-F630296D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A9F-DBA3-4820-A8B6-DABC40E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E66-A12B-4787-BF1B-6C9C0171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09AB-AC9A-4ACD-8329-47E9EEE1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1227-01A0-4FF8-A310-4EC4A954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59CB-AFCB-439A-AD4A-EC100017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9A93-B9AC-46D1-8538-74E7505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1779-4FE8-4D2F-BF15-C044E87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8DAE-1269-4C32-92E2-FDC3FE8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ADB4-C0AE-4A5A-AFDE-1E5A34D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862-A0F9-4CD9-8B98-75ABE33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D8E8-07BA-4910-BA32-94C3A91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8E2-E5A5-4C08-AD7D-31422559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FBE0-E1F5-45BD-AF44-0339C580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C521-618C-4D2A-AAA0-2A3FE16F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99DB-559F-4038-8BF3-8228515F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74D-1D06-4794-88B9-3837C31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1D0-27BD-416E-A04C-4DBE50F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1C5-526E-4600-92D5-EC11100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DFB-F617-4FB0-B278-CCFA5AA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526-86F9-437D-9045-ADD884B1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C06-2A27-4BC7-8A95-F632CED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979-9971-40AC-9C56-667E0D9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C42-2A65-4BC2-B0B8-800F0F8D38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28A7-C4DE-4F2F-BF9E-A318991614D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остров кораб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1430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004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9436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0292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1148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2860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75438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6294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57150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48006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38862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9718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0574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41148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50292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59436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75438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66294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57150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48006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38862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29718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0574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11430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22860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32004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крузо.jpg"/>
          <p:cNvPicPr/>
          <p:nvPr/>
        </p:nvPicPr>
        <p:blipFill>
          <a:blip r:embed="rId1"/>
          <a:stretch/>
        </p:blipFill>
        <p:spPr>
          <a:xfrm>
            <a:off x="2038320" y="0"/>
            <a:ext cx="5191200" cy="6697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495440" y="985680"/>
            <a:ext cx="62434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Garamond"/>
              </a:rPr>
              <a:t>Тема урока:</a:t>
            </a: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ff0000"/>
                </a:solidFill>
                <a:latin typeface="Garamond"/>
              </a:rPr>
              <a:t>Умножение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1480" y="-868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Физкультминутк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14360" y="116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тали прямо, подтянулис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друг другу улыбнулис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беда, что места мал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омнемся для начал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ва хлопка над голово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ва хлопка перед соб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коленкам бьем ладошко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ыгаем на правой ножк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на левой непремен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месте прыгаем сейча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сначала еще раз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38320" y="533520"/>
            <a:ext cx="1628640" cy="15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203832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0" y="533520"/>
            <a:ext cx="1628640" cy="15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Box 37"/>
          <p:cNvSpPr/>
          <p:nvPr/>
        </p:nvSpPr>
        <p:spPr>
          <a:xfrm>
            <a:off x="457200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Box 41"/>
          <p:cNvSpPr/>
          <p:nvPr/>
        </p:nvSpPr>
        <p:spPr>
          <a:xfrm>
            <a:off x="1495440" y="2523960"/>
            <a:ext cx="65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6+6=12 (кг)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2"/>
          <p:cNvSpPr/>
          <p:nvPr/>
        </p:nvSpPr>
        <p:spPr>
          <a:xfrm>
            <a:off x="1042920" y="442800"/>
            <a:ext cx="1900440" cy="1719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22400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3757680" y="442800"/>
            <a:ext cx="1900080" cy="1719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938760" y="533520"/>
            <a:ext cx="2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6381720" y="442800"/>
            <a:ext cx="1900440" cy="1719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56280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1133640" y="2705040"/>
            <a:ext cx="73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6+6+6=18 кг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4" descr="крузо.jpg"/>
          <p:cNvPicPr/>
          <p:nvPr/>
        </p:nvPicPr>
        <p:blipFill>
          <a:blip r:embed="rId1"/>
          <a:stretch/>
        </p:blipFill>
        <p:spPr>
          <a:xfrm>
            <a:off x="2038320" y="0"/>
            <a:ext cx="51912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040" y="35244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400480" y="442800"/>
            <a:ext cx="62006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Молодец, все выполнено вер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Есть незначительные  ошибки,  неточности, но в целом темя усвое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Много ошибок, материал не понят, нужна помощ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Плюс 4"/>
          <p:cNvSpPr/>
          <p:nvPr/>
        </p:nvSpPr>
        <p:spPr>
          <a:xfrm>
            <a:off x="952560" y="2795760"/>
            <a:ext cx="995400" cy="995040"/>
          </a:xfrm>
          <a:custGeom>
            <a:avLst/>
            <a:gdLst>
              <a:gd name="textAreaLeft" fmla="*/ 131760 w 995400"/>
              <a:gd name="textAreaRight" fmla="*/ 863640 w 995400"/>
              <a:gd name="textAreaTop" fmla="*/ 380520 h 995040"/>
              <a:gd name="textAreaBottom" fmla="*/ 614520 h 995040"/>
            </a:gdLst>
            <a:ahLst/>
            <a:rect l="textAreaLeft" t="textAreaTop" r="textAreaRight" b="textAreaBottom"/>
            <a:pathLst>
              <a:path w="995363" h="995362">
                <a:moveTo>
                  <a:pt x="131935" y="380626"/>
                </a:moveTo>
                <a:lnTo>
                  <a:pt x="380627" y="380626"/>
                </a:lnTo>
                <a:lnTo>
                  <a:pt x="380627" y="131935"/>
                </a:lnTo>
                <a:lnTo>
                  <a:pt x="614736" y="131935"/>
                </a:lnTo>
                <a:lnTo>
                  <a:pt x="614736" y="380626"/>
                </a:lnTo>
                <a:lnTo>
                  <a:pt x="863428" y="380626"/>
                </a:lnTo>
                <a:lnTo>
                  <a:pt x="863428" y="614736"/>
                </a:lnTo>
                <a:lnTo>
                  <a:pt x="614736" y="614736"/>
                </a:lnTo>
                <a:lnTo>
                  <a:pt x="614736" y="863427"/>
                </a:lnTo>
                <a:lnTo>
                  <a:pt x="380627" y="863427"/>
                </a:lnTo>
                <a:lnTo>
                  <a:pt x="380627" y="614736"/>
                </a:lnTo>
                <a:lnTo>
                  <a:pt x="131935" y="6147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инус 5"/>
          <p:cNvSpPr/>
          <p:nvPr/>
        </p:nvSpPr>
        <p:spPr>
          <a:xfrm>
            <a:off x="952560" y="5510160"/>
            <a:ext cx="1085760" cy="723960"/>
          </a:xfrm>
          <a:custGeom>
            <a:avLst/>
            <a:gdLst>
              <a:gd name="textAreaLeft" fmla="*/ 143640 w 1085760"/>
              <a:gd name="textAreaRight" fmla="*/ 942120 w 1085760"/>
              <a:gd name="textAreaTop" fmla="*/ 276840 h 723960"/>
              <a:gd name="textAreaBottom" fmla="*/ 447120 h 723960"/>
            </a:gdLst>
            <a:ahLst/>
            <a:rect l="textAreaLeft" t="textAreaTop" r="textAreaRight" b="textAreaBottom"/>
            <a:pathLst>
              <a:path w="1085850" h="723900">
                <a:moveTo>
                  <a:pt x="143929" y="276819"/>
                </a:moveTo>
                <a:lnTo>
                  <a:pt x="941921" y="276819"/>
                </a:lnTo>
                <a:lnTo>
                  <a:pt x="941921" y="447081"/>
                </a:lnTo>
                <a:lnTo>
                  <a:pt x="143929" y="4470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8960" y="985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Р.т. с.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№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4, №5, №6, №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Творческое задание: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идумать свои варианты способа записи сумм, состоящих из одинаковых слагаемых и записать её с помощью знака умножения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оничка</cp:lastModifiedBy>
  <dcterms:modified xsi:type="dcterms:W3CDTF">2016-09-27T23:39:2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