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1.jpeg" ContentType="image/jpeg"/>
  <Override PartName="/ppt/media/camera.wav" ContentType="audio/x-wav"/>
  <Override PartName="/ppt/media/image7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231-076A-4779-B4CA-7ED0BCA7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BBC-A4D0-4508-B408-CA29CDFD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5E0-A9BC-4BD1-8830-88D9198A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0B1A-D303-4C30-BD8E-646B11D1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DFD-EC19-4A33-AA57-407EA7E4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1A1-7686-44A1-B4DC-C107B2C1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A367-ED50-4AFD-B7C3-EBC17BE0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F1D-24CF-443A-A862-FDC45046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066-57CC-4610-9240-444A49DB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E5A-4FB9-4CB6-B20A-8E65DA6A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097-291A-4FC5-A38E-AC27E39E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A2E-0968-4970-A8E7-8C056C6F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1097-22AB-48B1-AB80-421C6F98963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playcast.ru/uploads/2011/09/15/2730363.jpg"/>
          <p:cNvPicPr/>
          <p:nvPr/>
        </p:nvPicPr>
        <p:blipFill>
          <a:blip r:embed="rId1"/>
          <a:stretch/>
        </p:blipFill>
        <p:spPr>
          <a:xfrm>
            <a:off x="179280" y="115920"/>
            <a:ext cx="8869320" cy="6651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3155040" y="836640"/>
            <a:ext cx="554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ары осе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окружающего мира в 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БОУ СОШ №  12  с Белая Гл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тохина Н.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476360" y="333360"/>
            <a:ext cx="633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углая, да не мяч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ёлтая, да не масло, Сладкая, да не саха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Репа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468360" y="333360"/>
            <a:ext cx="7775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растаю всем на див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сока, стройна, краси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чу в светлые перча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олотистые почат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сть не слаще я арбуз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 сытн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Кукуруза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img0.liveinternet.ru/images/attach/c/11/116/871/116871036_3.png"/>
          <p:cNvPicPr/>
          <p:nvPr/>
        </p:nvPicPr>
        <p:blipFill>
          <a:blip r:embed="rId2"/>
          <a:stretch/>
        </p:blipFill>
        <p:spPr>
          <a:xfrm>
            <a:off x="2340000" y="-674640"/>
            <a:ext cx="6648480" cy="253368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3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476360" y="333360"/>
            <a:ext cx="633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кутан ребе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сто пелено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Капуста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611280" y="333360"/>
            <a:ext cx="76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кололся тесный дом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две половин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посыпались оттуда Бусинки-дробин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Горох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476360" y="333360"/>
            <a:ext cx="63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елтая курица под тыном дуе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Тыква"/>
          <p:cNvPicPr/>
          <p:nvPr/>
        </p:nvPicPr>
        <p:blipFill>
          <a:blip r:embed="rId1"/>
          <a:stretch/>
        </p:blipFill>
        <p:spPr>
          <a:xfrm>
            <a:off x="1374840" y="1125360"/>
            <a:ext cx="6426000" cy="47358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1476360" y="333360"/>
            <a:ext cx="6335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том - в огород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ежие, зелёны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зимою - в бо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епкие, солё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easyengl.ucoz.ru/_ld/84/s46836537.jpg"/>
          <p:cNvPicPr/>
          <p:nvPr/>
        </p:nvPicPr>
        <p:blipFill>
          <a:blip r:embed="rId1"/>
          <a:stretch/>
        </p:blipFill>
        <p:spPr>
          <a:xfrm>
            <a:off x="338040" y="569880"/>
            <a:ext cx="8209080" cy="6148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2"/>
          <p:cNvSpPr/>
          <p:nvPr/>
        </p:nvSpPr>
        <p:spPr>
          <a:xfrm>
            <a:off x="2286000" y="25509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адки взяты из интернет-ресурсов: http://www.solnet.ee/ http://deti-burg.ru/ http://www.razvitierebenka.net/ Картинки овощей: http://rybkovskaya.ru/zagadki_dlya_detej-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img0.liveinternet.ru/images/attach/c/11/116/871/116871036_3.png"/>
          <p:cNvPicPr/>
          <p:nvPr/>
        </p:nvPicPr>
        <p:blipFill>
          <a:blip r:embed="rId1"/>
          <a:stretch/>
        </p:blipFill>
        <p:spPr>
          <a:xfrm>
            <a:off x="2627280" y="-171360"/>
            <a:ext cx="6648480" cy="253368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sad-4.ucoz.ru/osen22555.png"/>
          <p:cNvPicPr/>
          <p:nvPr/>
        </p:nvPicPr>
        <p:blipFill>
          <a:blip r:embed="rId1"/>
          <a:srcRect l="17450" t="36778" r="4820" b="0"/>
          <a:stretch/>
        </p:blipFill>
        <p:spPr>
          <a:xfrm>
            <a:off x="0" y="0"/>
            <a:ext cx="9144000" cy="722628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417960" y="907920"/>
            <a:ext cx="4887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дит осень в нашем пар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рит осень всем подар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сы красные- ряби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ртук розовый – оси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тик жёлтый – тополя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же осень дарит н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476360" y="333360"/>
            <a:ext cx="5668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огороде вырастаю, А когда я созреваю, Варят из меня томат В щи кладут, и так ед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Помидор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476360" y="333360"/>
            <a:ext cx="5668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онкокорая ягод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огороде растёт, Фиолетовым кафтано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дивлять не уста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Баклажан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476360" y="476280"/>
            <a:ext cx="7199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казиста, шишковата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придёт на стол он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ажут весело ребя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Ну, рассыпчатая, вкусна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3" descr="Картофель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476360" y="333360"/>
            <a:ext cx="633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асна дев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дит в темниц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коса на улиц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Морковь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476360" y="333360"/>
            <a:ext cx="633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рафан на сарафан, платьице на платьиц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как станешь раздевать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сыта наплачешь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Лук репчатый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476360" y="333360"/>
            <a:ext cx="633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коли его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удет зернышк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ади зернышко – Будет солнышк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https://im2-tub-ru.yandex.net/i?id=bc40f0b72a30e0898112c7809ff6c9ab&amp;n=33&amp;h=215&amp;w=273"/>
          <p:cNvPicPr/>
          <p:nvPr/>
        </p:nvPicPr>
        <p:blipFill>
          <a:blip r:embed="rId1"/>
          <a:stretch/>
        </p:blipFill>
        <p:spPr>
          <a:xfrm>
            <a:off x="1692360" y="1125360"/>
            <a:ext cx="5472000" cy="430848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1476360" y="333360"/>
            <a:ext cx="6335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саду зеле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землю вросл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ерху толст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низу остр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бой красн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Свёкла"/>
          <p:cNvPicPr/>
          <p:nvPr/>
        </p:nvPicPr>
        <p:blipFill>
          <a:blip r:embed="rId1"/>
          <a:stretch/>
        </p:blipFill>
        <p:spPr>
          <a:xfrm>
            <a:off x="1601640" y="1573200"/>
            <a:ext cx="5940720" cy="3711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camera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9:22:28Z</dcterms:created>
  <dc:creator>Школа</dc:creator>
  <dc:description/>
  <dc:language>en-US</dc:language>
  <cp:lastModifiedBy>Windows User</cp:lastModifiedBy>
  <dcterms:modified xsi:type="dcterms:W3CDTF">2016-10-09T11:23:07Z</dcterms:modified>
  <cp:revision>40</cp:revision>
  <dc:subject/>
  <dc:title>Кубань – моя, степная дочь России</dc:title>
</cp:coreProperties>
</file>