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camera.wav" ContentType="audio/x-wav"/>
  <Override PartName="/ppt/media/image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255-CE98-4EAA-8E11-F5E28665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79D-D5D9-47C5-B9FC-540FAD1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06C-DA3E-46E1-AC67-F28ACA3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781-9AF6-4CD4-B80B-0B20147F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CAD-ED14-4A40-B1CA-74BB423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FFE-E271-4541-B79D-77B041B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B2A-DAD2-41CC-A444-490AB3A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616-83B6-4AAC-815E-CCBCC595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F29-222C-4A0B-9246-2B05BD79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5C1-D428-44D1-BDF2-D613EBA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8B-9C7A-4791-BB64-1727A5E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B40-76D3-4EFB-9214-EA32006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ED2-B523-4A92-9C93-C81512D38D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cast.ru/uploads/2011/09/15/2730363.jpg"/>
          <p:cNvPicPr/>
          <p:nvPr/>
        </p:nvPicPr>
        <p:blipFill>
          <a:blip r:embed="rId1"/>
          <a:stretch/>
        </p:blipFill>
        <p:spPr>
          <a:xfrm>
            <a:off x="179280" y="115920"/>
            <a:ext cx="8869320" cy="6651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3155040" y="836640"/>
            <a:ext cx="55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ары ос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окружающего мира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СОШ №  12  с Белая Г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тохина Н.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476360" y="33336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лая, да не мяч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ёлтая, да не масло, Сладкая, да не сах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Реп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68360" y="333360"/>
            <a:ext cx="777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стаю всем на ди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а, стройна, краси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чу в светлые перч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олотистые поча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сть не слаще я арбуз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 сытн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Кукуруз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11/116/871/116871036_3.png"/>
          <p:cNvPicPr/>
          <p:nvPr/>
        </p:nvPicPr>
        <p:blipFill>
          <a:blip r:embed="rId2"/>
          <a:stretch/>
        </p:blipFill>
        <p:spPr>
          <a:xfrm>
            <a:off x="2340000" y="-674640"/>
            <a:ext cx="664848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3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476360" y="33336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утан реб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то пелен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Капуст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33336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ололся тесный дом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две полов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сыпались оттуда Бусинки-дроб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Горох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76360" y="33336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елтая курица под тыном ду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Тыква"/>
          <p:cNvPicPr/>
          <p:nvPr/>
        </p:nvPicPr>
        <p:blipFill>
          <a:blip r:embed="rId1"/>
          <a:stretch/>
        </p:blipFill>
        <p:spPr>
          <a:xfrm>
            <a:off x="1374840" y="1125360"/>
            <a:ext cx="6426000" cy="4735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476360" y="333360"/>
            <a:ext cx="633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ом - в ого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жие, зелё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зимою - в бо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пкие, солё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easyengl.ucoz.ru/_ld/84/s46836537.jpg"/>
          <p:cNvPicPr/>
          <p:nvPr/>
        </p:nvPicPr>
        <p:blipFill>
          <a:blip r:embed="rId1"/>
          <a:stretch/>
        </p:blipFill>
        <p:spPr>
          <a:xfrm>
            <a:off x="338040" y="569880"/>
            <a:ext cx="8209080" cy="6148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2286000" y="25509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и взяты из интернет-ресурсов: http://www.solnet.ee/ http://deti-burg.ru/ http://www.razvitierebenka.net/ Картинки овощей: http://rybkovskaya.ru/zagadki_dlya_detej-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g0.liveinternet.ru/images/attach/c/11/116/871/116871036_3.png"/>
          <p:cNvPicPr/>
          <p:nvPr/>
        </p:nvPicPr>
        <p:blipFill>
          <a:blip r:embed="rId1"/>
          <a:stretch/>
        </p:blipFill>
        <p:spPr>
          <a:xfrm>
            <a:off x="2627280" y="-171360"/>
            <a:ext cx="664848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ad-4.ucoz.ru/osen22555.png"/>
          <p:cNvPicPr/>
          <p:nvPr/>
        </p:nvPicPr>
        <p:blipFill>
          <a:blip r:embed="rId1"/>
          <a:srcRect l="17450" t="36778" r="4820" b="0"/>
          <a:stretch/>
        </p:blipFill>
        <p:spPr>
          <a:xfrm>
            <a:off x="0" y="0"/>
            <a:ext cx="9144000" cy="72262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417960" y="907920"/>
            <a:ext cx="4887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ит осень в нашем пар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ит осень всем под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сы красные- ряб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ртук розовый – ос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тик жёлтый – тополя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осень дарит 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476360" y="333360"/>
            <a:ext cx="566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огороде вырастаю, А когда я созреваю, Варят из меня томат В щи кладут, и так е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Помидор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476360" y="333360"/>
            <a:ext cx="566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нкокорая яг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городе растёт, Фиолетовым кафтан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ивлять не уста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Баклажан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476360" y="476280"/>
            <a:ext cx="7199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казиста, шишковата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придёт на стол о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жут весело ребя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Ну, рассыпчатая, вкусн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Картофель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476360" y="33336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а де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ит в темни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коса на ули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Морковь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76360" y="333360"/>
            <a:ext cx="63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рафан на сарафан, платьице на платьиц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как станешь раздевать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сыта наплачеш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Лук репчатый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76360" y="33336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оли ег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ет зернышк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ади зернышко – Будет солныш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s://im2-tub-ru.yandex.net/i?id=bc40f0b72a30e0898112c7809ff6c9ab&amp;n=33&amp;h=215&amp;w=273"/>
          <p:cNvPicPr/>
          <p:nvPr/>
        </p:nvPicPr>
        <p:blipFill>
          <a:blip r:embed="rId1"/>
          <a:stretch/>
        </p:blipFill>
        <p:spPr>
          <a:xfrm>
            <a:off x="1692360" y="1125360"/>
            <a:ext cx="54720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476360" y="333360"/>
            <a:ext cx="633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аду зел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землю вросл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ерху толс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изу остр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ой крас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Свёкл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9:22:28Z</dcterms:created>
  <dc:creator>Школа</dc:creator>
  <dc:description/>
  <dc:language>en-US</dc:language>
  <cp:lastModifiedBy>Windows User</cp:lastModifiedBy>
  <dcterms:modified xsi:type="dcterms:W3CDTF">2016-10-09T11:23:07Z</dcterms:modified>
  <cp:revision>40</cp:revision>
  <dc:subject/>
  <dc:title>Кубань – моя, степная дочь России</dc:title>
</cp:coreProperties>
</file>