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6CD-7A0D-4405-B8A9-4286400F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C4C-BD96-48F1-B4ED-B660EB35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15A-63F1-4824-9038-5E7E7199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F76-91C3-4042-9E1A-2DD9629E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77CE-5BAD-452F-9037-604AE811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4CAC-94E1-4AB3-9F21-E4DC64DD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4413-029B-42DB-8259-EC8EAB76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A288-FC3F-49BB-A43A-B62F0236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A093-A55C-4B56-A2AF-EAAC27A9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4B73-935B-4CFB-BEE3-0D015C18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6DC6-B7A3-4315-8D5F-B850555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776-42BF-4D27-9F4B-1387B19B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5541-7705-47BD-AC3F-0E014E01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CF2A-467C-4DC2-895D-CE48572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3442-7609-4235-A6AD-B6BB6FD6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D685-10E0-4C70-AE88-D2FD1883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50BC-5302-46C8-88A5-FA20A9A1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EA2-D2CD-4957-8B4E-3D942AF9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EBCD-83F2-4C80-A56A-8BA7AD03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82F-734D-4EB4-BE35-87C702B3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8A9-A0B6-402A-BB8B-CA0E8968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C0F-16FD-461C-9A2B-DDCE6AA3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5DD-CF29-41CD-A143-4216BAEB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F8D-694D-4F0A-AFF7-9D79285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88B9-BCF8-44AD-8A8A-C1296850F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707F-7C94-407A-871C-B417837FE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</a:rPr>
              <a:t>Как появились буквы?</a:t>
            </a:r>
            <a:endParaRPr b="0" lang="en-US" sz="4800" spc="-1" strike="noStrike">
              <a:solidFill>
                <a:srgbClr val="424456"/>
              </a:solidFill>
              <a:latin typeface="Arial"/>
            </a:endParaRPr>
          </a:p>
        </p:txBody>
      </p:sp>
      <p:pic>
        <p:nvPicPr>
          <p:cNvPr id="83" name="Picture 7" descr="0_802d8_53263e94_XL"/>
          <p:cNvPicPr/>
          <p:nvPr/>
        </p:nvPicPr>
        <p:blipFill>
          <a:blip r:embed="rId1"/>
          <a:stretch/>
        </p:blipFill>
        <p:spPr>
          <a:xfrm>
            <a:off x="539640" y="2708280"/>
            <a:ext cx="38163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http://4put.ru/pictures/max/275/84567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Arial"/>
              </a:rPr>
              <a:t>24 мая весь наш народ отмечает Праздник славянской письменности и культуры. В этот день в Москве на Славянской площади был открыт памятник Кириллу и Мефодию. </a:t>
            </a:r>
            <a:endParaRPr b="0" lang="en-US" sz="2800" spc="-1" strike="noStrike">
              <a:solidFill>
                <a:srgbClr val="424456"/>
              </a:solidFill>
              <a:latin typeface="Arial"/>
            </a:endParaRPr>
          </a:p>
        </p:txBody>
      </p:sp>
      <p:pic>
        <p:nvPicPr>
          <p:cNvPr id="100" name="Picture 2" descr="http://countrymoscow.ru/images/2/Pamyatniki/Kirilly_Mefodiu/1.jpg"/>
          <p:cNvPicPr/>
          <p:nvPr/>
        </p:nvPicPr>
        <p:blipFill>
          <a:blip r:embed="rId1"/>
          <a:stretch/>
        </p:blipFill>
        <p:spPr>
          <a:xfrm>
            <a:off x="928800" y="1928880"/>
            <a:ext cx="671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21480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право с вырезом 2"/>
          <p:cNvSpPr/>
          <p:nvPr/>
        </p:nvSpPr>
        <p:spPr>
          <a:xfrm>
            <a:off x="3286080" y="1071720"/>
            <a:ext cx="1620720" cy="714240"/>
          </a:xfrm>
          <a:custGeom>
            <a:avLst/>
            <a:gdLst>
              <a:gd name="textAreaLeft" fmla="*/ 178560 w 1620720"/>
              <a:gd name="textAreaRight" fmla="*/ 1442160 w 162072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41" y="5400"/>
                </a:lnTo>
                <a:lnTo>
                  <a:pt x="16841" y="0"/>
                </a:lnTo>
                <a:lnTo>
                  <a:pt x="21600" y="10800"/>
                </a:lnTo>
                <a:lnTo>
                  <a:pt x="16841" y="21600"/>
                </a:lnTo>
                <a:lnTo>
                  <a:pt x="16841" y="16200"/>
                </a:lnTo>
                <a:lnTo>
                  <a:pt x="0" y="16200"/>
                </a:lnTo>
                <a:lnTo>
                  <a:pt x="23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4"/>
          <p:cNvPicPr/>
          <p:nvPr/>
        </p:nvPicPr>
        <p:blipFill>
          <a:blip r:embed="rId2"/>
          <a:stretch/>
        </p:blipFill>
        <p:spPr>
          <a:xfrm>
            <a:off x="4929120" y="0"/>
            <a:ext cx="3143160" cy="2428920"/>
          </a:xfrm>
          <a:prstGeom prst="rect">
            <a:avLst/>
          </a:prstGeom>
          <a:ln w="0">
            <a:noFill/>
          </a:ln>
        </p:spPr>
      </p:pic>
      <p:sp>
        <p:nvSpPr>
          <p:cNvPr id="104" name="Стрелка вправо с вырезом 4"/>
          <p:cNvSpPr/>
          <p:nvPr/>
        </p:nvSpPr>
        <p:spPr>
          <a:xfrm>
            <a:off x="7715160" y="1000080"/>
            <a:ext cx="1428840" cy="698400"/>
          </a:xfrm>
          <a:custGeom>
            <a:avLst/>
            <a:gdLst>
              <a:gd name="textAreaLeft" fmla="*/ 174600 w 1428840"/>
              <a:gd name="textAreaRight" fmla="*/ 1254240 w 1428840"/>
              <a:gd name="textAreaTop" fmla="*/ 174600 h 698400"/>
              <a:gd name="textAreaBottom" fmla="*/ 5238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317" y="5400"/>
                </a:lnTo>
                <a:lnTo>
                  <a:pt x="16317" y="0"/>
                </a:lnTo>
                <a:lnTo>
                  <a:pt x="21600" y="10800"/>
                </a:lnTo>
                <a:lnTo>
                  <a:pt x="16317" y="21600"/>
                </a:lnTo>
                <a:lnTo>
                  <a:pt x="16317" y="16200"/>
                </a:lnTo>
                <a:lnTo>
                  <a:pt x="0" y="16200"/>
                </a:lnTo>
                <a:lnTo>
                  <a:pt x="26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img0.liveinternet.ru/images/attach/c/2/72/381/72381788_all_big.jpg"/>
          <p:cNvPicPr/>
          <p:nvPr/>
        </p:nvPicPr>
        <p:blipFill>
          <a:blip r:embed="rId3"/>
          <a:stretch/>
        </p:blipFill>
        <p:spPr>
          <a:xfrm>
            <a:off x="0" y="3071880"/>
            <a:ext cx="3000240" cy="335736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право с вырезом 6"/>
          <p:cNvSpPr/>
          <p:nvPr/>
        </p:nvSpPr>
        <p:spPr>
          <a:xfrm>
            <a:off x="3000240" y="4429080"/>
            <a:ext cx="1857600" cy="770040"/>
          </a:xfrm>
          <a:custGeom>
            <a:avLst/>
            <a:gdLst>
              <a:gd name="textAreaLeft" fmla="*/ 192600 w 1857600"/>
              <a:gd name="textAreaRight" fmla="*/ 1665000 w 1857600"/>
              <a:gd name="textAreaTop" fmla="*/ 192600 h 770040"/>
              <a:gd name="textAreaBottom" fmla="*/ 577800 h 77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121" y="5400"/>
                </a:lnTo>
                <a:lnTo>
                  <a:pt x="17121" y="0"/>
                </a:lnTo>
                <a:lnTo>
                  <a:pt x="21600" y="10800"/>
                </a:lnTo>
                <a:lnTo>
                  <a:pt x="17121" y="21600"/>
                </a:lnTo>
                <a:lnTo>
                  <a:pt x="17121" y="16200"/>
                </a:lnTo>
                <a:lnTo>
                  <a:pt x="0" y="16200"/>
                </a:lnTo>
                <a:lnTo>
                  <a:pt x="224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ttp://kolyan.net/uploads/forum/images/1251115143.jpg"/>
          <p:cNvPicPr/>
          <p:nvPr/>
        </p:nvPicPr>
        <p:blipFill>
          <a:blip r:embed="rId4"/>
          <a:stretch/>
        </p:blipFill>
        <p:spPr>
          <a:xfrm>
            <a:off x="4929120" y="3000240"/>
            <a:ext cx="364356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pic>
        <p:nvPicPr>
          <p:cNvPr id="109" name="Содержимое 3" descr="Сценарий праздника в старшей группе День славянской письменности и культуры"/>
          <p:cNvPicPr/>
          <p:nvPr/>
        </p:nvPicPr>
        <p:blipFill>
          <a:blip r:embed="rId1"/>
          <a:stretch/>
        </p:blipFill>
        <p:spPr>
          <a:xfrm>
            <a:off x="0" y="428760"/>
            <a:ext cx="885816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http://kolyan.net/uploads/forum/images/1251115143.jpg"/>
          <p:cNvPicPr/>
          <p:nvPr/>
        </p:nvPicPr>
        <p:blipFill>
          <a:blip r:embed="rId1"/>
          <a:stretch/>
        </p:blipFill>
        <p:spPr>
          <a:xfrm>
            <a:off x="500040" y="1643040"/>
            <a:ext cx="7500960" cy="4810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0" y="68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50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«На странице букваря тридцать три богаты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0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удрецов – богатырей знает каждый грамоте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art.yacht-com.ru/upload/images/110607_104933_ar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286200"/>
            <a:ext cx="91440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 изобретения бумаги люди использовали для письма самые разные материалы, например, камень, но на нём приходилось выстукивать буквы другим, более крепким камнем. Представь, как долго приходилось писать даже самое коротенькое письмо!</a:t>
            </a:r>
            <a:endParaRPr b="0" lang="en-US" sz="2800" spc="-1" strike="noStrike">
              <a:solidFill>
                <a:srgbClr val="424456"/>
              </a:solidFill>
              <a:latin typeface="Arial"/>
            </a:endParaRPr>
          </a:p>
        </p:txBody>
      </p:sp>
      <p:pic>
        <p:nvPicPr>
          <p:cNvPr id="88" name="Picture 7" descr="writing"/>
          <p:cNvPicPr/>
          <p:nvPr/>
        </p:nvPicPr>
        <p:blipFill>
          <a:blip r:embed="rId1"/>
          <a:stretch/>
        </p:blipFill>
        <p:spPr>
          <a:xfrm>
            <a:off x="1714680" y="2332080"/>
            <a:ext cx="567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my-lib.ru/edimg/001_1/tab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7715520" cy="58579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0" y="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скальные рису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4"/>
          <p:cNvPicPr/>
          <p:nvPr/>
        </p:nvPicPr>
        <p:blipFill>
          <a:blip r:embed="rId1"/>
          <a:stretch/>
        </p:blipFill>
        <p:spPr>
          <a:xfrm>
            <a:off x="0" y="642960"/>
            <a:ext cx="9429840" cy="62150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0" y="0"/>
            <a:ext cx="89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кальные символы (бук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2071800" y="447840"/>
            <a:ext cx="4319640" cy="64101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8"/>
          <p:cNvSpPr/>
          <p:nvPr/>
        </p:nvSpPr>
        <p:spPr>
          <a:xfrm flipH="1">
            <a:off x="285120" y="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ирилл и Мефод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pic>
        <p:nvPicPr>
          <p:cNvPr id="97" name="Picture 2" descr="http://img0.liveinternet.ru/images/attach/c/2/72/381/72381788_all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7:23:11Z</dcterms:created>
  <dc:creator>ppsworld.ru</dc:creator>
  <dc:description/>
  <cp:keywords>фон для power point</cp:keywords>
  <dc:language>en-US</dc:language>
  <cp:lastModifiedBy>Lenovo User</cp:lastModifiedBy>
  <dcterms:modified xsi:type="dcterms:W3CDTF">2014-04-06T14:54:13Z</dcterms:modified>
  <cp:revision>5</cp:revision>
  <dc:subject/>
  <dc:title>Слайд 1</dc:title>
</cp:coreProperties>
</file>