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CB3-97C7-4870-8618-0476A045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F72-7BC2-4C40-9685-322B2DE4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FFD-AF6D-4481-8CDD-CD910C6B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CC8-95BA-41DD-ABD3-ECC8A50A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0F9C-2E09-41EA-ACF2-E66B4387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401D-57D6-42C4-83B4-84CB7D57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84B0-165B-42CB-8945-00752E4A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3128-211E-4D0D-A8D8-DDD5A49C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38A8-1B6E-450A-BE02-6A35A1AA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93DF-66EB-4E6F-8266-88E6B8BC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1DFF-6839-4988-95E3-AEFBDFE1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EF4-EAE8-473A-8B2B-2648500A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3ABD-903B-40E9-AB77-D27E3E39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1BB5-3955-46D3-B402-DC33B515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25C8-B6F6-450C-94D6-C9315A7C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9DC3-33D7-40B0-BCAB-3BA9C53A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BBFF-6000-4C1E-A36D-90E764BB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3E6-1E9E-47F8-B0AC-67A5EFF9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6A5-E472-4B11-89AC-B4CBA278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259-9C1B-494E-BDD8-71C74D4B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8F2-B7A9-4E15-B7BB-E8DEAC76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803-8147-4046-8DDD-08E431BB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D68-86DA-4F6B-A2AF-FFB1F9A3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033-6019-4F7C-ADA3-5C2D2385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7DE0-5728-410C-9B19-BDFCF5C23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93AA-C747-46B2-932A-C001D9D89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Arial"/>
              </a:rPr>
              <a:t>Как появились буквы?</a:t>
            </a:r>
            <a:endParaRPr b="0" lang="en-US" sz="4800" spc="-1" strike="noStrike">
              <a:solidFill>
                <a:srgbClr val="424456"/>
              </a:solidFill>
              <a:latin typeface="Arial"/>
            </a:endParaRPr>
          </a:p>
        </p:txBody>
      </p:sp>
      <p:pic>
        <p:nvPicPr>
          <p:cNvPr id="83" name="Picture 7" descr="0_802d8_53263e94_XL"/>
          <p:cNvPicPr/>
          <p:nvPr/>
        </p:nvPicPr>
        <p:blipFill>
          <a:blip r:embed="rId1"/>
          <a:stretch/>
        </p:blipFill>
        <p:spPr>
          <a:xfrm>
            <a:off x="539640" y="2708280"/>
            <a:ext cx="38163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http://4put.ru/pictures/max/275/84567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Arial"/>
              </a:rPr>
              <a:t>24 мая весь наш народ отмечает Праздник славянской письменности и культуры. В этот день в Москве на Славянской площади был открыт памятник Кириллу и Мефодию. </a:t>
            </a:r>
            <a:endParaRPr b="0" lang="en-US" sz="2800" spc="-1" strike="noStrike">
              <a:solidFill>
                <a:srgbClr val="424456"/>
              </a:solidFill>
              <a:latin typeface="Arial"/>
            </a:endParaRPr>
          </a:p>
        </p:txBody>
      </p:sp>
      <p:pic>
        <p:nvPicPr>
          <p:cNvPr id="100" name="Picture 2" descr="http://countrymoscow.ru/images/2/Pamyatniki/Kirilly_Mefodiu/1.jpg"/>
          <p:cNvPicPr/>
          <p:nvPr/>
        </p:nvPicPr>
        <p:blipFill>
          <a:blip r:embed="rId1"/>
          <a:stretch/>
        </p:blipFill>
        <p:spPr>
          <a:xfrm>
            <a:off x="928800" y="1928880"/>
            <a:ext cx="671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214800" cy="242892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право с вырезом 2"/>
          <p:cNvSpPr/>
          <p:nvPr/>
        </p:nvSpPr>
        <p:spPr>
          <a:xfrm>
            <a:off x="3286080" y="1071720"/>
            <a:ext cx="1620720" cy="714240"/>
          </a:xfrm>
          <a:custGeom>
            <a:avLst/>
            <a:gdLst>
              <a:gd name="textAreaLeft" fmla="*/ 178560 w 1620720"/>
              <a:gd name="textAreaRight" fmla="*/ 1442160 w 1620720"/>
              <a:gd name="textAreaTop" fmla="*/ 178560 h 714240"/>
              <a:gd name="textAreaBottom" fmla="*/ 535680 h 714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41" y="5400"/>
                </a:lnTo>
                <a:lnTo>
                  <a:pt x="16841" y="0"/>
                </a:lnTo>
                <a:lnTo>
                  <a:pt x="21600" y="10800"/>
                </a:lnTo>
                <a:lnTo>
                  <a:pt x="16841" y="21600"/>
                </a:lnTo>
                <a:lnTo>
                  <a:pt x="16841" y="16200"/>
                </a:lnTo>
                <a:lnTo>
                  <a:pt x="0" y="16200"/>
                </a:lnTo>
                <a:lnTo>
                  <a:pt x="238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4"/>
          <p:cNvPicPr/>
          <p:nvPr/>
        </p:nvPicPr>
        <p:blipFill>
          <a:blip r:embed="rId2"/>
          <a:stretch/>
        </p:blipFill>
        <p:spPr>
          <a:xfrm>
            <a:off x="4929120" y="0"/>
            <a:ext cx="3143160" cy="2428920"/>
          </a:xfrm>
          <a:prstGeom prst="rect">
            <a:avLst/>
          </a:prstGeom>
          <a:ln w="0">
            <a:noFill/>
          </a:ln>
        </p:spPr>
      </p:pic>
      <p:sp>
        <p:nvSpPr>
          <p:cNvPr id="104" name="Стрелка вправо с вырезом 4"/>
          <p:cNvSpPr/>
          <p:nvPr/>
        </p:nvSpPr>
        <p:spPr>
          <a:xfrm>
            <a:off x="7715160" y="1000080"/>
            <a:ext cx="1428840" cy="698400"/>
          </a:xfrm>
          <a:custGeom>
            <a:avLst/>
            <a:gdLst>
              <a:gd name="textAreaLeft" fmla="*/ 174600 w 1428840"/>
              <a:gd name="textAreaRight" fmla="*/ 1254240 w 1428840"/>
              <a:gd name="textAreaTop" fmla="*/ 174600 h 698400"/>
              <a:gd name="textAreaBottom" fmla="*/ 5238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317" y="5400"/>
                </a:lnTo>
                <a:lnTo>
                  <a:pt x="16317" y="0"/>
                </a:lnTo>
                <a:lnTo>
                  <a:pt x="21600" y="10800"/>
                </a:lnTo>
                <a:lnTo>
                  <a:pt x="16317" y="21600"/>
                </a:lnTo>
                <a:lnTo>
                  <a:pt x="16317" y="16200"/>
                </a:lnTo>
                <a:lnTo>
                  <a:pt x="0" y="16200"/>
                </a:lnTo>
                <a:lnTo>
                  <a:pt x="264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://img0.liveinternet.ru/images/attach/c/2/72/381/72381788_all_big.jpg"/>
          <p:cNvPicPr/>
          <p:nvPr/>
        </p:nvPicPr>
        <p:blipFill>
          <a:blip r:embed="rId3"/>
          <a:stretch/>
        </p:blipFill>
        <p:spPr>
          <a:xfrm>
            <a:off x="0" y="3071880"/>
            <a:ext cx="3000240" cy="335736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право с вырезом 6"/>
          <p:cNvSpPr/>
          <p:nvPr/>
        </p:nvSpPr>
        <p:spPr>
          <a:xfrm>
            <a:off x="3000240" y="4429080"/>
            <a:ext cx="1857600" cy="770040"/>
          </a:xfrm>
          <a:custGeom>
            <a:avLst/>
            <a:gdLst>
              <a:gd name="textAreaLeft" fmla="*/ 192600 w 1857600"/>
              <a:gd name="textAreaRight" fmla="*/ 1665000 w 1857600"/>
              <a:gd name="textAreaTop" fmla="*/ 192600 h 770040"/>
              <a:gd name="textAreaBottom" fmla="*/ 577800 h 77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21" y="5400"/>
                </a:lnTo>
                <a:lnTo>
                  <a:pt x="17121" y="0"/>
                </a:lnTo>
                <a:lnTo>
                  <a:pt x="21600" y="10800"/>
                </a:lnTo>
                <a:lnTo>
                  <a:pt x="17121" y="21600"/>
                </a:lnTo>
                <a:lnTo>
                  <a:pt x="17121" y="16200"/>
                </a:lnTo>
                <a:lnTo>
                  <a:pt x="0" y="16200"/>
                </a:lnTo>
                <a:lnTo>
                  <a:pt x="224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kolyan.net/uploads/forum/images/1251115143.jpg"/>
          <p:cNvPicPr/>
          <p:nvPr/>
        </p:nvPicPr>
        <p:blipFill>
          <a:blip r:embed="rId4"/>
          <a:stretch/>
        </p:blipFill>
        <p:spPr>
          <a:xfrm>
            <a:off x="4929120" y="3000240"/>
            <a:ext cx="364356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pic>
        <p:nvPicPr>
          <p:cNvPr id="109" name="Содержимое 3" descr="Сценарий праздника в старшей группе День славянской письменности и культуры"/>
          <p:cNvPicPr/>
          <p:nvPr/>
        </p:nvPicPr>
        <p:blipFill>
          <a:blip r:embed="rId1"/>
          <a:stretch/>
        </p:blipFill>
        <p:spPr>
          <a:xfrm>
            <a:off x="0" y="428760"/>
            <a:ext cx="885816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http://kolyan.net/uploads/forum/images/1251115143.jpg"/>
          <p:cNvPicPr/>
          <p:nvPr/>
        </p:nvPicPr>
        <p:blipFill>
          <a:blip r:embed="rId1"/>
          <a:stretch/>
        </p:blipFill>
        <p:spPr>
          <a:xfrm>
            <a:off x="500040" y="1643040"/>
            <a:ext cx="7500960" cy="48103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0" y="68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50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«На странице букваря тридцать три богаты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0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Мудрецов – богатырей знает каждый грамоте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art.yacht-com.ru/upload/images/110607_104933_ar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286200"/>
            <a:ext cx="91440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 изобретения бумаги люди использовали для письма самые разные материалы, например, камень, но на нём приходилось выстукивать буквы другим, более крепким камнем. Представь, как долго приходилось писать даже самое коротенькое письмо!</a:t>
            </a:r>
            <a:endParaRPr b="0" lang="en-US" sz="2800" spc="-1" strike="noStrike">
              <a:solidFill>
                <a:srgbClr val="424456"/>
              </a:solidFill>
              <a:latin typeface="Arial"/>
            </a:endParaRPr>
          </a:p>
        </p:txBody>
      </p:sp>
      <p:pic>
        <p:nvPicPr>
          <p:cNvPr id="88" name="Picture 7" descr="writing"/>
          <p:cNvPicPr/>
          <p:nvPr/>
        </p:nvPicPr>
        <p:blipFill>
          <a:blip r:embed="rId1"/>
          <a:stretch/>
        </p:blipFill>
        <p:spPr>
          <a:xfrm>
            <a:off x="1714680" y="2332080"/>
            <a:ext cx="5679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my-lib.ru/edimg/001_1/tab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7715520" cy="58579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0" y="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скальные рису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4"/>
          <p:cNvPicPr/>
          <p:nvPr/>
        </p:nvPicPr>
        <p:blipFill>
          <a:blip r:embed="rId1"/>
          <a:stretch/>
        </p:blipFill>
        <p:spPr>
          <a:xfrm>
            <a:off x="0" y="642960"/>
            <a:ext cx="9429840" cy="62150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0" y="0"/>
            <a:ext cx="89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кальные символы (букв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2071800" y="447840"/>
            <a:ext cx="4319640" cy="64101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8"/>
          <p:cNvSpPr/>
          <p:nvPr/>
        </p:nvSpPr>
        <p:spPr>
          <a:xfrm flipH="1">
            <a:off x="285120" y="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ирилл и Мефод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pic>
        <p:nvPicPr>
          <p:cNvPr id="97" name="Picture 2" descr="http://img0.liveinternet.ru/images/attach/c/2/72/381/72381788_all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7:23:11Z</dcterms:created>
  <dc:creator>ppsworld.ru</dc:creator>
  <dc:description/>
  <cp:keywords>фон для power point</cp:keywords>
  <dc:language>en-US</dc:language>
  <cp:lastModifiedBy>Lenovo User</cp:lastModifiedBy>
  <dcterms:modified xsi:type="dcterms:W3CDTF">2014-04-06T14:54:13Z</dcterms:modified>
  <cp:revision>5</cp:revision>
  <dc:subject/>
  <dc:title>Слайд 1</dc:title>
</cp:coreProperties>
</file>