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542-7F1E-419C-B295-5B9CA5F4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9E8-D383-47A7-89FC-4BB216B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FAA-B285-4E80-86F1-8481BC0D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8C3-6613-450D-8012-AA06F2E8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4D0-6214-45FC-B482-40D18F7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936-006D-4120-B651-C2459476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930-CFB6-4546-B2A2-E06E9416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4EE-0094-4170-927A-9C510CE1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E42-B4E0-4A04-B57B-99CBB78A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6FC-8DD2-4E4C-A2FC-CAAF1E2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692-22DE-46E9-8BA0-9788FAD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6EA-DCE6-4B1F-A56A-BC9A3FA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A969-A012-4E59-AAFD-BA492B7E5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68407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ный час для учащихс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Мы за правильное, горячее питан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12" descr=""/>
          <p:cNvPicPr/>
          <p:nvPr/>
        </p:nvPicPr>
        <p:blipFill>
          <a:blip r:embed="rId1"/>
          <a:stretch/>
        </p:blipFill>
        <p:spPr>
          <a:xfrm>
            <a:off x="7454880" y="1484280"/>
            <a:ext cx="1581120" cy="1728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3" descr=""/>
          <p:cNvPicPr/>
          <p:nvPr/>
        </p:nvPicPr>
        <p:blipFill>
          <a:blip r:embed="rId2"/>
          <a:stretch/>
        </p:blipFill>
        <p:spPr>
          <a:xfrm>
            <a:off x="108000" y="2184480"/>
            <a:ext cx="3463920" cy="4673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4"/>
          <p:cNvSpPr/>
          <p:nvPr/>
        </p:nvSpPr>
        <p:spPr>
          <a:xfrm flipV="1" rot="10800000">
            <a:off x="5473440" y="5544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 МОУ школа– интернат № 2 Синюкова О.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6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3564000" cy="4752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929040" y="476280"/>
            <a:ext cx="51069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пользе горячей еды вы у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айдах мы всё вам сейчас по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нужно питаться вы не забуд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ашим советам следовать буд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риходя после школы домой, питаться не следует булкой сух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 получили порцию зн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лагодарим вас всех за внима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7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897440" cy="575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1123560"/>
            <a:ext cx="364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шей России суровые зим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 нашей зимней природы красив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у а мороз то, какой!  У ребя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ыми маками щеки горя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б не замёрзнуть, не охлаждать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ужно тёплой едой подкрепля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бы еда была с пыла и с ж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ровь в организме быстрей побеж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гда не замерзнете вы на мороз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удет тогда и здоровью угроз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4500720" y="2274840"/>
            <a:ext cx="439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т пирамида продуктов пред 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ор большой это видите 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чтобы пользу от них полу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вильно повар их должен св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бы жиры, сахара и белок в твоём организме имели бы п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укты, конечно, не будем вар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ем их есть, предварительно мы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6516720" y="4292640"/>
            <a:ext cx="2627280" cy="2565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4329000" cy="47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4643280" y="333360"/>
            <a:ext cx="41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омат тёплой пищи к столу приглаш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 пообедать нам предлаг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ждый, вдыхая, такой аром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ведать, что подано, будет так р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мы вдыхаем запах та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т наполняется тут же слю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к тоже к работе г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усвоению нужных белков и ж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удет гастритов, язвы не буд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вори вас обойдут сторо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доктор тогда не придёт к вам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475920"/>
            <a:ext cx="349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перед вами мальчик груст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холодной едой за столом он сид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он будет так дальше питатьс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пятёрками в школе придётся расст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стный сидит, глаз не блести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в животе постоянно бурлит и бурли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6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637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"/>
          <p:cNvPicPr/>
          <p:nvPr/>
        </p:nvPicPr>
        <p:blipFill>
          <a:blip r:embed="rId2"/>
          <a:stretch/>
        </p:blipFill>
        <p:spPr>
          <a:xfrm>
            <a:off x="0" y="3573360"/>
            <a:ext cx="3492360" cy="3284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5867280" y="3357720"/>
            <a:ext cx="30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очка ест за «ушами пищ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но хороший у ней аппети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дет пятёрки она получ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мело задачи станет ре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Тёплая пища!»- девиз наш так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Полезна всегда для работы мозгов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428760" y="115920"/>
            <a:ext cx="4066920" cy="2813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5148360" y="2928960"/>
            <a:ext cx="3814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ология человека такова, что внутри у нас должна быть тёплая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пища холодная к нам попадает,  работать бактериям очень меш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ль пищу не подогр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ши друзья начнут погиб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32403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мальчик смотрите, ест бутербро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ромный такой, не лезет он в ро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жду булкой сосиска лежи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рху хот дог горчицей поли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это всё в живот попадае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 этого вред, а не польза быва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381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2"/>
          <a:stretch/>
        </p:blipFill>
        <p:spPr>
          <a:xfrm>
            <a:off x="0" y="4132440"/>
            <a:ext cx="35640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14840" y="428760"/>
            <a:ext cx="5076720" cy="24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мотри - на картинке ребята что справ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чень спортивная милая п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ень красивый, подтянут живо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том животе не живёт бутерброд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вайте посмотрим на слайды глаз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ими вам быть, решайте уж сами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2"/>
          <a:stretch/>
        </p:blipFill>
        <p:spPr>
          <a:xfrm>
            <a:off x="5238720" y="2708280"/>
            <a:ext cx="3905280" cy="41497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 flipV="1" rot="10800000">
            <a:off x="713880" y="4142880"/>
            <a:ext cx="43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т после бигмаков что дети быв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постепенно вас убива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дешь всегда на диване ле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ожиренья еле дыш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6858000" y="428760"/>
            <a:ext cx="2087640" cy="191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4067280" y="27860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пищи горячей не будешь ты умн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ивый, спортивный, подвижный и шумн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б дальние страны и мир покор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жно мудрые книжки чит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па тарелка и чая бо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лияет на твой спортивный нака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9:04:05Z</dcterms:created>
  <dc:creator>Ольга</dc:creator>
  <dc:description/>
  <dc:language>en-US</dc:language>
  <cp:lastModifiedBy>Ольга</cp:lastModifiedBy>
  <dcterms:modified xsi:type="dcterms:W3CDTF">2016-10-09T17:44:02Z</dcterms:modified>
  <cp:revision>21</cp:revision>
  <dc:subject/>
  <dc:title>Мы за правильное, горячее питание.</dc:title>
</cp:coreProperties>
</file>