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F8CC-EAFB-4892-BD09-34718AE6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6BE4-707C-43D5-A864-D546AC7B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46A5-E396-43F7-969D-7618277CA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0224-B7CE-41AE-9A0C-FEE893A0E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9D1F-D61D-426A-9C66-FA180359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DAEA-8BCB-4C22-ABD3-D786FC13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6918-E77E-4A35-B316-74E0E018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6B9E-7194-41F1-90A2-C921FADD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86A7-AFB2-424D-B260-143A0C1A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A04E-257C-4BD6-BCD7-017145AD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5825-39C4-4D9E-A4B8-115B684A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0431-ECDE-4A7D-A75D-96E02E32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2697-5F1F-4CC6-AC27-144AB2995E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840720" cy="20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лассный час для учащихся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Мы за правильное, горячее питание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Объект 12" descr=""/>
          <p:cNvPicPr/>
          <p:nvPr/>
        </p:nvPicPr>
        <p:blipFill>
          <a:blip r:embed="rId1"/>
          <a:stretch/>
        </p:blipFill>
        <p:spPr>
          <a:xfrm>
            <a:off x="7454880" y="1484280"/>
            <a:ext cx="1581120" cy="172872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13" descr=""/>
          <p:cNvPicPr/>
          <p:nvPr/>
        </p:nvPicPr>
        <p:blipFill>
          <a:blip r:embed="rId2"/>
          <a:stretch/>
        </p:blipFill>
        <p:spPr>
          <a:xfrm>
            <a:off x="108000" y="2184480"/>
            <a:ext cx="3463920" cy="467352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14"/>
          <p:cNvSpPr/>
          <p:nvPr/>
        </p:nvSpPr>
        <p:spPr>
          <a:xfrm flipV="1" rot="10800000">
            <a:off x="5473440" y="554400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атель МОУ школа– интернат № 2 Синюкова О.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Объект 6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3564000" cy="475272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"/>
          <p:cNvSpPr/>
          <p:nvPr/>
        </p:nvSpPr>
        <p:spPr>
          <a:xfrm>
            <a:off x="3929040" y="476280"/>
            <a:ext cx="510696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 пользе горячей еды вы узна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слайдах мы всё вам сейчас показ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нужно питаться вы не забуде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нашим советам следовать буд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приходя после школы домой, питаться не следует булкой сух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ы получили порцию знани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лагодарим вас всех за внимани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Объект 7" descr=""/>
          <p:cNvPicPr/>
          <p:nvPr/>
        </p:nvPicPr>
        <p:blipFill>
          <a:blip r:embed="rId1"/>
          <a:stretch/>
        </p:blipFill>
        <p:spPr>
          <a:xfrm>
            <a:off x="4067280" y="333360"/>
            <a:ext cx="4897440" cy="5759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28760" y="1123560"/>
            <a:ext cx="364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нашей России суровые зимы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т нашей зимней природы красив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у а мороз то, какой!  У ребя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асными маками щеки горя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тоб не замёрзнуть, не охлаждаться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ужно тёплой едой подкреплять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тобы еда была с пыла и с жа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 кровь в организме быстрей побежа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огда не замерзнете вы на мороз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 будет тогда и здоровью угроз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Объект 4" descr="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2060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5" descr=""/>
          <p:cNvPicPr/>
          <p:nvPr/>
        </p:nvPicPr>
        <p:blipFill>
          <a:blip r:embed="rId2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"/>
          <p:cNvSpPr/>
          <p:nvPr/>
        </p:nvSpPr>
        <p:spPr>
          <a:xfrm>
            <a:off x="4500720" y="2274840"/>
            <a:ext cx="4392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т пирамида продуктов пред в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ыбор большой это видите с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о чтобы пользу от них получ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авильно повар их должен свар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тобы жиры, сахара и белок в твоём организме имели бы пр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рукты, конечно, не будем вари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удем их есть, предварительно мы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Объект 4" descr=""/>
          <p:cNvPicPr/>
          <p:nvPr/>
        </p:nvPicPr>
        <p:blipFill>
          <a:blip r:embed="rId1"/>
          <a:stretch/>
        </p:blipFill>
        <p:spPr>
          <a:xfrm>
            <a:off x="6516720" y="4292640"/>
            <a:ext cx="2627280" cy="25653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4329000" cy="47862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1"/>
          <p:cNvSpPr/>
          <p:nvPr/>
        </p:nvSpPr>
        <p:spPr>
          <a:xfrm>
            <a:off x="4643280" y="333360"/>
            <a:ext cx="4143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ромат тёплой пищи к столу приглаша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  пообедать нам предлаг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ждый, вдыхая, такой арома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тведать, что подано, будет так ра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гда мы вдыхаем запах так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от наполняется тут же слю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Желудок тоже к работе го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 усвоению нужных белков и жи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 будет гастритов, язвы не буд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вори вас обойдут стороно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 доктор тогда не придёт к вам до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28760" y="475920"/>
            <a:ext cx="3495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т перед вами мальчик грустит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 холодной едой за столом он сиди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Если он будет так дальше питаться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 пятёрками в школе придётся расстать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рустный сидит, глаз не блестит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 в животе постоянно бурлит и бурли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Объект 6" descr=""/>
          <p:cNvPicPr/>
          <p:nvPr/>
        </p:nvPicPr>
        <p:blipFill>
          <a:blip r:embed="rId1"/>
          <a:stretch/>
        </p:blipFill>
        <p:spPr>
          <a:xfrm>
            <a:off x="5940360" y="0"/>
            <a:ext cx="3203640" cy="2637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7" descr=""/>
          <p:cNvPicPr/>
          <p:nvPr/>
        </p:nvPicPr>
        <p:blipFill>
          <a:blip r:embed="rId2"/>
          <a:stretch/>
        </p:blipFill>
        <p:spPr>
          <a:xfrm>
            <a:off x="0" y="3573360"/>
            <a:ext cx="3492360" cy="328464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5867280" y="3357720"/>
            <a:ext cx="3062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евочка ест за «ушами пищи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идно хороший у ней аппети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удет пятёрки она получ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мело задачи станет реш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Тёплая пища!»- девиз наш таков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Полезна всегда для работы мозгов!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Объект 4" descr=""/>
          <p:cNvPicPr/>
          <p:nvPr/>
        </p:nvPicPr>
        <p:blipFill>
          <a:blip r:embed="rId1"/>
          <a:stretch/>
        </p:blipFill>
        <p:spPr>
          <a:xfrm>
            <a:off x="428760" y="115920"/>
            <a:ext cx="4066920" cy="281304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"/>
          <p:cNvSpPr/>
          <p:nvPr/>
        </p:nvSpPr>
        <p:spPr>
          <a:xfrm>
            <a:off x="5148360" y="2928960"/>
            <a:ext cx="38145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изиология человека такова, что внутри у нас должна быть тёплая сре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сли пища холодная к нам попадает,  работать бактериям очень меш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ль пищу не подогре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ши друзья начнут погиба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3240360" cy="37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т мальчик смотрите, ест бутерброд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громный такой, не лезет он в рот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жду булкой сосиска лежит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ерху хот дог горчицей полит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гда это всё в живот попадает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т этого вред, а не польза бывает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Объект 4" descr=""/>
          <p:cNvPicPr/>
          <p:nvPr/>
        </p:nvPicPr>
        <p:blipFill>
          <a:blip r:embed="rId1"/>
          <a:stretch/>
        </p:blipFill>
        <p:spPr>
          <a:xfrm>
            <a:off x="4788000" y="0"/>
            <a:ext cx="4356000" cy="63817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5" descr=""/>
          <p:cNvPicPr/>
          <p:nvPr/>
        </p:nvPicPr>
        <p:blipFill>
          <a:blip r:embed="rId2"/>
          <a:stretch/>
        </p:blipFill>
        <p:spPr>
          <a:xfrm>
            <a:off x="0" y="4132440"/>
            <a:ext cx="356400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14840" y="428760"/>
            <a:ext cx="5076720" cy="24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мотри - на картинке ребята что справа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чень спортивная милая пар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арень красивый, подтянут живот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том животе не живёт бутерброд!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авайте посмотрим на слайды глазам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ими вам быть, решайте уж сами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Объект 4" descr=""/>
          <p:cNvPicPr/>
          <p:nvPr/>
        </p:nvPicPr>
        <p:blipFill>
          <a:blip r:embed="rId1"/>
          <a:stretch/>
        </p:blipFill>
        <p:spPr>
          <a:xfrm>
            <a:off x="0" y="0"/>
            <a:ext cx="3635280" cy="3141720"/>
          </a:xfrm>
          <a:prstGeom prst="rect">
            <a:avLst/>
          </a:prstGeom>
          <a:ln w="0">
            <a:noFill/>
          </a:ln>
        </p:spPr>
      </p:pic>
      <p:pic>
        <p:nvPicPr>
          <p:cNvPr id="67" name="Объект 5" descr=""/>
          <p:cNvPicPr/>
          <p:nvPr/>
        </p:nvPicPr>
        <p:blipFill>
          <a:blip r:embed="rId2"/>
          <a:stretch/>
        </p:blipFill>
        <p:spPr>
          <a:xfrm>
            <a:off x="5238720" y="2708280"/>
            <a:ext cx="3905280" cy="414972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2"/>
          <p:cNvSpPr/>
          <p:nvPr/>
        </p:nvSpPr>
        <p:spPr>
          <a:xfrm flipV="1" rot="10800000">
            <a:off x="713880" y="4142880"/>
            <a:ext cx="43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т после бигмаков что дети быва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н постепенно вас убивае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удешь всегда на диване леж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 ожиренья еле дыша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Объект 4" descr=""/>
          <p:cNvPicPr/>
          <p:nvPr/>
        </p:nvPicPr>
        <p:blipFill>
          <a:blip r:embed="rId1"/>
          <a:stretch/>
        </p:blipFill>
        <p:spPr>
          <a:xfrm>
            <a:off x="6858000" y="428760"/>
            <a:ext cx="2087640" cy="19159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5" descr=""/>
          <p:cNvPicPr/>
          <p:nvPr/>
        </p:nvPicPr>
        <p:blipFill>
          <a:blip r:embed="rId2"/>
          <a:stretch/>
        </p:blipFill>
        <p:spPr>
          <a:xfrm>
            <a:off x="0" y="0"/>
            <a:ext cx="349236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1"/>
          <p:cNvSpPr/>
          <p:nvPr/>
        </p:nvSpPr>
        <p:spPr>
          <a:xfrm>
            <a:off x="4067280" y="2786040"/>
            <a:ext cx="460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ез пищи горячей не будешь ты умны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расивый, спортивный, подвижный и шумны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то б дальние страны и мир покор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ужно мудрые книжки чита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упа тарелка и чая бок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лияет на твой спортивный накал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19:04:05Z</dcterms:created>
  <dc:creator>Ольга</dc:creator>
  <dc:description/>
  <dc:language>en-US</dc:language>
  <cp:lastModifiedBy>Ольга</cp:lastModifiedBy>
  <dcterms:modified xsi:type="dcterms:W3CDTF">2016-10-09T17:44:02Z</dcterms:modified>
  <cp:revision>21</cp:revision>
  <dc:subject/>
  <dc:title>Мы за правильное, горячее питание.</dc:title>
</cp:coreProperties>
</file>