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955-A613-4A1A-8CAD-101BFC8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4DC-12C0-495C-8A8C-5102829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5F-F7A3-4650-9C32-73D44A2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243-5094-4496-B09C-0C41BC96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C5A-D3E6-463B-AA6A-74C5673C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303-B58D-418D-9AA1-B38BF446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127-1A33-4DF8-9029-598D5EDD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555-E026-4717-8082-82E32346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866-0512-47BA-88EE-299FB1BA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DCC-6FD1-48B9-8A8B-5392B3E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283-B897-40AA-9D42-E10B7F6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20B-2956-457C-9E20-21DF9E6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56E3-201A-4523-B70F-7EF6E9C78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Критерии оценки качества работы  педагог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71800" y="571680"/>
            <a:ext cx="7715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85840" y="478620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тарший воспитатель МБДО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Детский сад № 29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уляева Е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214280" y="1643040"/>
          <a:ext cx="7072560" cy="3054240"/>
        </p:xfrm>
        <a:graphic>
          <a:graphicData uri="http://schemas.openxmlformats.org/drawingml/2006/table">
            <a:tbl>
              <a:tblPr/>
              <a:tblGrid>
                <a:gridCol w="524160"/>
                <a:gridCol w="3668760"/>
                <a:gridCol w="2879640"/>
              </a:tblGrid>
              <a:tr h="5716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3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уч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мастер – классов, открытых занятий, мероприят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методической работе Д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рганизация работы по взаимодействию с социу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оспитанников в мероприят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ого уровн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социум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0" y="24516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модульно – рейтинговой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ятельности педагога МБДОУ «Детский сад № 29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Ф.И.О., квалификационная категория педаго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85920" y="2071800"/>
          <a:ext cx="7072200" cy="1785960"/>
        </p:xfrm>
        <a:graphic>
          <a:graphicData uri="http://schemas.openxmlformats.org/drawingml/2006/table">
            <a:tbl>
              <a:tblPr/>
              <a:tblGrid>
                <a:gridCol w="2403360"/>
                <a:gridCol w="451080"/>
                <a:gridCol w="527040"/>
                <a:gridCol w="528480"/>
                <a:gridCol w="528480"/>
                <a:gridCol w="393840"/>
                <a:gridCol w="527040"/>
                <a:gridCol w="657360"/>
                <a:gridCol w="527040"/>
                <a:gridCol w="528480"/>
              </a:tblGrid>
              <a:tr h="5950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.И.О.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X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1857240" y="523440"/>
            <a:ext cx="621504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ран активност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ные обознач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е в методической работе            проведение открытых мероприятий            участие в конкурсах            взаимодействие с родителями вариативность среды                    обобщение опы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ие         частичное соответ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7500960" y="24717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14240" y="356760"/>
            <a:ext cx="8072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икто не может дать другому того, что не имеет сам, так не может развивать, образовывать и воспитывать других тот, кто не является сам развитым, воспитанным и образованным. Он лишь до тех пор способен  на самом деле воспитывать и образовывать, пока сам работает над своим воспитание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Спасибо за внимание 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42960" y="57132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Качество дошкольного образования - комплексная характеристи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выражающая степень соответствия дошкольного образования федеральному государственному образовательному стандарту  и удовлетворенности потребителей образовательных услу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качест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дошкольного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807228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714240" y="1000080"/>
            <a:ext cx="8072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ЯВЛЕНИЕ ЛЮБВИ К ДЕТЯМ – ПОДДЕРЖКА, ЗАБОТА,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БРОЖЕЛАТЕЛЬНОСТЬ, ТЕРП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ООТВЕТСТВИЕ ЛИЧНОЙ КОНЦЕПЦИИ И УНИКАЛЬНОМУ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ПЕДАГОГИЧЕСКОМУ И ТВОРЧЕСКОМУ ОПЫ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ЭТИЧЕСКИМ ПРОФЕССИОНАЛЬНЫМ И ЭСТЕТИЧЕСКИМ НОРМАМ ОБРАЗОВАТЕЛЬНОГО    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ХАРИЗМАТИЧНОСТЬ ОБРАЗА /ВЛАДЕНИЕ ТЕХНОЛОГИЯМИ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ПОЗИТИВНОГО ВЛИЯНИЯ И ЛИЧНОГО ОБОЯНИЯ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ТРАЖЕНИЕ ЛИЧНЫХ ЦЕННОСТЕЙ И УБЕЖД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ЕМОНСТРАЦИЯ ЗДОРОВОГО ОБРАЗА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Я УНИКАЛЬНОСТИ ЛИЧНОСТИ ПРОФЕССИОНАЛЬНЫХ КАЧ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ОЯВЛЕНИЕ ПСИХОЭМОЦИОНАЛЬНОЙ УСТОЙЧИВОСТИ И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БЕЗУПРЕ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ОММУНИКАБ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ООТВЕТСТВИЕ ВОЗРАСТУ И СТАТУ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ЭСТЕТИЧЕСКИЙ КОМПОНЕ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ТРАЖЕНИЕ МИССИИ, ВЫПОЛНЯЕМОЙ ПЕДАГОГ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ННЫЙ АВТОРИТЕТ И ДОВЕРИЕ СРЕДИ ДЕТЕЙ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ЛЛЕГ И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ЕМОНСТРАЦИЯ ПРОФЕССИОНАЛЬНОЙ РЕПУ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928800" y="42876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современного воспита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14240" y="150012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дминистрация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ытные 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дседатель первичной профсоюзной организации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928800" y="42876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ый со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овая оценк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643360"/>
            <a:ext cx="832968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57160" y="1214280"/>
            <a:ext cx="7572600" cy="414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получение объективной информации о качестве деятельности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лученных результатов деятельности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эффективных управленческих решений администрацией ДОУ в области повышения качества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ейтинговой оцен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мплексного под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еспечения объе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оценки деятельности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ткрытости доступа к информаци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орган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4"/>
          <p:cNvSpPr/>
          <p:nvPr/>
        </p:nvSpPr>
        <p:spPr>
          <a:xfrm>
            <a:off x="4857840" y="1143000"/>
            <a:ext cx="3643200" cy="335772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деятельности педаг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право с вырезом 5"/>
          <p:cNvSpPr/>
          <p:nvPr/>
        </p:nvSpPr>
        <p:spPr>
          <a:xfrm>
            <a:off x="1714680" y="3071880"/>
            <a:ext cx="2928600" cy="1714320"/>
          </a:xfrm>
          <a:custGeom>
            <a:avLst/>
            <a:gdLst>
              <a:gd name="textAreaLeft" fmla="*/ 428400 w 2928600"/>
              <a:gd name="textAreaRight" fmla="*/ 2500200 w 2928600"/>
              <a:gd name="textAreaTop" fmla="*/ 428400 h 1714320"/>
              <a:gd name="textAreaBottom" fmla="*/ 1285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78" y="5400"/>
                </a:lnTo>
                <a:lnTo>
                  <a:pt x="15278" y="0"/>
                </a:lnTo>
                <a:lnTo>
                  <a:pt x="21600" y="10800"/>
                </a:lnTo>
                <a:lnTo>
                  <a:pt x="15278" y="21600"/>
                </a:lnTo>
                <a:lnTo>
                  <a:pt x="15278" y="16200"/>
                </a:lnTo>
                <a:lnTo>
                  <a:pt x="0" y="16200"/>
                </a:lnTo>
                <a:lnTo>
                  <a:pt x="316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о результатам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 вправо с вырезом 7"/>
          <p:cNvSpPr/>
          <p:nvPr/>
        </p:nvSpPr>
        <p:spPr>
          <a:xfrm>
            <a:off x="1714680" y="1000080"/>
            <a:ext cx="2928600" cy="1714680"/>
          </a:xfrm>
          <a:custGeom>
            <a:avLst/>
            <a:gdLst>
              <a:gd name="textAreaLeft" fmla="*/ 428400 w 2928600"/>
              <a:gd name="textAreaRight" fmla="*/ 2500200 w 292860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78" y="5400"/>
                </a:lnTo>
                <a:lnTo>
                  <a:pt x="15278" y="0"/>
                </a:lnTo>
                <a:lnTo>
                  <a:pt x="21600" y="10800"/>
                </a:lnTo>
                <a:lnTo>
                  <a:pt x="15278" y="21600"/>
                </a:lnTo>
                <a:lnTo>
                  <a:pt x="15278" y="16200"/>
                </a:lnTo>
                <a:lnTo>
                  <a:pt x="0" y="16200"/>
                </a:lnTo>
                <a:lnTo>
                  <a:pt x="316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71760" y="1197000"/>
            <a:ext cx="7115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методическая рабо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современных образовательных технологий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методической рабо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в конкурсах профмастерст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убликаций педагог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портфолио педагог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боты по взаимодействию с социум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педагога с родителями (законными представителям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е с социум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ие педагога и воспитанников в конкурсах различного уров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28880" y="1928520"/>
            <a:ext cx="67579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0:21:39Z</dcterms:created>
  <dc:creator>User</dc:creator>
  <dc:description/>
  <dc:language>en-US</dc:language>
  <cp:lastModifiedBy>User</cp:lastModifiedBy>
  <dcterms:modified xsi:type="dcterms:W3CDTF">2014-11-24T08:14:35Z</dcterms:modified>
  <cp:revision>156</cp:revision>
  <dc:subject/>
  <dc:title>Слайд 1</dc:title>
</cp:coreProperties>
</file>