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3C3-3F52-4A43-A050-59A1E517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3C4-4304-4C58-9018-61FBC15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9A8-6B84-46D5-917C-30DF7E0D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186-8195-49AA-8F5C-76C05872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227-5A8D-40BA-AB56-EFFD7514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A2-44A6-46E9-BB3A-6DCD5FC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93D-CA51-44FB-81F8-790AD995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BB3-94CB-41A0-BC98-99915632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919-77A1-4A57-B487-5763E1A5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B41-278E-4AC8-8240-A55A910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7C7-8072-458B-9A9B-7384428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1D0-6865-4505-B423-334F7328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792-7D91-497F-9C5E-ADC70BEBD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Критерии оценки качества работы  педагог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71800" y="571680"/>
            <a:ext cx="7715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85840" y="478620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тарший воспитатель МБДО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Детский сад № 29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уляева Е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214280" y="1643040"/>
          <a:ext cx="7072560" cy="3054240"/>
        </p:xfrm>
        <a:graphic>
          <a:graphicData uri="http://schemas.openxmlformats.org/drawingml/2006/table">
            <a:tbl>
              <a:tblPr/>
              <a:tblGrid>
                <a:gridCol w="524160"/>
                <a:gridCol w="3668760"/>
                <a:gridCol w="2879640"/>
              </a:tblGrid>
              <a:tr h="5716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3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уч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мастер – классов, открытых занятий, мероприят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методической работе Д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рганизация работы по взаимодействию с социу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оспитанников в мероприят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ого уровн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социу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0" y="24516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модульно – рейтинговой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и педагога МБДОУ «Детский сад № 2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Ф.И.О., квалификационная категория педаго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85920" y="2071800"/>
          <a:ext cx="7072200" cy="1785960"/>
        </p:xfrm>
        <a:graphic>
          <a:graphicData uri="http://schemas.openxmlformats.org/drawingml/2006/table">
            <a:tbl>
              <a:tblPr/>
              <a:tblGrid>
                <a:gridCol w="2403360"/>
                <a:gridCol w="451080"/>
                <a:gridCol w="527040"/>
                <a:gridCol w="528480"/>
                <a:gridCol w="528480"/>
                <a:gridCol w="393840"/>
                <a:gridCol w="527040"/>
                <a:gridCol w="657360"/>
                <a:gridCol w="527040"/>
                <a:gridCol w="528480"/>
              </a:tblGrid>
              <a:tr h="595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.И.О.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1857240" y="523440"/>
            <a:ext cx="621504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ран активност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ные обознач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методической работе            проведение открытых мероприятий            участие в конкурсах            взаимодействие с родителями вариативность среды                    обобщение опы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ие         частичное соответ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7500960" y="2471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14240" y="356760"/>
            <a:ext cx="8072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икто не может дать другому того, что не имеет сам, так не может развивать, образовывать и воспитывать других тот, кто не является сам развитым, воспитанным и образованным. Он лишь до тех пор способен  на самом деле воспитывать и образовывать, пока сам работает над своим воспитание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42960" y="57132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Качество дошкольного образования - комплексная характеристи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выражающая степень соответствия дошкольного образования федеральному государственному образовательному стандарту  и удовлетворенности потребителей образовательных у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качест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дошкольного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807228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714240" y="1000080"/>
            <a:ext cx="8072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ЯВЛЕНИЕ ЛЮБВИ К ДЕТЯМ – ПОДДЕРЖКА, ЗАБОТА,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БРОЖЕЛАТЕЛЬНОСТЬ, ТЕРП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ООТВЕТСТВИЕ ЛИЧНОЙ КОНЦЕПЦИИ И УНИКАЛЬНОМУ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ПЕДАГОГИЧЕСКОМУ И ТВОРЧЕСКОМУ ОПЫ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ЭТИЧЕСКИМ ПРОФЕССИОНАЛЬНЫМ И ЭСТЕТИЧЕСКИМ НОРМАМ ОБРАЗОВАТЕЛЬНОГО    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ХАРИЗМАТИЧНОСТЬ ОБРАЗА /ВЛАДЕНИЕ ТЕХНОЛОГИЯМИ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ПОЗИТИВНОГО ВЛИЯНИЯ И ЛИЧНОГО ОБОЯНИЯ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ТРАЖЕНИЕ ЛИЧНЫХ ЦЕННОСТЕЙ И УБЕЖД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ЕМОНСТРАЦИЯ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Я УНИКАЛЬНОСТИ ЛИЧНОСТИ ПРОФЕССИОНАЛЬНЫХ КАЧ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ОЯВЛЕНИЕ ПСИХОЭМОЦИОНАЛЬНОЙ УСТОЙЧИВОСТИ И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БЕЗУПРЕ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ОММУНИКАБ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ООТВЕТСТВИЕ ВОЗРАСТУ И СТАТУ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ЭСТЕТИЧЕСКИЙ КОМПОНЕ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ТРАЖЕНИЕ МИССИИ, ВЫПОЛНЯЕМОЙ ПЕДАГОГ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ННЫЙ АВТОРИТЕТ И ДОВЕРИЕ СРЕДИ ДЕТЕЙ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ЛЛЕГ И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ЕМОНСТРАЦИЯ ПРОФЕССИОНАЛЬНОЙ РЕПУ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928800" y="42876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современного воспита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14240" y="150012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дминистрация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ытные 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дседатель первичной профсоюзной организации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928800" y="42876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й со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овая оценк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643360"/>
            <a:ext cx="832968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57160" y="1214280"/>
            <a:ext cx="7572600" cy="414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получение объективной информации о качестве деятельности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лученных результатов деятельности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эффективных управленческих решений администрацией ДОУ в области повышения качества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ейтинговой оцен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мплексного под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еспечения объе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оценки деятельности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ткрытости доступа к информаци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орган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4"/>
          <p:cNvSpPr/>
          <p:nvPr/>
        </p:nvSpPr>
        <p:spPr>
          <a:xfrm>
            <a:off x="4857840" y="1143000"/>
            <a:ext cx="3643200" cy="335772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деятельности педаг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право с вырезом 5"/>
          <p:cNvSpPr/>
          <p:nvPr/>
        </p:nvSpPr>
        <p:spPr>
          <a:xfrm>
            <a:off x="1714680" y="3071880"/>
            <a:ext cx="2928600" cy="1714320"/>
          </a:xfrm>
          <a:custGeom>
            <a:avLst/>
            <a:gdLst>
              <a:gd name="textAreaLeft" fmla="*/ 428400 w 2928600"/>
              <a:gd name="textAreaRight" fmla="*/ 2500200 w 2928600"/>
              <a:gd name="textAreaTop" fmla="*/ 428400 h 1714320"/>
              <a:gd name="textAreaBottom" fmla="*/ 1285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78" y="5400"/>
                </a:lnTo>
                <a:lnTo>
                  <a:pt x="15278" y="0"/>
                </a:lnTo>
                <a:lnTo>
                  <a:pt x="21600" y="10800"/>
                </a:lnTo>
                <a:lnTo>
                  <a:pt x="15278" y="21600"/>
                </a:lnTo>
                <a:lnTo>
                  <a:pt x="15278" y="16200"/>
                </a:lnTo>
                <a:lnTo>
                  <a:pt x="0" y="16200"/>
                </a:lnTo>
                <a:lnTo>
                  <a:pt x="316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о результатам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 вправо с вырезом 7"/>
          <p:cNvSpPr/>
          <p:nvPr/>
        </p:nvSpPr>
        <p:spPr>
          <a:xfrm>
            <a:off x="1714680" y="1000080"/>
            <a:ext cx="2928600" cy="1714680"/>
          </a:xfrm>
          <a:custGeom>
            <a:avLst/>
            <a:gdLst>
              <a:gd name="textAreaLeft" fmla="*/ 428400 w 2928600"/>
              <a:gd name="textAreaRight" fmla="*/ 2500200 w 29286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78" y="5400"/>
                </a:lnTo>
                <a:lnTo>
                  <a:pt x="15278" y="0"/>
                </a:lnTo>
                <a:lnTo>
                  <a:pt x="21600" y="10800"/>
                </a:lnTo>
                <a:lnTo>
                  <a:pt x="15278" y="21600"/>
                </a:lnTo>
                <a:lnTo>
                  <a:pt x="15278" y="16200"/>
                </a:lnTo>
                <a:lnTo>
                  <a:pt x="0" y="16200"/>
                </a:lnTo>
                <a:lnTo>
                  <a:pt x="316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71760" y="1197000"/>
            <a:ext cx="7115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методическая рабо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современных образовательных технологий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методической рабо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конкурсах профмастерст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убликаций педагог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ортфолио педагог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по взаимодействию с социум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педагога с родителями (законными представителям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социум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педагога и воспитанников в конкурсах различного уров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28880" y="1928520"/>
            <a:ext cx="67579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0:21:39Z</dcterms:created>
  <dc:creator>User</dc:creator>
  <dc:description/>
  <dc:language>en-US</dc:language>
  <cp:lastModifiedBy>User</cp:lastModifiedBy>
  <dcterms:modified xsi:type="dcterms:W3CDTF">2014-11-24T08:14:35Z</dcterms:modified>
  <cp:revision>156</cp:revision>
  <dc:subject/>
  <dc:title>Слайд 1</dc:title>
</cp:coreProperties>
</file>