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diagrams/data1.xml" ContentType="application/vnd.openxmlformats-officedocument.drawingml.diagramData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rawing1.xml" ContentType="application/vnd.ms-office.drawingml.diagramDrawing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5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colorful1#2">
  <dgm:title val=""/>
  <dgm:desc val=""/>
  <dgm:catLst>
    <dgm:cat type="colorful" pri="101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/>
    <dgm:txEffectClrLst/>
  </dgm:styleLbl>
  <dgm:styleLbl name="lnNode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2">
        <a:alpha val="50000"/>
      </a:schemeClr>
      <a:schemeClr val="accent3">
        <a:alpha val="50000"/>
      </a:schemeClr>
      <a:schemeClr val="accent4">
        <a:alpha val="50000"/>
      </a:schemeClr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2">
        <a:tint val="50000"/>
      </a:schemeClr>
      <a:schemeClr val="accent3">
        <a:tint val="50000"/>
      </a:schemeClr>
      <a:schemeClr val="accent4">
        <a:tint val="50000"/>
      </a:schemeClr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1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1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2"/>
      <a:schemeClr val="accent3"/>
      <a:schemeClr val="accent4"/>
      <a:schemeClr val="accent5"/>
      <a:schemeClr val="accent6"/>
    </dgm:fillClrLst>
    <dgm:linClrLst meth="cycle">
      <a:schemeClr val="lt1"/>
    </dgm:linClrLst>
    <dgm:effectClrLst/>
    <dgm:txLinClrLst/>
    <dgm:txFillClrLst/>
    <dgm:txEffectClrLst/>
  </dgm:styleLbl>
  <dgm:styleLbl name="fgSibTrans2D1">
    <dgm:fillClrLst meth="repeat">
      <a:schemeClr val="accent2"/>
      <a:schemeClr val="accent3"/>
      <a:schemeClr val="accent4"/>
      <a:schemeClr val="accent5"/>
      <a:schemeClr val="accent6"/>
    </dgm:fillClrLst>
    <dgm:linClrLst meth="cycle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 meth="repeat">
      <a:schemeClr val="accent2"/>
      <a:schemeClr val="accent3"/>
      <a:schemeClr val="accent4"/>
      <a:schemeClr val="accent5"/>
      <a:schemeClr val="accent6"/>
    </dgm:fillClrLst>
    <dgm:linClrLst meth="cycle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2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3">
        <a:tint val="9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4">
        <a:tint val="70000"/>
      </a:schemeClr>
    </dgm:fillClrLst>
    <dgm:linClrLst meth="repeat">
      <a:schemeClr val="accent3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5">
        <a:tint val="50000"/>
      </a:schemeClr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fillClrLst>
    <dgm:lin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fillClrLst>
    <dgm:lin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fillClrLst>
    <dgm:lin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3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8F03CC66-F4DC-4EF3-91CE-52DE818B3DC1}" type="doc">
      <dgm:prSet loTypeId="urn:microsoft.com/office/officeart/2008/layout/HorizontalMultiLevelHierarchy" loCatId="hierarchy" qsTypeId="urn:microsoft.com/office/officeart/2005/8/quickstyle/simple5" qsCatId="simple" csTypeId="urn:microsoft.com/office/officeart/2005/8/colors/colorful1#2" csCatId="colorful" phldr="1"/>
      <dgm:spPr/>
      <dgm:t>
        <a:bodyPr/>
        <a:lstStyle/>
        <a:p>
          <a:endParaRPr lang="ru-RU"/>
        </a:p>
      </dgm:t>
    </dgm:pt>
    <dgm:pt modelId="{2A413298-BE70-493F-9995-9AAF6625F708}">
      <dgm:prSet phldrT="[Текст]"/>
      <dgm:spPr/>
      <dgm:t>
        <a:bodyPr/>
        <a:lstStyle/>
        <a:p>
          <a:r>
            <a:rPr lang="ru-RU" dirty="0" smtClean="0">
              <a:latin typeface="Arial Black" pitchFamily="34" charset="0"/>
            </a:rPr>
            <a:t>УУД</a:t>
          </a:r>
          <a:endParaRPr lang="ru-RU" dirty="0">
            <a:latin typeface="Arial Black" pitchFamily="34" charset="0"/>
          </a:endParaRPr>
        </a:p>
      </dgm:t>
    </dgm:pt>
    <dgm:pt modelId="{201AAB14-4DD0-4870-9A24-A658D1EFB25B}" type="parTrans" cxnId="{5B0A7B6E-1F65-4EC5-B105-5AE87B26A8DF}">
      <dgm:prSet/>
      <dgm:spPr/>
      <dgm:t>
        <a:bodyPr/>
        <a:lstStyle/>
        <a:p>
          <a:endParaRPr lang="ru-RU"/>
        </a:p>
      </dgm:t>
    </dgm:pt>
    <dgm:pt modelId="{685464AE-DD92-42B4-A2E2-428FC1495A98}" type="sibTrans" cxnId="{5B0A7B6E-1F65-4EC5-B105-5AE87B26A8DF}">
      <dgm:prSet/>
      <dgm:spPr/>
      <dgm:t>
        <a:bodyPr/>
        <a:lstStyle/>
        <a:p>
          <a:endParaRPr lang="ru-RU"/>
        </a:p>
      </dgm:t>
    </dgm:pt>
    <dgm:pt modelId="{56D0A96D-BA4C-4C77-8062-2248B9A51FBF}">
      <dgm:prSet phldrT="[Текст]"/>
      <dgm:spPr/>
      <dgm:t>
        <a:bodyPr/>
        <a:lstStyle/>
        <a:p>
          <a:r>
            <a:rPr lang="ru-RU" dirty="0" smtClean="0">
              <a:latin typeface="Arial Black" pitchFamily="34" charset="0"/>
            </a:rPr>
            <a:t>Личностные</a:t>
          </a:r>
          <a:endParaRPr lang="ru-RU" dirty="0">
            <a:latin typeface="Arial Black" pitchFamily="34" charset="0"/>
          </a:endParaRPr>
        </a:p>
      </dgm:t>
    </dgm:pt>
    <dgm:pt modelId="{7B5FDD35-A2E7-47AE-B1D5-EFCE31BF65FC}" type="parTrans" cxnId="{4B1D8215-93CC-4A7A-8C14-0585E7A19435}">
      <dgm:prSet/>
      <dgm:spPr/>
      <dgm:t>
        <a:bodyPr/>
        <a:lstStyle/>
        <a:p>
          <a:endParaRPr lang="ru-RU"/>
        </a:p>
      </dgm:t>
    </dgm:pt>
    <dgm:pt modelId="{6664531A-E5EF-4F25-87C1-ED8B369C3F5A}" type="sibTrans" cxnId="{4B1D8215-93CC-4A7A-8C14-0585E7A19435}">
      <dgm:prSet/>
      <dgm:spPr/>
      <dgm:t>
        <a:bodyPr/>
        <a:lstStyle/>
        <a:p>
          <a:endParaRPr lang="ru-RU"/>
        </a:p>
      </dgm:t>
    </dgm:pt>
    <dgm:pt modelId="{CB28EF2F-DF0F-4F68-A8A5-AEF6998EA3AB}">
      <dgm:prSet phldrT="[Текст]"/>
      <dgm:spPr/>
      <dgm:t>
        <a:bodyPr/>
        <a:lstStyle/>
        <a:p>
          <a:r>
            <a:rPr lang="ru-RU" b="1" dirty="0" smtClean="0">
              <a:latin typeface="Arial Black" pitchFamily="34" charset="0"/>
            </a:rPr>
            <a:t>Познавательные</a:t>
          </a:r>
          <a:endParaRPr lang="ru-RU" b="1" dirty="0">
            <a:latin typeface="Arial Black" pitchFamily="34" charset="0"/>
          </a:endParaRPr>
        </a:p>
      </dgm:t>
    </dgm:pt>
    <dgm:pt modelId="{4544D5FC-14AF-49BA-BD5C-019C58C64E4E}" type="parTrans" cxnId="{34D51D3F-0EDB-473F-8FC8-D44BC952F22B}">
      <dgm:prSet/>
      <dgm:spPr/>
      <dgm:t>
        <a:bodyPr/>
        <a:lstStyle/>
        <a:p>
          <a:endParaRPr lang="ru-RU"/>
        </a:p>
      </dgm:t>
    </dgm:pt>
    <dgm:pt modelId="{FF1F238F-3664-4E67-826A-C5A439FA1874}" type="sibTrans" cxnId="{34D51D3F-0EDB-473F-8FC8-D44BC952F22B}">
      <dgm:prSet/>
      <dgm:spPr/>
      <dgm:t>
        <a:bodyPr/>
        <a:lstStyle/>
        <a:p>
          <a:endParaRPr lang="ru-RU"/>
        </a:p>
      </dgm:t>
    </dgm:pt>
    <dgm:pt modelId="{0E64A274-427A-4701-8911-E8063CC7EBEB}">
      <dgm:prSet phldrT="[Текст]"/>
      <dgm:spPr/>
      <dgm:t>
        <a:bodyPr/>
        <a:lstStyle/>
        <a:p>
          <a:pPr algn="ctr"/>
          <a:r>
            <a:rPr lang="ru-RU" b="1" dirty="0" smtClean="0">
              <a:latin typeface="Arial Black" pitchFamily="34" charset="0"/>
            </a:rPr>
            <a:t>Коммуникативные</a:t>
          </a:r>
          <a:endParaRPr lang="ru-RU" b="1" dirty="0">
            <a:latin typeface="Arial Black" pitchFamily="34" charset="0"/>
          </a:endParaRPr>
        </a:p>
      </dgm:t>
    </dgm:pt>
    <dgm:pt modelId="{DFC5748E-5058-40AE-8241-283190378456}" type="parTrans" cxnId="{594D8DB6-9C58-4C2B-B009-EA956DD0411A}">
      <dgm:prSet/>
      <dgm:spPr/>
      <dgm:t>
        <a:bodyPr/>
        <a:lstStyle/>
        <a:p>
          <a:endParaRPr lang="ru-RU"/>
        </a:p>
      </dgm:t>
    </dgm:pt>
    <dgm:pt modelId="{EC70F272-1A84-4EFF-83CE-F1852840B548}" type="sibTrans" cxnId="{594D8DB6-9C58-4C2B-B009-EA956DD0411A}">
      <dgm:prSet/>
      <dgm:spPr/>
      <dgm:t>
        <a:bodyPr/>
        <a:lstStyle/>
        <a:p>
          <a:endParaRPr lang="ru-RU"/>
        </a:p>
      </dgm:t>
    </dgm:pt>
    <dgm:pt modelId="{EF0369C3-D67A-4ACD-B9AE-F358BAB9615F}">
      <dgm:prSet/>
      <dgm:spPr/>
      <dgm:t>
        <a:bodyPr/>
        <a:lstStyle/>
        <a:p>
          <a:r>
            <a:rPr lang="ru-RU" dirty="0" smtClean="0">
              <a:latin typeface="Arial Black" pitchFamily="34" charset="0"/>
            </a:rPr>
            <a:t>Регулятивные</a:t>
          </a:r>
          <a:endParaRPr lang="ru-RU" dirty="0">
            <a:latin typeface="Arial Black" pitchFamily="34" charset="0"/>
          </a:endParaRPr>
        </a:p>
      </dgm:t>
    </dgm:pt>
    <dgm:pt modelId="{6118B6E6-FCAD-49D4-A9BA-6B123C3DF76E}" type="parTrans" cxnId="{E674CF7A-3DA1-4501-94B4-42BCF1BAAB1F}">
      <dgm:prSet/>
      <dgm:spPr/>
      <dgm:t>
        <a:bodyPr/>
        <a:lstStyle/>
        <a:p>
          <a:endParaRPr lang="ru-RU"/>
        </a:p>
      </dgm:t>
    </dgm:pt>
    <dgm:pt modelId="{23F844D9-3BB1-4E86-8E2E-2A9BD6C343B2}" type="sibTrans" cxnId="{E674CF7A-3DA1-4501-94B4-42BCF1BAAB1F}">
      <dgm:prSet/>
      <dgm:spPr/>
      <dgm:t>
        <a:bodyPr/>
        <a:lstStyle/>
        <a:p>
          <a:endParaRPr lang="ru-RU"/>
        </a:p>
      </dgm:t>
    </dgm:pt>
    <dgm:pt modelId="{51FBDBF1-A541-47D1-A45A-DCAF99E7B122}" type="pres">
      <dgm:prSet presAssocID="{8F03CC66-F4DC-4EF3-91CE-52DE818B3DC1}" presName="Name0" presStyleCnt="0">
        <dgm:presLayoutVars>
          <dgm:chPref val="1"/>
          <dgm:dir/>
          <dgm:animOne val="branch"/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B665898A-76A7-46D5-9D32-8326E87F891D}" type="pres">
      <dgm:prSet presAssocID="{2A413298-BE70-493F-9995-9AAF6625F708}" presName="root1" presStyleCnt="0"/>
      <dgm:spPr/>
    </dgm:pt>
    <dgm:pt modelId="{9CC1D735-38F5-4A2C-90A1-86DEFBF55347}" type="pres">
      <dgm:prSet presAssocID="{2A413298-BE70-493F-9995-9AAF6625F708}" presName="LevelOneTextNode" presStyleLbl="node0" presStyleIdx="0" presStyleCnt="1" custLinFactNeighborX="1272" custLinFactNeighborY="-3544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30A8CF82-1410-4006-897C-D26EDD965592}" type="pres">
      <dgm:prSet presAssocID="{2A413298-BE70-493F-9995-9AAF6625F708}" presName="level2hierChild" presStyleCnt="0"/>
      <dgm:spPr/>
    </dgm:pt>
    <dgm:pt modelId="{2F796878-184E-4548-8829-4DCA35ED1BE6}" type="pres">
      <dgm:prSet presAssocID="{7B5FDD35-A2E7-47AE-B1D5-EFCE31BF65FC}" presName="conn2-1" presStyleLbl="parChTrans1D2" presStyleIdx="0" presStyleCnt="4"/>
      <dgm:spPr/>
      <dgm:t>
        <a:bodyPr/>
        <a:lstStyle/>
        <a:p>
          <a:endParaRPr lang="ru-RU"/>
        </a:p>
      </dgm:t>
    </dgm:pt>
    <dgm:pt modelId="{4D51B217-6428-4965-846A-1D02396D0495}" type="pres">
      <dgm:prSet presAssocID="{7B5FDD35-A2E7-47AE-B1D5-EFCE31BF65FC}" presName="connTx" presStyleLbl="parChTrans1D2" presStyleIdx="0" presStyleCnt="4"/>
      <dgm:spPr/>
      <dgm:t>
        <a:bodyPr/>
        <a:lstStyle/>
        <a:p>
          <a:endParaRPr lang="ru-RU"/>
        </a:p>
      </dgm:t>
    </dgm:pt>
    <dgm:pt modelId="{BF9930EB-36A6-4375-82EE-38B3FE2F1BB5}" type="pres">
      <dgm:prSet presAssocID="{56D0A96D-BA4C-4C77-8062-2248B9A51FBF}" presName="root2" presStyleCnt="0"/>
      <dgm:spPr/>
    </dgm:pt>
    <dgm:pt modelId="{FDF46CC5-9530-4065-9CAB-664BA4769C5C}" type="pres">
      <dgm:prSet presAssocID="{56D0A96D-BA4C-4C77-8062-2248B9A51FBF}" presName="LevelTwoTextNode" presStyleLbl="node2" presStyleIdx="0" presStyleCnt="4" custScaleX="180782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4C9F5925-54B0-4A2F-BA6C-05A1D6749EF0}" type="pres">
      <dgm:prSet presAssocID="{56D0A96D-BA4C-4C77-8062-2248B9A51FBF}" presName="level3hierChild" presStyleCnt="0"/>
      <dgm:spPr/>
    </dgm:pt>
    <dgm:pt modelId="{4CF1C7E9-6485-47BB-B45B-77DA4383B4E3}" type="pres">
      <dgm:prSet presAssocID="{6118B6E6-FCAD-49D4-A9BA-6B123C3DF76E}" presName="conn2-1" presStyleLbl="parChTrans1D2" presStyleIdx="1" presStyleCnt="4"/>
      <dgm:spPr/>
      <dgm:t>
        <a:bodyPr/>
        <a:lstStyle/>
        <a:p>
          <a:endParaRPr lang="ru-RU"/>
        </a:p>
      </dgm:t>
    </dgm:pt>
    <dgm:pt modelId="{C3868B2A-1F15-4098-AC0B-14D32D50CDB8}" type="pres">
      <dgm:prSet presAssocID="{6118B6E6-FCAD-49D4-A9BA-6B123C3DF76E}" presName="connTx" presStyleLbl="parChTrans1D2" presStyleIdx="1" presStyleCnt="4"/>
      <dgm:spPr/>
      <dgm:t>
        <a:bodyPr/>
        <a:lstStyle/>
        <a:p>
          <a:endParaRPr lang="ru-RU"/>
        </a:p>
      </dgm:t>
    </dgm:pt>
    <dgm:pt modelId="{4C1E09D5-6553-4CEA-99E3-39AD0E69C2B4}" type="pres">
      <dgm:prSet presAssocID="{EF0369C3-D67A-4ACD-B9AE-F358BAB9615F}" presName="root2" presStyleCnt="0"/>
      <dgm:spPr/>
    </dgm:pt>
    <dgm:pt modelId="{09E109DB-81E1-45EA-8D64-230CBF8961A7}" type="pres">
      <dgm:prSet presAssocID="{EF0369C3-D67A-4ACD-B9AE-F358BAB9615F}" presName="LevelTwoTextNode" presStyleLbl="node2" presStyleIdx="1" presStyleCnt="4" custScaleX="180339" custScaleY="11008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9DAF9972-7C0C-44D7-8E12-9AE0CBBE1814}" type="pres">
      <dgm:prSet presAssocID="{EF0369C3-D67A-4ACD-B9AE-F358BAB9615F}" presName="level3hierChild" presStyleCnt="0"/>
      <dgm:spPr/>
    </dgm:pt>
    <dgm:pt modelId="{387F1846-B1A8-4174-8225-8A426995D5E8}" type="pres">
      <dgm:prSet presAssocID="{4544D5FC-14AF-49BA-BD5C-019C58C64E4E}" presName="conn2-1" presStyleLbl="parChTrans1D2" presStyleIdx="2" presStyleCnt="4"/>
      <dgm:spPr/>
      <dgm:t>
        <a:bodyPr/>
        <a:lstStyle/>
        <a:p>
          <a:endParaRPr lang="ru-RU"/>
        </a:p>
      </dgm:t>
    </dgm:pt>
    <dgm:pt modelId="{085CAA21-078A-4E3A-96CA-1E752ADA6AD9}" type="pres">
      <dgm:prSet presAssocID="{4544D5FC-14AF-49BA-BD5C-019C58C64E4E}" presName="connTx" presStyleLbl="parChTrans1D2" presStyleIdx="2" presStyleCnt="4"/>
      <dgm:spPr/>
      <dgm:t>
        <a:bodyPr/>
        <a:lstStyle/>
        <a:p>
          <a:endParaRPr lang="ru-RU"/>
        </a:p>
      </dgm:t>
    </dgm:pt>
    <dgm:pt modelId="{33C68D9E-8C7D-47D7-B8C8-7792CD29A70A}" type="pres">
      <dgm:prSet presAssocID="{CB28EF2F-DF0F-4F68-A8A5-AEF6998EA3AB}" presName="root2" presStyleCnt="0"/>
      <dgm:spPr/>
    </dgm:pt>
    <dgm:pt modelId="{38A178ED-8BC5-44A4-89C1-99EB636A846C}" type="pres">
      <dgm:prSet presAssocID="{CB28EF2F-DF0F-4F68-A8A5-AEF6998EA3AB}" presName="LevelTwoTextNode" presStyleLbl="node2" presStyleIdx="2" presStyleCnt="4" custScaleX="180782" custScaleY="107820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E67059E3-FBC9-439C-AE7C-23BC060C0647}" type="pres">
      <dgm:prSet presAssocID="{CB28EF2F-DF0F-4F68-A8A5-AEF6998EA3AB}" presName="level3hierChild" presStyleCnt="0"/>
      <dgm:spPr/>
    </dgm:pt>
    <dgm:pt modelId="{FB1EAA48-A189-460A-8C62-F833F7C8D9D0}" type="pres">
      <dgm:prSet presAssocID="{DFC5748E-5058-40AE-8241-283190378456}" presName="conn2-1" presStyleLbl="parChTrans1D2" presStyleIdx="3" presStyleCnt="4"/>
      <dgm:spPr/>
      <dgm:t>
        <a:bodyPr/>
        <a:lstStyle/>
        <a:p>
          <a:endParaRPr lang="ru-RU"/>
        </a:p>
      </dgm:t>
    </dgm:pt>
    <dgm:pt modelId="{7CEAC8B0-E407-4FC6-9943-6D2D6D7B058C}" type="pres">
      <dgm:prSet presAssocID="{DFC5748E-5058-40AE-8241-283190378456}" presName="connTx" presStyleLbl="parChTrans1D2" presStyleIdx="3" presStyleCnt="4"/>
      <dgm:spPr/>
      <dgm:t>
        <a:bodyPr/>
        <a:lstStyle/>
        <a:p>
          <a:endParaRPr lang="ru-RU"/>
        </a:p>
      </dgm:t>
    </dgm:pt>
    <dgm:pt modelId="{B405F5D3-8027-4783-9AF4-4C9C70AD851F}" type="pres">
      <dgm:prSet presAssocID="{0E64A274-427A-4701-8911-E8063CC7EBEB}" presName="root2" presStyleCnt="0"/>
      <dgm:spPr/>
    </dgm:pt>
    <dgm:pt modelId="{8E77E316-2D87-4078-84A1-83055E914F39}" type="pres">
      <dgm:prSet presAssocID="{0E64A274-427A-4701-8911-E8063CC7EBEB}" presName="LevelTwoTextNode" presStyleLbl="node2" presStyleIdx="3" presStyleCnt="4" custScaleX="181597" custScaleY="87939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5E7A20DB-C441-47EB-B770-A82E990D8D3C}" type="pres">
      <dgm:prSet presAssocID="{0E64A274-427A-4701-8911-E8063CC7EBEB}" presName="level3hierChild" presStyleCnt="0"/>
      <dgm:spPr/>
    </dgm:pt>
  </dgm:ptLst>
  <dgm:cxnLst>
    <dgm:cxn modelId="{6BB753DD-A990-4392-B580-64E884DE5D27}" type="presOf" srcId="{EF0369C3-D67A-4ACD-B9AE-F358BAB9615F}" destId="{09E109DB-81E1-45EA-8D64-230CBF8961A7}" srcOrd="0" destOrd="0" presId="urn:microsoft.com/office/officeart/2008/layout/HorizontalMultiLevelHierarchy"/>
    <dgm:cxn modelId="{E674CF7A-3DA1-4501-94B4-42BCF1BAAB1F}" srcId="{2A413298-BE70-493F-9995-9AAF6625F708}" destId="{EF0369C3-D67A-4ACD-B9AE-F358BAB9615F}" srcOrd="1" destOrd="0" parTransId="{6118B6E6-FCAD-49D4-A9BA-6B123C3DF76E}" sibTransId="{23F844D9-3BB1-4E86-8E2E-2A9BD6C343B2}"/>
    <dgm:cxn modelId="{3D2036DC-AB65-4876-A104-446101A8BC7A}" type="presOf" srcId="{6118B6E6-FCAD-49D4-A9BA-6B123C3DF76E}" destId="{C3868B2A-1F15-4098-AC0B-14D32D50CDB8}" srcOrd="1" destOrd="0" presId="urn:microsoft.com/office/officeart/2008/layout/HorizontalMultiLevelHierarchy"/>
    <dgm:cxn modelId="{5E662552-5A67-4819-8B26-43B2F153B43E}" type="presOf" srcId="{8F03CC66-F4DC-4EF3-91CE-52DE818B3DC1}" destId="{51FBDBF1-A541-47D1-A45A-DCAF99E7B122}" srcOrd="0" destOrd="0" presId="urn:microsoft.com/office/officeart/2008/layout/HorizontalMultiLevelHierarchy"/>
    <dgm:cxn modelId="{5B0A7B6E-1F65-4EC5-B105-5AE87B26A8DF}" srcId="{8F03CC66-F4DC-4EF3-91CE-52DE818B3DC1}" destId="{2A413298-BE70-493F-9995-9AAF6625F708}" srcOrd="0" destOrd="0" parTransId="{201AAB14-4DD0-4870-9A24-A658D1EFB25B}" sibTransId="{685464AE-DD92-42B4-A2E2-428FC1495A98}"/>
    <dgm:cxn modelId="{D4A111FF-D6E3-4ABB-A885-29576D8C1266}" type="presOf" srcId="{CB28EF2F-DF0F-4F68-A8A5-AEF6998EA3AB}" destId="{38A178ED-8BC5-44A4-89C1-99EB636A846C}" srcOrd="0" destOrd="0" presId="urn:microsoft.com/office/officeart/2008/layout/HorizontalMultiLevelHierarchy"/>
    <dgm:cxn modelId="{72928780-A387-49CB-BB88-5FAAF7D163BC}" type="presOf" srcId="{4544D5FC-14AF-49BA-BD5C-019C58C64E4E}" destId="{085CAA21-078A-4E3A-96CA-1E752ADA6AD9}" srcOrd="1" destOrd="0" presId="urn:microsoft.com/office/officeart/2008/layout/HorizontalMultiLevelHierarchy"/>
    <dgm:cxn modelId="{53ED6EB7-5451-4DF7-844C-FC8F31AF735D}" type="presOf" srcId="{0E64A274-427A-4701-8911-E8063CC7EBEB}" destId="{8E77E316-2D87-4078-84A1-83055E914F39}" srcOrd="0" destOrd="0" presId="urn:microsoft.com/office/officeart/2008/layout/HorizontalMultiLevelHierarchy"/>
    <dgm:cxn modelId="{25BB25BA-729A-4B7C-A5A7-33FF8ADE6678}" type="presOf" srcId="{2A413298-BE70-493F-9995-9AAF6625F708}" destId="{9CC1D735-38F5-4A2C-90A1-86DEFBF55347}" srcOrd="0" destOrd="0" presId="urn:microsoft.com/office/officeart/2008/layout/HorizontalMultiLevelHierarchy"/>
    <dgm:cxn modelId="{4B1D8215-93CC-4A7A-8C14-0585E7A19435}" srcId="{2A413298-BE70-493F-9995-9AAF6625F708}" destId="{56D0A96D-BA4C-4C77-8062-2248B9A51FBF}" srcOrd="0" destOrd="0" parTransId="{7B5FDD35-A2E7-47AE-B1D5-EFCE31BF65FC}" sibTransId="{6664531A-E5EF-4F25-87C1-ED8B369C3F5A}"/>
    <dgm:cxn modelId="{1FA47FFB-4B2D-4370-9777-8DF1D3FB0AF3}" type="presOf" srcId="{DFC5748E-5058-40AE-8241-283190378456}" destId="{FB1EAA48-A189-460A-8C62-F833F7C8D9D0}" srcOrd="0" destOrd="0" presId="urn:microsoft.com/office/officeart/2008/layout/HorizontalMultiLevelHierarchy"/>
    <dgm:cxn modelId="{80043DA8-4108-479C-85AE-98D4283D3F9F}" type="presOf" srcId="{56D0A96D-BA4C-4C77-8062-2248B9A51FBF}" destId="{FDF46CC5-9530-4065-9CAB-664BA4769C5C}" srcOrd="0" destOrd="0" presId="urn:microsoft.com/office/officeart/2008/layout/HorizontalMultiLevelHierarchy"/>
    <dgm:cxn modelId="{A684F121-2925-441E-894C-6D68B73002A6}" type="presOf" srcId="{6118B6E6-FCAD-49D4-A9BA-6B123C3DF76E}" destId="{4CF1C7E9-6485-47BB-B45B-77DA4383B4E3}" srcOrd="0" destOrd="0" presId="urn:microsoft.com/office/officeart/2008/layout/HorizontalMultiLevelHierarchy"/>
    <dgm:cxn modelId="{51358D1C-493F-4696-A4D7-72DFFDABB07A}" type="presOf" srcId="{DFC5748E-5058-40AE-8241-283190378456}" destId="{7CEAC8B0-E407-4FC6-9943-6D2D6D7B058C}" srcOrd="1" destOrd="0" presId="urn:microsoft.com/office/officeart/2008/layout/HorizontalMultiLevelHierarchy"/>
    <dgm:cxn modelId="{6E29AAE3-E8A3-4D00-906B-8B9E4F153BEB}" type="presOf" srcId="{4544D5FC-14AF-49BA-BD5C-019C58C64E4E}" destId="{387F1846-B1A8-4174-8225-8A426995D5E8}" srcOrd="0" destOrd="0" presId="urn:microsoft.com/office/officeart/2008/layout/HorizontalMultiLevelHierarchy"/>
    <dgm:cxn modelId="{594D8DB6-9C58-4C2B-B009-EA956DD0411A}" srcId="{2A413298-BE70-493F-9995-9AAF6625F708}" destId="{0E64A274-427A-4701-8911-E8063CC7EBEB}" srcOrd="3" destOrd="0" parTransId="{DFC5748E-5058-40AE-8241-283190378456}" sibTransId="{EC70F272-1A84-4EFF-83CE-F1852840B548}"/>
    <dgm:cxn modelId="{34D51D3F-0EDB-473F-8FC8-D44BC952F22B}" srcId="{2A413298-BE70-493F-9995-9AAF6625F708}" destId="{CB28EF2F-DF0F-4F68-A8A5-AEF6998EA3AB}" srcOrd="2" destOrd="0" parTransId="{4544D5FC-14AF-49BA-BD5C-019C58C64E4E}" sibTransId="{FF1F238F-3664-4E67-826A-C5A439FA1874}"/>
    <dgm:cxn modelId="{E0440199-FDD2-4C1A-81AC-9E6C40CB13B8}" type="presOf" srcId="{7B5FDD35-A2E7-47AE-B1D5-EFCE31BF65FC}" destId="{4D51B217-6428-4965-846A-1D02396D0495}" srcOrd="1" destOrd="0" presId="urn:microsoft.com/office/officeart/2008/layout/HorizontalMultiLevelHierarchy"/>
    <dgm:cxn modelId="{9C40A00C-D4EB-4497-BE00-49C751EA4444}" type="presOf" srcId="{7B5FDD35-A2E7-47AE-B1D5-EFCE31BF65FC}" destId="{2F796878-184E-4548-8829-4DCA35ED1BE6}" srcOrd="0" destOrd="0" presId="urn:microsoft.com/office/officeart/2008/layout/HorizontalMultiLevelHierarchy"/>
    <dgm:cxn modelId="{7A742C69-38DD-4D59-B8BF-B78659920D55}" type="presParOf" srcId="{51FBDBF1-A541-47D1-A45A-DCAF99E7B122}" destId="{B665898A-76A7-46D5-9D32-8326E87F891D}" srcOrd="0" destOrd="0" presId="urn:microsoft.com/office/officeart/2008/layout/HorizontalMultiLevelHierarchy"/>
    <dgm:cxn modelId="{1FEF086F-9293-4E0A-B6A2-8FF259A034A0}" type="presParOf" srcId="{B665898A-76A7-46D5-9D32-8326E87F891D}" destId="{9CC1D735-38F5-4A2C-90A1-86DEFBF55347}" srcOrd="0" destOrd="0" presId="urn:microsoft.com/office/officeart/2008/layout/HorizontalMultiLevelHierarchy"/>
    <dgm:cxn modelId="{955C5482-5828-43C3-A349-D2B6607DC07B}" type="presParOf" srcId="{B665898A-76A7-46D5-9D32-8326E87F891D}" destId="{30A8CF82-1410-4006-897C-D26EDD965592}" srcOrd="1" destOrd="0" presId="urn:microsoft.com/office/officeart/2008/layout/HorizontalMultiLevelHierarchy"/>
    <dgm:cxn modelId="{F14660C2-3A63-451A-A248-0FC5B497E594}" type="presParOf" srcId="{30A8CF82-1410-4006-897C-D26EDD965592}" destId="{2F796878-184E-4548-8829-4DCA35ED1BE6}" srcOrd="0" destOrd="0" presId="urn:microsoft.com/office/officeart/2008/layout/HorizontalMultiLevelHierarchy"/>
    <dgm:cxn modelId="{7F04F888-EA51-4984-8DD9-E19330509A18}" type="presParOf" srcId="{2F796878-184E-4548-8829-4DCA35ED1BE6}" destId="{4D51B217-6428-4965-846A-1D02396D0495}" srcOrd="0" destOrd="0" presId="urn:microsoft.com/office/officeart/2008/layout/HorizontalMultiLevelHierarchy"/>
    <dgm:cxn modelId="{7FC6AC32-4F04-4A01-95A3-AD29E5F4AC14}" type="presParOf" srcId="{30A8CF82-1410-4006-897C-D26EDD965592}" destId="{BF9930EB-36A6-4375-82EE-38B3FE2F1BB5}" srcOrd="1" destOrd="0" presId="urn:microsoft.com/office/officeart/2008/layout/HorizontalMultiLevelHierarchy"/>
    <dgm:cxn modelId="{D9514A38-A371-4B90-9C2A-BA54C4537A59}" type="presParOf" srcId="{BF9930EB-36A6-4375-82EE-38B3FE2F1BB5}" destId="{FDF46CC5-9530-4065-9CAB-664BA4769C5C}" srcOrd="0" destOrd="0" presId="urn:microsoft.com/office/officeart/2008/layout/HorizontalMultiLevelHierarchy"/>
    <dgm:cxn modelId="{14744FB0-7B89-4A86-B2AF-F4AE31BC25A1}" type="presParOf" srcId="{BF9930EB-36A6-4375-82EE-38B3FE2F1BB5}" destId="{4C9F5925-54B0-4A2F-BA6C-05A1D6749EF0}" srcOrd="1" destOrd="0" presId="urn:microsoft.com/office/officeart/2008/layout/HorizontalMultiLevelHierarchy"/>
    <dgm:cxn modelId="{A753D74C-4F7A-48BF-A8E1-F5CA68D6305D}" type="presParOf" srcId="{30A8CF82-1410-4006-897C-D26EDD965592}" destId="{4CF1C7E9-6485-47BB-B45B-77DA4383B4E3}" srcOrd="2" destOrd="0" presId="urn:microsoft.com/office/officeart/2008/layout/HorizontalMultiLevelHierarchy"/>
    <dgm:cxn modelId="{AA0CCCF9-2FFB-47DD-83DD-56284A5DA3AC}" type="presParOf" srcId="{4CF1C7E9-6485-47BB-B45B-77DA4383B4E3}" destId="{C3868B2A-1F15-4098-AC0B-14D32D50CDB8}" srcOrd="0" destOrd="0" presId="urn:microsoft.com/office/officeart/2008/layout/HorizontalMultiLevelHierarchy"/>
    <dgm:cxn modelId="{9728F5A0-5241-4A61-9F61-86187DCC9C98}" type="presParOf" srcId="{30A8CF82-1410-4006-897C-D26EDD965592}" destId="{4C1E09D5-6553-4CEA-99E3-39AD0E69C2B4}" srcOrd="3" destOrd="0" presId="urn:microsoft.com/office/officeart/2008/layout/HorizontalMultiLevelHierarchy"/>
    <dgm:cxn modelId="{7163F831-A935-462D-BD96-8545550CEA11}" type="presParOf" srcId="{4C1E09D5-6553-4CEA-99E3-39AD0E69C2B4}" destId="{09E109DB-81E1-45EA-8D64-230CBF8961A7}" srcOrd="0" destOrd="0" presId="urn:microsoft.com/office/officeart/2008/layout/HorizontalMultiLevelHierarchy"/>
    <dgm:cxn modelId="{F64508FC-B708-471E-817A-2C31F4B3DF7F}" type="presParOf" srcId="{4C1E09D5-6553-4CEA-99E3-39AD0E69C2B4}" destId="{9DAF9972-7C0C-44D7-8E12-9AE0CBBE1814}" srcOrd="1" destOrd="0" presId="urn:microsoft.com/office/officeart/2008/layout/HorizontalMultiLevelHierarchy"/>
    <dgm:cxn modelId="{3835CD82-9D00-49D9-92A4-59BA2F0F82BD}" type="presParOf" srcId="{30A8CF82-1410-4006-897C-D26EDD965592}" destId="{387F1846-B1A8-4174-8225-8A426995D5E8}" srcOrd="4" destOrd="0" presId="urn:microsoft.com/office/officeart/2008/layout/HorizontalMultiLevelHierarchy"/>
    <dgm:cxn modelId="{8C3F8FE6-F9BB-4FCA-9E0B-9DB8AEAD9C2F}" type="presParOf" srcId="{387F1846-B1A8-4174-8225-8A426995D5E8}" destId="{085CAA21-078A-4E3A-96CA-1E752ADA6AD9}" srcOrd="0" destOrd="0" presId="urn:microsoft.com/office/officeart/2008/layout/HorizontalMultiLevelHierarchy"/>
    <dgm:cxn modelId="{BBD68908-E9D3-4A69-960D-6D15B1864221}" type="presParOf" srcId="{30A8CF82-1410-4006-897C-D26EDD965592}" destId="{33C68D9E-8C7D-47D7-B8C8-7792CD29A70A}" srcOrd="5" destOrd="0" presId="urn:microsoft.com/office/officeart/2008/layout/HorizontalMultiLevelHierarchy"/>
    <dgm:cxn modelId="{9433BBB4-4865-4CDC-BEB6-61E21E2B41C3}" type="presParOf" srcId="{33C68D9E-8C7D-47D7-B8C8-7792CD29A70A}" destId="{38A178ED-8BC5-44A4-89C1-99EB636A846C}" srcOrd="0" destOrd="0" presId="urn:microsoft.com/office/officeart/2008/layout/HorizontalMultiLevelHierarchy"/>
    <dgm:cxn modelId="{F149C584-15FF-4D5D-AB7D-BF30E0D15476}" type="presParOf" srcId="{33C68D9E-8C7D-47D7-B8C8-7792CD29A70A}" destId="{E67059E3-FBC9-439C-AE7C-23BC060C0647}" srcOrd="1" destOrd="0" presId="urn:microsoft.com/office/officeart/2008/layout/HorizontalMultiLevelHierarchy"/>
    <dgm:cxn modelId="{EE46EE78-A9C3-494E-B786-E70D20073B99}" type="presParOf" srcId="{30A8CF82-1410-4006-897C-D26EDD965592}" destId="{FB1EAA48-A189-460A-8C62-F833F7C8D9D0}" srcOrd="6" destOrd="0" presId="urn:microsoft.com/office/officeart/2008/layout/HorizontalMultiLevelHierarchy"/>
    <dgm:cxn modelId="{0078E598-4420-4778-AB86-62C9AA11DC43}" type="presParOf" srcId="{FB1EAA48-A189-460A-8C62-F833F7C8D9D0}" destId="{7CEAC8B0-E407-4FC6-9943-6D2D6D7B058C}" srcOrd="0" destOrd="0" presId="urn:microsoft.com/office/officeart/2008/layout/HorizontalMultiLevelHierarchy"/>
    <dgm:cxn modelId="{F70C6FC9-77BE-4009-9DA4-48D9F937DE2C}" type="presParOf" srcId="{30A8CF82-1410-4006-897C-D26EDD965592}" destId="{B405F5D3-8027-4783-9AF4-4C9C70AD851F}" srcOrd="7" destOrd="0" presId="urn:microsoft.com/office/officeart/2008/layout/HorizontalMultiLevelHierarchy"/>
    <dgm:cxn modelId="{D62D0B97-FC92-4981-83C7-BA4B4CC6B94F}" type="presParOf" srcId="{B405F5D3-8027-4783-9AF4-4C9C70AD851F}" destId="{8E77E316-2D87-4078-84A1-83055E914F39}" srcOrd="0" destOrd="0" presId="urn:microsoft.com/office/officeart/2008/layout/HorizontalMultiLevelHierarchy"/>
    <dgm:cxn modelId="{DCC4A742-BFD0-4C53-A61D-F8C37CD6F761}" type="presParOf" srcId="{B405F5D3-8027-4783-9AF4-4C9C70AD851F}" destId="{5E7A20DB-C441-47EB-B770-A82E990D8D3C}" srcOrd="1" destOrd="0" presId="urn:microsoft.com/office/officeart/2008/layout/HorizontalMultiLevelHierarchy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FB1EAA48-A189-460A-8C62-F833F7C8D9D0}">
      <dsp:nvSpPr>
        <dsp:cNvPr id="0" name=""/>
        <dsp:cNvSpPr/>
      </dsp:nvSpPr>
      <dsp:spPr>
        <a:xfrm>
          <a:off x="892208" y="2428284"/>
          <a:ext cx="565604" cy="1891306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282802" y="0"/>
              </a:lnTo>
              <a:lnTo>
                <a:pt x="282802" y="1891306"/>
              </a:lnTo>
              <a:lnTo>
                <a:pt x="565604" y="1891306"/>
              </a:lnTo>
            </a:path>
          </a:pathLst>
        </a:custGeom>
        <a:noFill/>
        <a:ln w="25400" cap="flat" cmpd="sng" algn="ctr">
          <a:solidFill>
            <a:schemeClr val="accent2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2700" tIns="0" rIns="12700" bIns="0" numCol="1" spcCol="1270" anchor="ctr" anchorCtr="0">
          <a:noAutofit/>
        </a:bodyPr>
        <a:lstStyle/>
        <a:p>
          <a:pPr lvl="0" algn="ctr" defTabSz="3111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700" kern="1200"/>
        </a:p>
      </dsp:txBody>
      <dsp:txXfrm>
        <a:off x="1125659" y="3324585"/>
        <a:ext cx="98703" cy="98703"/>
      </dsp:txXfrm>
    </dsp:sp>
    <dsp:sp modelId="{387F1846-B1A8-4174-8225-8A426995D5E8}">
      <dsp:nvSpPr>
        <dsp:cNvPr id="0" name=""/>
        <dsp:cNvSpPr/>
      </dsp:nvSpPr>
      <dsp:spPr>
        <a:xfrm>
          <a:off x="892208" y="2428284"/>
          <a:ext cx="565604" cy="810886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282802" y="0"/>
              </a:lnTo>
              <a:lnTo>
                <a:pt x="282802" y="810886"/>
              </a:lnTo>
              <a:lnTo>
                <a:pt x="565604" y="810886"/>
              </a:lnTo>
            </a:path>
          </a:pathLst>
        </a:custGeom>
        <a:noFill/>
        <a:ln w="25400" cap="flat" cmpd="sng" algn="ctr">
          <a:solidFill>
            <a:schemeClr val="accent2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2700" tIns="0" rIns="12700" bIns="0" numCol="1" spcCol="1270" anchor="ctr" anchorCtr="0">
          <a:noAutofit/>
        </a:bodyPr>
        <a:lstStyle/>
        <a:p>
          <a:pPr lvl="0" algn="ctr" defTabSz="2222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500" kern="1200"/>
        </a:p>
      </dsp:txBody>
      <dsp:txXfrm>
        <a:off x="1150294" y="2809011"/>
        <a:ext cx="49432" cy="49432"/>
      </dsp:txXfrm>
    </dsp:sp>
    <dsp:sp modelId="{4CF1C7E9-6485-47BB-B45B-77DA4383B4E3}">
      <dsp:nvSpPr>
        <dsp:cNvPr id="0" name=""/>
        <dsp:cNvSpPr/>
      </dsp:nvSpPr>
      <dsp:spPr>
        <a:xfrm>
          <a:off x="892208" y="2061400"/>
          <a:ext cx="565604" cy="366884"/>
        </a:xfrm>
        <a:custGeom>
          <a:avLst/>
          <a:gdLst/>
          <a:ahLst/>
          <a:cxnLst/>
          <a:rect l="0" t="0" r="0" b="0"/>
          <a:pathLst>
            <a:path>
              <a:moveTo>
                <a:pt x="0" y="366884"/>
              </a:moveTo>
              <a:lnTo>
                <a:pt x="282802" y="366884"/>
              </a:lnTo>
              <a:lnTo>
                <a:pt x="282802" y="0"/>
              </a:lnTo>
              <a:lnTo>
                <a:pt x="565604" y="0"/>
              </a:lnTo>
            </a:path>
          </a:pathLst>
        </a:custGeom>
        <a:noFill/>
        <a:ln w="25400" cap="flat" cmpd="sng" algn="ctr">
          <a:solidFill>
            <a:schemeClr val="accent2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2700" tIns="0" rIns="12700" bIns="0" numCol="1" spcCol="1270" anchor="ctr" anchorCtr="0">
          <a:noAutofit/>
        </a:bodyPr>
        <a:lstStyle/>
        <a:p>
          <a:pPr lvl="0" algn="ctr" defTabSz="2222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500" kern="1200"/>
        </a:p>
      </dsp:txBody>
      <dsp:txXfrm>
        <a:off x="1158156" y="2227988"/>
        <a:ext cx="33708" cy="33708"/>
      </dsp:txXfrm>
    </dsp:sp>
    <dsp:sp modelId="{2F796878-184E-4548-8829-4DCA35ED1BE6}">
      <dsp:nvSpPr>
        <dsp:cNvPr id="0" name=""/>
        <dsp:cNvSpPr/>
      </dsp:nvSpPr>
      <dsp:spPr>
        <a:xfrm>
          <a:off x="892208" y="918008"/>
          <a:ext cx="565604" cy="1510275"/>
        </a:xfrm>
        <a:custGeom>
          <a:avLst/>
          <a:gdLst/>
          <a:ahLst/>
          <a:cxnLst/>
          <a:rect l="0" t="0" r="0" b="0"/>
          <a:pathLst>
            <a:path>
              <a:moveTo>
                <a:pt x="0" y="1510275"/>
              </a:moveTo>
              <a:lnTo>
                <a:pt x="282802" y="1510275"/>
              </a:lnTo>
              <a:lnTo>
                <a:pt x="282802" y="0"/>
              </a:lnTo>
              <a:lnTo>
                <a:pt x="565604" y="0"/>
              </a:lnTo>
            </a:path>
          </a:pathLst>
        </a:custGeom>
        <a:noFill/>
        <a:ln w="25400" cap="flat" cmpd="sng" algn="ctr">
          <a:solidFill>
            <a:schemeClr val="accent2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2700" tIns="0" rIns="12700" bIns="0" numCol="1" spcCol="1270" anchor="ctr" anchorCtr="0">
          <a:noAutofit/>
        </a:bodyPr>
        <a:lstStyle/>
        <a:p>
          <a:pPr lvl="0" algn="ctr" defTabSz="2222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500" kern="1200"/>
        </a:p>
      </dsp:txBody>
      <dsp:txXfrm>
        <a:off x="1134693" y="1632828"/>
        <a:ext cx="80635" cy="80635"/>
      </dsp:txXfrm>
    </dsp:sp>
    <dsp:sp modelId="{9CC1D735-38F5-4A2C-90A1-86DEFBF55347}">
      <dsp:nvSpPr>
        <dsp:cNvPr id="0" name=""/>
        <dsp:cNvSpPr/>
      </dsp:nvSpPr>
      <dsp:spPr>
        <a:xfrm rot="16200000">
          <a:off x="-1861236" y="1988658"/>
          <a:ext cx="4627639" cy="879251"/>
        </a:xfrm>
        <a:prstGeom prst="rect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1"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cene3d>
          <a:camera prst="orthographicFront">
            <a:rot lat="0" lon="0" rev="0"/>
          </a:camera>
          <a:lightRig rig="threePt" dir="t">
            <a:rot lat="0" lon="0" rev="1200000"/>
          </a:lightRig>
        </a:scene3d>
        <a:sp3d>
          <a:bevelT w="63500" h="25400"/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  <dsp:txBody>
        <a:bodyPr spcFirstLastPara="0" vert="horz" wrap="square" lIns="31750" tIns="31750" rIns="31750" bIns="31750" numCol="1" spcCol="1270" anchor="ctr" anchorCtr="0">
          <a:noAutofit/>
        </a:bodyPr>
        <a:lstStyle/>
        <a:p>
          <a:pPr lvl="0" algn="ctr" defTabSz="22225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5000" kern="1200" dirty="0" smtClean="0">
              <a:latin typeface="Arial Black" pitchFamily="34" charset="0"/>
            </a:rPr>
            <a:t>УУД</a:t>
          </a:r>
          <a:endParaRPr lang="ru-RU" sz="5000" kern="1200" dirty="0">
            <a:latin typeface="Arial Black" pitchFamily="34" charset="0"/>
          </a:endParaRPr>
        </a:p>
      </dsp:txBody>
      <dsp:txXfrm rot="16200000">
        <a:off x="-1861236" y="1988658"/>
        <a:ext cx="4627639" cy="879251"/>
      </dsp:txXfrm>
    </dsp:sp>
    <dsp:sp modelId="{FDF46CC5-9530-4065-9CAB-664BA4769C5C}">
      <dsp:nvSpPr>
        <dsp:cNvPr id="0" name=""/>
        <dsp:cNvSpPr/>
      </dsp:nvSpPr>
      <dsp:spPr>
        <a:xfrm>
          <a:off x="1457813" y="478382"/>
          <a:ext cx="5213652" cy="879251"/>
        </a:xfrm>
        <a:prstGeom prst="rect">
          <a:avLst/>
        </a:prstGeom>
        <a:gradFill rotWithShape="0">
          <a:gsLst>
            <a:gs pos="0">
              <a:schemeClr val="accent2"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2"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2"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cene3d>
          <a:camera prst="orthographicFront">
            <a:rot lat="0" lon="0" rev="0"/>
          </a:camera>
          <a:lightRig rig="threePt" dir="t">
            <a:rot lat="0" lon="0" rev="1200000"/>
          </a:lightRig>
        </a:scene3d>
        <a:sp3d>
          <a:bevelT w="63500" h="25400"/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  <dsp:txBody>
        <a:bodyPr spcFirstLastPara="0" vert="horz" wrap="square" lIns="22225" tIns="22225" rIns="22225" bIns="22225" numCol="1" spcCol="1270" anchor="ctr" anchorCtr="0">
          <a:noAutofit/>
        </a:bodyPr>
        <a:lstStyle/>
        <a:p>
          <a:pPr lvl="0" algn="ctr" defTabSz="15557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3500" kern="1200" dirty="0" smtClean="0">
              <a:latin typeface="Arial Black" pitchFamily="34" charset="0"/>
            </a:rPr>
            <a:t>Личностные</a:t>
          </a:r>
          <a:endParaRPr lang="ru-RU" sz="3500" kern="1200" dirty="0">
            <a:latin typeface="Arial Black" pitchFamily="34" charset="0"/>
          </a:endParaRPr>
        </a:p>
      </dsp:txBody>
      <dsp:txXfrm>
        <a:off x="1457813" y="478382"/>
        <a:ext cx="5213652" cy="879251"/>
      </dsp:txXfrm>
    </dsp:sp>
    <dsp:sp modelId="{09E109DB-81E1-45EA-8D64-230CBF8961A7}">
      <dsp:nvSpPr>
        <dsp:cNvPr id="0" name=""/>
        <dsp:cNvSpPr/>
      </dsp:nvSpPr>
      <dsp:spPr>
        <a:xfrm>
          <a:off x="1457813" y="1577447"/>
          <a:ext cx="5200877" cy="967906"/>
        </a:xfrm>
        <a:prstGeom prst="rect">
          <a:avLst/>
        </a:prstGeom>
        <a:gradFill rotWithShape="0">
          <a:gsLst>
            <a:gs pos="0">
              <a:schemeClr val="accent2"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2"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2"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cene3d>
          <a:camera prst="orthographicFront">
            <a:rot lat="0" lon="0" rev="0"/>
          </a:camera>
          <a:lightRig rig="threePt" dir="t">
            <a:rot lat="0" lon="0" rev="1200000"/>
          </a:lightRig>
        </a:scene3d>
        <a:sp3d>
          <a:bevelT w="63500" h="25400"/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  <dsp:txBody>
        <a:bodyPr spcFirstLastPara="0" vert="horz" wrap="square" lIns="22225" tIns="22225" rIns="22225" bIns="22225" numCol="1" spcCol="1270" anchor="ctr" anchorCtr="0">
          <a:noAutofit/>
        </a:bodyPr>
        <a:lstStyle/>
        <a:p>
          <a:pPr lvl="0" algn="ctr" defTabSz="15557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3500" kern="1200" dirty="0" smtClean="0">
              <a:latin typeface="Arial Black" pitchFamily="34" charset="0"/>
            </a:rPr>
            <a:t>Регулятивные</a:t>
          </a:r>
          <a:endParaRPr lang="ru-RU" sz="3500" kern="1200" dirty="0">
            <a:latin typeface="Arial Black" pitchFamily="34" charset="0"/>
          </a:endParaRPr>
        </a:p>
      </dsp:txBody>
      <dsp:txXfrm>
        <a:off x="1457813" y="1577447"/>
        <a:ext cx="5200877" cy="967906"/>
      </dsp:txXfrm>
    </dsp:sp>
    <dsp:sp modelId="{38A178ED-8BC5-44A4-89C1-99EB636A846C}">
      <dsp:nvSpPr>
        <dsp:cNvPr id="0" name=""/>
        <dsp:cNvSpPr/>
      </dsp:nvSpPr>
      <dsp:spPr>
        <a:xfrm>
          <a:off x="1457813" y="2765166"/>
          <a:ext cx="5213652" cy="948008"/>
        </a:xfrm>
        <a:prstGeom prst="rect">
          <a:avLst/>
        </a:prstGeom>
        <a:gradFill rotWithShape="0">
          <a:gsLst>
            <a:gs pos="0">
              <a:schemeClr val="accent2"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2"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2"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cene3d>
          <a:camera prst="orthographicFront">
            <a:rot lat="0" lon="0" rev="0"/>
          </a:camera>
          <a:lightRig rig="threePt" dir="t">
            <a:rot lat="0" lon="0" rev="1200000"/>
          </a:lightRig>
        </a:scene3d>
        <a:sp3d>
          <a:bevelT w="63500" h="25400"/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  <dsp:txBody>
        <a:bodyPr spcFirstLastPara="0" vert="horz" wrap="square" lIns="21590" tIns="21590" rIns="21590" bIns="21590" numCol="1" spcCol="1270" anchor="ctr" anchorCtr="0">
          <a:noAutofit/>
        </a:bodyPr>
        <a:lstStyle/>
        <a:p>
          <a:pPr lvl="0" algn="ctr" defTabSz="15113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3400" b="1" kern="1200" dirty="0" smtClean="0">
              <a:latin typeface="Arial Black" pitchFamily="34" charset="0"/>
            </a:rPr>
            <a:t>Познавательные</a:t>
          </a:r>
          <a:endParaRPr lang="ru-RU" sz="3400" b="1" kern="1200" dirty="0">
            <a:latin typeface="Arial Black" pitchFamily="34" charset="0"/>
          </a:endParaRPr>
        </a:p>
      </dsp:txBody>
      <dsp:txXfrm>
        <a:off x="1457813" y="2765166"/>
        <a:ext cx="5213652" cy="948008"/>
      </dsp:txXfrm>
    </dsp:sp>
    <dsp:sp modelId="{8E77E316-2D87-4078-84A1-83055E914F39}">
      <dsp:nvSpPr>
        <dsp:cNvPr id="0" name=""/>
        <dsp:cNvSpPr/>
      </dsp:nvSpPr>
      <dsp:spPr>
        <a:xfrm>
          <a:off x="1457813" y="3932988"/>
          <a:ext cx="5237157" cy="773204"/>
        </a:xfrm>
        <a:prstGeom prst="rect">
          <a:avLst/>
        </a:prstGeom>
        <a:gradFill rotWithShape="0">
          <a:gsLst>
            <a:gs pos="0">
              <a:schemeClr val="accent2"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2"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2"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cene3d>
          <a:camera prst="orthographicFront">
            <a:rot lat="0" lon="0" rev="0"/>
          </a:camera>
          <a:lightRig rig="threePt" dir="t">
            <a:rot lat="0" lon="0" rev="1200000"/>
          </a:lightRig>
        </a:scene3d>
        <a:sp3d>
          <a:bevelT w="63500" h="25400"/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  <dsp:txBody>
        <a:bodyPr spcFirstLastPara="0" vert="horz" wrap="square" lIns="21590" tIns="21590" rIns="21590" bIns="21590" numCol="1" spcCol="1270" anchor="ctr" anchorCtr="0">
          <a:noAutofit/>
        </a:bodyPr>
        <a:lstStyle/>
        <a:p>
          <a:pPr lvl="0" algn="ctr" defTabSz="15113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3400" b="1" kern="1200" dirty="0" smtClean="0">
              <a:latin typeface="Arial Black" pitchFamily="34" charset="0"/>
            </a:rPr>
            <a:t>Коммуникативные</a:t>
          </a:r>
          <a:endParaRPr lang="ru-RU" sz="3400" b="1" kern="1200" dirty="0">
            <a:latin typeface="Arial Black" pitchFamily="34" charset="0"/>
          </a:endParaRPr>
        </a:p>
      </dsp:txBody>
      <dsp:txXfrm>
        <a:off x="1457813" y="3932988"/>
        <a:ext cx="5237157" cy="773204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8/layout/HorizontalMultiLevelHierarchy">
  <dgm:title val=""/>
  <dgm:desc val=""/>
  <dgm:catLst>
    <dgm:cat type="hierarchy" pri="46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13">
          <dgm:prSet phldr="1"/>
        </dgm:pt>
      </dgm:ptLst>
      <dgm:cxnLst>
        <dgm:cxn modelId="2" srcId="0" destId="1" srcOrd="0" destOrd="0"/>
        <dgm:cxn modelId="3" srcId="1" destId="11" srcOrd="0" destOrd="0"/>
        <dgm:cxn modelId="4" srcId="1" destId="12" srcOrd="1" destOrd="0"/>
        <dgm:cxn modelId="5" srcId="1" destId="13" srcOrd="2" destOrd="0"/>
      </dgm:cxnLst>
      <dgm:bg/>
      <dgm:whole/>
    </dgm:dataModel>
  </dgm:sampData>
  <dgm:style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</dgm:ptLst>
      <dgm:cxnLst>
        <dgm:cxn modelId="2" srcId="0" destId="1" srcOrd="0" destOrd="0"/>
        <dgm:cxn modelId="3" srcId="1" destId="11" srcOrd="0" destOrd="0"/>
        <dgm:cxn modelId="4" srcId="1" destId="12" srcOrd="1" destOrd="0"/>
      </dgm:cxnLst>
      <dgm:bg/>
      <dgm:whole/>
    </dgm:dataModel>
  </dgm:styleData>
  <dgm:clr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13">
          <dgm:prSet phldr="1"/>
        </dgm:pt>
      </dgm:ptLst>
      <dgm:cxnLst>
        <dgm:cxn modelId="2" srcId="0" destId="1" srcOrd="0" destOrd="0"/>
        <dgm:cxn modelId="3" srcId="1" destId="11" srcOrd="0" destOrd="0"/>
        <dgm:cxn modelId="4" srcId="1" destId="12" srcOrd="1" destOrd="0"/>
        <dgm:cxn modelId="5" srcId="1" destId="13" srcOrd="2" destOrd="0"/>
      </dgm:cxnLst>
      <dgm:bg/>
      <dgm:whole/>
    </dgm:dataModel>
  </dgm:clrData>
  <dgm:layoutNode name="Name0">
    <dgm:varLst>
      <dgm:chPref val="1"/>
      <dgm:dir/>
      <dgm:animOne val="branch"/>
      <dgm:animLvl val="lvl"/>
      <dgm:resizeHandles val="exact"/>
    </dgm:varLst>
    <dgm:choose name="Name1">
      <dgm:if name="Name2" func="var" arg="dir" op="equ" val="norm">
        <dgm:alg type="hierChild">
          <dgm:param type="linDir" val="fromT"/>
          <dgm:param type="chAlign" val="l"/>
        </dgm:alg>
      </dgm:if>
      <dgm:else name="Name3">
        <dgm:alg type="hierChild">
          <dgm:param type="linDir" val="fromT"/>
          <dgm:param type="chAlign" val="r"/>
        </dgm:alg>
      </dgm:else>
    </dgm:choose>
    <dgm:shape xmlns:r="http://schemas.openxmlformats.org/officeDocument/2006/relationships" r:blip="">
      <dgm:adjLst/>
    </dgm:shape>
    <dgm:presOf/>
    <dgm:constrLst>
      <dgm:constr type="h" for="des" forName="LevelOneTextNode" refType="h"/>
      <dgm:constr type="w" for="des" forName="LevelOneTextNode" refType="h" refFor="des" refForName="LevelOneTextNode" fact="0.19"/>
      <dgm:constr type="h" for="des" forName="LevelTwoTextNode" refType="w" refFor="des" refForName="LevelOneTextNode"/>
      <dgm:constr type="w" for="des" forName="LevelTwoTextNode" refType="h" refFor="des" refForName="LevelTwoTextNode" fact="3.28"/>
      <dgm:constr type="sibSp" refType="h" refFor="des" refForName="LevelTwoTextNode" op="equ" fact="0.25"/>
      <dgm:constr type="sibSp" for="des" forName="level2hierChild" refType="h" refFor="des" refForName="LevelTwoTextNode" op="equ" fact="0.25"/>
      <dgm:constr type="sibSp" for="des" forName="level3hierChild" refType="h" refFor="des" refForName="LevelTwoTextNode" op="equ" fact="0.25"/>
      <dgm:constr type="sp" for="des" forName="root1" refType="w" refFor="des" refForName="LevelTwoTextNode" fact="0.2"/>
      <dgm:constr type="sp" for="des" forName="root2" refType="sp" refFor="des" refForName="root1" op="equ"/>
      <dgm:constr type="primFontSz" for="des" forName="LevelOneTextNode" op="equ" val="65"/>
      <dgm:constr type="primFontSz" for="des" forName="LevelTwoTextNode" op="equ" val="65"/>
      <dgm:constr type="primFontSz" for="des" forName="LevelTwoTextNode" refType="primFontSz" refFor="des" refForName="LevelOneTextNode" op="lte"/>
      <dgm:constr type="primFontSz" for="des" forName="connTx" op="equ" val="50"/>
      <dgm:constr type="primFontSz" for="des" forName="connTx" refType="primFontSz" refFor="des" refForName="LevelOneTextNode" op="lte" fact="0.78"/>
    </dgm:constrLst>
    <dgm:forEach name="Name4" axis="ch">
      <dgm:forEach name="Name5" axis="self" ptType="node">
        <dgm:layoutNode name="root1">
          <dgm:choose name="Name6">
            <dgm:if name="Name7" func="var" arg="dir" op="equ" val="norm">
              <dgm:alg type="hierRoot">
                <dgm:param type="hierAlign" val="lCtrCh"/>
              </dgm:alg>
            </dgm:if>
            <dgm:else name="Name8">
              <dgm:alg type="hierRoot">
                <dgm:param type="hierAlign" val="rCtrCh"/>
              </dgm:alg>
            </dgm:else>
          </dgm:choose>
          <dgm:shape xmlns:r="http://schemas.openxmlformats.org/officeDocument/2006/relationships" r:blip="">
            <dgm:adjLst/>
          </dgm:shape>
          <dgm:presOf/>
          <dgm:layoutNode name="LevelOneTextNode" styleLbl="node0">
            <dgm:varLst>
              <dgm:chPref val="3"/>
            </dgm:varLst>
            <dgm:alg type="tx">
              <dgm:param type="autoTxRot" val="grav"/>
            </dgm:alg>
            <dgm:choose name="Name9">
              <dgm:if name="Name10" func="var" arg="dir" op="equ" val="norm">
                <dgm:shape xmlns:r="http://schemas.openxmlformats.org/officeDocument/2006/relationships" rot="270" type="rect" r:blip="">
                  <dgm:adjLst/>
                </dgm:shape>
              </dgm:if>
              <dgm:else name="Name11">
                <dgm:shape xmlns:r="http://schemas.openxmlformats.org/officeDocument/2006/relationships" rot="90" type="rect" r:blip="">
                  <dgm:adjLst/>
                </dgm:shape>
              </dgm:else>
            </dgm:choose>
            <dgm:presOf axis="self"/>
            <dgm:constrLst>
              <dgm:constr type="tMarg" refType="primFontSz" fact="0.05"/>
              <dgm:constr type="bMarg" refType="primFontSz" fact="0.05"/>
              <dgm:constr type="lMarg" refType="primFontSz" fact="0.05"/>
              <dgm:constr type="rMarg" refType="primFontSz" fact="0.05"/>
            </dgm:constrLst>
            <dgm:ruleLst>
              <dgm:rule type="primFontSz" val="2" fact="NaN" max="NaN"/>
            </dgm:ruleLst>
          </dgm:layoutNode>
          <dgm:layoutNode name="level2hierChild">
            <dgm:choose name="Name12">
              <dgm:if name="Name13" func="var" arg="dir" op="equ" val="norm">
                <dgm:alg type="hierChild">
                  <dgm:param type="linDir" val="fromT"/>
                  <dgm:param type="chAlign" val="l"/>
                </dgm:alg>
              </dgm:if>
              <dgm:else name="Name14">
                <dgm:alg type="hierChild">
                  <dgm:param type="linDir" val="fromT"/>
                  <dgm:param type="chAlign" val="r"/>
                </dgm:alg>
              </dgm:else>
            </dgm:choose>
            <dgm:shape xmlns:r="http://schemas.openxmlformats.org/officeDocument/2006/relationships" r:blip="">
              <dgm:adjLst/>
            </dgm:shape>
            <dgm:presOf/>
            <dgm:forEach name="repeat" axis="ch">
              <dgm:forEach name="Name15" axis="self" ptType="parTrans" cnt="1">
                <dgm:layoutNode name="conn2-1">
                  <dgm:choose name="Name16">
                    <dgm:if name="Name17" func="var" arg="dir" op="equ" val="norm">
                      <dgm:alg type="conn">
                        <dgm:param type="dim" val="1D"/>
                        <dgm:param type="begPts" val="midR"/>
                        <dgm:param type="endPts" val="midL"/>
                        <dgm:param type="endSty" val="noArr"/>
                        <dgm:param type="connRout" val="bend"/>
                      </dgm:alg>
                    </dgm:if>
                    <dgm:else name="Name18">
                      <dgm:alg type="conn">
                        <dgm:param type="dim" val="1D"/>
                        <dgm:param type="begPts" val="midL"/>
                        <dgm:param type="endPts" val="midR"/>
                        <dgm:param type="endSty" val="noArr"/>
                        <dgm:param type="connRout" val="bend"/>
                      </dgm:alg>
                    </dgm:else>
                  </dgm:choose>
                  <dgm:shape xmlns:r="http://schemas.openxmlformats.org/officeDocument/2006/relationships" type="conn" r:blip="" zOrderOff="-99999">
                    <dgm:adjLst/>
                  </dgm:shape>
                  <dgm:presOf axis="self"/>
                  <dgm:constrLst>
                    <dgm:constr type="w" val="1"/>
                    <dgm:constr type="h" val="5"/>
                    <dgm:constr type="connDist"/>
                    <dgm:constr type="begPad"/>
                    <dgm:constr type="endPad"/>
                    <dgm:constr type="userA" for="ch" refType="connDist"/>
                  </dgm:constrLst>
                  <dgm:layoutNode name="connTx">
                    <dgm:alg type="tx">
                      <dgm:param type="autoTxRot" val="grav"/>
                    </dgm:alg>
                    <dgm:shape xmlns:r="http://schemas.openxmlformats.org/officeDocument/2006/relationships" type="rect" r:blip="" hideGeom="1">
                      <dgm:adjLst/>
                    </dgm:shape>
                    <dgm:presOf axis="self"/>
                    <dgm:constrLst>
                      <dgm:constr type="userA"/>
                      <dgm:constr type="w" refType="userA" fact="0.05"/>
                      <dgm:constr type="h" refType="userA" fact="0.05"/>
                      <dgm:constr type="lMarg" val="1"/>
                      <dgm:constr type="rMarg" val="1"/>
                      <dgm:constr type="tMarg"/>
                      <dgm:constr type="bMarg"/>
                    </dgm:constrLst>
                    <dgm:ruleLst>
                      <dgm:rule type="h" val="NaN" fact="0.25" max="NaN"/>
                      <dgm:rule type="w" val="NaN" fact="0.8" max="NaN"/>
                      <dgm:rule type="primFontSz" val="5" fact="NaN" max="NaN"/>
                    </dgm:ruleLst>
                  </dgm:layoutNode>
                </dgm:layoutNode>
              </dgm:forEach>
              <dgm:forEach name="Name19" axis="self" ptType="node">
                <dgm:layoutNode name="root2">
                  <dgm:choose name="Name20">
                    <dgm:if name="Name21" func="var" arg="dir" op="equ" val="norm">
                      <dgm:alg type="hierRoot">
                        <dgm:param type="hierAlign" val="lCtrCh"/>
                      </dgm:alg>
                    </dgm:if>
                    <dgm:else name="Name22">
                      <dgm:alg type="hierRoot">
                        <dgm:param type="hierAlign" val="rCtrCh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layoutNode name="LevelTwoTextNode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/>
                    <dgm:constrLst>
                      <dgm:constr type="tMarg" refType="primFontSz" fact="0.05"/>
                      <dgm:constr type="bMarg" refType="primFontSz" fact="0.05"/>
                      <dgm:constr type="lMarg" refType="primFontSz" fact="0.05"/>
                      <dgm:constr type="rMarg" refType="primFontSz" fact="0.05"/>
                    </dgm:constrLst>
                    <dgm:ruleLst>
                      <dgm:rule type="primFontSz" val="2" fact="NaN" max="NaN"/>
                    </dgm:ruleLst>
                  </dgm:layoutNode>
                  <dgm:layoutNode name="level3hierChild">
                    <dgm:choose name="Name23">
                      <dgm:if name="Name24" func="var" arg="dir" op="equ" val="norm">
                        <dgm:alg type="hierChild">
                          <dgm:param type="linDir" val="fromT"/>
                          <dgm:param type="chAlign" val="l"/>
                        </dgm:alg>
                      </dgm:if>
                      <dgm:else name="Name25">
                        <dgm:alg type="hierChild">
                          <dgm:param type="linDir" val="fromT"/>
                          <dgm:param type="chAlign" val="r"/>
                        </dgm:alg>
                      </dgm:else>
                    </dgm:choose>
                    <dgm:shape xmlns:r="http://schemas.openxmlformats.org/officeDocument/2006/relationships" r:blip="">
                      <dgm:adjLst/>
                    </dgm:shape>
                    <dgm:presOf/>
                    <dgm:forEach name="Name26" ref="repeat"/>
                  </dgm:layoutNode>
                </dgm:layoutNode>
              </dgm:forEach>
            </dgm:forEach>
          </dgm:layoutNode>
        </dgm:layoutNode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5">
  <dgm:title val=""/>
  <dgm:desc val=""/>
  <dgm:catLst>
    <dgm:cat type="simple" pri="105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dt" idx="16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7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18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0E4130B-00C2-470C-B6FD-12E62F12EF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E0D99A6-ECE8-4816-B109-93E5DD61B140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AE6DDB2-1D31-4B1B-9CEF-CF0199B5AE5E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6C4DDDA-331B-41A5-8ED3-30F17996896E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12A7-04CB-497B-801F-386FF8FF5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7FC8-DE1C-4C48-8B8A-BC6DDB091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BAEB-BA3B-49F3-AE7C-062DC4151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5E8D-0F06-4515-BD52-626E227DD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A268D-BA2F-40E7-BAB8-43905895F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589F7-2D4F-43CD-993D-67D931F0D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E0240-BA57-4254-B796-798560202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6CD5B-082C-453E-A8B4-2AFC47C51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45F5C-EEF3-440F-BB31-76F7B9478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801A7-04BE-4E6E-9B71-974BB8E92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0FD1F-9CC7-4EF3-A518-A7474FB5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18A7-0CB2-48CA-8366-F97995F53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487BC-0998-431D-9518-A80C039F6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85219-28B9-44D7-AF5D-EF89E799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0C010-5156-4529-9C4D-5DA629A1C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333AC-5F14-438C-BC42-DA5C06E65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468A5-7386-4A48-AC36-45070000C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540DB-8D85-44B1-A97A-6E21FEEB8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BAF4B-0EEB-4DCE-AC66-71F2CA29C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D84FA-B16B-416E-BBA2-61B52E9BB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451BF-7A9D-4147-B6C0-A1FA9F1D8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04BBE-9A14-44D7-930E-E7622C8CC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442B-5D04-4082-A830-F8A9BF02D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64BA2-BC6E-4450-84D2-A1AF70EEA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F5544-8D55-4B96-96E2-4E7BD422A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15CEC-05E0-4796-B9FB-191E88D7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F343D-8A97-4AE3-A70D-9D763169A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5A533-76B4-45A5-99D8-D8CB04931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18AA6-8F9E-496B-9FDE-32038672D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8833D-3BF2-4BDD-BCD1-AAD1DEE5B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B6E13-9E3F-4267-BA34-8EA8D9A3F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F1A19-76C7-4736-B770-1C44683B5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B77D8-CB77-4A66-A54C-410814D73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D09D-2551-4FFE-8815-C608F2E43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F0E1E-C08E-4E9E-9EEE-A699A0404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A308B-C1DB-4047-87CB-5F56ADFE1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98BEA-67AF-440C-9A66-7C7F054F2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1B8BA-22F6-4416-9AD0-0DD53D839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C52D6-E550-46B4-9A33-7DCECBAE5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FD83B-CB36-4F67-85D4-5B8A200D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571DF-D99C-463B-A5E4-BE9BA9706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A6140-1079-4199-B382-7373A783A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807A1-92DD-407D-B8E7-B24CBCF34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EE0D4D-3026-4009-AE3B-BA17AF6D4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D96B-2A00-4A92-BA6C-1101C9F8F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8CCC1-CAF4-4B29-B111-9550EE61B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D6D39-C3AE-44DA-9E49-BAF225FA4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054D9E-9927-4FEB-83BE-5D3667BB6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5F4C87-F2C7-422A-BE1E-D075B09F6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5BF920-442A-4088-880A-505EC4281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E39357-0C1D-46D5-A35F-772AF493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F59C9C-D713-48D5-BCCB-61A53CF64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A7EB4F-5301-409D-8C61-65BF2729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DC8DF0-295B-4D55-812B-8B87EE9C6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E3A03-6601-435E-B29E-D98EC84E9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118C-8233-4528-B0D6-FA7CDC9B1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936ED-5CCA-4248-A7FA-F7D5166B5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482C-3386-40C7-9489-2B6A4CDC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D4F2-5DD9-4EFD-81B3-ACDD431F4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380B-0495-4048-81F5-FED7F268E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1CCD3F8-6530-4815-8009-035D018235BC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E268FDE-E96F-4712-87EC-01E68A0F8B47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5DC9799-D258-44CF-AF8A-DDB299406C00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040" cy="56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792440" y="61272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body"/>
          </p:nvPr>
        </p:nvSpPr>
        <p:spPr>
          <a:xfrm>
            <a:off x="1792440" y="5367240"/>
            <a:ext cx="548604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B141D64-D782-422E-958B-FA67DA9C1172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sldNum" idx="15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1017292-ED67-47B8-BEE1-11067B78B438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Рисунок 3" descr="15170033.png"/>
          <p:cNvPicPr/>
          <p:nvPr/>
        </p:nvPicPr>
        <p:blipFill>
          <a:blip r:embed="rId1"/>
          <a:stretch/>
        </p:blipFill>
        <p:spPr>
          <a:xfrm>
            <a:off x="2286000" y="928800"/>
            <a:ext cx="550116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286000" y="5286240"/>
            <a:ext cx="5057280" cy="56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Целеполагание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Рисунок 4" descr="9718351.jpg"/>
          <p:cNvPicPr/>
          <p:nvPr/>
        </p:nvPicPr>
        <p:blipFill>
          <a:blip r:embed="rId1"/>
          <a:srcRect l="0" t="14264" r="0" b="14264"/>
          <a:stretch/>
        </p:blipFill>
        <p:spPr>
          <a:xfrm>
            <a:off x="2214720" y="928800"/>
            <a:ext cx="5486040" cy="41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14240" y="5713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2000"/>
          </a:bodyPr>
          <a:p>
            <a:pPr indent="0" algn="ctr">
              <a:lnSpc>
                <a:spcPct val="100000"/>
              </a:lnSpc>
              <a:buNone/>
            </a:pP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Формируемые УУД :         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500120" y="18572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- умение ставить цель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571840" y="5429160"/>
            <a:ext cx="5486040" cy="56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Проблема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2" name="Рисунок 4" descr="9718351.jpg"/>
          <p:cNvPicPr/>
          <p:nvPr/>
        </p:nvPicPr>
        <p:blipFill>
          <a:blip r:embed="rId1"/>
          <a:srcRect l="0" t="14264" r="0" b="14264"/>
          <a:stretch/>
        </p:blipFill>
        <p:spPr>
          <a:xfrm>
            <a:off x="2428920" y="928800"/>
            <a:ext cx="5486040" cy="41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85880" y="5713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Формируемые УУД :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428840" y="157176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- умение выявить проблему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Рисунок 4" descr="img5.jpg"/>
          <p:cNvPicPr/>
          <p:nvPr/>
        </p:nvPicPr>
        <p:blipFill>
          <a:blip r:embed="rId1"/>
          <a:srcRect l="6394" t="9412" r="3760" b="10724"/>
          <a:stretch/>
        </p:blipFill>
        <p:spPr>
          <a:xfrm>
            <a:off x="2143080" y="1357200"/>
            <a:ext cx="6071760" cy="40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Рисунок 4" descr="внучка-за-бабку-бабка-за-дедку-дедка-за-репку.jpg"/>
          <p:cNvPicPr/>
          <p:nvPr/>
        </p:nvPicPr>
        <p:blipFill>
          <a:blip r:embed="rId1"/>
          <a:srcRect l="8894" t="0" r="8894" b="0"/>
          <a:stretch/>
        </p:blipFill>
        <p:spPr>
          <a:xfrm>
            <a:off x="2428920" y="857160"/>
            <a:ext cx="5486040" cy="411444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2571840" y="5357880"/>
            <a:ext cx="548604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План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1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6" dur="2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42960" y="6429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Формируемые УУД: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500120" y="16430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- умение планировать действия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Рисунок 4" descr="тянут-потянут-репку-вытянуть-не-могут.jpg"/>
          <p:cNvPicPr/>
          <p:nvPr/>
        </p:nvPicPr>
        <p:blipFill>
          <a:blip r:embed="rId1"/>
          <a:srcRect l="7773" t="0" r="7773" b="0"/>
          <a:stretch/>
        </p:blipFill>
        <p:spPr>
          <a:xfrm>
            <a:off x="2286000" y="928800"/>
            <a:ext cx="5486040" cy="411444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2286000" y="5143680"/>
            <a:ext cx="5414760" cy="130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Корректировка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плана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и действие по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алгоритму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3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8" dur="2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0040" y="6429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Формируемые УУД: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28840" y="157176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- поиск и выделение необходимой информации;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- выбор наиболее эффективных способов решения задач;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- установление причинно-следственных связей;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Рисунок 4" descr="вытащили-репку.jpg"/>
          <p:cNvPicPr/>
          <p:nvPr/>
        </p:nvPicPr>
        <p:blipFill>
          <a:blip r:embed="rId1"/>
          <a:srcRect l="13782" t="0" r="13782" b="0"/>
          <a:stretch/>
        </p:blipFill>
        <p:spPr>
          <a:xfrm>
            <a:off x="2286000" y="1214280"/>
            <a:ext cx="5486040" cy="41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71320" y="857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6000" spc="-1" strike="noStrike">
                <a:solidFill>
                  <a:srgbClr val="ff0000"/>
                </a:solidFill>
                <a:latin typeface="Times New Roman"/>
              </a:rPr>
              <a:t>ФГОС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Содержимое 3" descr="RIAN_00776962.HR.ru.jpg"/>
          <p:cNvPicPr/>
          <p:nvPr/>
        </p:nvPicPr>
        <p:blipFill>
          <a:blip r:embed="rId1"/>
          <a:stretch/>
        </p:blipFill>
        <p:spPr>
          <a:xfrm>
            <a:off x="1714320" y="1928880"/>
            <a:ext cx="7102440" cy="40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357280" y="4643280"/>
            <a:ext cx="5271840" cy="56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Рефлексия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143080" y="5143680"/>
            <a:ext cx="621468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в любой работе должны быть общие универсальные действия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6" descr="&amp;Vcy;&amp;ycy;&amp;tcy;&amp;acy;&amp;shchcy;&amp;icy;&amp;lcy;&amp;icy; &amp;rcy;&amp;iecy;&amp;pcy;&amp;kcy;&amp;ucy;!"/>
          <p:cNvPicPr/>
          <p:nvPr/>
        </p:nvPicPr>
        <p:blipFill>
          <a:blip r:embed="rId1"/>
          <a:stretch/>
        </p:blipFill>
        <p:spPr>
          <a:xfrm>
            <a:off x="2165760" y="1071720"/>
            <a:ext cx="617940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5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0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5" dur="2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0040" y="6429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Формируемые УУД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428840" y="157176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- анализ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- саморегуляция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- взаимодействие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-управление коммуникацией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86000" y="4800600"/>
            <a:ext cx="4992480" cy="56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Итог: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071800" y="5367240"/>
            <a:ext cx="578628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4000"/>
          </a:bodyPr>
          <a:p>
            <a:pPr indent="0">
              <a:lnSpc>
                <a:spcPct val="100000"/>
              </a:lnSpc>
              <a:spcBef>
                <a:spcPts val="1020"/>
              </a:spcBef>
              <a:buNone/>
              <a:tabLst>
                <a:tab algn="l" pos="0"/>
              </a:tabLst>
            </a:pPr>
            <a:r>
              <a:rPr b="1" lang="ru-RU" sz="5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5100" spc="-1" strike="noStrike">
                <a:solidFill>
                  <a:srgbClr val="ff0000"/>
                </a:solidFill>
                <a:latin typeface="Times New Roman"/>
              </a:rPr>
              <a:t>в любой работе должны быть общие универсальные действия</a:t>
            </a:r>
            <a:endParaRPr b="0" lang="ru-RU" sz="5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2" name="Picture 6" descr="&amp;Vcy;&amp;ycy;&amp;tcy;&amp;acy;&amp;shchcy;&amp;icy;&amp;lcy;&amp;icy; &amp;rcy;&amp;iecy;&amp;pcy;&amp;kcy;&amp;ucy;!"/>
          <p:cNvPicPr/>
          <p:nvPr/>
        </p:nvPicPr>
        <p:blipFill>
          <a:blip r:embed="rId1"/>
          <a:stretch/>
        </p:blipFill>
        <p:spPr>
          <a:xfrm>
            <a:off x="2165760" y="1071720"/>
            <a:ext cx="617940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2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7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2" dur="2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0040" y="6429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Формируемые УУД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285920" y="16430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- выбор наиболее эффективных способов решения задач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43000" y="2428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</a:rPr>
              <a:t>Спасибо за внимание!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 rot="699600">
            <a:off x="2950920" y="4144680"/>
            <a:ext cx="3755880" cy="2015640"/>
          </a:xfrm>
          <a:prstGeom prst="rect">
            <a:avLst/>
          </a:prstGeom>
          <a:ln w="0">
            <a:noFill/>
          </a:ln>
        </p:spPr>
      </p:pic>
      <p:sp>
        <p:nvSpPr>
          <p:cNvPr id="216" name="Прямоугольник 5"/>
          <p:cNvSpPr/>
          <p:nvPr/>
        </p:nvSpPr>
        <p:spPr>
          <a:xfrm>
            <a:off x="1373760" y="2214720"/>
            <a:ext cx="760572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УУДочка современного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образова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Заголовок 1"/>
          <p:cNvSpPr/>
          <p:nvPr/>
        </p:nvSpPr>
        <p:spPr>
          <a:xfrm>
            <a:off x="1371600" y="1071720"/>
            <a:ext cx="7772040" cy="14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ln>
                  <a:solidFill>
                    <a:srgbClr val="104382"/>
                  </a:solidFill>
                </a:ln>
                <a:solidFill>
                  <a:srgbClr val="ffffff"/>
                </a:solidFill>
                <a:latin typeface="Arial Black"/>
              </a:rPr>
              <a:t>Мастер-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914400" y="16430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000"/>
              </a:spcBef>
              <a:buNone/>
              <a:tabLst>
                <a:tab algn="l" pos="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Times New Roman"/>
              </a:rPr>
              <a:t>УУД</a:t>
            </a:r>
            <a:endParaRPr b="0" lang="ru-RU" sz="2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Прямоугольник 2"/>
          <p:cNvSpPr/>
          <p:nvPr/>
        </p:nvSpPr>
        <p:spPr>
          <a:xfrm>
            <a:off x="1643040" y="1071720"/>
            <a:ext cx="7200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</a:rPr>
              <a:t>Универсальные учебные действия (УУД)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- это обобщенные действия, порождающие мотивацию к обучению и позволяющие учащимся ориентироваться в различных предметных областях позна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3" descr=""/>
          <p:cNvPicPr/>
          <p:nvPr/>
        </p:nvPicPr>
        <p:blipFill>
          <a:blip r:embed="rId1"/>
          <a:stretch/>
        </p:blipFill>
        <p:spPr>
          <a:xfrm>
            <a:off x="5905440" y="4353840"/>
            <a:ext cx="2957040" cy="22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487146939"/>
              </p:ext>
            </p:extLst>
          </p:nvPr>
        </p:nvGraphicFramePr>
        <p:xfrm>
          <a:off x="539640" y="836640"/>
          <a:ext cx="6696360" cy="51843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pic>
        <p:nvPicPr>
          <p:cNvPr id="221" name="Picture 2" descr=""/>
          <p:cNvPicPr/>
          <p:nvPr/>
        </p:nvPicPr>
        <p:blipFill>
          <a:blip r:embed="rId6"/>
          <a:stretch/>
        </p:blipFill>
        <p:spPr>
          <a:xfrm>
            <a:off x="7449120" y="906120"/>
            <a:ext cx="863640" cy="12985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" descr=""/>
          <p:cNvPicPr/>
          <p:nvPr/>
        </p:nvPicPr>
        <p:blipFill>
          <a:blip r:embed="rId7"/>
          <a:stretch/>
        </p:blipFill>
        <p:spPr>
          <a:xfrm>
            <a:off x="7373880" y="2133000"/>
            <a:ext cx="1014480" cy="12423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"/>
          <p:cNvPicPr/>
          <p:nvPr/>
        </p:nvPicPr>
        <p:blipFill>
          <a:blip r:embed="rId8"/>
          <a:stretch/>
        </p:blipFill>
        <p:spPr>
          <a:xfrm>
            <a:off x="7319520" y="3501000"/>
            <a:ext cx="1479960" cy="1082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"/>
          <p:cNvPicPr/>
          <p:nvPr/>
        </p:nvPicPr>
        <p:blipFill>
          <a:blip r:embed="rId9"/>
          <a:stretch/>
        </p:blipFill>
        <p:spPr>
          <a:xfrm>
            <a:off x="7301520" y="4653000"/>
            <a:ext cx="1828440" cy="12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7449120" y="906120"/>
            <a:ext cx="863640" cy="12985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" descr=""/>
          <p:cNvPicPr/>
          <p:nvPr/>
        </p:nvPicPr>
        <p:blipFill>
          <a:blip r:embed="rId2"/>
          <a:stretch/>
        </p:blipFill>
        <p:spPr>
          <a:xfrm>
            <a:off x="7373880" y="2133000"/>
            <a:ext cx="1014480" cy="12423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" descr=""/>
          <p:cNvPicPr/>
          <p:nvPr/>
        </p:nvPicPr>
        <p:blipFill>
          <a:blip r:embed="rId3"/>
          <a:stretch/>
        </p:blipFill>
        <p:spPr>
          <a:xfrm>
            <a:off x="7319520" y="3501000"/>
            <a:ext cx="1479960" cy="10828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"/>
          <p:cNvPicPr/>
          <p:nvPr/>
        </p:nvPicPr>
        <p:blipFill>
          <a:blip r:embed="rId4"/>
          <a:stretch/>
        </p:blipFill>
        <p:spPr>
          <a:xfrm>
            <a:off x="7301520" y="4653000"/>
            <a:ext cx="1828440" cy="126396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1"/>
          <p:cNvSpPr/>
          <p:nvPr/>
        </p:nvSpPr>
        <p:spPr>
          <a:xfrm>
            <a:off x="1428840" y="1670040"/>
            <a:ext cx="9143640" cy="1736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 CYR"/>
                <a:ea typeface="Calibri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Times New Roman CYR"/>
                <a:ea typeface="Calibri"/>
              </a:rPr>
              <a:t>Зачем нужно формирова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 CYR"/>
                <a:ea typeface="Calibri"/>
              </a:rPr>
              <a:t>универсальные учеб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 CYR"/>
                <a:ea typeface="Calibri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imes New Roman CYR"/>
                <a:ea typeface="Calibri"/>
              </a:rPr>
              <a:t>действи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7449120" y="906120"/>
            <a:ext cx="863640" cy="12985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3" descr=""/>
          <p:cNvPicPr/>
          <p:nvPr/>
        </p:nvPicPr>
        <p:blipFill>
          <a:blip r:embed="rId2"/>
          <a:stretch/>
        </p:blipFill>
        <p:spPr>
          <a:xfrm>
            <a:off x="7373880" y="2133000"/>
            <a:ext cx="1014480" cy="12423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" descr=""/>
          <p:cNvPicPr/>
          <p:nvPr/>
        </p:nvPicPr>
        <p:blipFill>
          <a:blip r:embed="rId3"/>
          <a:stretch/>
        </p:blipFill>
        <p:spPr>
          <a:xfrm>
            <a:off x="7319520" y="3501000"/>
            <a:ext cx="1479960" cy="10828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"/>
          <p:cNvPicPr/>
          <p:nvPr/>
        </p:nvPicPr>
        <p:blipFill>
          <a:blip r:embed="rId4"/>
          <a:stretch/>
        </p:blipFill>
        <p:spPr>
          <a:xfrm>
            <a:off x="7301520" y="4653000"/>
            <a:ext cx="1828440" cy="1263960"/>
          </a:xfrm>
          <a:prstGeom prst="rect">
            <a:avLst/>
          </a:prstGeom>
          <a:ln w="0">
            <a:noFill/>
          </a:ln>
        </p:spPr>
      </p:pic>
      <p:sp>
        <p:nvSpPr>
          <p:cNvPr id="234" name="Прямоугольник 5"/>
          <p:cNvSpPr/>
          <p:nvPr/>
        </p:nvSpPr>
        <p:spPr>
          <a:xfrm>
            <a:off x="1714320" y="1285920"/>
            <a:ext cx="514332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 CYR"/>
              </a:rPr>
              <a:t>Они дают возможность каждому ученику самостоятельно осуществлять деятельность учения, ставить учебные цели. искать и использовать необходимые средства и способы их достижения, уметь контролировать и оценивать учебную деятельность и её результаты. Они создают условия развития личности и её самореал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42960" y="142920"/>
            <a:ext cx="9229320" cy="279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0000"/>
                </a:solidFill>
                <a:latin typeface="Book Antiqua"/>
              </a:rPr>
              <a:t>РЕПКА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Book Antiqua"/>
              </a:rPr>
              <a:t>(Сказка про познавательные </a:t>
            </a:r>
            <a:r>
              <a:rPr b="1" lang="ru-RU" sz="3600" spc="-1" strike="noStrike">
                <a:solidFill>
                  <a:srgbClr val="ff0000"/>
                </a:solidFill>
                <a:latin typeface="Book Antiqua"/>
              </a:rPr>
              <a:t>УУД</a:t>
            </a:r>
            <a:r>
              <a:rPr b="0" lang="ru-RU" sz="3600" spc="-1" strike="noStrike">
                <a:solidFill>
                  <a:srgbClr val="ff0000"/>
                </a:solidFill>
                <a:latin typeface="Book Antiqua"/>
              </a:rPr>
              <a:t>)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Содержимое 4" descr="035.jpg"/>
          <p:cNvPicPr/>
          <p:nvPr/>
        </p:nvPicPr>
        <p:blipFill>
          <a:blip r:embed="rId1"/>
          <a:stretch/>
        </p:blipFill>
        <p:spPr>
          <a:xfrm>
            <a:off x="3149280" y="2286000"/>
            <a:ext cx="4063320" cy="402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9</TotalTime>
  <Application>LibreOffice/7.4.7.2$Linux_X86_64 LibreOffice_project/40$Build-2</Application>
  <AppVersion>15.0000</AppVersion>
  <Words>189</Words>
  <Paragraphs>5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2T15:40:51Z</dcterms:created>
  <dc:creator>1</dc:creator>
  <dc:description/>
  <dc:language>en-US</dc:language>
  <cp:lastModifiedBy>User</cp:lastModifiedBy>
  <cp:lastPrinted>2013-04-18T11:36:01Z</cp:lastPrinted>
  <dcterms:modified xsi:type="dcterms:W3CDTF">2016-02-09T14:13:12Z</dcterms:modified>
  <cp:revision>126</cp:revision>
  <dc:subject/>
  <dc:title>Мастер-клас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3</vt:r8>
  </property>
  <property fmtid="{D5CDD505-2E9C-101B-9397-08002B2CF9AE}" pid="3" name="PresentationFormat">
    <vt:lpwstr>Экран (4:3)</vt:lpwstr>
  </property>
  <property fmtid="{D5CDD505-2E9C-101B-9397-08002B2CF9AE}" pid="4" name="Slides">
    <vt:r8>24</vt:r8>
  </property>
</Properties>
</file>