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7A86-FB6A-4FB3-B0BD-3D574F9213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C90-5C60-4DC9-9152-758BA37FFE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B1ED-1036-4EE1-9BCE-1867003E6C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A7B-49F2-466C-8B4E-F5EFBC61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320-BACE-4EA9-82DE-A5BE3411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43C-6CC8-4BFD-A09D-4613E8D3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891-32ED-4508-AEDD-4F010439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AB2-2624-4623-9B2C-5AEA5455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421-3C69-4A46-8812-C67FDA1B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618-43BD-44E3-96E0-AC3956C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6F7-4F1B-462C-A1AE-40EA936C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8A2-2F7D-4B0D-A641-E568E90B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033-33BB-48C3-8F7A-E7A1025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DE7-DD2B-4295-8DAE-5BBADB2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CA7-EE48-4ED9-B0D9-A649535A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62F1-6716-40E0-BB97-7C454C15B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7993080" cy="5256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Урок литературного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УМК « Школа Росс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асеева Алина Рафаи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857160"/>
            <a:ext cx="8715600" cy="42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чевая разминка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1600"/>
            </a:br>
            <a:br>
              <a:rPr sz="11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Й – ОЙ – ОЙ – попрощались мы с зимо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ЕЛЬ – ЕЛЬ – ЕЛЬ – наступил теплый апрель.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Й – АЙ – АЙ – приходи скорее м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i (1).jpg"/>
          <p:cNvPicPr/>
          <p:nvPr/>
        </p:nvPicPr>
        <p:blipFill>
          <a:blip r:embed="rId2"/>
          <a:stretch/>
        </p:blipFill>
        <p:spPr>
          <a:xfrm>
            <a:off x="1500120" y="714240"/>
            <a:ext cx="621504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i (2).jpg"/>
          <p:cNvPicPr/>
          <p:nvPr/>
        </p:nvPicPr>
        <p:blipFill>
          <a:blip r:embed="rId2"/>
          <a:stretch/>
        </p:blipFill>
        <p:spPr>
          <a:xfrm>
            <a:off x="1571760" y="714240"/>
            <a:ext cx="60004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.jpg"/>
          <p:cNvPicPr/>
          <p:nvPr/>
        </p:nvPicPr>
        <p:blipFill>
          <a:blip r:embed="rId2"/>
          <a:stretch/>
        </p:blipFill>
        <p:spPr>
          <a:xfrm>
            <a:off x="1785960" y="571680"/>
            <a:ext cx="557208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0011-025-Zolotoj-vek-russkoj-literatury.jpg"/>
          <p:cNvPicPr/>
          <p:nvPr/>
        </p:nvPicPr>
        <p:blipFill>
          <a:blip r:embed="rId2"/>
          <a:stretch/>
        </p:blipFill>
        <p:spPr>
          <a:xfrm>
            <a:off x="2071800" y="500040"/>
            <a:ext cx="507204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иф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это созвучие концов стихотворных строк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3840" y="1571400"/>
            <a:ext cx="8643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к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500040" y="130356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каким автором мы сегодн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лись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ывки, из каких сказок читали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пробовали сам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ам понравилось в сегодняшнем урок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uzyka_V_Dashkevicha_-_Skazka_prihodi_muzofon.com.mp3" descr=""/>
          <p:cNvPicPr/>
          <p:nvPr/>
        </p:nvPicPr>
        <p:blipFill>
          <a:blip r:embed="rId2"/>
          <a:stretch/>
        </p:blipFill>
        <p:spPr>
          <a:xfrm>
            <a:off x="1763640" y="6021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1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89beaf6b615c"/>
          <p:cNvPicPr/>
          <p:nvPr/>
        </p:nvPicPr>
        <p:blipFill>
          <a:blip r:embed="rId2"/>
          <a:stretch/>
        </p:blipFill>
        <p:spPr>
          <a:xfrm>
            <a:off x="1714680" y="642960"/>
            <a:ext cx="6072120" cy="5214960"/>
          </a:xfrm>
          <a:prstGeom prst="rect">
            <a:avLst/>
          </a:prstGeom>
          <a:ln w="0">
            <a:noFill/>
          </a:ln>
        </p:spPr>
      </p:pic>
      <p:pic>
        <p:nvPicPr>
          <p:cNvPr id="51" name="muzyka_V_Dashkevicha_-_Skazka_prihodi_muzofon.com.mp3" descr=""/>
          <p:cNvPicPr/>
          <p:nvPr/>
        </p:nvPicPr>
        <p:blipFill>
          <a:blip r:embed="rId3"/>
          <a:stretch/>
        </p:blipFill>
        <p:spPr>
          <a:xfrm>
            <a:off x="1643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1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285840"/>
            <a:ext cx="855504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ародные        Авторск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89beaf6b615c"/>
          <p:cNvPicPr/>
          <p:nvPr/>
        </p:nvPicPr>
        <p:blipFill>
          <a:blip r:embed="rId2"/>
          <a:stretch/>
        </p:blipFill>
        <p:spPr>
          <a:xfrm>
            <a:off x="3071880" y="3929040"/>
            <a:ext cx="3000240" cy="207180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7"/>
          <p:cNvCxnSpPr/>
          <p:nvPr/>
        </p:nvCxnSpPr>
        <p:spPr>
          <a:xfrm flipH="1">
            <a:off x="2856960" y="1285560"/>
            <a:ext cx="85788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10"/>
          <p:cNvCxnSpPr/>
          <p:nvPr/>
        </p:nvCxnSpPr>
        <p:spPr>
          <a:xfrm>
            <a:off x="5357880" y="1285920"/>
            <a:ext cx="929520" cy="13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Таблица 9" descr="i.jpg"/>
          <p:cNvPicPr/>
          <p:nvPr/>
        </p:nvPicPr>
        <p:blipFill>
          <a:blip r:embed="rId1"/>
          <a:stretch/>
        </p:blipFill>
        <p:spPr>
          <a:xfrm>
            <a:off x="2071800" y="3147840"/>
            <a:ext cx="49291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р8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8"/>
          <p:cNvSpPr/>
          <p:nvPr/>
        </p:nvSpPr>
        <p:spPr>
          <a:xfrm>
            <a:off x="285840" y="1536120"/>
            <a:ext cx="8858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Z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R 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J Z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U 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M Q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S 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T I V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706320" y="768240"/>
            <a:ext cx="794412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р8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3280" y="642960"/>
            <a:ext cx="45007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. С. Пушкин –                                          это бесценная                                     жемчужина русской и мировой  литературы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rcRect l="5688" t="4871" r="6985" b="20526"/>
          <a:stretch/>
        </p:blipFill>
        <p:spPr>
          <a:xfrm>
            <a:off x="395280" y="317520"/>
            <a:ext cx="4462560" cy="5343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692360" y="57340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С. Пушк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Василий Тропи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124000" y="5373720"/>
            <a:ext cx="6050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р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pushkin_04.jpg"/>
          <p:cNvPicPr/>
          <p:nvPr/>
        </p:nvPicPr>
        <p:blipFill>
          <a:blip r:embed="rId2"/>
          <a:stretch/>
        </p:blipFill>
        <p:spPr>
          <a:xfrm>
            <a:off x="2643120" y="500040"/>
            <a:ext cx="3564000" cy="42861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1071720" y="485784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.С.Пушкин родился 6 июня 1799 г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8459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оксана\Desktop\mama.jpg"/>
          <p:cNvPicPr/>
          <p:nvPr/>
        </p:nvPicPr>
        <p:blipFill>
          <a:blip r:embed="rId2"/>
          <a:stretch/>
        </p:blipFill>
        <p:spPr>
          <a:xfrm>
            <a:off x="714240" y="214200"/>
            <a:ext cx="3932280" cy="441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оксана\Desktop\отец.jpg"/>
          <p:cNvPicPr/>
          <p:nvPr/>
        </p:nvPicPr>
        <p:blipFill>
          <a:blip r:embed="rId3"/>
          <a:stretch/>
        </p:blipFill>
        <p:spPr>
          <a:xfrm>
            <a:off x="4929120" y="214200"/>
            <a:ext cx="3527640" cy="4357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2571840" y="2858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и А.С.Пушк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14240" y="4786200"/>
            <a:ext cx="34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ежда Осип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5214960" y="478620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гей Льв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56800" y="428400"/>
            <a:ext cx="7829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ня Арина 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9545092_23255253_1208780965_2"/>
          <p:cNvPicPr/>
          <p:nvPr/>
        </p:nvPicPr>
        <p:blipFill>
          <a:blip r:embed="rId2"/>
          <a:stretch/>
        </p:blipFill>
        <p:spPr>
          <a:xfrm>
            <a:off x="2786040" y="50004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53:25Z</dcterms:created>
  <dc:creator>Vlad</dc:creator>
  <dc:description/>
  <dc:language>en-US</dc:language>
  <cp:lastModifiedBy>ден</cp:lastModifiedBy>
  <dcterms:modified xsi:type="dcterms:W3CDTF">2016-10-09T15:35:42Z</dcterms:modified>
  <cp:revision>126</cp:revision>
  <dc:subject/>
  <dc:title>Слайд 1</dc:title>
</cp:coreProperties>
</file>