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1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817-D9CE-4839-A5EA-5CA988AC3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9602-1168-40BA-9932-69857CAC37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100A-B869-4F26-B411-42B00744D3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25C-1413-4C05-963B-0BCB59C9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F82-E0AD-4C7E-A97B-F2FE5D2F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9CC-40EC-44B1-8873-1FA8E4A7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E0F-E006-4E2B-92C4-5B99E3EF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48D-8F58-4EE9-B543-4A08C0A0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83E-07A7-476B-8BD5-96BFF794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C7E-10BD-4F35-8FD6-5700B835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617-8FD2-4B4C-A710-087C5828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188-0B75-4381-B9AE-1BBB8AF8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302-3AEC-42F8-A634-38E9A26A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327-4C83-4277-84FA-925A5400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1A5-65F9-471E-B24C-DB3397A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04D0-D942-4E44-AB9C-F6884681D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7993080" cy="5256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Урок литературного ч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УМК « Школа Росси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ст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асеева Алина Рафаи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4200" y="857160"/>
            <a:ext cx="8715600" cy="42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чевая разминка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1600"/>
            </a:br>
            <a:br>
              <a:rPr sz="11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Й – ОЙ – ОЙ – попрощались мы с зимо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ЕЛЬ – ЕЛЬ – ЕЛЬ – наступил теплый апрель. 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Й – АЙ – АЙ – приходи скорее м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i (1).jpg"/>
          <p:cNvPicPr/>
          <p:nvPr/>
        </p:nvPicPr>
        <p:blipFill>
          <a:blip r:embed="rId2"/>
          <a:stretch/>
        </p:blipFill>
        <p:spPr>
          <a:xfrm>
            <a:off x="1500120" y="714240"/>
            <a:ext cx="621504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i (2).jpg"/>
          <p:cNvPicPr/>
          <p:nvPr/>
        </p:nvPicPr>
        <p:blipFill>
          <a:blip r:embed="rId2"/>
          <a:stretch/>
        </p:blipFill>
        <p:spPr>
          <a:xfrm>
            <a:off x="1571760" y="714240"/>
            <a:ext cx="600048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i.jpg"/>
          <p:cNvPicPr/>
          <p:nvPr/>
        </p:nvPicPr>
        <p:blipFill>
          <a:blip r:embed="rId2"/>
          <a:stretch/>
        </p:blipFill>
        <p:spPr>
          <a:xfrm>
            <a:off x="1785960" y="571680"/>
            <a:ext cx="557208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0011-025-Zolotoj-vek-russkoj-literatury.jpg"/>
          <p:cNvPicPr/>
          <p:nvPr/>
        </p:nvPicPr>
        <p:blipFill>
          <a:blip r:embed="rId2"/>
          <a:stretch/>
        </p:blipFill>
        <p:spPr>
          <a:xfrm>
            <a:off x="2071800" y="500040"/>
            <a:ext cx="507204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иф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это созвучие концов стихотворных строк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13840" y="1571400"/>
            <a:ext cx="8643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а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а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а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к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к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500040" y="1303560"/>
            <a:ext cx="835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каким автором мы сегодн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лись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ывки, из каких сказок читали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пробовали сам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ам понравилось в сегодняшнем уроке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uzyka_V_Dashkevicha_-_Skazka_prihodi_muzofon.com.mp3" descr=""/>
          <p:cNvPicPr/>
          <p:nvPr/>
        </p:nvPicPr>
        <p:blipFill>
          <a:blip r:embed="rId2"/>
          <a:stretch/>
        </p:blipFill>
        <p:spPr>
          <a:xfrm>
            <a:off x="1763640" y="6021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1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89beaf6b615c"/>
          <p:cNvPicPr/>
          <p:nvPr/>
        </p:nvPicPr>
        <p:blipFill>
          <a:blip r:embed="rId2"/>
          <a:stretch/>
        </p:blipFill>
        <p:spPr>
          <a:xfrm>
            <a:off x="1714680" y="642960"/>
            <a:ext cx="6072120" cy="5214960"/>
          </a:xfrm>
          <a:prstGeom prst="rect">
            <a:avLst/>
          </a:prstGeom>
          <a:ln w="0">
            <a:noFill/>
          </a:ln>
        </p:spPr>
      </p:pic>
      <p:pic>
        <p:nvPicPr>
          <p:cNvPr id="51" name="muzyka_V_Dashkevicha_-_Skazka_prihodi_muzofon.com.mp3" descr=""/>
          <p:cNvPicPr/>
          <p:nvPr/>
        </p:nvPicPr>
        <p:blipFill>
          <a:blip r:embed="rId3"/>
          <a:stretch/>
        </p:blipFill>
        <p:spPr>
          <a:xfrm>
            <a:off x="1643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1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5840" y="285840"/>
            <a:ext cx="855504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каз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ародные        Авторск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89beaf6b615c"/>
          <p:cNvPicPr/>
          <p:nvPr/>
        </p:nvPicPr>
        <p:blipFill>
          <a:blip r:embed="rId2"/>
          <a:stretch/>
        </p:blipFill>
        <p:spPr>
          <a:xfrm>
            <a:off x="3071880" y="3929040"/>
            <a:ext cx="3000240" cy="207180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7"/>
          <p:cNvCxnSpPr/>
          <p:nvPr/>
        </p:nvCxnSpPr>
        <p:spPr>
          <a:xfrm flipH="1">
            <a:off x="2856960" y="1285560"/>
            <a:ext cx="85788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10"/>
          <p:cNvCxnSpPr/>
          <p:nvPr/>
        </p:nvCxnSpPr>
        <p:spPr>
          <a:xfrm>
            <a:off x="5357880" y="1285920"/>
            <a:ext cx="929520" cy="13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Таблица 9" descr="i.jpg"/>
          <p:cNvPicPr/>
          <p:nvPr/>
        </p:nvPicPr>
        <p:blipFill>
          <a:blip r:embed="rId1"/>
          <a:stretch/>
        </p:blipFill>
        <p:spPr>
          <a:xfrm>
            <a:off x="2071800" y="3147840"/>
            <a:ext cx="49291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р8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8"/>
          <p:cNvSpPr/>
          <p:nvPr/>
        </p:nvSpPr>
        <p:spPr>
          <a:xfrm>
            <a:off x="285840" y="1536120"/>
            <a:ext cx="8858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Z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R 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J Z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U 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M Q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S 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T I V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706320" y="768240"/>
            <a:ext cx="794412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р8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3280" y="642960"/>
            <a:ext cx="45007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. С. Пушкин –                                          это бесценная                                     жемчужина русской и мировой  литературы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rcRect l="5688" t="4871" r="6985" b="20526"/>
          <a:stretch/>
        </p:blipFill>
        <p:spPr>
          <a:xfrm>
            <a:off x="395280" y="317520"/>
            <a:ext cx="4462560" cy="5343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692360" y="57340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С. Пушки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ник Василий Тропин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124000" y="5373720"/>
            <a:ext cx="6050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р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pushkin_04.jpg"/>
          <p:cNvPicPr/>
          <p:nvPr/>
        </p:nvPicPr>
        <p:blipFill>
          <a:blip r:embed="rId2"/>
          <a:stretch/>
        </p:blipFill>
        <p:spPr>
          <a:xfrm>
            <a:off x="2643120" y="500040"/>
            <a:ext cx="3564000" cy="42861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1071720" y="485784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.С.Пушкин родился 6 июня 1799 г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8459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оксана\Desktop\mama.jpg"/>
          <p:cNvPicPr/>
          <p:nvPr/>
        </p:nvPicPr>
        <p:blipFill>
          <a:blip r:embed="rId2"/>
          <a:stretch/>
        </p:blipFill>
        <p:spPr>
          <a:xfrm>
            <a:off x="714240" y="214200"/>
            <a:ext cx="3932280" cy="441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оксана\Desktop\отец.jpg"/>
          <p:cNvPicPr/>
          <p:nvPr/>
        </p:nvPicPr>
        <p:blipFill>
          <a:blip r:embed="rId3"/>
          <a:stretch/>
        </p:blipFill>
        <p:spPr>
          <a:xfrm>
            <a:off x="4929120" y="214200"/>
            <a:ext cx="3527640" cy="4357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7"/>
          <p:cNvSpPr/>
          <p:nvPr/>
        </p:nvSpPr>
        <p:spPr>
          <a:xfrm>
            <a:off x="2571840" y="28584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и А.С.Пушк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14240" y="4786200"/>
            <a:ext cx="34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ежда Осип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5214960" y="478620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гей Льв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р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56800" y="428400"/>
            <a:ext cx="7829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ня Арина Родио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9545092_23255253_1208780965_2"/>
          <p:cNvPicPr/>
          <p:nvPr/>
        </p:nvPicPr>
        <p:blipFill>
          <a:blip r:embed="rId2"/>
          <a:stretch/>
        </p:blipFill>
        <p:spPr>
          <a:xfrm>
            <a:off x="2786040" y="50004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53:25Z</dcterms:created>
  <dc:creator>Vlad</dc:creator>
  <dc:description/>
  <dc:language>en-US</dc:language>
  <cp:lastModifiedBy>ден</cp:lastModifiedBy>
  <dcterms:modified xsi:type="dcterms:W3CDTF">2016-10-09T15:35:42Z</dcterms:modified>
  <cp:revision>126</cp:revision>
  <dc:subject/>
  <dc:title>Слайд 1</dc:title>
</cp:coreProperties>
</file>