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168F-F4CA-4FF9-B1CD-5F124F495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403D-CE7B-490E-9D32-100F6A7AC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6DD6-6656-4C23-96CF-1C8E9402CD3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27D-889D-4F12-B3F2-25A0A1AC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5C7-6472-4430-A850-B0342C91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FC9-540F-4508-AC7F-9AAB26A2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739-745C-4002-B4BC-042D262F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2883-F4D0-4DC1-AC6E-98F5096B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6D6B-EE28-40C3-A2FE-08C3D6B5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7FAA-3A2C-40C0-92D5-132E5196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BB8E-C365-4555-B1EE-51B6F2A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017C-2662-4B61-91AF-09F8C4CE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AED7-873C-45C4-BA3A-D70B2660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1B3C-A1A8-435A-9B64-BA53162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143-3CD4-42B9-8103-81E6A59E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CD84-3FBC-40E9-ACAE-8519DAEB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2FEF-5A73-430C-90BC-059C8A9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DCD9-DC3D-4A3B-B698-409A387A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B4FE-9046-4FB6-94CB-DFBCD67B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A592-B978-4000-A088-F03BA028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9EB-19D8-4F06-A574-61C076A0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0F4-6DC7-414B-800D-A978AAA3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C0C-CB8A-4819-ADA8-FE4E58F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A9D-9563-417D-8C83-DC5A8C76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CED-5227-47C7-B0D9-194FA3DF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813-EF57-4410-9571-EB35660D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F0B-76D2-4206-872E-47FF09E3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6065-3087-484A-BBB3-88D2416E8A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4C5F-6A2E-4945-A723-7F44AB44D4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99"/>
                </a:solidFill>
                <a:latin typeface="Times New Roman"/>
              </a:rPr>
              <a:t>Родительское собрание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Взаимодей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 взаимопоним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семьи и школ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66812822[1]"/>
          <p:cNvPicPr/>
          <p:nvPr/>
        </p:nvPicPr>
        <p:blipFill>
          <a:blip r:embed="rId1"/>
          <a:stretch/>
        </p:blipFill>
        <p:spPr>
          <a:xfrm>
            <a:off x="611280" y="4581360"/>
            <a:ext cx="2160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77612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пиг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Понимание – это улица с двухсторонним движени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Элеонора Рузвель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66812822[1]"/>
          <p:cNvPicPr/>
          <p:nvPr/>
        </p:nvPicPr>
        <p:blipFill>
          <a:blip r:embed="rId1"/>
          <a:stretch/>
        </p:blipFill>
        <p:spPr>
          <a:xfrm>
            <a:off x="3276720" y="4221000"/>
            <a:ext cx="25923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Овал 3"/>
          <p:cNvSpPr/>
          <p:nvPr/>
        </p:nvSpPr>
        <p:spPr>
          <a:xfrm>
            <a:off x="900000" y="981000"/>
            <a:ext cx="2498760" cy="1863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Педаг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5"/>
          <p:cNvSpPr/>
          <p:nvPr/>
        </p:nvSpPr>
        <p:spPr>
          <a:xfrm>
            <a:off x="2627280" y="3573360"/>
            <a:ext cx="3929040" cy="1214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"/>
          <p:cNvSpPr/>
          <p:nvPr/>
        </p:nvSpPr>
        <p:spPr>
          <a:xfrm>
            <a:off x="6012000" y="1052640"/>
            <a:ext cx="2663640" cy="1935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люс 8"/>
          <p:cNvSpPr/>
          <p:nvPr/>
        </p:nvSpPr>
        <p:spPr>
          <a:xfrm>
            <a:off x="1357200" y="3286080"/>
            <a:ext cx="928800" cy="100008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люс 9"/>
          <p:cNvSpPr/>
          <p:nvPr/>
        </p:nvSpPr>
        <p:spPr>
          <a:xfrm>
            <a:off x="6572160" y="3286080"/>
            <a:ext cx="928800" cy="100008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10"/>
          <p:cNvSpPr/>
          <p:nvPr/>
        </p:nvSpPr>
        <p:spPr>
          <a:xfrm>
            <a:off x="611280" y="5013360"/>
            <a:ext cx="7993080" cy="14158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заимопонимание    Взаимодопо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о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66812822[1]"/>
          <p:cNvPicPr/>
          <p:nvPr/>
        </p:nvPicPr>
        <p:blipFill>
          <a:blip r:embed="rId1"/>
          <a:stretch/>
        </p:blipFill>
        <p:spPr>
          <a:xfrm>
            <a:off x="3851280" y="189000"/>
            <a:ext cx="122400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3300"/>
                </a:solidFill>
                <a:latin typeface="Times New Roman"/>
              </a:rPr>
              <a:t>всесторонне развитый </a:t>
            </a:r>
            <a:br>
              <a:rPr sz="3400"/>
            </a:br>
            <a:r>
              <a:rPr b="1" lang="ru-RU" sz="3400" spc="-1" strike="noStrike">
                <a:solidFill>
                  <a:srgbClr val="cc3300"/>
                </a:solidFill>
                <a:latin typeface="Times New Roman"/>
              </a:rPr>
              <a:t>человек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ый физиче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ый  нравст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ющий и любящий труд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66812822[1]"/>
          <p:cNvPicPr/>
          <p:nvPr/>
        </p:nvPicPr>
        <p:blipFill>
          <a:blip r:embed="rId1"/>
          <a:stretch/>
        </p:blipFill>
        <p:spPr>
          <a:xfrm>
            <a:off x="611280" y="260280"/>
            <a:ext cx="14047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3300"/>
                </a:solidFill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школу и семью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оюзник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воспитании де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полное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взаимопоним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согласованное взаимодействие школы и семьи в осуществлении комплексного подхода к воспит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единство требов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колы, классного коллектива 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66812822[1]"/>
          <p:cNvPicPr/>
          <p:nvPr/>
        </p:nvPicPr>
        <p:blipFill>
          <a:blip r:embed="rId1"/>
          <a:stretch/>
        </p:blipFill>
        <p:spPr>
          <a:xfrm>
            <a:off x="971640" y="189000"/>
            <a:ext cx="18000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 словаре С.И. Ожег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заимопонимание трактуется как понимание и согласие.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заимопоним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ид взаимодейств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равных позициях, уважительно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 к д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66812822[1]"/>
          <p:cNvPicPr/>
          <p:nvPr/>
        </p:nvPicPr>
        <p:blipFill>
          <a:blip r:embed="rId1"/>
          <a:stretch/>
        </p:blipFill>
        <p:spPr>
          <a:xfrm>
            <a:off x="6084720" y="4076640"/>
            <a:ext cx="2808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3300"/>
                </a:solidFill>
                <a:latin typeface="Times New Roman"/>
              </a:rPr>
              <a:t>Формы взаимодействия </a:t>
            </a:r>
            <a:br>
              <a:rPr sz="3000"/>
            </a:br>
            <a:r>
              <a:rPr b="0" lang="ru-RU" sz="3000" spc="-1" strike="noStrike">
                <a:solidFill>
                  <a:srgbClr val="cc3300"/>
                </a:solidFill>
                <a:latin typeface="Times New Roman"/>
              </a:rPr>
              <a:t>семьи и школ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рганизация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дительских собр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о посвященные анализу успеваемости, посещаемости учащихся, знакомству с учителями-предметниками, участия детей во внеурочной деятельности, индивидуальных встреч родителей и уч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говоров с родител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телефону, сообщение в дневнике о неудачах и достижениях их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ематические родительские собр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правленные на решение общих проблем и улучшение взаимоотношений детей и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работка домашних зад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ходе которых дети должны обсудить с родителями то, что происходит в школе, или подготовить совместно с ними исследовательский прое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ультации, тестирование и анкетирование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детей по улучшению 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нализ детских рассказ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исунков о семье, других предметов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рганизация конференций, лекций, семейных клуб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вместных проек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тей и взрос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66812822[1]"/>
          <p:cNvPicPr/>
          <p:nvPr/>
        </p:nvPicPr>
        <p:blipFill>
          <a:blip r:embed="rId1"/>
          <a:stretch/>
        </p:blipFill>
        <p:spPr>
          <a:xfrm>
            <a:off x="755640" y="189000"/>
            <a:ext cx="15112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3300"/>
                </a:solidFill>
                <a:latin typeface="Times New Roman"/>
              </a:rPr>
              <a:t>Памятка родителям</a:t>
            </a:r>
            <a:r>
              <a:rPr b="1" lang="ru-RU" sz="3800" spc="-1" strike="noStrike">
                <a:solidFill>
                  <a:srgbClr val="cc3300"/>
                </a:solidFill>
                <a:latin typeface="Times New Roman"/>
              </a:rPr>
              <a:t>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ребенок приходит домой, встречайте его у дверей. Он должен знать, что вы рады его приходу, даже если он провин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при каких обстоятельствах не заглядывайте в портфель и карманы ребенка, даже если вам кажется, что вы все должны знать о ребе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йте терпимость: не прерывайте ребенка, не мешайте; прежде чем что-то сказать, хорошо подумайте, убедитесь, что вы хотите сказать именно э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валите ребенка за то, что у него получилось то, что раньше не удавалось. Хвалите за каждый успе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итесь своими чувствами, проявляя доверие к ребен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66812822[1]"/>
          <p:cNvPicPr/>
          <p:nvPr/>
        </p:nvPicPr>
        <p:blipFill>
          <a:blip r:embed="rId1"/>
          <a:stretch/>
        </p:blipFill>
        <p:spPr>
          <a:xfrm>
            <a:off x="539640" y="189000"/>
            <a:ext cx="15112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66812822[1]"/>
          <p:cNvPicPr/>
          <p:nvPr/>
        </p:nvPicPr>
        <p:blipFill>
          <a:blip r:embed="rId1"/>
          <a:stretch/>
        </p:blipFill>
        <p:spPr>
          <a:xfrm>
            <a:off x="2195640" y="981000"/>
            <a:ext cx="4681440" cy="4056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77724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1:52:57Z</dcterms:created>
  <dc:creator>Мама</dc:creator>
  <dc:description/>
  <dc:language>en-US</dc:language>
  <cp:lastModifiedBy>LENOVO</cp:lastModifiedBy>
  <dcterms:modified xsi:type="dcterms:W3CDTF">2016-10-09T00:10:44Z</dcterms:modified>
  <cp:revision>8</cp:revision>
  <dc:subject/>
  <dc:title>Формы взаимодействия семьи и школы – это многообразие организации их совместной деятельности и общения. </dc:title>
</cp:coreProperties>
</file>