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4EA-BBE9-4A68-BC42-31BDDB74F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F80B-521C-44C1-8D0C-10A1E9D9D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B71-6E10-4419-B984-99266FF0424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815-27FB-4ADB-8D62-5061A364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258-EBB9-4794-BD32-8C44A4D8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FBC-383D-470F-8B6C-CF086961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683-2859-4861-8DC9-A1B5F36E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3878-AD4D-432C-95CA-565ED834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5274-DCFB-4CCD-8107-45E8DF3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D5B-1B7E-40C8-9214-340C300B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2826-5417-42AF-ADEA-F7616365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0A1D-F963-4BF1-9B8E-3B7AC7C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4F2E-B150-4148-A43B-12426E5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A204-FD61-436C-83F1-680D945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A6A-43C0-4DB8-966C-187CF95A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0562-633C-4BE5-A8B3-BEEC0FA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B2F-7FBB-496E-A8EC-1DACE128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138-88F3-4BC8-B0A7-E90EDF4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CB0-1663-4317-9057-0263BB53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6C73-B325-499A-9ED2-EE40E9B2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A38-09F3-4826-A83F-D675C36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899-A092-457A-A9DF-C7676945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BBB-8690-4CDB-99C5-162AB8CB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4BF-6A1E-49D7-9854-3D5C3FB7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BD6-D91A-480F-B77C-3374644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C94-46EB-4F01-B7E6-BC1A307D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077-276C-4AD8-BBB7-D32925F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4E32-BFEF-4AF4-9CF8-7F723AB707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E52-80D9-44B9-AB92-B1A3EB1DC1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99"/>
                </a:solidFill>
                <a:latin typeface="Times New Roman"/>
              </a:rPr>
              <a:t>Родительское собрание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Взаимо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 взаимопоним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емьи и шко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66812822[1]"/>
          <p:cNvPicPr/>
          <p:nvPr/>
        </p:nvPicPr>
        <p:blipFill>
          <a:blip r:embed="rId1"/>
          <a:stretch/>
        </p:blipFill>
        <p:spPr>
          <a:xfrm>
            <a:off x="611280" y="4581360"/>
            <a:ext cx="2160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77612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пи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Понимание – это улица с двухсторонним движени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Элеонора Рузвель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66812822[1]"/>
          <p:cNvPicPr/>
          <p:nvPr/>
        </p:nvPicPr>
        <p:blipFill>
          <a:blip r:embed="rId1"/>
          <a:stretch/>
        </p:blipFill>
        <p:spPr>
          <a:xfrm>
            <a:off x="3276720" y="4221000"/>
            <a:ext cx="2592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Овал 3"/>
          <p:cNvSpPr/>
          <p:nvPr/>
        </p:nvSpPr>
        <p:spPr>
          <a:xfrm>
            <a:off x="900000" y="981000"/>
            <a:ext cx="2498760" cy="1863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2627280" y="3573360"/>
            <a:ext cx="3929040" cy="1214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012000" y="1052640"/>
            <a:ext cx="2663640" cy="1935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люс 8"/>
          <p:cNvSpPr/>
          <p:nvPr/>
        </p:nvSpPr>
        <p:spPr>
          <a:xfrm>
            <a:off x="1357200" y="3286080"/>
            <a:ext cx="928800" cy="10000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люс 9"/>
          <p:cNvSpPr/>
          <p:nvPr/>
        </p:nvSpPr>
        <p:spPr>
          <a:xfrm>
            <a:off x="6572160" y="3286080"/>
            <a:ext cx="928800" cy="10000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0"/>
          <p:cNvSpPr/>
          <p:nvPr/>
        </p:nvSpPr>
        <p:spPr>
          <a:xfrm>
            <a:off x="611280" y="5013360"/>
            <a:ext cx="7993080" cy="14158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заимопонимание    Взаимодо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о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66812822[1]"/>
          <p:cNvPicPr/>
          <p:nvPr/>
        </p:nvPicPr>
        <p:blipFill>
          <a:blip r:embed="rId1"/>
          <a:stretch/>
        </p:blipFill>
        <p:spPr>
          <a:xfrm>
            <a:off x="3851280" y="189000"/>
            <a:ext cx="122400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Times New Roman"/>
              </a:rPr>
              <a:t>всесторонне развитый 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Times New Roman"/>
              </a:rPr>
              <a:t>человек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ый физич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ый  нравст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ющий и любящий труд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66812822[1]"/>
          <p:cNvPicPr/>
          <p:nvPr/>
        </p:nvPicPr>
        <p:blipFill>
          <a:blip r:embed="rId1"/>
          <a:stretch/>
        </p:blipFill>
        <p:spPr>
          <a:xfrm>
            <a:off x="611280" y="260280"/>
            <a:ext cx="14047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3300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школу и семью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оюз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воспитании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полное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взаимопоним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согласованное взаимодействие школы и семьи в осуществлении комплексного подхода к воспит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единство требов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колы, классного коллектива 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66812822[1]"/>
          <p:cNvPicPr/>
          <p:nvPr/>
        </p:nvPicPr>
        <p:blipFill>
          <a:blip r:embed="rId1"/>
          <a:stretch/>
        </p:blipFill>
        <p:spPr>
          <a:xfrm>
            <a:off x="971640" y="189000"/>
            <a:ext cx="1800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 словаре С.И. Ожег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заимопонимание трактуется как понимание и согласие.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заимопоним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д взаимо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вных позициях, уважительно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к д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66812822[1]"/>
          <p:cNvPicPr/>
          <p:nvPr/>
        </p:nvPicPr>
        <p:blipFill>
          <a:blip r:embed="rId1"/>
          <a:stretch/>
        </p:blipFill>
        <p:spPr>
          <a:xfrm>
            <a:off x="6084720" y="4076640"/>
            <a:ext cx="2808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Формы взаимодействия </a:t>
            </a:r>
            <a:br>
              <a:rPr sz="3000"/>
            </a:b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семьи и шко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рганизаци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дительских собр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освященные анализу успеваемости, посещаемости учащихся, знакомству с учителями-предметниками, участия детей во внеурочной деятельности, индивидуальных встреч родителей и 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говоров с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телефону, сообщение в дневнике о неудачах и достижениях их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ематические родительские собр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авленные на решение общих проблем и улучшение взаимоотношений детей и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работка домашних з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ходе которых дети должны обсудить с родителями то, что происходит в школе, или подготовить совместно с ними исследовательский прое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ультации, тестирование и анкетирование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етей по улучшению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из детских рассказ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исунков о семье, других предметов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рганизация конференций, лекций, семейных клуб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вместных про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ей и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66812822[1]"/>
          <p:cNvPicPr/>
          <p:nvPr/>
        </p:nvPicPr>
        <p:blipFill>
          <a:blip r:embed="rId1"/>
          <a:stretch/>
        </p:blipFill>
        <p:spPr>
          <a:xfrm>
            <a:off x="755640" y="189000"/>
            <a:ext cx="15112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Times New Roman"/>
              </a:rPr>
              <a:t>Памятка родителям</a:t>
            </a: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ребенок приходит домой, встречайте его у дверей. Он должен знать, что вы рады его приходу, даже если он прови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при каких обстоятельствах не заглядывайте в портфель и карманы ребенка, даже если вам кажется, что вы все должны знать о ребе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йте терпимость: не прерывайте ребенка, не мешайте; прежде чем что-то сказать, хорошо подумайте, убедитесь, что вы хотите сказать именно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валите ребенка за то, что у него получилось то, что раньше не удавалось. Хвалите за каждый успе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есь своими чувствами, проявляя доверие к ребе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66812822[1]"/>
          <p:cNvPicPr/>
          <p:nvPr/>
        </p:nvPicPr>
        <p:blipFill>
          <a:blip r:embed="rId1"/>
          <a:stretch/>
        </p:blipFill>
        <p:spPr>
          <a:xfrm>
            <a:off x="539640" y="189000"/>
            <a:ext cx="15112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66812822[1]"/>
          <p:cNvPicPr/>
          <p:nvPr/>
        </p:nvPicPr>
        <p:blipFill>
          <a:blip r:embed="rId1"/>
          <a:stretch/>
        </p:blipFill>
        <p:spPr>
          <a:xfrm>
            <a:off x="2195640" y="981000"/>
            <a:ext cx="4681440" cy="4056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77724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1:52:57Z</dcterms:created>
  <dc:creator>Мама</dc:creator>
  <dc:description/>
  <dc:language>en-US</dc:language>
  <cp:lastModifiedBy>LENOVO</cp:lastModifiedBy>
  <dcterms:modified xsi:type="dcterms:W3CDTF">2016-10-09T00:10:44Z</dcterms:modified>
  <cp:revision>8</cp:revision>
  <dc:subject/>
  <dc:title>Формы взаимодействия семьи и школы – это многообразие организации их совместной деятельности и общения. </dc:title>
</cp:coreProperties>
</file>