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AEC-90B9-47CE-ACAE-CD76043E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24F-2D33-4FC6-B064-4AFCC0B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E6C-1612-400D-A077-CAC949B4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F72-9F85-48E0-BFD5-6DD4E678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FD7-B8C4-421B-B8AA-334EE27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F8E-DDB4-469A-B1C0-B4635369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35F-D9B6-47AE-981A-A3059EBA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EA0-B212-450C-8F93-CB522A43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447-59D5-4127-B25E-F7DAE31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603-FB49-4B27-959F-81D93B9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89D-767F-465D-AFC2-4A06361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97D-03EA-4B2B-95B9-C371940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BC66-58B3-4885-BDCC-976CA3FD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9528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НЕШНЕЕ И ВНУТРЕННЕЕ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ТРОЕНИЕ СЕМЕН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78040"/>
            <a:ext cx="7848720" cy="1487520"/>
          </a:xfrm>
          <a:prstGeom prst="rect">
            <a:avLst/>
          </a:prstGeom>
          <a:ln w="31680">
            <a:solidFill>
              <a:srgbClr val="660066"/>
            </a:solidFill>
            <a:miter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971800" y="457200"/>
            <a:ext cx="3124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 rot="8210400">
            <a:off x="2437560" y="159984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292000"/>
          </a:gra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953800">
            <a:off x="5752800" y="163836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548000"/>
          </a:gra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96400">
            <a:off x="533160" y="2437920"/>
            <a:ext cx="315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fffff7"/>
                    </a:gs>
                    <a:gs pos="100000">
                      <a:srgbClr val="cc00cc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СЕМЯННЫЕ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fffff7"/>
                  </a:gs>
                  <a:gs pos="100000">
                    <a:srgbClr val="cc00cc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 rot="20624400">
            <a:off x="5257800" y="2437920"/>
            <a:ext cx="3270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fffff7"/>
                    </a:gs>
                    <a:gs pos="100000">
                      <a:srgbClr val="cc00cc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НОГОСЕМЯННЫЕ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fffff7"/>
                  </a:gs>
                  <a:gs pos="100000">
                    <a:srgbClr val="cc00cc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413160"/>
            <a:ext cx="1809720" cy="133020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1465200" cy="182880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781280" cy="150516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91520" y="3124080"/>
            <a:ext cx="1258920" cy="165744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153040" y="4191120"/>
            <a:ext cx="1579680" cy="180972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858000" y="4952880"/>
            <a:ext cx="2133720" cy="144324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Monotype Corsiva"/>
              </a:rPr>
              <a:t>Молодое растение - проро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62520" y="26665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1. Зародышевый 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0960" y="434340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2. Зародышевый поб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5816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4114800"/>
            <a:ext cx="457200" cy="609480"/>
          </a:xfrm>
          <a:prstGeom prst="ellipse">
            <a:avLst/>
          </a:prstGeom>
          <a:solidFill>
            <a:srgbClr val="00ff00"/>
          </a:solidFill>
          <a:ln w="316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71600"/>
            <a:ext cx="45720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емя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- орган полового размножения и расселения растений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17540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Пшеница. 2. Гречи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Люп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Кле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75248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897200" cy="35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4320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161928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1008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350496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43400" y="51055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001000" y="609588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СТРОЕНИЕ С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360440"/>
            <a:ext cx="84582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57200" y="152280"/>
            <a:ext cx="8228520" cy="4723560"/>
            <a:chOff x="457200" y="152280"/>
            <a:chExt cx="8228520" cy="4723560"/>
          </a:xfrm>
        </p:grpSpPr>
        <p:cxnSp>
          <p:nvCxnSpPr>
            <p:cNvPr id="74" name="_s32786"/>
            <p:cNvCxnSpPr>
              <a:stCxn id="75" idx="0"/>
              <a:endCxn id="76" idx="2"/>
            </p:cNvCxnSpPr>
            <p:nvPr/>
          </p:nvCxnSpPr>
          <p:spPr>
            <a:xfrm flipV="1">
              <a:off x="6786720" y="3104280"/>
              <a:ext cx="4680" cy="59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32784"/>
            <p:cNvCxnSpPr>
              <a:stCxn id="78" idx="0"/>
              <a:endCxn id="79" idx="2"/>
            </p:cNvCxnSpPr>
            <p:nvPr/>
          </p:nvCxnSpPr>
          <p:spPr>
            <a:xfrm flipV="1">
              <a:off x="2355480" y="3104280"/>
              <a:ext cx="4680" cy="59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32782"/>
            <p:cNvCxnSpPr>
              <a:stCxn id="76" idx="0"/>
              <a:endCxn id="81" idx="2"/>
            </p:cNvCxnSpPr>
            <p:nvPr/>
          </p:nvCxnSpPr>
          <p:spPr>
            <a:xfrm flipV="1" rot="16200000">
              <a:off x="5383800" y="520200"/>
              <a:ext cx="591120" cy="2215440"/>
            </a:xfrm>
            <a:prstGeom prst="bentConnector3">
              <a:avLst>
                <a:gd name="adj1" fmla="val 184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2780"/>
            <p:cNvCxnSpPr>
              <a:stCxn id="79" idx="0"/>
              <a:endCxn id="81" idx="2"/>
            </p:cNvCxnSpPr>
            <p:nvPr/>
          </p:nvCxnSpPr>
          <p:spPr>
            <a:xfrm flipH="1" flipV="1" rot="5400000">
              <a:off x="3167640" y="520200"/>
              <a:ext cx="591120" cy="2216160"/>
            </a:xfrm>
            <a:prstGeom prst="bentConnector3">
              <a:avLst>
                <a:gd name="adj1" fmla="val 184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32776"/>
            <p:cNvSpPr/>
            <p:nvPr/>
          </p:nvSpPr>
          <p:spPr>
            <a:xfrm>
              <a:off x="2673000" y="1522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Цветков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раст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2777"/>
            <p:cNvSpPr/>
            <p:nvPr/>
          </p:nvSpPr>
          <p:spPr>
            <a:xfrm>
              <a:off x="457200" y="19234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Times New Roman"/>
                </a:rPr>
                <a:t>Однодольные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2779"/>
            <p:cNvSpPr/>
            <p:nvPr/>
          </p:nvSpPr>
          <p:spPr>
            <a:xfrm>
              <a:off x="4888080" y="19234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Times New Roman"/>
                </a:rPr>
                <a:t>Двудоль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2783"/>
            <p:cNvSpPr/>
            <p:nvPr/>
          </p:nvSpPr>
          <p:spPr>
            <a:xfrm>
              <a:off x="457200" y="369504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Пшеница,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кукуруза, тюльпан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2785"/>
            <p:cNvSpPr/>
            <p:nvPr/>
          </p:nvSpPr>
          <p:spPr>
            <a:xfrm>
              <a:off x="4888080" y="369504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Яблоня,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фасоль, горох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1523880" cy="16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502920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696080" y="5029200"/>
            <a:ext cx="1273320" cy="158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324480" y="502920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600200" y="5029200"/>
            <a:ext cx="150480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Lucida Sans Unicode"/>
              </a:rPr>
              <a:t>Инструкция по технике безопасности</a:t>
            </a: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Lucida Sans Unicode"/>
              </a:rPr>
              <a:t>при выполнении лабораторн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торожно пользоваться колющим инструментом (иглой). Пальцами держать объект так, что бы не укол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абочее место держать в порядке, предметы не разбрас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После выполнения работы,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27a09d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1048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Лаборатор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Тема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Изучение строения семени фасо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Цель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Изучить внешнее и внутреннее строение семени двудольн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Оборудование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Лупа, препаровальная игла, набухшие семена фасоли, салфе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7242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09680" y="3049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емя фасо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133720" y="3124080"/>
            <a:ext cx="198108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75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ародышевый кореш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990720" y="4266720"/>
            <a:ext cx="2286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50598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ж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09880" y="4114440"/>
            <a:ext cx="45720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267080" y="3505320"/>
            <a:ext cx="762120" cy="2133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0840" y="5974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емяд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1600200"/>
            <a:ext cx="31240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1160" y="213264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ародышевый стебелё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4</cp:lastModifiedBy>
  <dcterms:modified xsi:type="dcterms:W3CDTF">2008-10-11T07:5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