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7E6-6D28-438D-B81B-53AB30C5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62B-6C9F-483D-92F3-6ED1D7C6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EC3-B870-4DB7-B4A9-B9EF85D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63-FE06-4D2C-B44B-AF2F895E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EE6-E0C3-43A5-A730-4DCEF8EF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74D-C9FC-4C36-89B3-026CE73C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5F6-5BDF-46FE-8912-F01F4155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F13-7AB2-43F3-8DE6-A167516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827-7B51-4709-B933-F29731FD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B32-0C67-4128-9311-2AAA1CE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43C-183A-4AC8-86CF-2ED6BE0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893-E367-423A-8C48-EBD92394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252-5AEC-4922-B1E6-7709EB95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9528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НЕШНЕЕ И ВНУТРЕННЕЕ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ТРОЕНИЕ СЕМЕН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78040"/>
            <a:ext cx="7848720" cy="1487520"/>
          </a:xfrm>
          <a:prstGeom prst="rect">
            <a:avLst/>
          </a:prstGeom>
          <a:ln w="31680">
            <a:solidFill>
              <a:srgbClr val="660066"/>
            </a:solidFill>
            <a:miter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971800" y="457200"/>
            <a:ext cx="3124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 rot="8210400">
            <a:off x="2437560" y="159984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292000"/>
          </a:gra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953800">
            <a:off x="5752800" y="163836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10548000"/>
          </a:gradFill>
          <a:ln w="255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96400">
            <a:off x="533160" y="2437920"/>
            <a:ext cx="315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fffff7"/>
                    </a:gs>
                    <a:gs pos="100000">
                      <a:srgbClr val="cc00cc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СЕМЯННЫЕ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fffff7"/>
                  </a:gs>
                  <a:gs pos="100000">
                    <a:srgbClr val="cc00cc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 rot="20624400">
            <a:off x="5257800" y="2437920"/>
            <a:ext cx="3270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fffff7"/>
                    </a:gs>
                    <a:gs pos="100000">
                      <a:srgbClr val="cc00cc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НОГОСЕМЯННЫЕ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fffff7"/>
                  </a:gs>
                  <a:gs pos="100000">
                    <a:srgbClr val="cc00cc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413160"/>
            <a:ext cx="1809720" cy="133020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1465200" cy="182880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781280" cy="150516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91520" y="3124080"/>
            <a:ext cx="1258920" cy="165744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153040" y="4191120"/>
            <a:ext cx="1579680" cy="180972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858000" y="4952880"/>
            <a:ext cx="2133720" cy="1443240"/>
          </a:xfrm>
          <a:prstGeom prst="rect">
            <a:avLst/>
          </a:prstGeom>
          <a:ln w="25560">
            <a:solidFill>
              <a:srgbClr val="3399ff"/>
            </a:solidFill>
            <a:miter/>
          </a:ln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99"/>
                </a:solidFill>
                <a:latin typeface="Monotype Corsiva"/>
              </a:rPr>
              <a:t>Молодое растение - проро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62520" y="26665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1. Зародышевый 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0960" y="434340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2. Зародышевый поб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5816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4114800"/>
            <a:ext cx="457200" cy="609480"/>
          </a:xfrm>
          <a:prstGeom prst="ellipse">
            <a:avLst/>
          </a:prstGeom>
          <a:solidFill>
            <a:srgbClr val="00ff00"/>
          </a:solidFill>
          <a:ln w="316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71600"/>
            <a:ext cx="45720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Семя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- орган полового размножения и расселения растений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17540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Пшеница. 2. Гречи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Люп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Кле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75248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897200" cy="350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4320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161928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10080" y="41911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350496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43400" y="510552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001000" y="6095880"/>
            <a:ext cx="304920" cy="457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СТРОЕНИЕ С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360440"/>
            <a:ext cx="84582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57200" y="152280"/>
            <a:ext cx="8228520" cy="4723560"/>
            <a:chOff x="457200" y="152280"/>
            <a:chExt cx="8228520" cy="4723560"/>
          </a:xfrm>
        </p:grpSpPr>
        <p:cxnSp>
          <p:nvCxnSpPr>
            <p:cNvPr id="74" name="_s32786"/>
            <p:cNvCxnSpPr>
              <a:stCxn id="75" idx="0"/>
              <a:endCxn id="76" idx="2"/>
            </p:cNvCxnSpPr>
            <p:nvPr/>
          </p:nvCxnSpPr>
          <p:spPr>
            <a:xfrm flipV="1">
              <a:off x="6786720" y="3104280"/>
              <a:ext cx="4680" cy="59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32784"/>
            <p:cNvCxnSpPr>
              <a:stCxn id="78" idx="0"/>
              <a:endCxn id="79" idx="2"/>
            </p:cNvCxnSpPr>
            <p:nvPr/>
          </p:nvCxnSpPr>
          <p:spPr>
            <a:xfrm flipV="1">
              <a:off x="2355480" y="3104280"/>
              <a:ext cx="4680" cy="59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32782"/>
            <p:cNvCxnSpPr>
              <a:stCxn id="76" idx="0"/>
              <a:endCxn id="81" idx="2"/>
            </p:cNvCxnSpPr>
            <p:nvPr/>
          </p:nvCxnSpPr>
          <p:spPr>
            <a:xfrm flipV="1" rot="16200000">
              <a:off x="5383800" y="520200"/>
              <a:ext cx="591120" cy="2215440"/>
            </a:xfrm>
            <a:prstGeom prst="bentConnector3">
              <a:avLst>
                <a:gd name="adj1" fmla="val 184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2780"/>
            <p:cNvCxnSpPr>
              <a:stCxn id="79" idx="0"/>
              <a:endCxn id="81" idx="2"/>
            </p:cNvCxnSpPr>
            <p:nvPr/>
          </p:nvCxnSpPr>
          <p:spPr>
            <a:xfrm flipH="1" flipV="1" rot="5400000">
              <a:off x="3167640" y="520200"/>
              <a:ext cx="591120" cy="2216160"/>
            </a:xfrm>
            <a:prstGeom prst="bentConnector3">
              <a:avLst>
                <a:gd name="adj1" fmla="val 184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32776"/>
            <p:cNvSpPr/>
            <p:nvPr/>
          </p:nvSpPr>
          <p:spPr>
            <a:xfrm>
              <a:off x="2673000" y="1522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Цветков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раст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2777"/>
            <p:cNvSpPr/>
            <p:nvPr/>
          </p:nvSpPr>
          <p:spPr>
            <a:xfrm>
              <a:off x="457200" y="19234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Times New Roman"/>
                </a:rPr>
                <a:t>Однодольные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2779"/>
            <p:cNvSpPr/>
            <p:nvPr/>
          </p:nvSpPr>
          <p:spPr>
            <a:xfrm>
              <a:off x="4888080" y="192348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Times New Roman"/>
                </a:rPr>
                <a:t>Двудоль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2783"/>
            <p:cNvSpPr/>
            <p:nvPr/>
          </p:nvSpPr>
          <p:spPr>
            <a:xfrm>
              <a:off x="457200" y="369504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Пшеница,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кукуруза, тюльпан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2785"/>
            <p:cNvSpPr/>
            <p:nvPr/>
          </p:nvSpPr>
          <p:spPr>
            <a:xfrm>
              <a:off x="4888080" y="3695040"/>
              <a:ext cx="3797640" cy="1180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Яблоня,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фасоль, горох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5029200"/>
            <a:ext cx="1523880" cy="16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502920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696080" y="5029200"/>
            <a:ext cx="1273320" cy="158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324480" y="502920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600200" y="5029200"/>
            <a:ext cx="1504800" cy="1663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Lucida Sans Unicode"/>
              </a:rPr>
              <a:t>Инструкция по технике безопасности</a:t>
            </a: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Lucida Sans Unicode"/>
              </a:rPr>
              <a:t>при выполнении лабораторной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торожно пользоваться колющим инструментом (иглой). Пальцами держать объект так, что бы не уколо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абочее место держать в порядке, предметы не разбрас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После выполнения работы,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8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27a09d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1048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Лаборатор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Тема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Изучение строения семени фасо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Цель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Изучить внешнее и внутреннее строение семени двудольн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Lucida Sans Typewriter"/>
              </a:rPr>
              <a:t>Оборудование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66"/>
                </a:solidFill>
                <a:latin typeface="Monotype Corsiva"/>
              </a:rPr>
              <a:t>Лупа, препаровальная игла, набухшие семена фасоли, салфе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a09d"/>
            </a:gs>
            <a:gs pos="50000">
              <a:srgbClr val="00ffff"/>
            </a:gs>
            <a:gs pos="100000">
              <a:srgbClr val="27a0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7242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09680" y="3049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емя фасол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133720" y="3124080"/>
            <a:ext cx="198108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75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ародышевый кореш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990720" y="4266720"/>
            <a:ext cx="22860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50598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ож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09880" y="4114440"/>
            <a:ext cx="45720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267080" y="3505320"/>
            <a:ext cx="762120" cy="2133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0840" y="5974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емяд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1600200"/>
            <a:ext cx="31240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1160" y="213264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ародышевый стебелё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14</cp:lastModifiedBy>
  <dcterms:modified xsi:type="dcterms:W3CDTF">2008-10-11T07:5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