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60.gif" ContentType="image/gif"/>
  <Override PartName="/ppt/media/image48.jpeg" ContentType="image/jpeg"/>
  <Override PartName="/ppt/media/image47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25.jpeg" ContentType="image/jpeg"/>
  <Override PartName="/ppt/media/image49.gif" ContentType="image/gif"/>
  <Override PartName="/ppt/media/image17.jpeg" ContentType="image/jpeg"/>
  <Override PartName="/ppt/media/image3.png" ContentType="image/png"/>
  <Override PartName="/ppt/media/image56.jpeg" ContentType="image/jpeg"/>
  <Override PartName="/ppt/media/image43.jpeg" ContentType="image/jpeg"/>
  <Override PartName="/ppt/media/image1.jpeg" ContentType="image/jpeg"/>
  <Override PartName="/ppt/media/image54.gif" ContentType="image/gif"/>
  <Override PartName="/ppt/media/image22.jpeg" ContentType="image/jpeg"/>
  <Override PartName="/ppt/media/image15.jpeg" ContentType="image/jpeg"/>
  <Override PartName="/ppt/media/image18.jpeg" ContentType="image/jpeg"/>
  <Override PartName="/ppt/media/image20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46.jpeg" ContentType="image/jpeg"/>
  <Override PartName="/ppt/media/image55.gif" ContentType="image/gif"/>
  <Override PartName="/ppt/media/image16.gif" ContentType="image/gif"/>
  <Override PartName="/ppt/media/image64.jpeg" ContentType="image/jpeg"/>
  <Override PartName="/ppt/media/image38.jpeg" ContentType="image/jpeg"/>
  <Override PartName="/ppt/media/image61.gif" ContentType="image/gif"/>
  <Override PartName="/ppt/media/image41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65.jpeg" ContentType="image/jpeg"/>
  <Override PartName="/ppt/media/image24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7.gif" ContentType="image/gif"/>
  <Override PartName="/ppt/media/image8.png" ContentType="image/png"/>
  <Override PartName="/ppt/media/image23.jpeg" ContentType="image/jpeg"/>
  <Override PartName="/ppt/media/image5.png" ContentType="image/png"/>
  <Override PartName="/ppt/media/image39.jpeg" ContentType="image/jpeg"/>
  <Override PartName="/ppt/media/image2.gif" ContentType="image/gif"/>
  <Override PartName="/ppt/media/image14.gif" ContentType="image/gif"/>
  <Override PartName="/ppt/media/image28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5.gif" ContentType="image/gif"/>
  <Override PartName="/ppt/media/image4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439-FCB8-49F9-966C-16DB5237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122-1A0C-447E-95CE-CDBA12B4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54D-06B2-4B0C-BE73-2D174CB9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789-14ED-41DC-AA51-58959860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FFA-2DA5-4F2D-A662-DBD78F72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1AC-E049-474C-964C-CB8A37FB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C90-568E-4D6F-80A5-153719BC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9AE-24C6-4AC2-AAFF-3F7197D5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6DE-0C21-4A3F-B48F-EA188A18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BA0-94ED-4721-8856-4473DD06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FEC-CB05-415E-83F6-FE569201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505-96B0-4F3F-993A-E6E4DD1D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44FD-6DEF-4D5C-9D53-270453DA0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0.gif"/><Relationship Id="rId3" Type="http://schemas.openxmlformats.org/officeDocument/2006/relationships/image" Target="../media/image61.gif"/><Relationship Id="rId4" Type="http://schemas.openxmlformats.org/officeDocument/2006/relationships/image" Target="../media/image62.gi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2743200"/>
            <a:ext cx="5457600" cy="136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76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Бразилия</a:t>
            </a:r>
            <a:endParaRPr b="0" lang="en-US" sz="96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2485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: Хилинский Роман 11А класс шк №34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Природ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489744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о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еки Амазонка с притоками, Сан-Франсиску, Парана, Парагвай очень богаты гидро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Поч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В Бразилии преобладают желтозёмы и краснозёмы (ферралитовые почв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Ле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Влажные экваториальные и тропические леса с ценными видами деревьев (свыше 4000 видов) главное богатство Бразил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2735280" cy="202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434340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467480" y="2286000"/>
            <a:ext cx="1676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Органическ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5761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Леса богаты фауной: широконосые обезьяны, ленивец, муравьед, опоссум, ягуар, пума, оцелот, свинки-пекари, тапир, капибара. Многочисленны змеи, пресмыкающиеся, пт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2584440" cy="1722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95880" y="2438280"/>
            <a:ext cx="263844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300720" y="4724280"/>
            <a:ext cx="2586240" cy="1940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657600" y="4343400"/>
            <a:ext cx="13510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yarsky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5184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Население отличается пёстрым этническим составом. Это – результат исторических усло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05720" y="228600"/>
            <a:ext cx="166824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638680" y="4572000"/>
            <a:ext cx="3097440" cy="2070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76720" y="1981080"/>
            <a:ext cx="5184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Народы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: 55%- выходцы из Европы, 38% - мулаты, 6%-африканцы, 1 % - другие. 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Язык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: португа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3505320"/>
            <a:ext cx="518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Религия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70%- католики; остальные служат различным местным культам или анимизму индейце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952880"/>
            <a:ext cx="6022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Продолжительность жизни у мужчин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62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года, у женщин – 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68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По последним данным население страны достигло 175 миллионов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yarsky"/>
              </a:rPr>
              <a:t>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532908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Бразильская культура была сформирована не только португальцами, которые первыми принесли на эти земли свою религию и язык, но также "родным" населением - индейцами, африканцами и другими поселенцами из Европы, ближнего Востока и 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Католический собор"/>
          <p:cNvPicPr/>
          <p:nvPr/>
        </p:nvPicPr>
        <p:blipFill>
          <a:blip r:embed="rId2"/>
          <a:stretch/>
        </p:blipFill>
        <p:spPr>
          <a:xfrm>
            <a:off x="304920" y="4038480"/>
            <a:ext cx="2736720" cy="256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14920" y="3886200"/>
            <a:ext cx="532908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результате мы получили совершенно очаровательную музыку, великих пис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зильская музыка всегда отличалась большим разнообразием стилей и инструментов, она сформировалась под влиянием музыки трех континентов и до сих пор все еще развивается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87280" y="274680"/>
            <a:ext cx="662472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152640" y="1371600"/>
            <a:ext cx="3787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Фестивали в  Бразилии стали обычным явлением и проходят чуть ли не круглогоди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 rot="319800">
            <a:off x="6039000" y="3657600"/>
            <a:ext cx="3105000" cy="2048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rot="769200">
            <a:off x="3649680" y="1819440"/>
            <a:ext cx="1836720" cy="3200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 rot="20524200">
            <a:off x="228600" y="3048120"/>
            <a:ext cx="271152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752480"/>
            <a:ext cx="3733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Самый главный и важный праздник - это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Carnaval,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который празднуется в течение пяти дней с пятницы по вторни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562720"/>
            <a:ext cx="7391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Этот праздник отмечается на всей территории Бразилии и проходит по различным сценариям в каждом го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8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99ff"/>
                </a:solidFill>
                <a:latin typeface="Boyarsky"/>
              </a:rPr>
              <a:t>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228600" y="1447560"/>
            <a:ext cx="4896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Бразилия славится не только своими карнавалами, но и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футболом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В Бразилии очень много знаменитых футболистов, которых знают в лицо все футбольные фанат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дион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рака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- один из крупнейших в ми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938920" y="0"/>
            <a:ext cx="3205080" cy="2077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1118400">
            <a:off x="7009920" y="4647960"/>
            <a:ext cx="1851120" cy="1904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477120" y="2743200"/>
            <a:ext cx="179856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Хозяйство Бразилии </a:t>
            </a:r>
            <a:br>
              <a:rPr sz="4000"/>
            </a:b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Промышл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511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Главные отрасли промышл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Горнодобыва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Машино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Нефтехи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Тексти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Ле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В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04000" y="1484280"/>
            <a:ext cx="2127240" cy="1595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979640" y="5157720"/>
            <a:ext cx="1844640" cy="1384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284720" y="2565360"/>
            <a:ext cx="2282760" cy="171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7391520" y="3505320"/>
            <a:ext cx="1444680" cy="2921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962520" y="4572000"/>
            <a:ext cx="2981160" cy="17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Сельск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фе – одна из основных статей бразильского экспорта. Страна обеспечивае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рно пятую часть всех мировых поставок коф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738840" y="2895480"/>
            <a:ext cx="2405160" cy="1801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172200" y="49528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28600" y="4419720"/>
            <a:ext cx="1749600" cy="1749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480" y="2819520"/>
            <a:ext cx="4496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 другим продуктам экспорта относятся: апельсиновый сок, соевые бобы, рис,  хлопок, тростниковый сах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4038480"/>
            <a:ext cx="44960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разильские леса дают ценные породы древесины, например красного дерева, а также орехи, каучук и сырье для многих лекарственных препа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Трансп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540072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вид транспорта- автомобильный. Протяжённость автодорог- более 2 млн.кило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езнодорожный- сконцентрирован на Юго- Востоке и Юге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ый- играет важную роль в международных и внутренних пассажироперевоз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развит морской и речной тран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162920" y="480996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419720" y="2133720"/>
            <a:ext cx="1323720" cy="1028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024680" y="1015920"/>
            <a:ext cx="147636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4956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огатство и разнообразие флоры и фауны Бразилии поражает вооб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20499000">
            <a:off x="4495680" y="990720"/>
            <a:ext cx="2381400" cy="1903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520800">
            <a:off x="457200" y="2666880"/>
            <a:ext cx="2298600" cy="1724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834160" y="4376880"/>
            <a:ext cx="3309840" cy="2481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267080" y="2514600"/>
            <a:ext cx="4876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есмотря на ее естественное богатство, Бразилия известна своим пренебрежительным и разрушающим действием на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4724280"/>
            <a:ext cx="44960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стоящее время в Бразилии учреждено 25 национальных пар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имаются Законы о защите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7086600" y="533520"/>
            <a:ext cx="16812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495680" y="7621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лное название страны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федеративная республика Бразилия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лощад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8,51 миллионов кв. км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селение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75 миллионов человек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толиц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Бразилиа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осударственный строй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республика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АТ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ед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34320" y="5562720"/>
            <a:ext cx="1747800" cy="1164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410080" y="5562720"/>
            <a:ext cx="101304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-228600" y="762120"/>
            <a:ext cx="54864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Визитная карто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066680" y="1828800"/>
            <a:ext cx="1208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9280" y="2990880"/>
            <a:ext cx="5905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4316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Boyarsky"/>
              </a:rPr>
              <a:t>Экономико-географическое положение</a:t>
            </a:r>
            <a:r>
              <a:rPr b="0" lang="en-US" sz="4000" spc="-1" strike="noStrike">
                <a:solidFill>
                  <a:srgbClr val="3366ff"/>
                </a:solidFill>
                <a:latin typeface="Boyarsky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05280" y="1371240"/>
            <a:ext cx="251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Бразилия - пятая по площади страна в мире, занимает почти половину южноамериканского контин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563868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Граничит почти с каждой страной Южной Америки, кроме Чили и Эквад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80880" y="5486400"/>
            <a:ext cx="396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Омывается водами Атлантического океана.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1752480"/>
            <a:ext cx="2514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Бразилия - одна из ключевых стран развивающегося мира, её лид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75240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Boyarsky"/>
              </a:rPr>
              <a:t>История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9280" y="1600200"/>
            <a:ext cx="518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500 году, Педро Альваресе Кабрал собирает в Лиссабоне эскадру из 13 кораблей, якобы для путешествия в Индию, и "случайно" прибывает на бразильское побережье около современного Порто Сегур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531 году, король Португалии Джо III послал первых поселенцев к берегам Брази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534 году разделил побережье на 15 частей и раздал земли своим капитанам и друзьям короны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3673440" cy="273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3381480" cy="225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76720" y="5181480"/>
            <a:ext cx="125712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Столица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75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ой столицей был гор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львадор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португ.яз.озн. «спаситель») (С 1500-1750 г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ая столица - город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о-де-Жанейр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(С18века по 20ве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Новая столица Бразилии находится в центре страны. Её открытие состоялось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21апреля 1960года.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Называется столица- </a:t>
            </a: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Бразили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. С высоты птичьего полёта город напоминает своими очертаниями самолё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81480" y="2438280"/>
            <a:ext cx="28101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Природные условия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Кли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ольшая часть территории расположена в тропическом поясе и лишь самая южная окраина страны заходит в субтропический поя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арактерны высокие среднегодовые температуры, а разница средних температур самого холодного и самого теплого месяцев составляют в тропической Бразилии не более 3-4 граду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лажным и жарким тропическим климатом обладает Амазо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убтропическая часть Бразилии отличается жарким летом и прохладной зимой, увлажнение обильное, среднегодовые температуры составляют 16-19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91320" y="3886200"/>
            <a:ext cx="3135240" cy="2351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791320" y="1447920"/>
            <a:ext cx="309060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Релье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9068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Бразилию может разделить на четыре главных географических рег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1384200">
            <a:off x="6629040" y="4495680"/>
            <a:ext cx="2514600" cy="1866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0" y="190512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Длинное и узкое Атлантическое побережье с прибрежными полос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3657600"/>
            <a:ext cx="4191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Большая плоскогорная  местность - плато Бразильеро или центральное пла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228600" y="3505320"/>
            <a:ext cx="3733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Две равнинные плоскости: бассейн Парана-Парагвай на юге, который полностью покрыт лесом, и огромное полотно бассейна Амазонки на севере. 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 rot="1060200">
            <a:off x="6476760" y="304920"/>
            <a:ext cx="2438280" cy="1585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76600" cy="1736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 rot="20851200">
            <a:off x="3123720" y="5105160"/>
            <a:ext cx="2295720" cy="14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Природ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Бразилия очень богата минеральными ресурсами: рудами металлов (вольфрам, уран, торий, титан, железо, золота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1731960" cy="1729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124080" y="4419720"/>
            <a:ext cx="2324160" cy="162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81080" y="2286000"/>
            <a:ext cx="5051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В стране есть месторождения драгоценных камней (изумруды, сапфиры, агаты, аметис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228600" y="4572000"/>
            <a:ext cx="4114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йдены нефть, природный газ, уг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ибакова Кристина</dc:creator>
  <dc:description/>
  <dc:language>en-US</dc:language>
  <cp:lastModifiedBy>home user</cp:lastModifiedBy>
  <dcterms:modified xsi:type="dcterms:W3CDTF">2009-09-20T08:23:38Z</dcterms:modified>
  <cp:revision>20</cp:revision>
  <dc:subject/>
  <dc:title>Бразил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