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AF0-B904-4DB2-829D-129C6967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4D0-9F6F-4F2C-B9B5-78BB8F9A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A19-500C-4D51-B308-DF28F18F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D34-D297-4911-AEC9-25EE665A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BAE-3501-47C9-A3BB-E2173FE2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35C-281C-4FE2-B0E0-BFADBAF3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8C1-8367-4C65-8B40-4D208D84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667-CE2B-459E-93F6-C0564680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31B-C1FE-4A41-B015-294483A1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991-F372-4393-BF90-7A4339B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E51-B13D-4799-83E0-4A125C73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CC4-204B-4F2C-A027-BC48A5F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3184-7DEE-4085-9322-B801A5247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Times New Roman"/>
              </a:rPr>
              <a:t>Характеристика помещика Мани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Презентацию подготов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Ученица 9 Б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Матвеева 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Манилов - Картинка 937/49"/>
          <p:cNvPicPr/>
          <p:nvPr/>
        </p:nvPicPr>
        <p:blipFill>
          <a:blip r:embed="rId2"/>
          <a:stretch/>
        </p:blipFill>
        <p:spPr>
          <a:xfrm>
            <a:off x="5991120" y="2060640"/>
            <a:ext cx="3152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Ре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Речь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Манилова похожа на него самого: сладкая, неопределенная, бессодержатель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«Конечно, — продолжал Манилов, — другое дело, если бы соседство было хорошее, если бы, например, такой человек, с которым бы в некотором роде можно было поговорить о любезности, о хорошем обращении, следить какую-нибудь этакую науку, чтобы этак расшевелило душу, дало бы, так сказать, паренье этак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Характ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Манилов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до крайности мил, обходителен, вежлив. Он не знает чувства меры. В нем нет ни характера, ни даже зад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«Есть род людей известных под именем: люди так себе, ни то, ни с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редается неопределенным пустым мечтам и совершенно удаляется от ре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25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00080"/>
                </a:solidFill>
                <a:uFillTx/>
                <a:latin typeface="Arial"/>
              </a:rPr>
              <a:t>Отношение к предложению Чичк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Манило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выронил тут же чубук с трубкою на пол и как разинул рот, так и остался с разинутым ртом в продолжение нескольких минут. …Манилов поднял трубку с чубуком и поглядел снизу ему в лицо, стараясь высмотреть, не видно ли какой усмешки на губах его, не пошутил ли он; но ничего не было видно такого, напротив, лицо даже казалось степеннее обыкновенного… Манилов… ничего другого не мог придумать, как только выпустить изо рта оставшийся дым очень тонкой стру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« —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Но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позвольте доложить, не будет ли это предприятие или, чтоб еще более, так сказать, выразиться, негоция, — так не будет ли эта негоция несоответствующею гражданским постановлениям и дальнейшим видам Ро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десь Манилов, сделавши некоторое движение головою, посмотрел очень значительно в лицо Чичикова, показав во всех чертах лица своего и сжатых губах такое глубокое выражение, какого, может быть, и не видано было на человеческом лице, разве только у какого-нибудь слишком умного министра, да и то в минуту самого головоломно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о Чичиков сказал просто, что подобное предприятие, или негоция, никак не будет несоответствующею гражданским постановлениям и дальнейшим видам России, а чрез минуту потом прибавил, что казна получит даже выгоды, ибо получит законные пошлины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Итог сдел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4546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Манилов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рад угодить Чичикову, он передает ему мертвые души, отказываясь от денег. Чичиков невероятно дово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Гоголь 2 - Гоголь - Картинки по литературе"/>
          <p:cNvPicPr/>
          <p:nvPr/>
        </p:nvPicPr>
        <p:blipFill>
          <a:blip r:embed="rId2"/>
          <a:stretch/>
        </p:blipFill>
        <p:spPr>
          <a:xfrm>
            <a:off x="5472000" y="1714680"/>
            <a:ext cx="3672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7236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Им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Дом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господский стоял одиночкой на юру, то есть на возвышении, открытом всем ветрам, какие только вздумается подуть; покатость горы, на которой он стоял, была одета подстриженным дерном. На ней были разбросаны по-английски две-три клумбы с кустами сиреней и желтых акаций; пять-шесть берез небольшими купами кое-где возносили свои мелколистные жиденькие вершины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000066"/>
                </a:solidFill>
                <a:latin typeface="Arial"/>
              </a:rPr>
              <a:t>Под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двумя из них видна была беседка с плоским зеленым куполом, деревянными голубыми колоннами и надписью: «Храм уединенного размышления»; пониже пруд, покрытый зеленью, что, впрочем, не в диковинку в аглицких садах русских помещиков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Павел Иванович Чичиков - В гостях у Манилова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«…темнели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вдоль и поперек серенькие бревенчатые избы, которые герой наш… в ту ж минуту принялся считать и насчитал более двухсот; нигде между ними растущего деревца или какой-нибудь зелени; везде глядело только одно бревно. Вид оживляли две бабы, которые, картинно подобравши платья и подтыкавшись со всех сторон, брели по колени в пруде, влача за два деревянные кляча изорванный бредень, где видны были два запутавшиеся рака и блестела попавшаяся плотва; бабы, казались, были между собою в ссоре и за что-то перебранивались. Поодаль в стороне темнел каким-то скучно-синеватым цветом сосновый лес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Интерь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доме его чего-нибудь вечно недоставало: в гостиной стояла прекрасная мебель, обтянутая щегольской шелковой материей, которая, верно, стоила весьма недешево; но на два кресла ее недостало, и кресла стояли обтянуты просто рогожею; впрочем, хозяин в продолжение нескольких лет всякий раз предостерегал своего гостя словами: „Не садитесь на эти кресла, они еще не готовы“. В иной комнате и вовсе не было мебели, хотя и было говорено в первые дни после женитьбы: „Душенька, нужно будет завтра похлопотать, чтобы в эту комнату хоть на время поставить мебель“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Черты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лица его были не лишены приятности, но в эту приятность, казалось, чересчур было передано сахару; в приемах и оборотах его было что-то заискивающее расположения и знакомства. Он улыбался заманчиво, был белокур, с голубыми глазам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933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Трубка в изобразительном искусстве - Страница 31 - Вокруг трубки - Клуб Курильщиков Трубки"/>
          <p:cNvPicPr/>
          <p:nvPr/>
        </p:nvPicPr>
        <p:blipFill>
          <a:blip r:embed="rId2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3:25:16Z</dcterms:created>
  <dc:creator>Анастасия</dc:creator>
  <dc:description/>
  <dc:language>en-US</dc:language>
  <cp:lastModifiedBy>Анастасия</cp:lastModifiedBy>
  <dcterms:modified xsi:type="dcterms:W3CDTF">2015-03-19T14:53:11Z</dcterms:modified>
  <cp:revision>2</cp:revision>
  <dc:subject/>
  <dc:title>Характеристика помещика Манилова</dc:title>
</cp:coreProperties>
</file>