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921-E5C1-4028-83FE-FC21F3E9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F71-2BF5-475B-B351-FCA3ECEC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249-495F-44BD-9525-00BE842F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668-548F-4DFD-B638-905C8A13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288C-B946-44C3-B241-F35DBEE0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2A0E-4D19-415B-816F-16D53645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E723-8AFE-4C11-9478-4E23705D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8A93-9579-43C6-BB24-46C00551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DFA8-9D74-43AB-9475-36C8277A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D341-2280-4A80-A32C-9827051C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FD22-6B66-4116-9CEB-42F40B4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1D2-8447-4B84-A524-683C83CF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F751-E360-4899-AC02-89F17990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4449-823C-452F-92B3-34944B51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E8BE-B936-46CE-AEC0-B9FFA97E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DAF0-C0FF-4CFF-88BA-9EC8191A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E93A-A9C0-4A28-8331-69B4C349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A46-F473-4868-92D4-903F0562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69F-6431-40DC-9E06-7CBDDA59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EB2-2135-498B-BCDA-22064161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DEA-412E-442B-B9DE-E2B608F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01D-952F-4A62-BC85-C5C1D930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BE7-74E5-4848-87A2-621B8131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B9E-C1E9-4A4A-8B55-A4AAA6DE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17F9-A164-4AFC-B6B5-DD4AE6EC8B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447-E6F7-46CC-A2CB-DB5DB8B370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тематический КВН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лешкина В.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Музыкальный конкурс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вать песни, сказки, кинофильмы, книги, содержащих числа и математические терми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«Кто быстрее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 мальчика-с-пальчик было 6 братьев. У каждого из семи мальчиков в семье дровосека было по сель сестер. Сколько всего детей было в семь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чему штативы к фотоаппаратам, землемерным инструментам и рояли  имеют 3 ноги, а не 4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исло 666 увеличить в полтора раза, не производя над ним арифметических дейст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 Айболиту на прием пришли звери: все кроме двух, собаки; все, кроме двух- кошки; все,  кроме двух –зайцы. Сколько животных пришло к Айболиту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«Кто быстрее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делите 5 яблок между пятью лицами, так, чтобы каждый получил по яблоку и одно осталось в корзин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записать 2, тремя пятерками и двумя знаками действ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е число делится на все числа без остат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руках 10 пальцев. Сколько пальцев на  пяти рука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Капитан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ставить знаки действий так, чтобы получилось 1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команда: 8  6  5  4=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  8  1  3=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команда: 3  6  6  2=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 9  8  5=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капитано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йте определения данным понятия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адратолуч; Окружнопараллелепипед; Центротреугольник; Кругоуравн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место многоточия подставить число прописью, чтобы получилось слов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1 коман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По…л; 2. И…рия; 3….я; 4.С…ж; 5. Пи...лет; 6. …лб;  7.  …г; 8. …котаж ; 9. О…; 10. И…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2коман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Р…а; 2. …а; 3. Про…р; 4. Ви…на; 5. Те…; 6. С…жка; 7. Сви…к; 8. …буна; 9. …очество; 10. …то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обери пословицу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р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020320" y="2286360"/>
            <a:ext cx="51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Кома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 раз отмерь, один раз отре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 семи  нянек дитя без гл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лакать в три руч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2 кома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еро одного не ж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дна голова хорошо, а две луч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дин пашет, а семеро руками маш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болельщиков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На какой вопрос невозможно ответить «да»?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Что можно увидеть с закрытыми глазами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У трёх шоферов был брат Семён, а у Семёна братьев не было. Как это могло случиться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Где на Земле самые длинные сутки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Какое колесо автомобиля не вращается при спуске с горы?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Горели три электрические лампочки. Одну из них погасили. Сколько лампочек осталось?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Какое время показывают часы, когда они бьют 13 раз?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згадай ребу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Рисунок 1" descr="q2"/>
          <p:cNvPicPr/>
          <p:nvPr/>
        </p:nvPicPr>
        <p:blipFill>
          <a:blip r:embed="rId1"/>
          <a:stretch/>
        </p:blipFill>
        <p:spPr>
          <a:xfrm>
            <a:off x="228600" y="1828800"/>
            <a:ext cx="2133720" cy="13939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snap0525"/>
          <p:cNvPicPr/>
          <p:nvPr/>
        </p:nvPicPr>
        <p:blipFill>
          <a:blip r:embed="rId2"/>
          <a:stretch/>
        </p:blipFill>
        <p:spPr>
          <a:xfrm>
            <a:off x="380880" y="4038480"/>
            <a:ext cx="1828800" cy="943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snap0502"/>
          <p:cNvPicPr/>
          <p:nvPr/>
        </p:nvPicPr>
        <p:blipFill>
          <a:blip r:embed="rId3"/>
          <a:stretch/>
        </p:blipFill>
        <p:spPr>
          <a:xfrm>
            <a:off x="2666880" y="3124080"/>
            <a:ext cx="1828800" cy="88596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snap0532"/>
          <p:cNvPicPr/>
          <p:nvPr/>
        </p:nvPicPr>
        <p:blipFill>
          <a:blip r:embed="rId4"/>
          <a:stretch/>
        </p:blipFill>
        <p:spPr>
          <a:xfrm>
            <a:off x="5562720" y="190512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4" descr="snap0523"/>
          <p:cNvPicPr/>
          <p:nvPr/>
        </p:nvPicPr>
        <p:blipFill>
          <a:blip r:embed="rId5"/>
          <a:stretch/>
        </p:blipFill>
        <p:spPr>
          <a:xfrm>
            <a:off x="5257800" y="3429000"/>
            <a:ext cx="2438280" cy="14479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6" descr="snap0524"/>
          <p:cNvPicPr/>
          <p:nvPr/>
        </p:nvPicPr>
        <p:blipFill>
          <a:blip r:embed="rId6"/>
          <a:stretch/>
        </p:blipFill>
        <p:spPr>
          <a:xfrm>
            <a:off x="3048120" y="5486400"/>
            <a:ext cx="1752480" cy="108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художнико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рисуйте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– будущий д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рисовать крышу и двер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рубу и дым из неё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рава от дома – ёлоч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 дому – тропин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р около дом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 rot="937800">
            <a:off x="3885840" y="1294920"/>
            <a:ext cx="4038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Н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937800">
            <a:off x="5472000" y="55404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Н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вопрос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о вопросу каждой команд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Сколько понедельников может быть в месяце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Назовите пять дней недели, не называя ни числа, ни названия этих дней недел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Обеим команда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 слова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оставить как можно больше с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 rot="937800">
            <a:off x="3885840" y="1294920"/>
            <a:ext cx="4038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Н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 rot="937800">
            <a:off x="5472000" y="55404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ВН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Дорогу осилит идущий, а математику мыслящий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0" y="3808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виз КВН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риветствия коман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змин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просы 1 команде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туральные числа  - это …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² = …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ая дробь называется правильной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• 0 = …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ормула площади квадрат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найдём, если площадь прямоугольника разделим на его ширину?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му равен объём куба с ребром 2 см?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змин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просы 2 команде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: 0 = 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иметр – это 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мерения параллелепипеда 2,4 и 5 см. Чему равен объём?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ибольшее двузначное число это … ?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ормула пути.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³= …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у = 30,  у = …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внима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числа, которые делятся на числ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3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2, 36, 43, 54, 48, 10, 17, 21, 23,3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4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, 8, 24, 5, 36, 11, 60, 26, 100, 2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Математический б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1 команд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Буханка весит полкилограмма и полбуханки. Сколько весит целая бухан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колько концов у 6 с половиной палок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Через два года Сережа будет вдвое старше, чем был 2 года тому назад. Сколько лет будет тогда Сереж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Математический бо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2 коман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шок сахарного песка весит  на 50 кг больше, чем половина  этого мешка с сахарным песком. Сколько весит мешок сахарного пес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тяжелее центнер кирпичей или центнер целлофановых пакет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лодя через три года вдвое старше, чем 3 года назад. Сколько лет Волод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14-01-26T07:59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