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DB7-07B7-46EA-AA13-2D490759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BCEA-417B-45B4-B6D9-A26ABECA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417-319A-40B0-876D-B01DE5E7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8DAB-4A9A-4F54-A987-268DE568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08D2-DE90-45F0-BBC1-C97D718F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64D2-8A58-4AEF-BCD7-6D3A0BE9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8F9E-DDB8-42EC-92C9-3EA093D6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2731-EFEB-4BEC-8198-86BD5286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8E50-0523-44EE-8C69-43360E39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21AE-C710-4CC1-93B2-EF123150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D71F-82B5-46DC-853B-7CB148C1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FB5A-C5B8-486B-8066-D4155783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93C1-0190-4165-BFC3-469C894A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9EE2-36A2-43AB-86D4-59CA8F00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CE86-8571-469E-90A2-16909B9E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5AF0-AE49-42B8-880E-DA1A7519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CF91-D8A4-4F1E-BEAB-D2F512EB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93FC-C0BD-43EA-B0F3-EFE4F4C4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777B-9546-404D-A8A1-5A14C9F2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58E0-5720-47EA-9425-253BA2C8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42E8-102A-414E-AE24-B9E0452A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41FE-ED36-401F-A330-69702F78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18C9-38A5-42A5-A1FA-F06606F8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DA60-3BBE-454A-9EFD-EF1585AE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0040-BA31-473C-82D5-9FDD2A1F900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F665-3000-4785-979D-06AF88293E0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атематический КВН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лешкина В.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Музыкальный конкурс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вать песни, сказки, кинофильмы, книги, содержащих числа и математические терми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Конкурс «Кто быстрее?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 мальчика-с-пальчик было 6 братьев. У каждого из семи мальчиков в семье дровосека было по сель сестер. Сколько всего детей было в семье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чему штативы к фотоаппаратам, землемерным инструментам и рояли  имеют 3 ноги, а не 4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Число 666 увеличить в полтора раза, не производя над ним арифметических дейст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 Айболиту на прием пришли звери: все кроме двух, собаки; все, кроме двух- кошки; все,  кроме двух –зайцы. Сколько животных пришло к Айболиту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Конкурс «Кто быстрее?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зделите 5 яблок между пятью лицами, так, чтобы каждый получил по яблоку и одно осталось в корзин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 записать 2, тремя пятерками и двумя знаками действ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е число делится на все числа без остатк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 руках 10 пальцев. Сколько пальцев на  пяти рука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Конкурс Капитанов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сставить знаки действий так, чтобы получилось 13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 команда: 8  6  5  4=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  8  1  3=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команда: 3  6  6  2=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 9  8  5=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Конкурс капитанов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айте определения данным понятия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радратолуч; Окружнопараллелепипед; Центротреугольник; Кругоуравн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Ребус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место многоточия подставить число прописью, чтобы получилось слов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1 команд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По…л; 2. И…рия; 3….я; 4.С…ж; 5. Пи...лет; 6. …лб;  7.  …г; 8. …котаж ; 9. О…; 10. И…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2команд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Р…а; 2. …а; 3. Про…р; 4. Ви…на; 5. Те…; 6. С…жка; 7. Сви…к; 8. …буна; 9. …очество; 10. …то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Собери пословицу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вер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2020320" y="2286360"/>
            <a:ext cx="510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Коман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емь раз отмерь, один раз отреж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 семи  нянек дитя без гл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лакать в три руч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2 коман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емеро одного не жд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дна голова хорошо, а две луч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дин пашет, а семеро руками маш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Конкурс болельщиков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На какой вопрос невозможно ответить «да»?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Что можно увидеть с закрытыми глазами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У трёх шоферов был брат Семён, а у Семёна братьев не было. Как это могло случиться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Где на Земле самые длинные сутки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Какое колесо автомобиля не вращается при спуске с горы?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.Горели три электрические лампочки. Одну из них погасили. Сколько лампочек осталось?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.Какое время показывают часы, когда они бьют 13 раз?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Разгадай ребус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Рисунок 1" descr="q2"/>
          <p:cNvPicPr/>
          <p:nvPr/>
        </p:nvPicPr>
        <p:blipFill>
          <a:blip r:embed="rId1"/>
          <a:stretch/>
        </p:blipFill>
        <p:spPr>
          <a:xfrm>
            <a:off x="228600" y="1828800"/>
            <a:ext cx="2133720" cy="139392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" descr="snap0525"/>
          <p:cNvPicPr/>
          <p:nvPr/>
        </p:nvPicPr>
        <p:blipFill>
          <a:blip r:embed="rId2"/>
          <a:stretch/>
        </p:blipFill>
        <p:spPr>
          <a:xfrm>
            <a:off x="380880" y="4038480"/>
            <a:ext cx="1828800" cy="9432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snap0502"/>
          <p:cNvPicPr/>
          <p:nvPr/>
        </p:nvPicPr>
        <p:blipFill>
          <a:blip r:embed="rId3"/>
          <a:stretch/>
        </p:blipFill>
        <p:spPr>
          <a:xfrm>
            <a:off x="2666880" y="3124080"/>
            <a:ext cx="1828800" cy="88596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" descr="snap0532"/>
          <p:cNvPicPr/>
          <p:nvPr/>
        </p:nvPicPr>
        <p:blipFill>
          <a:blip r:embed="rId4"/>
          <a:stretch/>
        </p:blipFill>
        <p:spPr>
          <a:xfrm>
            <a:off x="5562720" y="1905120"/>
            <a:ext cx="1981080" cy="119052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4" descr="snap0523"/>
          <p:cNvPicPr/>
          <p:nvPr/>
        </p:nvPicPr>
        <p:blipFill>
          <a:blip r:embed="rId5"/>
          <a:stretch/>
        </p:blipFill>
        <p:spPr>
          <a:xfrm>
            <a:off x="5257800" y="3429000"/>
            <a:ext cx="2438280" cy="144792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6" descr="snap0524"/>
          <p:cNvPicPr/>
          <p:nvPr/>
        </p:nvPicPr>
        <p:blipFill>
          <a:blip r:embed="rId6"/>
          <a:stretch/>
        </p:blipFill>
        <p:spPr>
          <a:xfrm>
            <a:off x="3048120" y="5486400"/>
            <a:ext cx="1752480" cy="1082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Конкурс художников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рисуйте прямоугольни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– будущий д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орисовать крышу и дверь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рубу и дым из неё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права от дома – ёлочк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 дому – тропин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бор около дом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 rot="937800">
            <a:off x="3885840" y="1294920"/>
            <a:ext cx="40384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ВН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 rot="937800">
            <a:off x="5472000" y="554040"/>
            <a:ext cx="2743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ВН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Конкурс вопрос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По вопросу каждой команд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Сколько понедельников может быть в месяце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Назовите пять дней недели, не называя ни числа, ни названия этих дней недел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Обеим командам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з слова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составить как можно больше сл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 rot="937800">
            <a:off x="3885840" y="1294920"/>
            <a:ext cx="40384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ВН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" name=""/>
          <p:cNvSpPr txBox="1"/>
          <p:nvPr/>
        </p:nvSpPr>
        <p:spPr>
          <a:xfrm rot="937800">
            <a:off x="5472000" y="554040"/>
            <a:ext cx="2743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ВН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«Дорогу осилит идущий, а математику мыслящий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86000" y="380880"/>
            <a:ext cx="4038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виз КВН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Приветствия команд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Разминк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просы 1 команде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туральные числа  - это …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² = …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кая дробь называется правильной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 • 0 = …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Формула площади квадрат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то найдём, если площадь прямоугольника разделим на его ширину?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ему равен объём куба с ребром 2 см?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Разминк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просы 2 команде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: 0 = …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иметр – это …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змерения параллелепипеда 2,4 и 5 см. Чему равен объём?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ибольшее двузначное число это … ?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Формула пути.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³= …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у = 30,  у = …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Конкурс внимани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овите числа, которые делятся на числ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3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2, 36, 43, 54, 48, 10, 17, 21, 23,30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4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3, 8, 24, 5, 36, 11, 60, 26, 100, 25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Математический бо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1 команд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Буханка весит полкилограмма и полбуханки. Сколько весит целая буханк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Сколько концов у 6 с половиной палок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Через два года Сережа будет вдвое старше, чем был 2 года тому назад. Сколько лет будет тогда Сереж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Математический бой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2 команд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шок сахарного песка весит  на 50 кг больше, чем половина  этого мешка с сахарным песком. Сколько весит мешок сахарного песк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то тяжелее центнер кирпичей или центнер целлофановых пакетов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олодя через три года вдвое старше, чем 3 года назад. Сколько лет Волод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ера</cp:lastModifiedBy>
  <dcterms:modified xsi:type="dcterms:W3CDTF">2014-01-26T07:59:1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