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37F-1CB3-418E-9480-DC450DE6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A6C-0D8E-4E92-8850-CF21E3FB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D7E2-A50A-4ED3-8E9B-BA0B723C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30E-5777-4695-90C4-ECE489F1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5455-1A3B-4B25-BBC0-AB5964E6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039-8241-4C60-9CEC-55F7910B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B30A-BE08-477E-A2AE-C517943F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A28-18F4-45A0-A879-C56DBF8D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0ABF-C4EC-44D5-9F9A-DA84FA21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D7B-0023-40A8-993C-699A4794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A8F3-1F73-4545-8319-6D7E01BE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D92E-3F78-46D9-B14F-6DF4F1D0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3A8B-CFD9-4668-8981-EBFF1D019C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498600" y="352440"/>
            <a:ext cx="2644560" cy="35305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3471840" y="549360"/>
            <a:ext cx="556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  <a:ea typeface="Tahoma"/>
              </a:rPr>
              <a:t>Муниципальное автономное дошкольное образовательное учреждение «Детский сад №456 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ahoma"/>
                <a:ea typeface="Tahoma"/>
              </a:rPr>
              <a:t>«По щучьему велению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3708360" y="2924280"/>
            <a:ext cx="4730760" cy="355428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468360" y="3995640"/>
            <a:ext cx="345600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Кулемали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ле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лександро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зыкальный руководи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ический стаж рабо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6 л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5" descr="Картинки по запросу музыкальные инструменты своими руками для детского сада"/>
          <p:cNvPicPr/>
          <p:nvPr/>
        </p:nvPicPr>
        <p:blipFill>
          <a:blip r:embed="rId1"/>
          <a:stretch/>
        </p:blipFill>
        <p:spPr>
          <a:xfrm>
            <a:off x="351000" y="189000"/>
            <a:ext cx="4235400" cy="3159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Картинки по запросу картинки музыкальных инструментах для детей"/>
          <p:cNvPicPr/>
          <p:nvPr/>
        </p:nvPicPr>
        <p:blipFill>
          <a:blip r:embed="rId2"/>
          <a:stretch/>
        </p:blipFill>
        <p:spPr>
          <a:xfrm>
            <a:off x="4782960" y="3708360"/>
            <a:ext cx="4172040" cy="31273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Картинки по запросу картинки музыкальных инструментах для детей"/>
          <p:cNvPicPr/>
          <p:nvPr/>
        </p:nvPicPr>
        <p:blipFill>
          <a:blip r:embed="rId3"/>
          <a:stretch/>
        </p:blipFill>
        <p:spPr>
          <a:xfrm>
            <a:off x="351000" y="3693960"/>
            <a:ext cx="4194000" cy="3141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мини музеи 004"/>
          <p:cNvPicPr/>
          <p:nvPr/>
        </p:nvPicPr>
        <p:blipFill>
          <a:blip r:embed="rId4"/>
          <a:stretch/>
        </p:blipFill>
        <p:spPr>
          <a:xfrm>
            <a:off x="4748040" y="190440"/>
            <a:ext cx="42069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узыкальные инструменты своими рук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занятие полезное и увлекательное. Здесь нет четких правил и законов, поэтому любая идея легко превращается в реальность: раскрашивайте, привязывайте, приклеивайте, насыпайте, наливайте, экспериментируйте…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Главное – делайте музыку вместе, тогда она и малышу, и вам будет приносить отличное творческое настрое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7" descr="http://img833.imageshack.us/img833/9503/a1dw.jpg"/>
          <p:cNvPicPr/>
          <p:nvPr/>
        </p:nvPicPr>
        <p:blipFill>
          <a:blip r:embed="rId1"/>
          <a:stretch/>
        </p:blipFill>
        <p:spPr>
          <a:xfrm>
            <a:off x="1143000" y="1417680"/>
            <a:ext cx="3549600" cy="26636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"/>
          <p:cNvPicPr/>
          <p:nvPr/>
        </p:nvPicPr>
        <p:blipFill>
          <a:blip r:embed="rId2"/>
          <a:stretch/>
        </p:blipFill>
        <p:spPr>
          <a:xfrm>
            <a:off x="250920" y="4227480"/>
            <a:ext cx="35211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узыкальные инструменты своими рук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5932440" y="4456080"/>
            <a:ext cx="3202200" cy="2403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Картинки по запросу картинки музыкальных инструментах для детей"/>
          <p:cNvPicPr/>
          <p:nvPr/>
        </p:nvPicPr>
        <p:blipFill>
          <a:blip r:embed="rId2"/>
          <a:stretch/>
        </p:blipFill>
        <p:spPr>
          <a:xfrm>
            <a:off x="47520" y="1417680"/>
            <a:ext cx="3157560" cy="23652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Картинки по запросу картинки музыкальных инструментах для детей"/>
          <p:cNvPicPr/>
          <p:nvPr/>
        </p:nvPicPr>
        <p:blipFill>
          <a:blip r:embed="rId3"/>
          <a:stretch/>
        </p:blipFill>
        <p:spPr>
          <a:xfrm>
            <a:off x="25560" y="4492800"/>
            <a:ext cx="3154320" cy="23652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Картинки по запросу музыкальные инструменты своими руками для детского сада"/>
          <p:cNvPicPr/>
          <p:nvPr/>
        </p:nvPicPr>
        <p:blipFill>
          <a:blip r:embed="rId4"/>
          <a:stretch/>
        </p:blipFill>
        <p:spPr>
          <a:xfrm>
            <a:off x="2998800" y="3273480"/>
            <a:ext cx="3193920" cy="23842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" descr=""/>
          <p:cNvPicPr/>
          <p:nvPr/>
        </p:nvPicPr>
        <p:blipFill>
          <a:blip r:embed="rId5"/>
          <a:stretch/>
        </p:blipFill>
        <p:spPr>
          <a:xfrm>
            <a:off x="5954760" y="1417680"/>
            <a:ext cx="32018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http://www.cerezforum.net/proxy.php?image=http%3A%2F%2Fimg594.imageshack.us%2Fimg594%2F3589%2Fbeautifulbabiesgalleryb.jpg&amp;hash=45176b8b8b4a30a08e25f762b1458676"/>
          <p:cNvPicPr/>
          <p:nvPr/>
        </p:nvPicPr>
        <p:blipFill>
          <a:blip r:embed="rId1"/>
          <a:stretch/>
        </p:blipFill>
        <p:spPr>
          <a:xfrm>
            <a:off x="4896000" y="3664080"/>
            <a:ext cx="3889080" cy="289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684360" y="395280"/>
            <a:ext cx="3882960" cy="2898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"/>
          <p:cNvSpPr/>
          <p:nvPr/>
        </p:nvSpPr>
        <p:spPr>
          <a:xfrm>
            <a:off x="4788000" y="395280"/>
            <a:ext cx="410508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ем бы ни стал в дальнейшем ребёнок музыкантом, или врачом, учёным или рабочим, задача педагогов – воспитать в нём творческое начало, творческое мышл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. Орф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Рисунок 5" descr="Картинки по запросу картинки музыка и дети"/>
          <p:cNvPicPr/>
          <p:nvPr/>
        </p:nvPicPr>
        <p:blipFill>
          <a:blip r:embed="rId3"/>
          <a:stretch/>
        </p:blipFill>
        <p:spPr>
          <a:xfrm>
            <a:off x="684360" y="3699000"/>
            <a:ext cx="38224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4714920" y="3198960"/>
            <a:ext cx="4248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Дитя хочет спонтанно выражать себя через звук и шум и хочет открывать новые звучания, это будит фантазию и инициативу»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 Келл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5" descr="https://lh6.googleusercontent.com/-W9jH8gdZS-E/Uxh8iuPH13I/AAAAAAAABWE/ADvX4wpMzMQ/w400-h360-no/12345.png"/>
          <p:cNvPicPr/>
          <p:nvPr/>
        </p:nvPicPr>
        <p:blipFill>
          <a:blip r:embed="rId1"/>
          <a:stretch/>
        </p:blipFill>
        <p:spPr>
          <a:xfrm>
            <a:off x="5148360" y="-819000"/>
            <a:ext cx="3814560" cy="43923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468360" y="260280"/>
            <a:ext cx="367200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Таланты создавать нельзя, но можно создавать почву, на которой особенно успешно о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израстают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 Нейгау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5" descr="Картинки по запросу фото детей с музыкальными инструментами"/>
          <p:cNvPicPr/>
          <p:nvPr/>
        </p:nvPicPr>
        <p:blipFill>
          <a:blip r:embed="rId2"/>
          <a:stretch/>
        </p:blipFill>
        <p:spPr>
          <a:xfrm>
            <a:off x="468360" y="1860480"/>
            <a:ext cx="3749760" cy="2816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Картинки по запросу картинки музыка и дети"/>
          <p:cNvPicPr/>
          <p:nvPr/>
        </p:nvPicPr>
        <p:blipFill>
          <a:blip r:embed="rId3"/>
          <a:stretch/>
        </p:blipFill>
        <p:spPr>
          <a:xfrm>
            <a:off x="4281480" y="4799160"/>
            <a:ext cx="468144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хема 2" descr=""/>
          <p:cNvPicPr/>
          <p:nvPr/>
        </p:nvPicPr>
        <p:blipFill>
          <a:blip r:embed="rId1"/>
          <a:stretch/>
        </p:blipFill>
        <p:spPr>
          <a:xfrm>
            <a:off x="396720" y="158760"/>
            <a:ext cx="8571240" cy="2938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" descr=""/>
          <p:cNvPicPr/>
          <p:nvPr/>
        </p:nvPicPr>
        <p:blipFill>
          <a:blip r:embed="rId2"/>
          <a:stretch/>
        </p:blipFill>
        <p:spPr>
          <a:xfrm>
            <a:off x="324000" y="3641760"/>
            <a:ext cx="4208400" cy="31557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"/>
          <p:cNvPicPr/>
          <p:nvPr/>
        </p:nvPicPr>
        <p:blipFill>
          <a:blip r:embed="rId3"/>
          <a:stretch/>
        </p:blipFill>
        <p:spPr>
          <a:xfrm>
            <a:off x="4788000" y="3648240"/>
            <a:ext cx="4200480" cy="31492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ая соединительная линия 6"/>
          <p:cNvSpPr/>
          <p:nvPr/>
        </p:nvSpPr>
        <p:spPr>
          <a:xfrm flipV="1">
            <a:off x="2268360" y="3429000"/>
            <a:ext cx="71640" cy="7128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Стрелка вниз 8"/>
          <p:cNvSpPr/>
          <p:nvPr/>
        </p:nvSpPr>
        <p:spPr>
          <a:xfrm>
            <a:off x="2246400" y="3067200"/>
            <a:ext cx="42840" cy="56664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низ 9"/>
          <p:cNvSpPr/>
          <p:nvPr/>
        </p:nvSpPr>
        <p:spPr>
          <a:xfrm>
            <a:off x="6516720" y="3098880"/>
            <a:ext cx="41400" cy="534960"/>
          </a:xfrm>
          <a:prstGeom prst="downArrow">
            <a:avLst>
              <a:gd name="adj1" fmla="val 50000"/>
              <a:gd name="adj2" fmla="val 49832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747960" cy="28098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"/>
          <p:cNvPicPr/>
          <p:nvPr/>
        </p:nvPicPr>
        <p:blipFill>
          <a:blip r:embed="rId2"/>
          <a:stretch/>
        </p:blipFill>
        <p:spPr>
          <a:xfrm>
            <a:off x="4694400" y="3429000"/>
            <a:ext cx="4012920" cy="30099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" descr="http://www.maam.ru/upload/blogs/detsad-207229-1395381127.jpg"/>
          <p:cNvPicPr/>
          <p:nvPr/>
        </p:nvPicPr>
        <p:blipFill>
          <a:blip r:embed="rId3"/>
          <a:stretch/>
        </p:blipFill>
        <p:spPr>
          <a:xfrm>
            <a:off x="4600440" y="338040"/>
            <a:ext cx="4202280" cy="2805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"/>
          <p:cNvPicPr/>
          <p:nvPr/>
        </p:nvPicPr>
        <p:blipFill>
          <a:blip r:embed="rId4"/>
          <a:stretch/>
        </p:blipFill>
        <p:spPr>
          <a:xfrm>
            <a:off x="374760" y="3459240"/>
            <a:ext cx="393516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4" descr=""/>
          <p:cNvPicPr/>
          <p:nvPr/>
        </p:nvPicPr>
        <p:blipFill>
          <a:blip r:embed="rId1"/>
          <a:stretch/>
        </p:blipFill>
        <p:spPr>
          <a:xfrm>
            <a:off x="393840" y="3670200"/>
            <a:ext cx="3930480" cy="29480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"/>
          <p:cNvPicPr/>
          <p:nvPr/>
        </p:nvPicPr>
        <p:blipFill>
          <a:blip r:embed="rId2"/>
          <a:stretch/>
        </p:blipFill>
        <p:spPr>
          <a:xfrm>
            <a:off x="4753080" y="3670200"/>
            <a:ext cx="3929040" cy="29480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"/>
          <p:cNvPicPr/>
          <p:nvPr/>
        </p:nvPicPr>
        <p:blipFill>
          <a:blip r:embed="rId3"/>
          <a:stretch/>
        </p:blipFill>
        <p:spPr>
          <a:xfrm>
            <a:off x="4753080" y="322200"/>
            <a:ext cx="3929040" cy="2946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4"/>
          <a:stretch/>
        </p:blipFill>
        <p:spPr>
          <a:xfrm>
            <a:off x="395280" y="311040"/>
            <a:ext cx="394344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2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6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0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4" descr=""/>
          <p:cNvPicPr/>
          <p:nvPr/>
        </p:nvPicPr>
        <p:blipFill>
          <a:blip r:embed="rId1"/>
          <a:stretch/>
        </p:blipFill>
        <p:spPr>
          <a:xfrm>
            <a:off x="684360" y="506520"/>
            <a:ext cx="3929040" cy="29448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" descr=""/>
          <p:cNvPicPr/>
          <p:nvPr/>
        </p:nvPicPr>
        <p:blipFill>
          <a:blip r:embed="rId2"/>
          <a:stretch/>
        </p:blipFill>
        <p:spPr>
          <a:xfrm>
            <a:off x="539640" y="3708360"/>
            <a:ext cx="3930840" cy="29494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0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979800" cy="2982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S6302902"/>
          <p:cNvPicPr/>
          <p:nvPr/>
        </p:nvPicPr>
        <p:blipFill>
          <a:blip r:embed="rId4"/>
          <a:stretch/>
        </p:blipFill>
        <p:spPr>
          <a:xfrm>
            <a:off x="4932360" y="492120"/>
            <a:ext cx="396252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68144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Elena</cp:lastModifiedBy>
  <dcterms:modified xsi:type="dcterms:W3CDTF">2016-10-10T19:01:57Z</dcterms:modified>
  <cp:revision>39</cp:revision>
  <dc:subject/>
  <dc:title>Слайд 1</dc:title>
</cp:coreProperties>
</file>