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7A0E-635B-408E-9C79-9151B92C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B79-4A2A-47CE-9F4B-310A3418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67A-9CA8-4175-973B-7594EB8A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559F-993E-4D06-9A8A-8AD046FB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EBF3-B40F-46BF-8CCC-CE2A6F68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AF80-8121-4E93-BE0A-0A5DAA5F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F33-CFF8-4416-81AA-A69C2548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EB9-5B73-4677-954D-F39C5021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8F31-3813-42E3-8EB9-94ECF12C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F05C-1569-4144-9EB8-9A588D64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A46-3DEB-438B-8AA8-68501F8B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516-3987-47BA-9BEB-8EA246B0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F167A-01F2-4E29-9754-C28F85314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ff9966"/>
                </a:solidFill>
                <a:latin typeface="Arial"/>
              </a:rPr>
              <a:t>Положительные и отрицательные числа в биологии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cccccc"/>
                </a:solidFill>
                <a:latin typeface="Times New Roman"/>
              </a:rPr>
              <a:t>Презентацию подготовила 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cccccc"/>
                </a:solidFill>
                <a:latin typeface="Times New Roman"/>
              </a:rPr>
              <a:t>Ученица 6а класса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cccccc"/>
                </a:solidFill>
                <a:latin typeface="Times New Roman"/>
              </a:rPr>
              <a:t>Пулина Александра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ff9966"/>
                </a:solidFill>
                <a:latin typeface="Arial"/>
              </a:rPr>
              <a:t>Близорукость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cccccc"/>
                </a:solidFill>
                <a:latin typeface="Times New Roman"/>
              </a:rPr>
              <a:t>Отрицательные числа в биологии выражают патологию глаз. Близорукость (миопия) проявляется снижением остроты зрения.Для того,чтобы при близорукости глаз могли ясно видеть отдалённые предметы применяют рассеювающие (отрицательные) линзы.</a:t>
            </a:r>
            <a:endParaRPr b="0" lang="en-US" sz="40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79640" y="2160720"/>
            <a:ext cx="5948280" cy="3924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600" spc="-1" strike="noStrike">
                <a:solidFill>
                  <a:srgbClr val="ff9966"/>
                </a:solidFill>
                <a:latin typeface="Arial"/>
              </a:rPr>
              <a:t>Хладнокровные</a:t>
            </a:r>
            <a:endParaRPr b="1" i="1" lang="en-US" sz="36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cccccc"/>
                </a:solidFill>
                <a:latin typeface="Times New Roman"/>
              </a:rPr>
              <a:t>Хладнокровные животные (акулы,змеи и т.п.) ,а особенно в воде зависят от температуры среды оьитания.Если температура воды достигает,например +23,то температура тела хладнокровных достигает примерно +23.</a:t>
            </a:r>
            <a:endParaRPr b="0" lang="en-US" sz="36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79640" y="1800360"/>
            <a:ext cx="5691240" cy="4284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4400" spc="-1" strike="noStrike">
                <a:solidFill>
                  <a:srgbClr val="ff9966"/>
                </a:solidFill>
                <a:latin typeface="Arial"/>
              </a:rPr>
              <a:t>Растения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1963800"/>
            <a:ext cx="100807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800" spc="-1" strike="noStrike">
                <a:solidFill>
                  <a:srgbClr val="cccccc"/>
                </a:solidFill>
                <a:latin typeface="Times New Roman"/>
              </a:rPr>
              <a:t>Растения – это тоже положительные и отрицательные числа.Начало корня – это нуль.Каждый сантиметр – это единичный отрезок.Побег – положительная часть,а корень – отрицательная.А всё растение – большой модуль.</a:t>
            </a:r>
            <a:endParaRPr b="0" lang="en-US" sz="48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46480" y="1440000"/>
            <a:ext cx="5392440" cy="5364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1869840"/>
            <a:ext cx="860904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15732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96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de-DE" sz="9600" spc="-1" strike="noStrike">
                <a:solidFill>
                  <a:srgbClr val="ff420e"/>
                </a:solidFill>
                <a:latin typeface="Arial"/>
              </a:rPr>
              <a:t>п</a:t>
            </a:r>
            <a:r>
              <a:rPr b="1" i="1" lang="de-DE" sz="96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i="1" lang="de-DE" sz="9600" spc="-1" strike="noStrike">
                <a:solidFill>
                  <a:srgbClr val="00ff00"/>
                </a:solidFill>
                <a:latin typeface="Arial"/>
              </a:rPr>
              <a:t>с</a:t>
            </a:r>
            <a:r>
              <a:rPr b="1" i="1" lang="de-DE" sz="9600" spc="-1" strike="noStrike">
                <a:solidFill>
                  <a:srgbClr val="00ffff"/>
                </a:solidFill>
                <a:latin typeface="Arial"/>
              </a:rPr>
              <a:t>и</a:t>
            </a:r>
            <a:r>
              <a:rPr b="1" i="1" lang="de-DE" sz="9600" spc="-1" strike="noStrike">
                <a:solidFill>
                  <a:srgbClr val="0047ff"/>
                </a:solidFill>
                <a:latin typeface="Arial"/>
              </a:rPr>
              <a:t>б</a:t>
            </a:r>
            <a:r>
              <a:rPr b="1" i="1" lang="de-DE" sz="9600" spc="-1" strike="noStrike">
                <a:solidFill>
                  <a:srgbClr val="5e11a6"/>
                </a:solidFill>
                <a:latin typeface="Arial"/>
              </a:rPr>
              <a:t>о</a:t>
            </a:r>
            <a:r>
              <a:rPr b="1" i="1" lang="de-DE" sz="96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i="1" lang="de-DE" sz="96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i="1" lang="de-DE" sz="9600" spc="-1" strike="noStrike">
                <a:solidFill>
                  <a:srgbClr val="ff420e"/>
                </a:solidFill>
                <a:latin typeface="Arial"/>
              </a:rPr>
              <a:t>а</a:t>
            </a:r>
            <a:r>
              <a:rPr b="1" i="1" lang="de-DE" sz="96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i="1" lang="de-DE" sz="96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1" i="1" lang="de-DE" sz="9600" spc="-1" strike="noStrike">
                <a:solidFill>
                  <a:srgbClr val="00ff00"/>
                </a:solidFill>
                <a:latin typeface="Arial"/>
              </a:rPr>
              <a:t>н</a:t>
            </a:r>
            <a:r>
              <a:rPr b="1" i="1" lang="de-DE" sz="9600" spc="-1" strike="noStrike">
                <a:solidFill>
                  <a:srgbClr val="00ffff"/>
                </a:solidFill>
                <a:latin typeface="Arial"/>
              </a:rPr>
              <a:t>и</a:t>
            </a:r>
            <a:r>
              <a:rPr b="1" i="1" lang="de-DE" sz="9600" spc="-1" strike="noStrike">
                <a:solidFill>
                  <a:srgbClr val="0047ff"/>
                </a:solidFill>
                <a:latin typeface="Arial"/>
              </a:rPr>
              <a:t>м</a:t>
            </a:r>
            <a:r>
              <a:rPr b="1" i="1" lang="de-DE" sz="9600" spc="-1" strike="noStrike">
                <a:solidFill>
                  <a:srgbClr val="5e11a6"/>
                </a:solidFill>
                <a:latin typeface="Arial"/>
              </a:rPr>
              <a:t>а</a:t>
            </a:r>
            <a:r>
              <a:rPr b="1" i="1" lang="de-DE" sz="96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i="1" lang="de-DE" sz="9600" spc="-1" strike="noStrike">
                <a:solidFill>
                  <a:srgbClr val="ff420e"/>
                </a:solidFill>
                <a:latin typeface="Arial"/>
              </a:rPr>
              <a:t>и</a:t>
            </a:r>
            <a:r>
              <a:rPr b="1" i="1" lang="de-DE" sz="96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1" i="1" lang="de-DE" sz="9600" spc="-1" strike="noStrike">
                <a:solidFill>
                  <a:srgbClr val="00ff00"/>
                </a:solidFill>
                <a:latin typeface="Arial"/>
              </a:rPr>
              <a:t>!</a:t>
            </a:r>
            <a:endParaRPr b="1" i="1" lang="en-US" sz="96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6:32:32Z</dcterms:created>
  <dc:creator/>
  <dc:description/>
  <dc:language>en-US</dc:language>
  <cp:lastModifiedBy>Вера</cp:lastModifiedBy>
  <dcterms:modified xsi:type="dcterms:W3CDTF">2016-10-10T03:40:52Z</dcterms:modified>
  <cp:revision>3</cp:revision>
  <dc:subject/>
  <dc:title>Положительные и отрицательные числа в биологии</dc:title>
</cp:coreProperties>
</file>