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gif" ContentType="image/gif"/>
  <Override PartName="/ppt/media/image27.jpeg" ContentType="image/jpeg"/>
  <Override PartName="/ppt/media/image17.gif" ContentType="image/gif"/>
  <Override PartName="/ppt/media/image20.jpeg" ContentType="image/jpeg"/>
  <Override PartName="/ppt/media/image26.jpeg" ContentType="image/jpeg"/>
  <Override PartName="/ppt/media/image5.jpeg" ContentType="image/jpeg"/>
  <Override PartName="/ppt/media/image4.gif" ContentType="image/gif"/>
  <Override PartName="/ppt/media/image22.jpeg" ContentType="image/jpeg"/>
  <Override PartName="/ppt/media/image29.jpeg" ContentType="image/jpeg"/>
  <Override PartName="/ppt/media/image8.jpeg" ContentType="image/jpeg"/>
  <Override PartName="/ppt/media/image18.gif" ContentType="image/gif"/>
  <Override PartName="/ppt/media/image13.jpeg" ContentType="image/jpeg"/>
  <Override PartName="/ppt/media/image12.jpeg" ContentType="image/jpeg"/>
  <Override PartName="/ppt/media/image10.gif" ContentType="image/gif"/>
  <Override PartName="/ppt/media/image7.wmf" ContentType="image/x-wmf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3.gif" ContentType="image/gif"/>
  <Override PartName="/ppt/media/image6.wmf" ContentType="image/x-wmf"/>
  <Override PartName="/ppt/media/image32.gif" ContentType="image/gif"/>
  <Override PartName="/ppt/media/image2.gif" ContentType="image/gif"/>
  <Override PartName="/ppt/media/image19.jpeg" ContentType="image/jpeg"/>
  <Override PartName="/ppt/media/image11.jpeg" ContentType="image/jpeg"/>
  <Override PartName="/ppt/media/image1.gif" ContentType="image/gif"/>
  <Override PartName="/ppt/media/image14.gif" ContentType="image/gif"/>
  <Override PartName="/ppt/media/image9.gif" ContentType="image/gif"/>
  <Override PartName="/ppt/media/image16.jpeg" ContentType="image/jpeg"/>
  <Override PartName="/ppt/media/image21.png" ContentType="image/png"/>
  <Override PartName="/ppt/media/image23.gif" ContentType="image/gif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5B32-283D-4BC1-8249-86642B077A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704F-B3FE-46C8-B7AA-7F2F492856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D3DD-7A2C-4625-ADD6-3F0DFCF12B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651-D57E-416C-A65A-32E6ADD7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79A-7253-4D7C-B06E-0201D5FA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49496-413A-4673-9401-15F0B980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6F665-2788-47D1-ACA8-4715F66D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FF48F-DD52-442B-B8D6-DAF624D2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A7B41-F5F2-4529-AB81-86D3F9AE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0443F-6981-4CF5-BA3A-D25AEE33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1FEB8-57BA-42BA-A7FB-9DD1CBF3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B3EEB-138B-4C9B-BE4E-76E6B4BD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F5827-0CE3-4C63-9586-66CF63E3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1A2F4-474F-4396-AF62-01B60D47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60583-9E35-4E45-A920-1E9B9AFF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D79-786D-4773-8B33-5AD10667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6B15C-BA69-41A2-B410-087884CC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BC99F-2D76-4023-8A91-447DE18D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40683-9C62-4E76-BB32-5EA472CE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C272E-1A90-4F27-8381-A0789D4E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8BFB1-4EBA-482B-B770-715AE36E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F48C9-226B-4049-B307-47A5AFB4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90441-7AC8-489F-A71F-EFA35142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AC1A8-E44E-496A-A0F5-83CA64BF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063F7-32EB-4905-9F5B-E6E6B19B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E51BC-ACD8-452F-BE51-297D405A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81D-96E2-4821-890A-325509C1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A6A30-D24C-48AB-90D9-27177335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2AE2F-A0A3-4ADE-B66A-84E55170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E3BA7-FC1A-48CF-8BFE-E2C2360F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ECE31-32F7-4C85-BC39-5F289421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256EC-A6F1-40AE-8C42-CF8BD7C1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1FD55-AEDB-4740-AD60-3ABA7D99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4B77D-925A-472D-BA3A-C53D91A2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77419-5475-49B1-A9E2-6462CAAE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06AB8-0A6A-4FA3-A47C-5939A649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55AAB-1F3A-44E8-BC01-C6D4CCCD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2F6F-6B90-40D1-8251-2CB91BB2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598E2-EF78-40D8-82F2-B9E61097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84E66-5F2D-4E1B-9453-6BEB284F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45741-1E4F-4238-9AC9-A92A015A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962C5-4BDC-4209-9431-B2C8B42E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B3EC6-1A7F-49D1-A469-2E3DBC3F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5381F-156F-4A46-BF29-B9312B04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5FCDD-E869-452D-8510-9C411391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86B5F-0530-4A6B-A74B-B034A98F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757D6-F722-4240-B1A3-384DFA7A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C7FC9-509E-43EE-9549-979226A7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CECD-97A3-4B3F-A747-2F0E1C56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EA356-2BBA-43AE-9F75-6007EE54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247C4-F068-4A6B-9C9A-40710D3D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AFF80-B6F4-4005-B85C-792741F2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162C5-EC9F-4AD6-A3D4-921016DD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CDF25-10E8-4B0A-9AD8-C01A7D59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9B133-691C-4121-BC40-D647806B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651A1-3FF8-488D-BFCE-09552D65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E9961-C239-4BDF-839B-90F285E4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F60C9-BAEA-44F6-8916-4F7618D6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241C8-2BC4-43CD-B7F3-9654695D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8B05-1B62-47AE-94C2-1DE61DB2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58B02-F8CF-484C-8979-1C3F945D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ADE8A-7E43-4754-B431-1C441076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B6038-A70C-41D3-A61C-E8B0A095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5E2DB-1578-43E6-A7ED-E28BC509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71969-94B6-4B8A-A597-5870E3C7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5A8D9-E9A6-4EFA-9B5E-E750DDE6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B2DD4-E0D0-4F40-A925-5EAACAAD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6B20-1664-41C0-9040-77242364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771A-DEA9-4019-B7EA-048F1D92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B638-AB87-4333-B94C-F953B542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D6DE-ABD9-43D2-9F0D-7B0B7BFD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2E9-076A-4BBD-93D7-C384DCBC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4D67-189A-4729-8C1F-55DE1991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26B8-AACA-4435-9626-FB13E409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BFDD-CF0E-4A6E-BF3B-FD2323C3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8995-1262-4A38-BACB-D8CB99B4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E35E-28C7-4F1F-A687-11D8AB4A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F3F8-242F-4DF0-BE09-485EC9B9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EA49-BBD4-4BF4-B93A-7E602BAD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5E58A-1AD2-4741-A412-C89C048B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95AD-113A-486C-8841-BA2401C7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8B06-B9B9-411F-87DC-4BD38333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EFA-0D2D-45B6-B3A4-20E6186E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CBF2D-FFB5-4EE6-8FAC-A8BFA33E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C03D-EBAB-4006-B372-E6F3E089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2328-3A9E-490A-A5CB-7254FFBE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C131C-F0E9-4A22-97AB-37877877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D7CD0-CE59-4D04-B945-ABB6EBBB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62F5-5F7A-46F2-B29F-B99E3F34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13B11-61D0-441C-889E-D3EE48A0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7E13-F97A-4064-BA1B-D8D38025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088DF-9F80-4AC3-82F9-48CC1125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3C568-E377-41D2-B776-1124238E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0C5-88AD-4519-80DD-50125F05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C2E96-589C-49B9-A43A-98A5078D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FB03-E9F4-4EF9-8D34-BAD6FF49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AA14F-28F8-4B61-91CB-0111DD22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E57E-BFDA-497B-93F8-5C803555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6E2DA-8C81-4B4C-9EA9-6E8DE0CA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01F7-E771-4E4D-8979-71A88EA4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A6596-C0E2-425F-BE4C-E3DD4C5E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C980B-4E4F-4E0E-8168-CA6A61E9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8034-BFCC-4F0E-BFB0-AD72794D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56D41-41A0-49DD-87EF-39D7CD6E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691-ED1B-4E7F-8746-CC93B6A0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3D065-764F-470B-A2BB-D6B0AF20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E77D-B9CF-4394-87DD-7B380118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7E3C9-EEFB-4F90-95BF-C3FEEB7D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1AF7E-ADF4-459E-A865-CFE9AE82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B0FAA-6FA6-4991-9ECB-48FCADF4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E183B-7E64-4C50-9EAC-39B2372F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E39DB-994F-499E-8902-E3212321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CBC34-555E-4323-8CE9-B9B3E030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32C65-0DEC-4529-A43F-77DAC530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A04AA-7128-4D49-B9B5-3314DC0B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121-3C25-462B-84C3-22DDB223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484DE-0039-4764-82C7-A795BCC1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30C5E-465F-4F67-8E24-A66144CA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9F615-AF76-46E7-94D7-AF385C49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E8ADE-84DE-45C1-BF88-2716F01F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D86CD-EF4F-42EE-B8CC-1FC5D305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08FB7-27A7-4593-83C3-BCB7C794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659EE-1FE7-46D7-8FB4-F3FDAD49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DA6C4-F6F7-4FC7-9DAC-2FE159C2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D3709-FBE4-45CA-B19A-159976AF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90BBB-DF2F-4D23-8B07-4C0C215F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A82-6C66-4F3A-8882-81D640A5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78875-9A8B-44C3-8E3E-AAB2126D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9C86B-2A0D-48A5-87B8-75F27A88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98BC5-7FC4-4A2E-BBDE-FA0347F8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1BF54-0DC5-4568-A4D3-9697D56E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FAB29-DEE3-4B44-A230-61EE6502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1456D-D4E4-473E-AA00-EF2A8D22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59D4D-4023-481A-923E-56D61E24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DE784-2611-4748-9292-8D9EC828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D3D9D-5BAC-4212-B548-FEA8EA2F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331AF-B7F2-4A24-A503-BD946ECE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B59-BCCB-434F-87DF-B20D184A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C92E6-B14D-4F93-A903-D860216B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04559-49B4-4D98-9004-D32C7558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3B141-6591-4C87-B9DB-6B692A1E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743A1-7667-4EBA-B7FC-06AE0AEC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9FD92-2C52-4ED8-A68B-30C6CC27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5AE87-E403-452F-B4DC-A318F1C1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3F123-F9CF-4EA4-9979-F2EA4CCA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999DB-19A1-424A-A475-828D397C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9CD9E-F99D-4400-AFC9-E919C5EC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C18AB-ED4E-46F4-8DE7-F78CF411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571-2545-446B-BA13-B8E51C6C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65313-1CF8-4ABB-86BD-274F0066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035D8-09C7-4769-9E01-72A5F004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2BA6F-4AEB-43D1-A0EE-D3890D53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36AAD-997A-4064-918F-27DD0471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C26DA-3DB7-4305-8A49-9D49DA9B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DAC06-EA8F-44E2-AACF-AA6B2E75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BD3CA-9D98-47A4-A1AE-86045351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20F00-746F-45D7-A09B-8FAD9BA8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C27C8-C463-400C-A1BA-CC4DBD8C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B3DF2-496D-4C25-8292-CDE03415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3A7E-000E-4858-B654-91526FEAE4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E24E-212B-4790-968D-10A80228B3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4D9D-11C9-49F9-AB1B-6FA6BEE32F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B660-0216-4A0E-9ABB-9DA630492B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5031-A7BD-45F2-AB3B-6B42078657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23B3-56A6-46EF-AC7F-57E55926D3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D958-2C3B-4735-836F-F645227FA9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39BD-D715-4240-8354-02D435918B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54BD-3BAA-4376-9E5F-2F5DE64597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1D9F-65E6-448B-8A94-D0653F13D9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1BC6-31C3-4FCC-9AEC-5D1D9D24F5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7773-E54F-4F55-BB48-7CDE5D21B1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26C9-BD8A-40DF-83CF-5F30E22A33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325920" y="2307960"/>
            <a:ext cx="28177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 Пересыпкинский  фили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Б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 Гавриловской  СО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тор: Сутормина Мар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 клас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3"/>
          <p:cNvSpPr/>
          <p:nvPr/>
        </p:nvSpPr>
        <p:spPr>
          <a:xfrm>
            <a:off x="5003640" y="2565360"/>
            <a:ext cx="39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WordArt 16"/>
          <p:cNvSpPr txBox="1"/>
          <p:nvPr/>
        </p:nvSpPr>
        <p:spPr>
          <a:xfrm>
            <a:off x="539640" y="601560"/>
            <a:ext cx="805824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Century"/>
              </a:rPr>
              <a:t> </a:t>
            </a: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Century"/>
              </a:rPr>
              <a:t>Мы выбираем здоровый образ жизни! »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Century"/>
              <a:ea typeface="Century"/>
            </a:endParaRPr>
          </a:p>
        </p:txBody>
      </p:sp>
      <p:pic>
        <p:nvPicPr>
          <p:cNvPr id="544" name="Picture 21" descr="J0236456"/>
          <p:cNvPicPr/>
          <p:nvPr/>
        </p:nvPicPr>
        <p:blipFill>
          <a:blip r:embed="rId1"/>
          <a:stretch/>
        </p:blipFill>
        <p:spPr>
          <a:xfrm>
            <a:off x="179280" y="0"/>
            <a:ext cx="1224000" cy="12049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3" descr="Изображение 642"/>
          <p:cNvPicPr/>
          <p:nvPr/>
        </p:nvPicPr>
        <p:blipFill>
          <a:blip r:embed="rId2"/>
          <a:stretch/>
        </p:blipFill>
        <p:spPr>
          <a:xfrm>
            <a:off x="468360" y="249228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4" descr="Изображение 642"/>
          <p:cNvPicPr/>
          <p:nvPr/>
        </p:nvPicPr>
        <p:blipFill>
          <a:blip r:embed="rId3"/>
          <a:stretch/>
        </p:blipFill>
        <p:spPr>
          <a:xfrm flipH="1" rot="10800000">
            <a:off x="3276720" y="3933720"/>
            <a:ext cx="952560" cy="1224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9" descr="Изображение 856"/>
          <p:cNvPicPr/>
          <p:nvPr/>
        </p:nvPicPr>
        <p:blipFill>
          <a:blip r:embed="rId4"/>
          <a:stretch/>
        </p:blipFill>
        <p:spPr>
          <a:xfrm>
            <a:off x="0" y="0"/>
            <a:ext cx="716040" cy="657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0" descr="J0236462"/>
          <p:cNvPicPr/>
          <p:nvPr/>
        </p:nvPicPr>
        <p:blipFill>
          <a:blip r:embed="rId5"/>
          <a:stretch/>
        </p:blipFill>
        <p:spPr>
          <a:xfrm>
            <a:off x="7164360" y="0"/>
            <a:ext cx="1724040" cy="1557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0" descr="SDC10387"/>
          <p:cNvPicPr/>
          <p:nvPr/>
        </p:nvPicPr>
        <p:blipFill>
          <a:blip r:embed="rId6"/>
          <a:stretch/>
        </p:blipFill>
        <p:spPr>
          <a:xfrm>
            <a:off x="0" y="2308320"/>
            <a:ext cx="6326280" cy="44751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30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300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300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3000"/>
                                        <p:tgtEl>
                                          <p:spTgt spid="5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3000"/>
                                        <p:tgtEl>
                                          <p:spTgt spid="5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3000"/>
                                        <p:tgtEl>
                                          <p:spTgt spid="5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3000"/>
                                        <p:tgtEl>
                                          <p:spTgt spid="5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WordArt 9"/>
          <p:cNvSpPr txBox="1"/>
          <p:nvPr/>
        </p:nvSpPr>
        <p:spPr>
          <a:xfrm>
            <a:off x="684360" y="0"/>
            <a:ext cx="7562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»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10333080" y="1197000"/>
            <a:ext cx="2736720" cy="345960"/>
          </a:xfrm>
          <a:prstGeom prst="rect">
            <a:avLst/>
          </a:prstGeom>
          <a:solidFill>
            <a:srgbClr val="ffff00"/>
          </a:solidFill>
          <a:ln w="9360">
            <a:solidFill>
              <a:srgbClr val="e0f5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7" descr="SV200598"/>
          <p:cNvPicPr/>
          <p:nvPr/>
        </p:nvPicPr>
        <p:blipFill>
          <a:blip r:embed="rId1"/>
          <a:stretch/>
        </p:blipFill>
        <p:spPr>
          <a:xfrm>
            <a:off x="2125800" y="333360"/>
            <a:ext cx="4103640" cy="2879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81" name="Picture 4" descr="SV201953"/>
          <p:cNvPicPr/>
          <p:nvPr/>
        </p:nvPicPr>
        <p:blipFill>
          <a:blip r:embed="rId2"/>
          <a:stretch/>
        </p:blipFill>
        <p:spPr>
          <a:xfrm>
            <a:off x="4716360" y="3284640"/>
            <a:ext cx="4178520" cy="33192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582" name="Picture 8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0" y="3429000"/>
            <a:ext cx="4535640" cy="3213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583" name="Picture 14" descr="C:\Users\максим\Pictures\2a66740bf639t.jpg"/>
          <p:cNvPicPr/>
          <p:nvPr/>
        </p:nvPicPr>
        <p:blipFill>
          <a:blip r:embed="rId4"/>
          <a:stretch/>
        </p:blipFill>
        <p:spPr>
          <a:xfrm>
            <a:off x="324000" y="981000"/>
            <a:ext cx="1714320" cy="2232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j0236493"/>
          <p:cNvPicPr/>
          <p:nvPr/>
        </p:nvPicPr>
        <p:blipFill>
          <a:blip r:embed="rId5"/>
          <a:stretch/>
        </p:blipFill>
        <p:spPr>
          <a:xfrm>
            <a:off x="7236000" y="1268280"/>
            <a:ext cx="1403280" cy="1403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5"/>
          <p:cNvSpPr txBox="1"/>
          <p:nvPr/>
        </p:nvSpPr>
        <p:spPr>
          <a:xfrm>
            <a:off x="539640" y="0"/>
            <a:ext cx="7848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ы здоровы и веселы, присоединяйтесь к нам!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6" name="Picture 7" descr="SV201944"/>
          <p:cNvPicPr/>
          <p:nvPr/>
        </p:nvPicPr>
        <p:blipFill>
          <a:blip r:embed="rId1"/>
          <a:stretch/>
        </p:blipFill>
        <p:spPr>
          <a:xfrm>
            <a:off x="179280" y="907920"/>
            <a:ext cx="4105440" cy="280836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  <p:pic>
        <p:nvPicPr>
          <p:cNvPr id="587" name="Picture 8" descr="SV202159"/>
          <p:cNvPicPr/>
          <p:nvPr/>
        </p:nvPicPr>
        <p:blipFill>
          <a:blip r:embed="rId2"/>
          <a:stretch/>
        </p:blipFill>
        <p:spPr>
          <a:xfrm>
            <a:off x="5078520" y="3933720"/>
            <a:ext cx="3816360" cy="27050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588" name="Picture 9" descr="SV202162"/>
          <p:cNvPicPr/>
          <p:nvPr/>
        </p:nvPicPr>
        <p:blipFill>
          <a:blip r:embed="rId3"/>
          <a:stretch/>
        </p:blipFill>
        <p:spPr>
          <a:xfrm>
            <a:off x="5078520" y="981000"/>
            <a:ext cx="3813120" cy="266400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  <p:pic>
        <p:nvPicPr>
          <p:cNvPr id="589" name="Picture 11" descr="SV202184"/>
          <p:cNvPicPr/>
          <p:nvPr/>
        </p:nvPicPr>
        <p:blipFill>
          <a:blip r:embed="rId4"/>
          <a:stretch/>
        </p:blipFill>
        <p:spPr>
          <a:xfrm>
            <a:off x="179280" y="3933720"/>
            <a:ext cx="4176720" cy="270036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  <p:pic>
        <p:nvPicPr>
          <p:cNvPr id="590" name="Picture 12" descr="Изображение 1547"/>
          <p:cNvPicPr/>
          <p:nvPr/>
        </p:nvPicPr>
        <p:blipFill>
          <a:blip r:embed="rId5"/>
          <a:stretch/>
        </p:blipFill>
        <p:spPr>
          <a:xfrm rot="5400000">
            <a:off x="1800000" y="3105000"/>
            <a:ext cx="6119640" cy="100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0" y="1330560"/>
            <a:ext cx="49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жедневно меняется м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 покуда стоит белый с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м явлениям мы негати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ворим наше твердое: «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ожидании страшны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хотим свою жизнь прове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тебя, молодой наш ровесн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собой мы хотим пове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" descr="IMG_1107"/>
          <p:cNvPicPr/>
          <p:nvPr/>
        </p:nvPicPr>
        <p:blipFill>
          <a:blip r:embed="rId1"/>
          <a:stretch/>
        </p:blipFill>
        <p:spPr>
          <a:xfrm>
            <a:off x="4284720" y="404640"/>
            <a:ext cx="4535280" cy="417672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4"/>
          <p:cNvSpPr/>
          <p:nvPr/>
        </p:nvSpPr>
        <p:spPr>
          <a:xfrm>
            <a:off x="2286000" y="4797360"/>
            <a:ext cx="660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Спорт—это наше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О, спорт, ты - ми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О, спорт, ты—жизн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Путь к долголетию, здоровь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DSC00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96" name="Picture 6" descr="post-66251-1211316723"/>
          <p:cNvPicPr/>
          <p:nvPr/>
        </p:nvPicPr>
        <p:blipFill>
          <a:blip r:embed="rId2"/>
          <a:stretch/>
        </p:blipFill>
        <p:spPr>
          <a:xfrm>
            <a:off x="7651800" y="0"/>
            <a:ext cx="1492200" cy="244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8" descr="050"/>
          <p:cNvPicPr/>
          <p:nvPr/>
        </p:nvPicPr>
        <p:blipFill>
          <a:blip r:embed="rId3"/>
          <a:stretch/>
        </p:blipFill>
        <p:spPr>
          <a:xfrm>
            <a:off x="0" y="5157720"/>
            <a:ext cx="1181160" cy="1700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Изображение 642"/>
          <p:cNvPicPr/>
          <p:nvPr/>
        </p:nvPicPr>
        <p:blipFill>
          <a:blip r:embed="rId4"/>
          <a:stretch/>
        </p:blipFill>
        <p:spPr>
          <a:xfrm>
            <a:off x="0" y="0"/>
            <a:ext cx="1693800" cy="1574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1258920" y="549000"/>
            <a:ext cx="74390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жидаемые результаты: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лавным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зультатом нашей деятельности   должен  стать реальный рост популярности здорового образа жизни в молодежной сре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создание условий для формирования потребностей в здоровом образе жизни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снижение уровня правонарушений среди молодежи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повышение деловой, творческой, спортивной активности молодежи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повышение уровня самоорганизации и самоуправления молодежи в жизни общества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повышение уровня гражданской активности в молодежно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8" descr="Изображение 642"/>
          <p:cNvPicPr/>
          <p:nvPr/>
        </p:nvPicPr>
        <p:blipFill>
          <a:blip r:embed="rId1"/>
          <a:stretch/>
        </p:blipFill>
        <p:spPr>
          <a:xfrm>
            <a:off x="3325680" y="203040"/>
            <a:ext cx="1474920" cy="13734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Изображение 642"/>
          <p:cNvPicPr/>
          <p:nvPr/>
        </p:nvPicPr>
        <p:blipFill>
          <a:blip r:embed="rId2"/>
          <a:stretch/>
        </p:blipFill>
        <p:spPr>
          <a:xfrm>
            <a:off x="7308720" y="2637000"/>
            <a:ext cx="1189080" cy="1106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0" descr="Изображение 642"/>
          <p:cNvPicPr/>
          <p:nvPr/>
        </p:nvPicPr>
        <p:blipFill>
          <a:blip r:embed="rId3"/>
          <a:stretch/>
        </p:blipFill>
        <p:spPr>
          <a:xfrm>
            <a:off x="179280" y="2205000"/>
            <a:ext cx="1117800" cy="1039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" descr="Изображение 642"/>
          <p:cNvPicPr/>
          <p:nvPr/>
        </p:nvPicPr>
        <p:blipFill>
          <a:blip r:embed="rId4"/>
          <a:stretch/>
        </p:blipFill>
        <p:spPr>
          <a:xfrm>
            <a:off x="5580000" y="5373720"/>
            <a:ext cx="1295640" cy="120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Изображение 642"/>
          <p:cNvPicPr/>
          <p:nvPr/>
        </p:nvPicPr>
        <p:blipFill>
          <a:blip r:embed="rId5"/>
          <a:stretch/>
        </p:blipFill>
        <p:spPr>
          <a:xfrm>
            <a:off x="611280" y="5734080"/>
            <a:ext cx="685800" cy="6382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252360" y="1844640"/>
            <a:ext cx="86425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Современный стиль жизни- это здоровые привычки, здоровые приоритеты, здоровый ими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У тебя впереди целая жизнь! Пора делать выбор и отвечать за него. И главное не в том, кем ты хочешь стать, а каким! Здоровым, жизнерадостным, успешным и счастливым? А может больным , одиноким неудачником и несчастным человеком? Каждый день твоей жизни – это шаг к вершине или пропасти, и это твой выбор! Если тебе не безразлична проблема употребления наркотиков  и алкоголя, табакокурения, ты заботишься о своем здоровье и здоровье окружающих,  прими участие в кампании молодежного добровольческого движения  отряда «Лидер» за здоровый образ жизни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J0233061"/>
          <p:cNvPicPr/>
          <p:nvPr/>
        </p:nvPicPr>
        <p:blipFill>
          <a:blip r:embed="rId1"/>
          <a:stretch/>
        </p:blipFill>
        <p:spPr>
          <a:xfrm>
            <a:off x="7596360" y="189000"/>
            <a:ext cx="1547640" cy="17272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J0232730"/>
          <p:cNvPicPr/>
          <p:nvPr/>
        </p:nvPicPr>
        <p:blipFill>
          <a:blip r:embed="rId2"/>
          <a:stretch/>
        </p:blipFill>
        <p:spPr>
          <a:xfrm>
            <a:off x="108000" y="333360"/>
            <a:ext cx="1295280" cy="1511280"/>
          </a:xfrm>
          <a:prstGeom prst="rect">
            <a:avLst/>
          </a:prstGeom>
          <a:ln w="0">
            <a:noFill/>
          </a:ln>
        </p:spPr>
      </p:pic>
      <p:sp>
        <p:nvSpPr>
          <p:cNvPr id="559" name="WordArt 6"/>
          <p:cNvSpPr txBox="1"/>
          <p:nvPr/>
        </p:nvSpPr>
        <p:spPr>
          <a:xfrm>
            <a:off x="1332000" y="189000"/>
            <a:ext cx="6337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ЗДОРОВый образ жизни –это полезно и модно.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 advTm="16000"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Районная акция «Скажем «Нет!» наркотика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2" descr="SDC10300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j0236494"/>
          <p:cNvPicPr/>
          <p:nvPr/>
        </p:nvPicPr>
        <p:blipFill>
          <a:blip r:embed="rId2"/>
          <a:stretch/>
        </p:blipFill>
        <p:spPr>
          <a:xfrm>
            <a:off x="0" y="836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j0236488"/>
          <p:cNvPicPr/>
          <p:nvPr/>
        </p:nvPicPr>
        <p:blipFill>
          <a:blip r:embed="rId3"/>
          <a:stretch/>
        </p:blipFill>
        <p:spPr>
          <a:xfrm>
            <a:off x="7667640" y="4581360"/>
            <a:ext cx="1265400" cy="1511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онтеры нашего отряда на сце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1" descr="SDC10301"/>
          <p:cNvPicPr/>
          <p:nvPr/>
        </p:nvPicPr>
        <p:blipFill>
          <a:blip r:embed="rId1"/>
          <a:stretch/>
        </p:blipFill>
        <p:spPr>
          <a:xfrm>
            <a:off x="611280" y="1197000"/>
            <a:ext cx="8208720" cy="5256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Акция «Меняй сигарету на конфету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2" descr="SDC10385"/>
          <p:cNvPicPr/>
          <p:nvPr/>
        </p:nvPicPr>
        <p:blipFill>
          <a:blip r:embed="rId1"/>
          <a:stretch/>
        </p:blipFill>
        <p:spPr>
          <a:xfrm>
            <a:off x="0" y="1268280"/>
            <a:ext cx="6033960" cy="5400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3" descr="SDC10401"/>
          <p:cNvPicPr/>
          <p:nvPr/>
        </p:nvPicPr>
        <p:blipFill>
          <a:blip r:embed="rId2"/>
          <a:stretch/>
        </p:blipFill>
        <p:spPr>
          <a:xfrm>
            <a:off x="4278240" y="3219480"/>
            <a:ext cx="4865760" cy="36385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j0236487"/>
          <p:cNvPicPr/>
          <p:nvPr/>
        </p:nvPicPr>
        <p:blipFill>
          <a:blip r:embed="rId3"/>
          <a:stretch/>
        </p:blipFill>
        <p:spPr>
          <a:xfrm>
            <a:off x="6804000" y="1413000"/>
            <a:ext cx="1281240" cy="1368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Акция «Меняй сигарету на конфету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5581440" y="981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0" descr="SDC10405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9" descr="j0236473"/>
          <p:cNvPicPr/>
          <p:nvPr/>
        </p:nvPicPr>
        <p:blipFill>
          <a:blip r:embed="rId2"/>
          <a:stretch/>
        </p:blipFill>
        <p:spPr>
          <a:xfrm>
            <a:off x="179280" y="981000"/>
            <a:ext cx="179892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твой выбор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коголь, табак, нарко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но знаем—не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свой же это твердо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знь даётся только ра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 её наполни смыс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 минуты не теря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дь открытым, смелым, быстр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рт, здоровье выби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5" descr="j0236486"/>
          <p:cNvPicPr/>
          <p:nvPr/>
        </p:nvPicPr>
        <p:blipFill>
          <a:blip r:embed="rId1"/>
          <a:stretch/>
        </p:blipFill>
        <p:spPr>
          <a:xfrm>
            <a:off x="7451640" y="1125360"/>
            <a:ext cx="1403280" cy="1403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6:24:16Z</dcterms:created>
  <dc:creator>user</dc:creator>
  <dc:description/>
  <dc:language>en-US</dc:language>
  <cp:lastModifiedBy>максим каа</cp:lastModifiedBy>
  <dcterms:modified xsi:type="dcterms:W3CDTF">2016-10-10T17:50:45Z</dcterms:modified>
  <cp:revision>57</cp:revision>
  <dc:subject/>
  <dc:title>Муниципальное образовательное учреждение</dc:title>
</cp:coreProperties>
</file>