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17.gif" ContentType="image/gif"/>
  <Override PartName="/ppt/media/image20.jpeg" ContentType="image/jpeg"/>
  <Override PartName="/ppt/media/image26.jpeg" ContentType="image/jpeg"/>
  <Override PartName="/ppt/media/image5.jpeg" ContentType="image/jpeg"/>
  <Override PartName="/ppt/media/image4.gif" ContentType="image/gif"/>
  <Override PartName="/ppt/media/image22.jpeg" ContentType="image/jpeg"/>
  <Override PartName="/ppt/media/image29.jpeg" ContentType="image/jpeg"/>
  <Override PartName="/ppt/media/image8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10.gif" ContentType="image/gif"/>
  <Override PartName="/ppt/media/image7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.gif" ContentType="image/gif"/>
  <Override PartName="/ppt/media/image6.wmf" ContentType="image/x-wmf"/>
  <Override PartName="/ppt/media/image32.gif" ContentType="image/gif"/>
  <Override PartName="/ppt/media/image2.gif" ContentType="image/gif"/>
  <Override PartName="/ppt/media/image19.jpeg" ContentType="image/jpeg"/>
  <Override PartName="/ppt/media/image11.jpeg" ContentType="image/jpeg"/>
  <Override PartName="/ppt/media/image1.gif" ContentType="image/gif"/>
  <Override PartName="/ppt/media/image14.gif" ContentType="image/gif"/>
  <Override PartName="/ppt/media/image9.gif" ContentType="image/gif"/>
  <Override PartName="/ppt/media/image16.jpeg" ContentType="image/jpeg"/>
  <Override PartName="/ppt/media/image21.png" ContentType="image/png"/>
  <Override PartName="/ppt/media/image23.gif" ContentType="image/gif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9723-4907-49AD-81AB-CB0ACC2C1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516-6301-4189-A922-8781742BB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A6BE-D8E2-43D7-98B6-4B63C0F22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37E-C899-4BEC-8AEA-0189D074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322-5C1E-411B-AAE6-CC7410D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23103-01CE-4A0D-A1AC-4F78A784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80A91-F1FD-4319-96D1-C7C7AF2D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E7617-FB1F-45CF-A37C-75E325E7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37C2F-AA05-43C1-9B48-10F6EF9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06097-76C9-43B3-8993-1577892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44680-5C84-4206-B0A5-CB5A863E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7E81-171D-42BA-BB10-4FD607D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C3E0B-41D3-46A6-B165-B06E219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B677C-AABA-4A74-BCFD-A655057F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807B7-E92E-43C8-9F81-1D7E6CCB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E05-8F2D-4DE2-B0F2-26599023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17A9F-B402-4022-A6E9-BFDCC0A5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CEF1-07F8-47A1-A1AE-47D82518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D9D03-2A1D-4F6E-B2A3-3782E82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78AE6-9F91-43D3-8A55-8C018062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E4F5-42A7-4AEC-917F-872583C3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4D39E-41E9-4F56-A9F1-5EA2CAD0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14F39-6FF7-4F6B-9FD5-7FB528D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7485-0A27-4669-A016-5399F95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A15D-6D79-43A3-978B-0EA7D165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B5E92-43B4-4078-85E0-3CF5AFB1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19E-215B-449E-ACE8-0F88FBDF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AB84D-7BAA-4764-9D18-12323D64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2984-0A6A-48F9-92C6-8D27D649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DF6D-0E00-4849-9B7F-96BDFFE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40045-2034-4E94-95F7-AD8D7ADD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0703-B172-4B65-ACF4-BAE59428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2EC92-FD90-415F-8C56-1C4B2A0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64939-3899-4341-A7EB-8A315AAF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D8EE-BA37-48BA-A3FB-4B0902C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EA7BC-1A2E-481C-A42B-ACF6CE8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F976-6F31-44C9-B81E-93FB5F8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AB86-E8C1-46C6-94E9-3E8FD7C7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90FB5-D098-4713-8F1F-38D95725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188DE-6D59-4D2A-9B0D-AD5313F2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7FAC4-2B01-4671-8031-4BDF970B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F073F-27B7-432C-B20E-8AC4E402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BDE3B-C33E-4FD3-8263-1F0AE0CE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0315-EE5B-4CDC-971E-9282AC9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40B01-66ED-492B-B2F4-0F99B34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07872-D4BB-4890-8106-54A48670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2F4B5-739E-41A0-9F00-C962B0D4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F17A1-8EFD-4B41-AAB6-D7353B2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6EC-BC46-4A1A-BA0E-862B089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EB444-1866-4740-A63A-7BFCD40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1606-E436-415D-B99D-C9A08F8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6A60B-52E7-40E5-92B9-3E3F5B98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EEF86-E94F-41E2-9285-596C2A2F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903AD-143E-4D98-B5C1-40AE683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D6210-D4F9-4151-8F60-C340EE22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C940F-BBAC-461D-B0A8-722155B6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D6964-C8B0-4AE3-91B7-E0FE9155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C1089-3B22-4BE4-A063-4390757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29AD1-A27D-4966-B3C0-E9EEB00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462-4F51-4C57-AAA4-EF600415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3229E-6B80-4A65-BA97-5142CF6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8628A-37B6-4DD9-8B74-80C6BCA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07BE3-2913-40A0-B689-C527ED2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B055A-2874-46B7-B831-984296E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7A4D5-5725-42B3-ACFD-E9A166B2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DEC77-51CE-45C3-8D79-2C344B60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492F5-317F-4E73-9420-A9EB7265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3A94-4661-4DE6-B109-16F311E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242B-E4F8-49A7-BF78-C33C0FF8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836A-9F01-4825-8E66-845C133C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7AC-6D2D-4C70-8FF4-F2CCD1A2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FF5-ECA6-4FE4-942C-B4DEDB8B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D78-8D42-45F9-B0C9-1F0AE24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550-01D6-42AB-B3EE-5BBA12B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9F42-3888-4507-AC14-6129E74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7EBC-80D7-43A4-8D7F-0354E52D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5CF-47C3-4CB6-99AE-5F888FAB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BF81-317D-4872-9AA2-C7EA4DB4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EA21-4334-4E57-B804-272ADBC0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009C-E91B-4E34-A42E-312DCDD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39EE-9A58-478E-A3D4-71DE7B7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7DD1-80A8-4585-A353-6342FD58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23A-045E-4808-BA6A-4918B7A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5A38-78C6-4C3C-80B5-68008777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18D6-4B4C-4A16-9561-1E0933B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ABE7-04F6-4DE2-9C0B-1B8FE051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FCB1-DB19-4FB0-9A82-D79C750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8F24-769D-41B4-AFD6-38BC98A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7F4D-809C-46CD-ABF9-AA440834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7722-250A-4A32-BFE8-285154D3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41A1-6FED-496A-8B9F-B079F52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72EA-E970-45A6-B82C-9B5F932C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4EC2-7C68-40AE-8DE7-A5F0575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529-90E1-4812-BA89-7AD5DADF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0CDB-A6B5-4612-A7DD-25642817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32F3-D8CB-452F-B3B0-01C0323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810E-7F35-40B2-8E1F-A14C4C8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0152-D58C-4650-84B8-BA4F405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FC6D-CC6D-4CBD-8569-F62FBEC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F884-2A46-4FB5-AA51-DF64417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00F8-B58D-4679-825F-41865D7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6CAA-588C-4CF2-A633-553BC93D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51BA-AF7F-4A37-AB84-799B6F65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18FA-A3ED-438E-BADA-7724B33F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EBA-3611-4C45-A6F2-D715B0B6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659C-08F3-464F-8131-6C96EC9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829B-19CF-4301-A494-CECECDD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D6CE-C39D-48E4-B1FB-7FDE3ED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1D23-1E84-4D63-897E-9FAC9D21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CBF7-E8AF-4ABE-8EE2-55EC9D52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B06E-966E-49E9-A739-F3558FF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B9C9-3838-4C1D-934E-72166BF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5EB9-2AB1-43F5-BBD8-586467F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7A7E-BF18-4C85-89EA-B13EF71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B3552-8FC6-408C-993B-1A11A280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B69-3A1F-475C-A765-9381FA9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3EB1-85D8-47FC-86D6-C7F20C69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31B3-ABB8-4505-A413-65563D0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0F231-6C66-4BD1-9FA3-21E9E4A2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19207-560E-408E-B6AE-B5E795C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4B15-CC57-430F-BD5F-2D83A364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DCE5-1800-4260-9E52-D4844C5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BD3A-150F-46D7-BD6B-911116B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10289-F893-4C09-80C4-51BB89E6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4D72-85D1-471D-A4E4-11AD1E3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06D31-0B9B-4489-9942-50FFCFF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5FD-F39F-4F62-8A3F-A3825661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0A44-4297-49A3-960A-B37EFB4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8C20-626D-4628-8267-B20ED95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F82C-E00C-4DE9-9387-2B260014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B7FAA-EC9D-4A71-976D-A4FFEFE9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0A80F-5715-4C1F-8EBB-CBA4C2E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2698-5F71-4EF8-B8C1-CE1D144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9396-5B64-4880-B6D0-ECC0189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36E68-EA9E-499B-A544-B16F558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5809-6631-422C-9A48-057DF2D0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E97AA-3DE2-4CE4-B276-1AE3E90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3D4-629A-475F-AB31-3016F82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4E8B-D4F7-488F-94ED-20FCCC4F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3D35-E820-4B47-B5B0-8FFA1ED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250A-D963-436F-BBFD-675F7E7A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6501-2F7B-49DB-B372-C0FB2FD8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59D6-8A83-4909-A818-DF42F34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7BB87-3459-400E-B3D4-D61106B7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CD7C-A8CE-42DE-A058-D5D95F5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C657-B42D-4293-9EE4-8F4871C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3B17-4C9E-49D2-84CD-1814F9A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92BE-1619-4D85-BE51-E3CBAD8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72A-1C2F-4F4F-99C3-90F22D2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2368-117A-4274-9622-A647D409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56A7-4EB4-41A8-8086-CAB4225D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DAA17-419D-4B08-AD07-4D57508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0CD5-2096-4FFA-9EEC-111721C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77A14-9FE3-4BDA-A3FB-EB1EAEC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F602B-89F3-4D73-9404-B9D528E2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9B8D-1ECD-41F7-9EDF-653F4AE8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2FEED-1304-4D96-AB3E-AB881A95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5A34C-A9F1-402F-B211-082FDD3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F9F62-3C06-4FC4-8CFF-B972B0C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226B-976F-45AC-AB97-B1A1E8BC8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9F0-543C-4E32-9DA9-57F7505A66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AD9-5403-4E51-A4B8-9401B2B1C7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5C46-A972-40BA-A848-B48062E03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09B-86D5-47E8-A1ED-07CDB40A5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1C0-8843-4473-9716-33C555202B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D58-9043-4DA9-8BBB-42A5ECADB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340-C99B-4B92-AE7F-A0AB606F0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537-A66A-44AE-9742-E309DFE6E3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DC0-6ED7-4688-9769-E3FDED0193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44B-69F1-44BB-8E69-A24A750FA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E557-D2D0-4743-918F-4B42D91EAD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66D2-A7A8-4C40-BABC-EF7B204CE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325920" y="2307960"/>
            <a:ext cx="28177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 Пересыпкинский  фили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Гавриловской 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Сутормина Ма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5003640" y="2565360"/>
            <a:ext cx="39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539640" y="601560"/>
            <a:ext cx="8058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 </a:t>
            </a: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Мы выбираем здоровый образ жизни! »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Century"/>
              <a:ea typeface="Century"/>
            </a:endParaRPr>
          </a:p>
        </p:txBody>
      </p:sp>
      <p:pic>
        <p:nvPicPr>
          <p:cNvPr id="544" name="Picture 21" descr="J0236456"/>
          <p:cNvPicPr/>
          <p:nvPr/>
        </p:nvPicPr>
        <p:blipFill>
          <a:blip r:embed="rId1"/>
          <a:stretch/>
        </p:blipFill>
        <p:spPr>
          <a:xfrm>
            <a:off x="179280" y="0"/>
            <a:ext cx="1224000" cy="12049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3" descr="Изображение 642"/>
          <p:cNvPicPr/>
          <p:nvPr/>
        </p:nvPicPr>
        <p:blipFill>
          <a:blip r:embed="rId2"/>
          <a:stretch/>
        </p:blipFill>
        <p:spPr>
          <a:xfrm>
            <a:off x="468360" y="249228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4" descr="Изображение 642"/>
          <p:cNvPicPr/>
          <p:nvPr/>
        </p:nvPicPr>
        <p:blipFill>
          <a:blip r:embed="rId3"/>
          <a:stretch/>
        </p:blipFill>
        <p:spPr>
          <a:xfrm flipH="1" rot="10800000">
            <a:off x="3276720" y="393372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9" descr="Изображение 856"/>
          <p:cNvPicPr/>
          <p:nvPr/>
        </p:nvPicPr>
        <p:blipFill>
          <a:blip r:embed="rId4"/>
          <a:stretch/>
        </p:blipFill>
        <p:spPr>
          <a:xfrm>
            <a:off x="0" y="0"/>
            <a:ext cx="716040" cy="657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0" descr="J0236462"/>
          <p:cNvPicPr/>
          <p:nvPr/>
        </p:nvPicPr>
        <p:blipFill>
          <a:blip r:embed="rId5"/>
          <a:stretch/>
        </p:blipFill>
        <p:spPr>
          <a:xfrm>
            <a:off x="7164360" y="0"/>
            <a:ext cx="1724040" cy="1557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0" descr="SDC10387"/>
          <p:cNvPicPr/>
          <p:nvPr/>
        </p:nvPicPr>
        <p:blipFill>
          <a:blip r:embed="rId6"/>
          <a:stretch/>
        </p:blipFill>
        <p:spPr>
          <a:xfrm>
            <a:off x="0" y="2308320"/>
            <a:ext cx="6326280" cy="44751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3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30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30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3000"/>
                                        <p:tgtEl>
                                          <p:spTgt spid="5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3000"/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3000"/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3000"/>
                                        <p:tgtEl>
                                          <p:spTgt spid="5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9"/>
          <p:cNvSpPr txBox="1"/>
          <p:nvPr/>
        </p:nvSpPr>
        <p:spPr>
          <a:xfrm>
            <a:off x="684360" y="0"/>
            <a:ext cx="7562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»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0333080" y="1197000"/>
            <a:ext cx="2736720" cy="345960"/>
          </a:xfrm>
          <a:prstGeom prst="rect">
            <a:avLst/>
          </a:prstGeom>
          <a:solidFill>
            <a:srgbClr val="ffff00"/>
          </a:solidFill>
          <a:ln w="9360">
            <a:solidFill>
              <a:srgbClr val="e0f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7" descr="SV200598"/>
          <p:cNvPicPr/>
          <p:nvPr/>
        </p:nvPicPr>
        <p:blipFill>
          <a:blip r:embed="rId1"/>
          <a:stretch/>
        </p:blipFill>
        <p:spPr>
          <a:xfrm>
            <a:off x="2125800" y="333360"/>
            <a:ext cx="410364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81" name="Picture 4" descr="SV201953"/>
          <p:cNvPicPr/>
          <p:nvPr/>
        </p:nvPicPr>
        <p:blipFill>
          <a:blip r:embed="rId2"/>
          <a:stretch/>
        </p:blipFill>
        <p:spPr>
          <a:xfrm>
            <a:off x="4716360" y="3284640"/>
            <a:ext cx="4178520" cy="3319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582" name="Picture 8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429000"/>
            <a:ext cx="4535640" cy="3213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583" name="Picture 14" descr="C:\Users\максим\Pictures\2a66740bf639t.jpg"/>
          <p:cNvPicPr/>
          <p:nvPr/>
        </p:nvPicPr>
        <p:blipFill>
          <a:blip r:embed="rId4"/>
          <a:stretch/>
        </p:blipFill>
        <p:spPr>
          <a:xfrm>
            <a:off x="324000" y="981000"/>
            <a:ext cx="1714320" cy="2232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j0236493"/>
          <p:cNvPicPr/>
          <p:nvPr/>
        </p:nvPicPr>
        <p:blipFill>
          <a:blip r:embed="rId5"/>
          <a:stretch/>
        </p:blipFill>
        <p:spPr>
          <a:xfrm>
            <a:off x="7236000" y="1268280"/>
            <a:ext cx="1403280" cy="1403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5"/>
          <p:cNvSpPr txBox="1"/>
          <p:nvPr/>
        </p:nvSpPr>
        <p:spPr>
          <a:xfrm>
            <a:off x="539640" y="0"/>
            <a:ext cx="7848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здоровы и веселы, присоединяйтесь к нам!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Picture 7" descr="SV201944"/>
          <p:cNvPicPr/>
          <p:nvPr/>
        </p:nvPicPr>
        <p:blipFill>
          <a:blip r:embed="rId1"/>
          <a:stretch/>
        </p:blipFill>
        <p:spPr>
          <a:xfrm>
            <a:off x="179280" y="907920"/>
            <a:ext cx="4105440" cy="280836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87" name="Picture 8" descr="SV202159"/>
          <p:cNvPicPr/>
          <p:nvPr/>
        </p:nvPicPr>
        <p:blipFill>
          <a:blip r:embed="rId2"/>
          <a:stretch/>
        </p:blipFill>
        <p:spPr>
          <a:xfrm>
            <a:off x="5078520" y="3933720"/>
            <a:ext cx="3816360" cy="27050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588" name="Picture 9" descr="SV202162"/>
          <p:cNvPicPr/>
          <p:nvPr/>
        </p:nvPicPr>
        <p:blipFill>
          <a:blip r:embed="rId3"/>
          <a:stretch/>
        </p:blipFill>
        <p:spPr>
          <a:xfrm>
            <a:off x="5078520" y="981000"/>
            <a:ext cx="3813120" cy="266400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89" name="Picture 11" descr="SV202184"/>
          <p:cNvPicPr/>
          <p:nvPr/>
        </p:nvPicPr>
        <p:blipFill>
          <a:blip r:embed="rId4"/>
          <a:stretch/>
        </p:blipFill>
        <p:spPr>
          <a:xfrm>
            <a:off x="179280" y="3933720"/>
            <a:ext cx="4176720" cy="270036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90" name="Picture 12" descr="Изображение 1547"/>
          <p:cNvPicPr/>
          <p:nvPr/>
        </p:nvPicPr>
        <p:blipFill>
          <a:blip r:embed="rId5"/>
          <a:stretch/>
        </p:blipFill>
        <p:spPr>
          <a:xfrm rot="5400000">
            <a:off x="1800000" y="3105000"/>
            <a:ext cx="611964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1330560"/>
            <a:ext cx="49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жедневно меняется м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покуда стоит белый 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м явлениям мы нега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ворим наше твердое: «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ожидании страшн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хотим свою жизнь про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тебя, молодой наш ровес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собой мы хотим по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" descr="IMG_1107"/>
          <p:cNvPicPr/>
          <p:nvPr/>
        </p:nvPicPr>
        <p:blipFill>
          <a:blip r:embed="rId1"/>
          <a:stretch/>
        </p:blipFill>
        <p:spPr>
          <a:xfrm>
            <a:off x="4284720" y="404640"/>
            <a:ext cx="4535280" cy="417672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286000" y="4797360"/>
            <a:ext cx="660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Спорт—это наш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О, спорт, ты - ми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О, спорт, ты—жизн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Путь к долголетию, здоровь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DSC00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96" name="Picture 6" descr="post-66251-1211316723"/>
          <p:cNvPicPr/>
          <p:nvPr/>
        </p:nvPicPr>
        <p:blipFill>
          <a:blip r:embed="rId2"/>
          <a:stretch/>
        </p:blipFill>
        <p:spPr>
          <a:xfrm>
            <a:off x="7651800" y="0"/>
            <a:ext cx="1492200" cy="244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8" descr="050"/>
          <p:cNvPicPr/>
          <p:nvPr/>
        </p:nvPicPr>
        <p:blipFill>
          <a:blip r:embed="rId3"/>
          <a:stretch/>
        </p:blipFill>
        <p:spPr>
          <a:xfrm>
            <a:off x="0" y="5157720"/>
            <a:ext cx="1181160" cy="1700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Изображение 642"/>
          <p:cNvPicPr/>
          <p:nvPr/>
        </p:nvPicPr>
        <p:blipFill>
          <a:blip r:embed="rId4"/>
          <a:stretch/>
        </p:blipFill>
        <p:spPr>
          <a:xfrm>
            <a:off x="0" y="0"/>
            <a:ext cx="1693800" cy="157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258920" y="549000"/>
            <a:ext cx="74390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м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зультатом нашей деятельности   должен  стать реальный рост популярности здорового образа жизни в молодежной сре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создание условий для формирования потребностей в здоровом образе жизн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снижение уровня правонарушений среди молодеж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деловой, творческой, спортивной активности молодежи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уровня самоорганизации и самоуправления молодежи в жизни общества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овышение уровня гражданской активности в молодеж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Изображение 642"/>
          <p:cNvPicPr/>
          <p:nvPr/>
        </p:nvPicPr>
        <p:blipFill>
          <a:blip r:embed="rId1"/>
          <a:stretch/>
        </p:blipFill>
        <p:spPr>
          <a:xfrm>
            <a:off x="3325680" y="203040"/>
            <a:ext cx="1474920" cy="1373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Изображение 642"/>
          <p:cNvPicPr/>
          <p:nvPr/>
        </p:nvPicPr>
        <p:blipFill>
          <a:blip r:embed="rId2"/>
          <a:stretch/>
        </p:blipFill>
        <p:spPr>
          <a:xfrm>
            <a:off x="7308720" y="263700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0" descr="Изображение 642"/>
          <p:cNvPicPr/>
          <p:nvPr/>
        </p:nvPicPr>
        <p:blipFill>
          <a:blip r:embed="rId3"/>
          <a:stretch/>
        </p:blipFill>
        <p:spPr>
          <a:xfrm>
            <a:off x="179280" y="2205000"/>
            <a:ext cx="1117800" cy="1039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Изображение 642"/>
          <p:cNvPicPr/>
          <p:nvPr/>
        </p:nvPicPr>
        <p:blipFill>
          <a:blip r:embed="rId4"/>
          <a:stretch/>
        </p:blipFill>
        <p:spPr>
          <a:xfrm>
            <a:off x="5580000" y="5373720"/>
            <a:ext cx="1295640" cy="12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Изображение 642"/>
          <p:cNvPicPr/>
          <p:nvPr/>
        </p:nvPicPr>
        <p:blipFill>
          <a:blip r:embed="rId5"/>
          <a:stretch/>
        </p:blipFill>
        <p:spPr>
          <a:xfrm>
            <a:off x="611280" y="57340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252360" y="1844640"/>
            <a:ext cx="8642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временный стиль жизни- это здоровые привычки, здоровые приоритеты, здоровый ими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У тебя впереди целая жизнь! Пора делать выбор и отвечать за него. И главное не в том, кем ты хочешь стать, а каким! Здоровым, жизнерадостным, успешным и счастливым? А может больным , одиноким неудачником и несчастным человеком? Каждый день твоей жизни – это шаг к вершине или пропасти, и это твой выбор! Если тебе не безразлична проблема употребления наркотиков  и алкоголя, табакокурения, ты заботишься о своем здоровье и здоровье окружающих,  прими участие в кампании молодежного добровольческого движения  отряда «Лидер» за здоровый образ жизни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J0233061"/>
          <p:cNvPicPr/>
          <p:nvPr/>
        </p:nvPicPr>
        <p:blipFill>
          <a:blip r:embed="rId1"/>
          <a:stretch/>
        </p:blipFill>
        <p:spPr>
          <a:xfrm>
            <a:off x="7596360" y="189000"/>
            <a:ext cx="1547640" cy="1727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J0232730"/>
          <p:cNvPicPr/>
          <p:nvPr/>
        </p:nvPicPr>
        <p:blipFill>
          <a:blip r:embed="rId2"/>
          <a:stretch/>
        </p:blipFill>
        <p:spPr>
          <a:xfrm>
            <a:off x="108000" y="333360"/>
            <a:ext cx="1295280" cy="1511280"/>
          </a:xfrm>
          <a:prstGeom prst="rect">
            <a:avLst/>
          </a:prstGeom>
          <a:ln w="0">
            <a:noFill/>
          </a:ln>
        </p:spPr>
      </p:pic>
      <p:sp>
        <p:nvSpPr>
          <p:cNvPr id="559" name="WordArt 6"/>
          <p:cNvSpPr txBox="1"/>
          <p:nvPr/>
        </p:nvSpPr>
        <p:spPr>
          <a:xfrm>
            <a:off x="1332000" y="189000"/>
            <a:ext cx="633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ый образ жизни –это полезно и модно.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6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йонная акция «Скажем «Нет!» наркотик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2" descr="SDC10300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j0236494"/>
          <p:cNvPicPr/>
          <p:nvPr/>
        </p:nvPicPr>
        <p:blipFill>
          <a:blip r:embed="rId2"/>
          <a:stretch/>
        </p:blipFill>
        <p:spPr>
          <a:xfrm>
            <a:off x="0" y="83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j0236488"/>
          <p:cNvPicPr/>
          <p:nvPr/>
        </p:nvPicPr>
        <p:blipFill>
          <a:blip r:embed="rId3"/>
          <a:stretch/>
        </p:blipFill>
        <p:spPr>
          <a:xfrm>
            <a:off x="7667640" y="4581360"/>
            <a:ext cx="1265400" cy="1511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онтеры нашего отряда на сце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SDC10301"/>
          <p:cNvPicPr/>
          <p:nvPr/>
        </p:nvPicPr>
        <p:blipFill>
          <a:blip r:embed="rId1"/>
          <a:stretch/>
        </p:blipFill>
        <p:spPr>
          <a:xfrm>
            <a:off x="611280" y="1197000"/>
            <a:ext cx="820872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Акция «Меняй сигарету на конфету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2" descr="SDC10385"/>
          <p:cNvPicPr/>
          <p:nvPr/>
        </p:nvPicPr>
        <p:blipFill>
          <a:blip r:embed="rId1"/>
          <a:stretch/>
        </p:blipFill>
        <p:spPr>
          <a:xfrm>
            <a:off x="0" y="1268280"/>
            <a:ext cx="6033960" cy="5400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3" descr="SDC10401"/>
          <p:cNvPicPr/>
          <p:nvPr/>
        </p:nvPicPr>
        <p:blipFill>
          <a:blip r:embed="rId2"/>
          <a:stretch/>
        </p:blipFill>
        <p:spPr>
          <a:xfrm>
            <a:off x="4278240" y="3219480"/>
            <a:ext cx="4865760" cy="36385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j0236487"/>
          <p:cNvPicPr/>
          <p:nvPr/>
        </p:nvPicPr>
        <p:blipFill>
          <a:blip r:embed="rId3"/>
          <a:stretch/>
        </p:blipFill>
        <p:spPr>
          <a:xfrm>
            <a:off x="6804000" y="1413000"/>
            <a:ext cx="128124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Акция «Меняй сигарету на конфету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5581440" y="98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0" descr="SDC10405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j0236473"/>
          <p:cNvPicPr/>
          <p:nvPr/>
        </p:nvPicPr>
        <p:blipFill>
          <a:blip r:embed="rId2"/>
          <a:stretch/>
        </p:blipFill>
        <p:spPr>
          <a:xfrm>
            <a:off x="179280" y="981000"/>
            <a:ext cx="179892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твой выб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коголь, табак, нарко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но знаем—н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свой же это твердо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 даётся только р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 её наполни смыс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 минуты не тер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 открытым, смелым, быстр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рт, здоровье выби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5" descr="j0236486"/>
          <p:cNvPicPr/>
          <p:nvPr/>
        </p:nvPicPr>
        <p:blipFill>
          <a:blip r:embed="rId1"/>
          <a:stretch/>
        </p:blipFill>
        <p:spPr>
          <a:xfrm>
            <a:off x="7451640" y="1125360"/>
            <a:ext cx="1403280" cy="1403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4:16Z</dcterms:created>
  <dc:creator>user</dc:creator>
  <dc:description/>
  <dc:language>en-US</dc:language>
  <cp:lastModifiedBy>максим каа</cp:lastModifiedBy>
  <dcterms:modified xsi:type="dcterms:W3CDTF">2016-10-10T17:50:45Z</dcterms:modified>
  <cp:revision>57</cp:revision>
  <dc:subject/>
  <dc:title>Муниципальное образовательное учреждение</dc:title>
</cp:coreProperties>
</file>