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2C88-B696-4579-9914-56A39AD70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42D1-4973-4D9A-A95B-F11B0A9B9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A7F8-1F4B-4358-9845-BED9BA274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769F-B758-40B4-8B30-10A337D7B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1A51-96BF-489B-B4DB-1054F7A23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DD31-762A-4F86-89DD-DA03F747C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FE23-1766-4E8F-BA22-6098C4AD5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A913-A857-4323-9B4C-D6DAA1279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A3DD-A976-4E9C-AFC3-6D2CE0E69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EAB3-4075-4E66-B0E8-1A201A8A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DE93-0600-4D7E-8B35-A08798FAE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34CC-D140-4B27-B5F8-D662ED2C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175102-5D58-4B53-ABE9-BE929AC0ED9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150920" y="194472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Отрицательные числа в географ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428760" y="214200"/>
            <a:ext cx="8072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Отрицательные числа в географ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195640" y="665280"/>
            <a:ext cx="442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еографи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сота гор измеряется с помощь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ожительных чисе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убина воды с помощью отрицательных чисе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Ниже уровня моря - выше уровня мор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rcRect l="16336" t="12165" r="8671" b="36485"/>
          <a:stretch/>
        </p:blipFill>
        <p:spPr>
          <a:xfrm>
            <a:off x="357120" y="214200"/>
            <a:ext cx="8358120" cy="633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585000"/>
            <a:ext cx="7858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ботая с источниками,  я выяснила, что положительные и отрицательные числа служат для описания изменений величи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Если величина растет, то говорят, что ее изменение положительно (+), а если она убывае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о изменение называют отрицательным (–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знала, что больше всего отрицательные числа встречаются в точных науках,  в математике и физ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ыполняя данную работу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я значительно расширила знания по математике.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готовила реферат и презентацию по тем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Отрицательные числа в школьных учебниках»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делала сообщение в своем классе.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714240"/>
            <a:ext cx="1143000" cy="1465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785880" y="50004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Отрицательные числа появились значительно позже положительных, отрицательными числами обычно обозначали долг. Наверно, поэтому человек восприним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ительное – как «нечто хорошее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е – как «нечто плох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0" t="52707" r="0" b="0"/>
          <a:stretch/>
        </p:blipFill>
        <p:spPr>
          <a:xfrm>
            <a:off x="5442120" y="5214960"/>
            <a:ext cx="327312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0" t="0" r="0" b="50443"/>
          <a:stretch/>
        </p:blipFill>
        <p:spPr>
          <a:xfrm>
            <a:off x="3441600" y="3643200"/>
            <a:ext cx="284508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65000" y="1584360"/>
            <a:ext cx="8089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4:30:17Z</dcterms:created>
  <dc:creator>Школа</dc:creator>
  <dc:description/>
  <dc:language>en-US</dc:language>
  <cp:lastModifiedBy>komp</cp:lastModifiedBy>
  <dcterms:modified xsi:type="dcterms:W3CDTF">2015-03-03T04:47:08Z</dcterms:modified>
  <cp:revision>64</cp:revision>
  <dc:subject/>
  <dc:title>отрицательные числа</dc:title>
</cp:coreProperties>
</file>