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E678-1ADB-458B-8C3C-805C68F06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6CFD-0B8E-4D13-B804-B28C22FBC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ECB0-0C79-4FEE-8E3A-D9999F76F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B970-98AE-4D7E-B87B-1607883BD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2016-63B7-4175-A00A-2C722B8B7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6701-32C1-4392-B789-3E26BC2C1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8FCD-259A-4DCD-B631-E06E3F306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5FC8-F87D-4202-83CA-C2581ED3C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8B5A-EB04-4CC7-A7B0-981691EC8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BD47-FC5B-44D6-B711-9834A5AEB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6204-3D97-46FC-953D-30CD0B88A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D562-228E-48E4-815F-4B81E3C76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004EB5-C598-4FAA-9474-BE1BEA27E8A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150920" y="194472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Отрицательные числа в географ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428760" y="214200"/>
            <a:ext cx="8072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Отрицательные числа в географ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195640" y="665280"/>
            <a:ext cx="442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еографи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сота гор измеряется с помощь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ожительных чисе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убина воды с помощью отрицательных чисе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Ниже уровня моря - выше уровня мор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rcRect l="16336" t="12165" r="8671" b="36485"/>
          <a:stretch/>
        </p:blipFill>
        <p:spPr>
          <a:xfrm>
            <a:off x="357120" y="214200"/>
            <a:ext cx="8358120" cy="633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585000"/>
            <a:ext cx="7858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ботая с источниками,  я выяснила, что положительные и отрицательные числа служат для описания изменений величи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Если величина растет, то говорят, что ее изменение положительно (+), а если она убывае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о изменение называют отрицательным (–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знала, что больше всего отрицательные числа встречаются в точных науках,  в математике и физ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ыполняя данную работу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я значительно расширила знания по математике.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готовила реферат и презентацию по тем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«Отрицательные числа в школьных учебниках»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делала сообщение в своем классе.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714240"/>
            <a:ext cx="1143000" cy="1465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785880" y="500040"/>
            <a:ext cx="77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Отрицательные числа появились значительно позже положительных, отрицательными числами обычно обозначали долг. Наверно, поэтому человек восприним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ложительное – как «нечто хорошее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ое – как «нечто плох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0" t="52707" r="0" b="0"/>
          <a:stretch/>
        </p:blipFill>
        <p:spPr>
          <a:xfrm>
            <a:off x="5442120" y="5214960"/>
            <a:ext cx="327312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0" t="0" r="0" b="50443"/>
          <a:stretch/>
        </p:blipFill>
        <p:spPr>
          <a:xfrm>
            <a:off x="3441600" y="3643200"/>
            <a:ext cx="284508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65000" y="1584360"/>
            <a:ext cx="80899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4:30:17Z</dcterms:created>
  <dc:creator>Школа</dc:creator>
  <dc:description/>
  <dc:language>en-US</dc:language>
  <cp:lastModifiedBy>komp</cp:lastModifiedBy>
  <dcterms:modified xsi:type="dcterms:W3CDTF">2015-03-03T04:47:08Z</dcterms:modified>
  <cp:revision>64</cp:revision>
  <dc:subject/>
  <dc:title>отрицательные числа</dc:title>
</cp:coreProperties>
</file>