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B7A-D265-4CF7-9FBA-E0F0793C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BD1-EDF6-4D71-B40B-C4F689C2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DB0-6FA7-4E17-8BCC-A50FF3FD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B3D-77D4-4644-B8FA-F67E6D59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6DC-5824-4765-9739-7CDFA1F4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42E-CED0-4671-8FD3-C32BE9DA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9BC-0F64-46F8-BF03-B06618FD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70D-D2A0-425F-B20D-866DA9F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85E-785C-4C4B-A040-2B18839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5ED-5CB2-4B47-A3C1-722D0FDD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021-24A1-4D99-BA6E-94275319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A27-5B4E-40D8-8AB1-F0A3745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939-8D19-4786-A1EF-633FDDC6C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19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71960" y="357120"/>
            <a:ext cx="4657680" cy="1214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571680" y="1714680"/>
            <a:ext cx="778644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рганизация внеурочной деятельности младших школьников  в условиях  реализац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929200" y="4500720"/>
            <a:ext cx="264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Щербакова Э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 руководитель МО учителей начальных классов МБ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3"/>
          <p:cNvSpPr/>
          <p:nvPr/>
        </p:nvSpPr>
        <p:spPr>
          <a:xfrm>
            <a:off x="428760" y="285840"/>
            <a:ext cx="82864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воспита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ы  школы во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SAM_0288.JPG"/>
          <p:cNvPicPr/>
          <p:nvPr/>
        </p:nvPicPr>
        <p:blipFill>
          <a:blip r:embed="rId2"/>
          <a:stretch/>
        </p:blipFill>
        <p:spPr>
          <a:xfrm>
            <a:off x="1143000" y="142884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SAM_0415.JPG"/>
          <p:cNvPicPr/>
          <p:nvPr/>
        </p:nvPicPr>
        <p:blipFill>
          <a:blip r:embed="rId3"/>
          <a:stretch/>
        </p:blipFill>
        <p:spPr>
          <a:xfrm>
            <a:off x="1143000" y="14288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SAM_0677.JPG"/>
          <p:cNvPicPr/>
          <p:nvPr/>
        </p:nvPicPr>
        <p:blipFill>
          <a:blip r:embed="rId4"/>
          <a:stretch/>
        </p:blipFill>
        <p:spPr>
          <a:xfrm>
            <a:off x="1143000" y="1428840"/>
            <a:ext cx="6786720" cy="5089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IMG_2925.JPG"/>
          <p:cNvPicPr/>
          <p:nvPr/>
        </p:nvPicPr>
        <p:blipFill>
          <a:blip r:embed="rId5"/>
          <a:stretch/>
        </p:blipFill>
        <p:spPr>
          <a:xfrm>
            <a:off x="1143000" y="1428840"/>
            <a:ext cx="6715080" cy="5014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IMG_2764.JPG"/>
          <p:cNvPicPr/>
          <p:nvPr/>
        </p:nvPicPr>
        <p:blipFill>
          <a:blip r:embed="rId6"/>
          <a:stretch/>
        </p:blipFill>
        <p:spPr>
          <a:xfrm>
            <a:off x="1116000" y="1413000"/>
            <a:ext cx="6813720" cy="5157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DSC_0042.JPG"/>
          <p:cNvPicPr/>
          <p:nvPr/>
        </p:nvPicPr>
        <p:blipFill>
          <a:blip r:embed="rId7"/>
          <a:stretch/>
        </p:blipFill>
        <p:spPr>
          <a:xfrm>
            <a:off x="1187280" y="1341360"/>
            <a:ext cx="6624720" cy="522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:\митинг\DSC_0178.JPG"/>
          <p:cNvPicPr/>
          <p:nvPr/>
        </p:nvPicPr>
        <p:blipFill>
          <a:blip r:embed="rId8"/>
          <a:stretch/>
        </p:blipFill>
        <p:spPr>
          <a:xfrm>
            <a:off x="571680" y="1214280"/>
            <a:ext cx="8089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6072120" y="285840"/>
            <a:ext cx="2693880" cy="7858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642960" y="357120"/>
            <a:ext cx="5143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42960" y="381168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урочной  деятельностью охвачены 100 %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илось материально-техническое обеспеч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абинет оснащён современным мультимедийным оборуд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о 3 кабинета начальных классов, мобильный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9" descr="23сентября 578.jpg"/>
          <p:cNvPicPr/>
          <p:nvPr/>
        </p:nvPicPr>
        <p:blipFill>
          <a:blip r:embed="rId3"/>
          <a:stretch/>
        </p:blipFill>
        <p:spPr>
          <a:xfrm>
            <a:off x="785880" y="9572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рисунки день счастья 1а (1).JPG"/>
          <p:cNvPicPr/>
          <p:nvPr/>
        </p:nvPicPr>
        <p:blipFill>
          <a:blip r:embed="rId4"/>
          <a:stretch/>
        </p:blipFill>
        <p:spPr>
          <a:xfrm>
            <a:off x="4857840" y="135720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642960" y="357120"/>
            <a:ext cx="8001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направления и вопросы мониторин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57120" y="1500120"/>
            <a:ext cx="835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остребованности форм и мероприятий внекласс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ность контингента всех направлений внеуроч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школьников и родителей по итогам года с целью выявления удовлетворённости воспитательными мероприят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ённость  обучающихся во внеурочную образовательную деятельность как на базе школы, так и вне 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плочение ученического коллектива, характер межличностных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428760" y="357120"/>
            <a:ext cx="82864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СТ ПРОФЕССИОНАЛЬНОЙ КОМПЕТЕНТНОСТИ ПЕДАГО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0040" y="857160"/>
            <a:ext cx="8215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педагогов в муниципальных педагогических чт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еренц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г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г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муниципальных конкурс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4 г.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учший классный руководитель»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5 г.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етодическая разработка уроков в начальных классах»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два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ме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 и проведение семина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2 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Деятельностный подход в обучении и организация внеурочной деятельности первоклассников в рамках внедрения ФГОС» (райо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3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Технология уроков в деятельностном методе» (шко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и проведение педагогических советов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«Ведение ФГОС в школе первой ступе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072120" y="285840"/>
            <a:ext cx="2693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3а проводит акцию (5).JPG"/>
          <p:cNvPicPr/>
          <p:nvPr/>
        </p:nvPicPr>
        <p:blipFill>
          <a:blip r:embed="rId3"/>
          <a:stretch/>
        </p:blipFill>
        <p:spPr>
          <a:xfrm>
            <a:off x="714240" y="500040"/>
            <a:ext cx="8215560" cy="6161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DSC_0209.JPG"/>
          <p:cNvPicPr/>
          <p:nvPr/>
        </p:nvPicPr>
        <p:blipFill>
          <a:blip r:embed="rId4"/>
          <a:stretch/>
        </p:blipFill>
        <p:spPr>
          <a:xfrm>
            <a:off x="428760" y="24912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348800" y="200016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429000" cy="442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6072120" y="285840"/>
            <a:ext cx="2693880" cy="7858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6" descr=""/>
          <p:cNvPicPr/>
          <p:nvPr/>
        </p:nvPicPr>
        <p:blipFill>
          <a:blip r:embed="rId4"/>
          <a:stretch/>
        </p:blipFill>
        <p:spPr>
          <a:xfrm>
            <a:off x="4127400" y="5516640"/>
            <a:ext cx="46087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285840"/>
            <a:ext cx="3085920" cy="804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214720" y="4214880"/>
            <a:ext cx="6500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Второе дыхание школы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Жизнь после уроков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3" descr="3а проводит акцию (8).JPG"/>
          <p:cNvPicPr/>
          <p:nvPr/>
        </p:nvPicPr>
        <p:blipFill>
          <a:blip r:embed="rId4"/>
          <a:stretch/>
        </p:blipFill>
        <p:spPr>
          <a:xfrm>
            <a:off x="500040" y="428760"/>
            <a:ext cx="4932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143000" y="500040"/>
            <a:ext cx="6643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тимизиционн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642960" y="2000160"/>
            <a:ext cx="79297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внеурочной деятельности предполагает, что в ее реализации принимают участие все педагогические работники данного учрежд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ителя, педагог-организатор, социальный педагог, педагог-психолог, воспитатель, логопед и друг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428760" y="361440"/>
            <a:ext cx="8001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сновные направления внеуроч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 МБОУ СОШ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2960" y="1755720"/>
          <a:ext cx="8072280" cy="4657680"/>
        </p:xfrm>
        <a:graphic>
          <a:graphicData uri="http://schemas.openxmlformats.org/drawingml/2006/table">
            <a:tbl>
              <a:tblPr/>
              <a:tblGrid>
                <a:gridCol w="3252600"/>
                <a:gridCol w="3251520"/>
                <a:gridCol w="1568160"/>
              </a:tblGrid>
              <a:tr h="25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внеурочн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 осуществля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6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интеллектуаль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ны сл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мка»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ая м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- исследов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лядная геомет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Логомиры 3.0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о-нравственное направ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збука нравственност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культур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коративно-прикладное искусств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.об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хор начальной школы «Веселые нот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.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опинка к своему 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мероприятия и празд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организа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Азбука безопасност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движные игр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лимпийские надежды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3"/>
          <p:cNvSpPr/>
          <p:nvPr/>
        </p:nvSpPr>
        <p:spPr>
          <a:xfrm>
            <a:off x="1071720" y="357120"/>
            <a:ext cx="6953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4"/>
          <p:cNvSpPr/>
          <p:nvPr/>
        </p:nvSpPr>
        <p:spPr>
          <a:xfrm>
            <a:off x="357120" y="785880"/>
            <a:ext cx="82155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0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38200" y="214200"/>
            <a:ext cx="82486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сновные направления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SAM_3372.JPG"/>
          <p:cNvPicPr/>
          <p:nvPr/>
        </p:nvPicPr>
        <p:blipFill>
          <a:blip r:embed="rId2"/>
          <a:stretch/>
        </p:blipFill>
        <p:spPr>
          <a:xfrm>
            <a:off x="1143000" y="1357200"/>
            <a:ext cx="6543720" cy="4907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SAM_3392.JPG"/>
          <p:cNvPicPr/>
          <p:nvPr/>
        </p:nvPicPr>
        <p:blipFill>
          <a:blip r:embed="rId3"/>
          <a:stretch/>
        </p:blipFill>
        <p:spPr>
          <a:xfrm>
            <a:off x="1071720" y="1285920"/>
            <a:ext cx="6786360" cy="5294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SAM_3364.JPG"/>
          <p:cNvPicPr/>
          <p:nvPr/>
        </p:nvPicPr>
        <p:blipFill>
          <a:blip r:embed="rId4"/>
          <a:stretch/>
        </p:blipFill>
        <p:spPr>
          <a:xfrm>
            <a:off x="1071720" y="1214280"/>
            <a:ext cx="7072200" cy="5303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SAM_3384.JPG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905040" y="1143000"/>
            <a:ext cx="7238880" cy="5429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3" descr="SAM_8486.JPG"/>
          <p:cNvPicPr/>
          <p:nvPr/>
        </p:nvPicPr>
        <p:blipFill>
          <a:blip r:embed="rId6"/>
          <a:stretch/>
        </p:blipFill>
        <p:spPr>
          <a:xfrm>
            <a:off x="714240" y="1000080"/>
            <a:ext cx="7500960" cy="5626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4" descr="SAM_5632.JPG"/>
          <p:cNvPicPr/>
          <p:nvPr/>
        </p:nvPicPr>
        <p:blipFill>
          <a:blip r:embed="rId7"/>
          <a:stretch/>
        </p:blipFill>
        <p:spPr>
          <a:xfrm>
            <a:off x="714240" y="928800"/>
            <a:ext cx="7643880" cy="5732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SAM_0251.JPG"/>
          <p:cNvPicPr/>
          <p:nvPr/>
        </p:nvPicPr>
        <p:blipFill>
          <a:blip r:embed="rId8"/>
          <a:stretch/>
        </p:blipFill>
        <p:spPr>
          <a:xfrm>
            <a:off x="642960" y="857160"/>
            <a:ext cx="7715160" cy="578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:\Documents and Settings\Пользователь\Рабочий стол\МО\районный семинар деятельностный подход\на семинар слайд шоу\SAM_2755.JPG"/>
          <p:cNvPicPr/>
          <p:nvPr/>
        </p:nvPicPr>
        <p:blipFill>
          <a:blip r:embed="rId9"/>
          <a:stretch/>
        </p:blipFill>
        <p:spPr>
          <a:xfrm>
            <a:off x="642960" y="857160"/>
            <a:ext cx="77151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28760" y="361440"/>
            <a:ext cx="82152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Наличие образовательных программ внеуроч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 направлениям, объему часов, срокам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4240" y="2143080"/>
          <a:ext cx="7858440" cy="3819600"/>
        </p:xfrm>
        <a:graphic>
          <a:graphicData uri="http://schemas.openxmlformats.org/drawingml/2006/table">
            <a:tbl>
              <a:tblPr/>
              <a:tblGrid>
                <a:gridCol w="433440"/>
                <a:gridCol w="2414520"/>
                <a:gridCol w="1479600"/>
                <a:gridCol w="1481400"/>
                <a:gridCol w="2049480"/>
              </a:tblGrid>
              <a:tr h="7362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внеуроч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ъединений, круж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о-нрав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интеллекту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культур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428760" y="361440"/>
            <a:ext cx="82152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Формы организации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928800" y="1857240"/>
            <a:ext cx="757224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руж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детский х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экскур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лимпиа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портивные соревн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исковые и научные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928800" y="12142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28760" y="292320"/>
            <a:ext cx="83581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нятость обучающихся  начальной ступ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(1-4 классы) МБОУ СОШ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 учреждениях ДОД г. Поронай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2286000"/>
          <a:ext cx="7929720" cy="3191040"/>
        </p:xfrm>
        <a:graphic>
          <a:graphicData uri="http://schemas.openxmlformats.org/drawingml/2006/table">
            <a:tbl>
              <a:tblPr/>
              <a:tblGrid>
                <a:gridCol w="1906560"/>
                <a:gridCol w="3219480"/>
                <a:gridCol w="2803680"/>
              </a:tblGrid>
              <a:tr h="192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 в  УД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Д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уч-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ШИ – 35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ХШ  - 30         ДЮСШ – 4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71720" y="28584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7120" y="357120"/>
            <a:ext cx="8512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Реализация воспитательной системы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57120" y="857160"/>
            <a:ext cx="82868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а воспитательной работы в начальных классах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питание добро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равления развития личности  ребё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нтел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ша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р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7:54:15Z</dcterms:created>
  <dc:creator>qwer</dc:creator>
  <dc:description/>
  <dc:language>en-US</dc:language>
  <cp:lastModifiedBy>Name</cp:lastModifiedBy>
  <dcterms:modified xsi:type="dcterms:W3CDTF">2016-10-10T14:26:08Z</dcterms:modified>
  <cp:revision>37</cp:revision>
  <dc:subject/>
  <dc:title>Слайд 1</dc:title>
</cp:coreProperties>
</file>