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AFE-1DC8-4DD6-969B-F6C3A568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58F-4032-4CC3-B569-DFF01947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97B-E210-419C-94DE-D1D5467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8C6-CA1F-401A-8E66-5272F748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9B5-8E9A-441F-ACEE-143CBC0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39F-151F-42D0-A77D-3ED2791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57B-145B-4E7B-A937-5CA9BFF7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E59-8241-493C-BC59-5C60265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EA7-8DA4-4DB3-81C2-C248AD22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CD1-8BA4-4299-9426-6D86B50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89F-EC4F-4081-9AC9-2D81784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625-BD86-40AF-9505-FEE910E8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F325-F06C-4B36-9B69-DA2D774D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: Сильвестрова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кола №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принято дарить на Пас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STERE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приносит детям подарки  на Пас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животные  приносят пасхальные яй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010280" y="2286000"/>
            <a:ext cx="1667160" cy="1724040"/>
            <a:chOff x="7010280" y="2286000"/>
            <a:chExt cx="1667160" cy="17240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010280" y="2286000"/>
              <a:ext cx="166716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7010280" y="2286000"/>
              <a:ext cx="1667160" cy="17240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115272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67360" y="4842000"/>
            <a:ext cx="227664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2206440" cy="1798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5202360"/>
            <a:ext cx="22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809880" y="2590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200400" y="4495680"/>
            <a:ext cx="1450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5638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2361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2362320" cy="33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8148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be Kinder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he Ostern wünsche ich eu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73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Has, Has, Osterhas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s, Has, Osterh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möchten nicht mehr w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rokus und das Tausendschö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issmeinnicht und Tulpen ste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on lang in unserem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s, Has, Oster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inen bunten Ei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Star lugt aus dem Kasten ra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ühkätzchen sitzen um sein Ha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kommst du Frühling feie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Ostere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39621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638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Osterstrau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83059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sterbru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3429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öchte ein Junge ein Mädchen zur Freundin, so schenkt er ihr ein besonders schönes, selbstbemaltes Ostere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076480"/>
            <a:ext cx="8076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Kinder suchen die Osterei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sterplätzch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322800"/>
            <a:ext cx="58672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Osterha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s dem Schokol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админ</cp:lastModifiedBy>
  <dcterms:modified xsi:type="dcterms:W3CDTF">2016-03-27T12:56:1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