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9EA-E4DD-4382-9258-400BCEBE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085-3367-4E43-BFC3-2CEBCF6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FA0-202C-41D6-9790-0E04B893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EC3-79AD-436C-8174-B147C8BB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D06-DD6F-4B15-94F7-2597FDF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086-A508-495D-A361-1CA1D166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106-32FF-4632-8717-71C1E137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1D2-50C5-4594-862B-633E218B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F19-E4E2-4473-A852-5D95861A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F8C-7069-4B52-BBD8-92EFF7F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FAB-E88E-4C4C-BD6E-1A040B21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7F5-A217-4507-AE2B-85B5090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EB47-6666-48CA-B910-125B6A795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: Сильвестрова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кола №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принято дарить на Пасх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STERE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приносит детям подарки  на Пасх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животные  приносят пасхальные яй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10280" y="2286000"/>
            <a:ext cx="1667160" cy="1724040"/>
            <a:chOff x="7010280" y="2286000"/>
            <a:chExt cx="1667160" cy="17240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7010280" y="2286000"/>
              <a:ext cx="166716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7010280" y="2286000"/>
              <a:ext cx="1667160" cy="17240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800600"/>
            <a:ext cx="11527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67360" y="4842000"/>
            <a:ext cx="227664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2206440" cy="1798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5202360"/>
            <a:ext cx="226836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809880" y="2590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200400" y="4495680"/>
            <a:ext cx="1450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5638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62320" y="3505320"/>
            <a:ext cx="2361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236232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be Kinder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he Ostern wünsche ich eu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73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Has, Has, Osterhas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s, Has, Osterh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möchten nicht mehr w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rokus und das Tausendschö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issmeinnicht und Tulpen st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on lang in unserem G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s, Has, Oster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inen bunten Ei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tar lugt aus dem Kasten ra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ühkätzchen sitzen um sein Ha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kommst du Frühling fei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Ostere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39621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638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Osterstrau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4572000"/>
            <a:ext cx="83059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sterbrun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3429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öchte ein Junge ein Mädchen zur Freundin, so schenkt er ihr ein besonders schönes, selbstbemaltes Ostere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076480"/>
            <a:ext cx="8076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Kinder suchen die Osterei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sterplätzch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322800"/>
            <a:ext cx="58672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Osterha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s dem Schokol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дмин</cp:lastModifiedBy>
  <dcterms:modified xsi:type="dcterms:W3CDTF">2016-03-27T12:56:1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