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C67C-E984-4D10-A3B7-71C6860C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284A-A0AF-4E01-923C-662126C5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BFC3-F640-434E-A332-F43DCA67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B45E-FBB9-4AF8-8500-68D7C01E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B9DB-8EA9-41B7-988F-0992AAD9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1CD8-B532-4ACF-8F16-3EF7DF42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76F8-7EC4-4A43-8843-B1B3F9AD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087D-4055-4256-8579-87E1EC38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32F5-08E7-488B-8F4B-9482C633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22A4-F5F3-4611-B2FC-6D5C7E5F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946C-8A78-430B-BE34-09095B21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CF4D-AD01-4BE1-9366-5577A8F8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469F-095C-412E-877A-275CD560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C76C-26C0-4EEE-B5E9-7E7249EC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2FF7-AFB6-41E6-B865-01A602A5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51C4-8C96-4D26-A628-07B9511E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9655-8E30-4134-A72E-5A84A2D2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2FF5-E9FE-4253-A84D-7CCDEBED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6579-06C9-474D-BCF3-6A596A1D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6B4D-85FD-42AA-B037-5366E185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A032-82F0-4EB5-A19C-85E61828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2E57-DD96-4DC3-9B9F-63B39231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D1DB-2302-49F2-AA25-A4C5BC09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1490-D741-4C7C-BC3E-90881BB6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2F3C-5DF4-481C-9B70-23813F083A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D111-1387-4C32-BDB2-82F9E2D06A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adservices.com/pagead/aclk?sa=L&amp;ai=CxzaHK6cxU_uLLYHGyAP32IHoCMyh2ZECpMH-84QBwI23ARABIMuAhB1Qnq2Q5QFghJ3phaQdoAHbvYX_A8gBAqgDAcgDwQSqBHpP0N3P5NvGD2hY6cBbAhzLEZDbawQB1YSqgGM7W7K4H8lxqRVMdAZfsGwSq7bXnEuRBVzxRYzdot0eKIuJtv7kA02MRhcvc50MMAlEZK62dpzHj548LwHrgICjoJVzs_SgXYpi9e_G0E25B7PsJdgdpbVNeu9X98of_ogGAaAGAoAHjcJ6&amp;num=1&amp;cid=5GjA8ZIf_3lKiKddoVBz9vo5&amp;sig=AOD64_3uVrYagnaZPWaG7EiCdI7czkWUQA&amp;client=ca-pub-1783751757000328&amp;adurl=http://AllMyBooks.ru&amp;nm=2&amp;mb=2&amp;bg=!A0QylBgBM08yGwIAAAHFUgAAAIwqAQCGJg2g2rE4N5qyUSN4JZ8sI2_fivIHPPn53nfaPy2LJc4F8lbba7ajxdTLnQnEHrQd032WPl9qq7ukmdU8WinURfBgwBQ9u1H1BwQvjPa-HtDrxkwH6__lVuQbfTn0QuqZG_mWFdk4w3Z9QlMd0QWzbnA_0TWWAQfwo_SVWMGRq2LbI9edJ6xyADybt4NCK2TnPqFU_LsptzIefBe6m_WeWMAEZnXf_15e7LUGCxJAGoiLzNfSnorun4kGL_8FtT6BJ8D7pvrFj72B_P8OzsiVcyc0CfZWXiRiYjmGkwax-3CQ21qmyf0auF5cr3GdprI0N6EdDhnHHWCiRmMH-DuD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img_url=http%3A%2F%2Fcs10268.vk.me%2Fu8440560%2F96587684%2Fx_f23c6218.jpg&amp;text=&#1082;&#1072;&#1088;&#1090;&#1080;&#1085;&#1082;&#1072;%20&#1075;&#1091;&#1089;&#1077;&#1085;&#1080;&#1094;&#1099;&amp;noreask=1&amp;pos=25&amp;lr=57&amp;rpt=simage&amp;nojs=1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img_url=http%3A%2F%2Fwww.brucelynn.com%2Fphotography%2Ffamily%2Fimages%2FAna%2520Thinking.jpg&amp;text=&#1082;&#1072;&#1088;&#1090;&#1080;&#1085;&#1082;&#1072;%20&#1084;&#1072;&#1083;&#1100;&#1095;&#1080;&#1082;&#1072;%20&#1076;&#1091;&#1084;&#1072;&#1077;&#1090;&amp;noreask=1&amp;pos=4&amp;lr=57&amp;rpt=simage&amp;nojs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900igr.net/datas/literatura/Turgenev-stikhotvorenija/0006-006-Derevo-predskazanij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10.proshkolu.ru/content/media/pic/std/4000000/3405000/3404414-cb92c81aa27b8ec9.gif" TargetMode="External"/><Relationship Id="rId2" Type="http://schemas.openxmlformats.org/officeDocument/2006/relationships/image" Target="../media/image6.png"/><Relationship Id="rId3" Type="http://schemas.openxmlformats.org/officeDocument/2006/relationships/hyperlink" Target="http://images.yandex.ru/yandsearch?source=wiz&amp;fp=0&amp;img_url=http%3A%2F%2F900igr.net%2Fdatai%2Fliteratura%2FKrylov-Vorona-i-lisitsa%2F0002-001-Krylov-Rossija-XIX-vek.jpg&amp;text=&#1082;&#1072;&#1088;&#1090;&#1080;&#1085;&#1082;&#1072;%20&#1082;&#1086;&#1088;&#1079;&#1080;&#1085;&#1072;%20&#1080;&#1076;&#1077;&#1081;&amp;noreask=1&amp;pos=6&amp;lr=57&amp;rpt=simage&amp;nojs=1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img_url=http%3A%2F%2Fu.jimdo.com%2Fwww101%2Fo%2Fsad4c9083ab9ec43b%2Fimg%2Fi236f0bd082cfbc95%2F1303111878%2Fstd%2F%25D0%25BF%25D0%25BE%25D1%2587%25D1%2582%25D0%25B0.jpg&amp;text=&#1082;&#1072;&#1088;&#1090;&#1080;&#1085;&#1082;&#1072;%20&#1076;&#1077;&#1090;&#1080;%20&#1076;&#1091;&#1084;&#1072;&#1102;&#1090;%20&#1074;%20&#1096;&#1082;&#1086;&#1083;&#1077;&amp;noreask=1&amp;pos=16&amp;lr=57&amp;rpt=simage&amp;nojs=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                        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Мышление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развивается в проблемной ситуации, когда ребёнок сам  «собирает» понятия о предмете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                   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Л.Выгодский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4" name="" descr="">
            <a:hlinkClick r:id="rId2"/>
          </p:cNvPr>
          <p:cNvPicPr/>
          <p:nvPr/>
        </p:nvPicPr>
        <p:blipFill>
          <a:blip r:embed="rId3"/>
          <a:srcRect l="3069" t="12139" r="0" b="27407"/>
          <a:stretch/>
        </p:blipFill>
        <p:spPr>
          <a:xfrm>
            <a:off x="5611680" y="4437000"/>
            <a:ext cx="353232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иём «Шесть шляп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Во-первых, каждой из шести шляп соответствует свой собственный, индивидуальный ц"/>
          <p:cNvPicPr/>
          <p:nvPr/>
        </p:nvPicPr>
        <p:blipFill>
          <a:blip r:embed="rId1"/>
          <a:stretch/>
        </p:blipFill>
        <p:spPr>
          <a:xfrm>
            <a:off x="0" y="1298520"/>
            <a:ext cx="4549680" cy="55594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Во-вторых, шляпу очень легко надеть и снять, Во-вторых, шляпу очень легко надеть"/>
          <p:cNvPicPr/>
          <p:nvPr/>
        </p:nvPicPr>
        <p:blipFill>
          <a:blip r:embed="rId2"/>
          <a:stretch/>
        </p:blipFill>
        <p:spPr>
          <a:xfrm>
            <a:off x="4689360" y="1343160"/>
            <a:ext cx="445464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395280" y="189000"/>
            <a:ext cx="7921800" cy="1191240"/>
            <a:chOff x="395280" y="189000"/>
            <a:chExt cx="7921800" cy="119124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395280" y="260280"/>
              <a:ext cx="9525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835280" y="189000"/>
              <a:ext cx="648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00"/>
                  </a:solidFill>
                  <a:latin typeface="Tahoma"/>
                </a:rPr>
                <a:t>Красная Шляпа. Эмоции. Интуиция, чувства и предчувствия. Не требуется давать обоснование чувствам. Какие у меня по этому поводу возникают чувства? 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95280" y="2133720"/>
            <a:ext cx="7921800" cy="916920"/>
            <a:chOff x="395280" y="2133720"/>
            <a:chExt cx="7921800" cy="916920"/>
          </a:xfrm>
        </p:grpSpPr>
        <p:pic>
          <p:nvPicPr>
            <p:cNvPr id="205" name="" descr=""/>
            <p:cNvPicPr/>
            <p:nvPr/>
          </p:nvPicPr>
          <p:blipFill>
            <a:blip r:embed="rId2"/>
            <a:stretch/>
          </p:blipFill>
          <p:spPr>
            <a:xfrm>
              <a:off x="395280" y="2205000"/>
              <a:ext cx="952560" cy="72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1835280" y="2133720"/>
              <a:ext cx="6481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00"/>
                  </a:solidFill>
                  <a:latin typeface="Tahoma"/>
                </a:rPr>
                <a:t>Черная Шляпа. Осторожность. Суждение. Оценка. Правда ли это? Сработает ли это? В чем недостатки? Что здесь неправильно? 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24000" y="3284640"/>
            <a:ext cx="7993080" cy="916920"/>
            <a:chOff x="324000" y="3284640"/>
            <a:chExt cx="7993080" cy="916920"/>
          </a:xfrm>
        </p:grpSpPr>
        <p:pic>
          <p:nvPicPr>
            <p:cNvPr id="208" name="" descr=""/>
            <p:cNvPicPr/>
            <p:nvPr/>
          </p:nvPicPr>
          <p:blipFill>
            <a:blip r:embed="rId3"/>
            <a:stretch/>
          </p:blipFill>
          <p:spPr>
            <a:xfrm>
              <a:off x="324000" y="3284640"/>
              <a:ext cx="952200" cy="85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1835280" y="3284640"/>
              <a:ext cx="6481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00"/>
                  </a:solidFill>
                  <a:latin typeface="Tahoma"/>
                </a:rPr>
                <a:t>Желтая Шляпа. Преимущества. Почему это стоит сделать? Каковы преимущества? Почему это можно сделать? Почему это сработает? 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50920" y="4508640"/>
            <a:ext cx="8065800" cy="916920"/>
            <a:chOff x="250920" y="4508640"/>
            <a:chExt cx="8065800" cy="916920"/>
          </a:xfrm>
        </p:grpSpPr>
        <p:pic>
          <p:nvPicPr>
            <p:cNvPr id="211" name="" descr=""/>
            <p:cNvPicPr/>
            <p:nvPr/>
          </p:nvPicPr>
          <p:blipFill>
            <a:blip r:embed="rId4"/>
            <a:stretch/>
          </p:blipFill>
          <p:spPr>
            <a:xfrm>
              <a:off x="250920" y="4579920"/>
              <a:ext cx="952200" cy="7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1834920" y="4508640"/>
              <a:ext cx="6481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00"/>
                  </a:solidFill>
                  <a:latin typeface="Tahoma"/>
                </a:rPr>
                <a:t>Зеленая Шляпа. Творчество. Различные идеи. Новые идеи. Предложения. Каковы некоторые из возможных решений и действий? Каковы альтернативы? 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24000" y="5661000"/>
            <a:ext cx="8065800" cy="989640"/>
            <a:chOff x="324000" y="5661000"/>
            <a:chExt cx="8065800" cy="989640"/>
          </a:xfrm>
        </p:grpSpPr>
        <p:pic>
          <p:nvPicPr>
            <p:cNvPr id="214" name="" descr=""/>
            <p:cNvPicPr/>
            <p:nvPr/>
          </p:nvPicPr>
          <p:blipFill>
            <a:blip r:embed="rId5"/>
            <a:stretch/>
          </p:blipFill>
          <p:spPr>
            <a:xfrm>
              <a:off x="324000" y="5661000"/>
              <a:ext cx="95220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908000" y="5733720"/>
              <a:ext cx="6481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00"/>
                  </a:solidFill>
                  <a:latin typeface="Tahoma"/>
                </a:rPr>
                <a:t>Синяя Шляпа. Организация мышления. Мышление о мышлении. Чего мы достигли? Что нужно сделать дальше? 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95280" y="1268280"/>
            <a:ext cx="8137440" cy="916920"/>
            <a:chOff x="395280" y="1268280"/>
            <a:chExt cx="8137440" cy="916920"/>
          </a:xfrm>
        </p:grpSpPr>
        <p:pic>
          <p:nvPicPr>
            <p:cNvPr id="217" name="" descr=""/>
            <p:cNvPicPr/>
            <p:nvPr/>
          </p:nvPicPr>
          <p:blipFill>
            <a:blip r:embed="rId6"/>
            <a:stretch/>
          </p:blipFill>
          <p:spPr>
            <a:xfrm>
              <a:off x="395280" y="1268280"/>
              <a:ext cx="9522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2050920" y="1268280"/>
              <a:ext cx="6481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00"/>
                  </a:solidFill>
                  <a:latin typeface="Tahoma"/>
                </a:rPr>
                <a:t>Белая Шляпа. Информация. Вопросы. Какой мы обладаем информацией? Какая нам нужна информация? 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Гусеница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Прожорливая, вредная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Ползёт, откладывает, превращается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До чего же хороша!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Личинка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32360" y="4278240"/>
            <a:ext cx="308448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96800" y="33156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риём «Кубик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                             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Задания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Озаглавь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Прочитай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Размышляй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Нарисуй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Сделай вывод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249960" y="3975120"/>
            <a:ext cx="264312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7680" y="0"/>
            <a:ext cx="77407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Все, что можете проверять сами,  проверяйте сам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Заходите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Открывайт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Заглядывайт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Приезжайт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Лично осматривайте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Сами пробуйте нажать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Трогайте  рукой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Поднимайтесь на чердак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Заглядывайте под колес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Убеждайтесь лично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Встречайтесь лично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33"/>
                </a:solidFill>
                <a:latin typeface="Arial"/>
              </a:rPr>
              <a:t> 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9933"/>
                </a:solidFill>
                <a:latin typeface="Arial"/>
              </a:rPr>
              <a:t>Выбирая  путь, думай, кто по нему пойдет…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________________________________________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Базовая моде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013120" y="1523520"/>
            <a:ext cx="4411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Вызов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Осмысление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Рефлексия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51440" y="4338720"/>
            <a:ext cx="32925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0120" y="334800"/>
            <a:ext cx="7491600" cy="10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иём «Верите ли вы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289160"/>
            <a:ext cx="7624800" cy="53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Что бабочки пробуют пищу лапками?</a:t>
            </a:r>
            <a:br>
              <a:rPr sz="2400"/>
            </a:b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Некоторые виды бабочек могут развивать скорость 50 км/ч?</a:t>
            </a:r>
            <a:br>
              <a:rPr sz="2400"/>
            </a:b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Некоторые бабочки при нападении хищников притворяются мертвыми?</a:t>
            </a:r>
            <a:br>
              <a:rPr sz="2400"/>
            </a:b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Бабочки различают красный, зеленый и желтый цвета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Бабочки не спят?</a:t>
            </a:r>
            <a:br>
              <a:rPr sz="2400"/>
            </a:b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Бабочки не такие уж и миролюбивые — они будут сражаться за солнечный участок земли?</a:t>
            </a:r>
            <a:br>
              <a:rPr sz="2400"/>
            </a:b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Бабочки являются вторыми по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численности опылителями после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пчел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586560" y="4782960"/>
            <a:ext cx="25574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5040" y="0"/>
            <a:ext cx="8508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аблица «Инсерт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603440" y="1562040"/>
          <a:ext cx="7083000" cy="4749480"/>
        </p:xfrm>
        <a:graphic>
          <a:graphicData uri="http://schemas.openxmlformats.org/drawingml/2006/table">
            <a:tbl>
              <a:tblPr/>
              <a:tblGrid>
                <a:gridCol w="1770120"/>
                <a:gridCol w="1772280"/>
                <a:gridCol w="1770480"/>
                <a:gridCol w="1770120"/>
              </a:tblGrid>
              <a:tr h="47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1" lang="en-US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подставьте “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(да) на полях, если то, что вы читаете, соответствует тому, что вы знаете, или думали,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что знаете; 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en-US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+”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поставьте “+”(плюс)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на полях, если то, что вы читаете, является для вас новым; 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-”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поставьте “ -“ 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(минус), если то, что вы читаете, противоречит тому, что вы уже знали, или думали, что знаете;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?”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поставьте “?” на полях, если то, что вы читаете, непонятно, или же 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вы хотели бы получить более подробные сведения по данному вопросу 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00120" y="334800"/>
            <a:ext cx="7491600" cy="10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орзина ид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14520" y="1492200"/>
            <a:ext cx="6338880" cy="4003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54920" y="1504800"/>
            <a:ext cx="1890720" cy="20559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H="1">
            <a:off x="7182000" y="3259080"/>
            <a:ext cx="590400" cy="125424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334800"/>
            <a:ext cx="7491600" cy="10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ласте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48360" y="4149720"/>
            <a:ext cx="1224000" cy="79200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4149720"/>
            <a:ext cx="0" cy="136692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004920" y="4162320"/>
            <a:ext cx="936360" cy="93672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973760" y="2565360"/>
            <a:ext cx="1253880" cy="65088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966760" y="2401920"/>
            <a:ext cx="1049400" cy="77616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01800" y="1620720"/>
            <a:ext cx="23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ядовитая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860440" y="17542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танк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3080" y="4911840"/>
            <a:ext cx="171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бабочка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51280" y="5056200"/>
            <a:ext cx="10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лист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25800" y="5605560"/>
            <a:ext cx="16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ползёт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19760" y="3292560"/>
            <a:ext cx="292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Comic Sans MS"/>
              </a:rPr>
              <a:t>Гусеница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00120" y="439200"/>
            <a:ext cx="7491600" cy="93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риём «От обратного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39560" y="2168640"/>
            <a:ext cx="6751800" cy="407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      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А что , если на планете исчезнут бабочки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14720" y="4145040"/>
            <a:ext cx="36180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3675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482920" y="2759040"/>
          <a:ext cx="5941440" cy="1787040"/>
        </p:xfrm>
        <a:graphic>
          <a:graphicData uri="http://schemas.openxmlformats.org/drawingml/2006/table">
            <a:tbl>
              <a:tblPr/>
              <a:tblGrid>
                <a:gridCol w="1982160"/>
                <a:gridCol w="1982160"/>
                <a:gridCol w="1977120"/>
              </a:tblGrid>
              <a:tr h="114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Знаю</a:t>
                      </a:r>
                      <a:endParaRPr b="0" lang="en-US" sz="2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Хочу узнать</a:t>
                      </a:r>
                      <a:endParaRPr b="0" lang="en-US" sz="2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Узнал</a:t>
                      </a:r>
                      <a:endParaRPr b="0" lang="en-US" sz="2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08:09:13Z</dcterms:created>
  <dc:creator>Admin</dc:creator>
  <dc:description/>
  <dc:language>en-US</dc:language>
  <cp:lastModifiedBy>Admin</cp:lastModifiedBy>
  <dcterms:modified xsi:type="dcterms:W3CDTF">2014-03-25T18:56:20Z</dcterms:modified>
  <cp:revision>5</cp:revision>
  <dc:subject/>
  <dc:title>Дерево предсказаний</dc:title>
</cp:coreProperties>
</file>