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E42-4A3D-4AE5-AA7B-8C1AF2D4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B3E-0115-44DA-A6A5-DA11D3D9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712-F4E6-46D5-9B5E-EE84622F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E14-1E1D-46E1-A5B1-1F504702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3F39-D493-47CB-9E41-A78649C2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E912-D531-4513-8D15-674BA995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E6C9-5F4F-441C-8A00-EF94301D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ABD8-831D-46C9-B803-4ADC559B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694A-43DE-4319-833F-2400D1B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37E6-DFCB-418D-9D08-717E30AA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07F3-3DA2-4ED0-94F8-A142C18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6D7-1B69-440C-8026-B28BC8EB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C8A6-83E3-4725-A13B-47F8B526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9D82-2005-4FAF-B367-5671471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B59D-ECC3-4AC3-94D7-D725694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88BD-95A6-4FD2-8BE2-597AD37F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D01C-65D7-4B0E-98A5-D8CF1ED9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473-54CE-4E9E-82CB-F345C4A0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7D5-C568-4AF6-BCFF-43462B8F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2C1-8671-4A14-B2A1-7C0F46D8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176-A871-4310-A092-80C1E70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3D6-B846-4F0A-B92F-CB3BEA14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A8A-4F10-49D8-B2C6-7E3D7319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660-1F4C-43AF-9F66-59035B36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8269-36FA-4767-806B-8E8B57B24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DB32-71AE-41D7-9B55-DEDF504EB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adservices.com/pagead/aclk?sa=L&amp;ai=CxzaHK6cxU_uLLYHGyAP32IHoCMyh2ZECpMH-84QBwI23ARABIMuAhB1Qnq2Q5QFghJ3phaQdoAHbvYX_A8gBAqgDAcgDwQSqBHpP0N3P5NvGD2hY6cBbAhzLEZDbawQB1YSqgGM7W7K4H8lxqRVMdAZfsGwSq7bXnEuRBVzxRYzdot0eKIuJtv7kA02MRhcvc50MMAlEZK62dpzHj548LwHrgICjoJVzs_SgXYpi9e_G0E25B7PsJdgdpbVNeu9X98of_ogGAaAGAoAHjcJ6&amp;num=1&amp;cid=5GjA8ZIf_3lKiKddoVBz9vo5&amp;sig=AOD64_3uVrYagnaZPWaG7EiCdI7czkWUQA&amp;client=ca-pub-1783751757000328&amp;adurl=http://AllMyBooks.ru&amp;nm=2&amp;mb=2&amp;bg=!A0QylBgBM08yGwIAAAHFUgAAAIwqAQCGJg2g2rE4N5qyUSN4JZ8sI2_fivIHPPn53nfaPy2LJc4F8lbba7ajxdTLnQnEHrQd032WPl9qq7ukmdU8WinURfBgwBQ9u1H1BwQvjPa-HtDrxkwH6__lVuQbfTn0QuqZG_mWFdk4w3Z9QlMd0QWzbnA_0TWWAQfwo_SVWMGRq2LbI9edJ6xyADybt4NCK2TnPqFU_LsptzIefBe6m_WeWMAEZnXf_15e7LUGCxJAGoiLzNfSnorun4kGL_8FtT6BJ8D7pvrFj72B_P8OzsiVcyc0CfZWXiRiYjmGkwax-3CQ21qmyf0auF5cr3GdprI0N6EdDhnHHWCiRmMH-DuD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cs10268.vk.me%2Fu8440560%2F96587684%2Fx_f23c6218.jpg&amp;text=&#1082;&#1072;&#1088;&#1090;&#1080;&#1085;&#1082;&#1072;%20&#1075;&#1091;&#1089;&#1077;&#1085;&#1080;&#1094;&#1099;&amp;noreask=1&amp;pos=25&amp;lr=57&amp;rpt=simage&amp;nojs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www.brucelynn.com%2Fphotography%2Ffamily%2Fimages%2FAna%2520Thinking.jpg&amp;text=&#1082;&#1072;&#1088;&#1090;&#1080;&#1085;&#1082;&#1072;%20&#1084;&#1072;&#1083;&#1100;&#1095;&#1080;&#1082;&#1072;%20&#1076;&#1091;&#1084;&#1072;&#1077;&#1090;&amp;noreask=1&amp;pos=4&amp;lr=57&amp;rpt=simage&amp;noj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s/literatura/Turgenev-stikhotvorenija/0006-006-Derevo-predskazanij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0.proshkolu.ru/content/media/pic/std/4000000/3405000/3404414-cb92c81aa27b8ec9.gif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ages.yandex.ru/yandsearch?source=wiz&amp;fp=0&amp;img_url=http%3A%2F%2F900igr.net%2Fdatai%2Fliteratura%2FKrylov-Vorona-i-lisitsa%2F0002-001-Krylov-Rossija-XIX-vek.jpg&amp;text=&#1082;&#1072;&#1088;&#1090;&#1080;&#1085;&#1082;&#1072;%20&#1082;&#1086;&#1088;&#1079;&#1080;&#1085;&#1072;%20&#1080;&#1076;&#1077;&#1081;&amp;noreask=1&amp;pos=6&amp;lr=57&amp;rpt=simage&amp;nojs=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u.jimdo.com%2Fwww101%2Fo%2Fsad4c9083ab9ec43b%2Fimg%2Fi236f0bd082cfbc95%2F1303111878%2Fstd%2F%25D0%25BF%25D0%25BE%25D1%2587%25D1%2582%25D0%25B0.jpg&amp;text=&#1082;&#1072;&#1088;&#1090;&#1080;&#1085;&#1082;&#1072;%20&#1076;&#1077;&#1090;&#1080;%20&#1076;&#1091;&#1084;&#1072;&#1102;&#1090;%20&#1074;%20&#1096;&#1082;&#1086;&#1083;&#1077;&amp;noreask=1&amp;pos=16&amp;lr=57&amp;rpt=simage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Мышление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развивается в проблемной ситуации, когда ребёнок сам  «собирает» понятия о предмет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Л.Выгодски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" descr="">
            <a:hlinkClick r:id="rId2"/>
          </p:cNvPr>
          <p:cNvPicPr/>
          <p:nvPr/>
        </p:nvPicPr>
        <p:blipFill>
          <a:blip r:embed="rId3"/>
          <a:srcRect l="3069" t="12139" r="0" b="27407"/>
          <a:stretch/>
        </p:blipFill>
        <p:spPr>
          <a:xfrm>
            <a:off x="5611680" y="4437000"/>
            <a:ext cx="35323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ём «Шесть шляп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Во-первых, каждой из шести шляп соответствует свой собственный, индивидуальный ц"/>
          <p:cNvPicPr/>
          <p:nvPr/>
        </p:nvPicPr>
        <p:blipFill>
          <a:blip r:embed="rId1"/>
          <a:stretch/>
        </p:blipFill>
        <p:spPr>
          <a:xfrm>
            <a:off x="0" y="1298520"/>
            <a:ext cx="4549680" cy="555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Во-вторых, шляпу очень легко надеть и снять, Во-вторых, шляпу очень легко надеть"/>
          <p:cNvPicPr/>
          <p:nvPr/>
        </p:nvPicPr>
        <p:blipFill>
          <a:blip r:embed="rId2"/>
          <a:stretch/>
        </p:blipFill>
        <p:spPr>
          <a:xfrm>
            <a:off x="4689360" y="1343160"/>
            <a:ext cx="44546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95280" y="189000"/>
            <a:ext cx="7921800" cy="1191240"/>
            <a:chOff x="395280" y="189000"/>
            <a:chExt cx="7921800" cy="11912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9525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835280" y="189000"/>
              <a:ext cx="648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Красная Шляпа. Эмоции. Интуиция, чувства и предчувствия. Не требуется давать обоснование чувствам. Какие у меня по этому поводу возникают чувства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95280" y="2133720"/>
            <a:ext cx="7921800" cy="916920"/>
            <a:chOff x="395280" y="2133720"/>
            <a:chExt cx="7921800" cy="91692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395280" y="2205000"/>
              <a:ext cx="952560" cy="7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835280" y="213372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Черная Шляпа. Осторожность. Суждение. Оценка. Правда ли это? Сработает ли это? В чем недостатки? Что здесь неправильно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24000" y="3284640"/>
            <a:ext cx="7993080" cy="916920"/>
            <a:chOff x="324000" y="3284640"/>
            <a:chExt cx="7993080" cy="91692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324000" y="3284640"/>
              <a:ext cx="952200" cy="85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35280" y="328464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Желтая Шляпа. Преимущества. Почему это стоит сделать? Каковы преимущества? Почему это можно сделать? Почему это сработает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0920" y="4508640"/>
            <a:ext cx="8065800" cy="916920"/>
            <a:chOff x="250920" y="4508640"/>
            <a:chExt cx="8065800" cy="916920"/>
          </a:xfrm>
        </p:grpSpPr>
        <p:pic>
          <p:nvPicPr>
            <p:cNvPr id="211" name="" descr=""/>
            <p:cNvPicPr/>
            <p:nvPr/>
          </p:nvPicPr>
          <p:blipFill>
            <a:blip r:embed="rId4"/>
            <a:stretch/>
          </p:blipFill>
          <p:spPr>
            <a:xfrm>
              <a:off x="250920" y="4579920"/>
              <a:ext cx="95220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834920" y="450864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Зеленая Шляпа. Творчество. Различные идеи. Новые идеи. Предложения. Каковы некоторые из возможных решений и действий? Каковы альтернативы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4000" y="5661000"/>
            <a:ext cx="8065800" cy="989640"/>
            <a:chOff x="324000" y="5661000"/>
            <a:chExt cx="8065800" cy="989640"/>
          </a:xfrm>
        </p:grpSpPr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324000" y="5661000"/>
              <a:ext cx="95220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908000" y="573372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Синяя Шляпа. Организация мышления. Мышление о мышлении. Чего мы достигли? Что нужно сделать дальше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95280" y="1268280"/>
            <a:ext cx="8137440" cy="916920"/>
            <a:chOff x="395280" y="1268280"/>
            <a:chExt cx="8137440" cy="916920"/>
          </a:xfrm>
        </p:grpSpPr>
        <p:pic>
          <p:nvPicPr>
            <p:cNvPr id="217" name="" descr=""/>
            <p:cNvPicPr/>
            <p:nvPr/>
          </p:nvPicPr>
          <p:blipFill>
            <a:blip r:embed="rId6"/>
            <a:stretch/>
          </p:blipFill>
          <p:spPr>
            <a:xfrm>
              <a:off x="395280" y="1268280"/>
              <a:ext cx="9522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050920" y="1268280"/>
              <a:ext cx="648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Tahoma"/>
                </a:rPr>
                <a:t>Белая Шляпа. Информация. Вопросы. Какой мы обладаем информацией? Какая нам нужна информация? 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Гусениц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рожорливая, вредна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олзёт, откладывает, превращаетс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До чего же хороша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Личинк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32360" y="4278240"/>
            <a:ext cx="30844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96800" y="3315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иём «Кубик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Задания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Озаглавь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рочита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Размышля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Нарисуй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Сделай вывод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249960" y="3975120"/>
            <a:ext cx="26431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0"/>
            <a:ext cx="7740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се, что можете проверять сами,  проверяйте с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Заходит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Открывайт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Заглядывайт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иезжайт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Лично осматривайте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ами пробуйте нажать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Трогайте  рукой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однимайтесь на чердак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Заглядывайте под коле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Убеждайтесь личн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стречайтесь лично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33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9933"/>
                </a:solidFill>
                <a:latin typeface="Arial"/>
              </a:rPr>
              <a:t>Выбирая  путь, думай, кто по нему пойдет…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________________________________________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азов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13120" y="1523520"/>
            <a:ext cx="4411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Вызов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Осмыслени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Рефлекс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1440" y="4338720"/>
            <a:ext cx="3292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34800"/>
            <a:ext cx="74916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иём «Верите ли вы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289160"/>
            <a:ext cx="7624800" cy="53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Что бабочки пробуют пищу лапками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которые виды бабочек могут развивать скорость 50 км/ч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Некоторые бабочки при нападении хищников притворяются мертвыми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абочки различают красный, зеленый и желтый цвета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абочки не спят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абочки не такие уж и миролюбивые — они будут сражаться за солнечный участок земли?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Бабочки являются вторыми по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численности опылителями посл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чел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586560" y="4782960"/>
            <a:ext cx="25574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040" y="0"/>
            <a:ext cx="850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аблица «Инсерт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03440" y="1562040"/>
          <a:ext cx="7083000" cy="4749480"/>
        </p:xfrm>
        <a:graphic>
          <a:graphicData uri="http://schemas.openxmlformats.org/drawingml/2006/table">
            <a:tbl>
              <a:tblPr/>
              <a:tblGrid>
                <a:gridCol w="1770120"/>
                <a:gridCol w="1772280"/>
                <a:gridCol w="1770480"/>
                <a:gridCol w="1770120"/>
              </a:tblGrid>
              <a:tr h="47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дставьте “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да) на полях, если то, что вы читаете, соответствует тому, что вы знаете, или думали,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что знаете;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+”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ставьте “+”(плюс)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на полях, если то, что вы читаете, является для вас новым;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-”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ставьте “ -“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минус), если то, что вы читаете, противоречит тому, что вы уже знали, или думали, что знаете;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?”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поставьте “?” на полях, если то, что вы читаете, непонятно, или же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ы хотели бы получить более подробные сведения по данному вопросу 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334800"/>
            <a:ext cx="74916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рзина ид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14520" y="1492200"/>
            <a:ext cx="6338880" cy="4003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54920" y="1504800"/>
            <a:ext cx="1890720" cy="2055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7182000" y="3259080"/>
            <a:ext cx="590400" cy="125424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334800"/>
            <a:ext cx="7491600" cy="10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ласт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4149720"/>
            <a:ext cx="1224000" cy="7920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149720"/>
            <a:ext cx="0" cy="13669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004920" y="4162320"/>
            <a:ext cx="936360" cy="9367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973760" y="2565360"/>
            <a:ext cx="1253880" cy="6508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966760" y="2401920"/>
            <a:ext cx="1049400" cy="7761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01800" y="1620720"/>
            <a:ext cx="23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ядовитая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0440" y="1754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танк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3080" y="491184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1280" y="505620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лист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5800" y="5605560"/>
            <a:ext cx="16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олзёт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19760" y="3292560"/>
            <a:ext cx="292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Comic Sans MS"/>
              </a:rPr>
              <a:t>Гусеница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439200"/>
            <a:ext cx="7491600" cy="9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иём «От обратного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39560" y="2168640"/>
            <a:ext cx="6751800" cy="40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А что , если на планете исчезнут бабочки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14720" y="4145040"/>
            <a:ext cx="3618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75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82920" y="2759040"/>
          <a:ext cx="5941440" cy="1787040"/>
        </p:xfrm>
        <a:graphic>
          <a:graphicData uri="http://schemas.openxmlformats.org/drawingml/2006/table">
            <a:tbl>
              <a:tblPr/>
              <a:tblGrid>
                <a:gridCol w="1982160"/>
                <a:gridCol w="1982160"/>
                <a:gridCol w="1977120"/>
              </a:tblGrid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8:09:13Z</dcterms:created>
  <dc:creator>Admin</dc:creator>
  <dc:description/>
  <dc:language>en-US</dc:language>
  <cp:lastModifiedBy>Admin</cp:lastModifiedBy>
  <dcterms:modified xsi:type="dcterms:W3CDTF">2014-03-25T18:56:20Z</dcterms:modified>
  <cp:revision>5</cp:revision>
  <dc:subject/>
  <dc:title>Дерево предсказаний</dc:title>
</cp:coreProperties>
</file>