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720-C823-4A47-8EED-59EE5B97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BF1-68C9-4C05-8D09-78EB2AA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FEE-D8D7-492B-9C56-194DEAAC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162-6C25-48FD-9738-52290745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6D6-C29A-49D2-A990-B6C4E3A9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B07-4AEF-476A-9936-E940DE5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3B5-5A2A-45B1-A3D4-D872FED1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0F8-A9F5-4D88-ACB0-A065B67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506-7F5A-47AE-B161-DE238E5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185-157F-4BE1-BBC0-D02A551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120-DABA-4218-9879-922726C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381-94CA-4F7F-969C-758707E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46D-934D-4EA4-9F0D-FC69FF80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143000" cy="1105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72400" y="76320"/>
            <a:ext cx="841320" cy="81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53280" y="11430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1143000"/>
            <a:ext cx="49528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400800" y="5714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: Сильвестр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а №3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he  Weihn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91440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 Stall bekommt Maria ein K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20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man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mark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66720"/>
            <a:ext cx="73911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s Weihnachtsgeschen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Weihnachtskart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Weihnachtspyramid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stoll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Adventskranz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91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Adventskalende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6-04-04T16:22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