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619-58DB-4430-95AD-154132CD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98C-5E32-48C6-9718-F0C96EFD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744-0B8D-4EFB-B38E-B6E97B38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313-5ADA-43A7-BDDA-7F4E1908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44C-3371-4A32-964D-05AECA96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4C2-811A-484C-8208-B705E554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5DB-39F4-4130-BB19-0CACDF95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B85-C6FE-4A5E-9E18-0CF14EBB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CAB-8C84-4EBF-A571-F666D582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2D0-951F-4EFD-9972-9A20E6E9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536-406E-488C-AEED-C8D9941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BDA-F5B4-46F1-BBF8-8FCB4AF5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7399-A95B-4B0C-9400-9B58A9602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jpe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1143000" cy="1105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72400" y="76320"/>
            <a:ext cx="841320" cy="812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153280" y="114300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90720" y="1143000"/>
            <a:ext cx="4952880" cy="487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400800" y="5714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 : Сильвестров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кола №3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he  Weihna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28600" y="152280"/>
            <a:ext cx="91440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 Stall bekommt Maria ein K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6201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r Weihnachtsman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r Weihnachtsmarkt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66720"/>
            <a:ext cx="73911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as Weihnachtsgeschen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e Weihnachtskart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58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e Weihnachtspyramid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r Weihnachtsstolle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r Adventskranz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391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r Adventskalender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админ</cp:lastModifiedBy>
  <dcterms:modified xsi:type="dcterms:W3CDTF">2016-04-04T16:22:2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