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49B6-0DD8-47EF-A127-E1C8B50AC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0062-EAD1-4FED-A318-5560C8D0C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CCD9-F187-445F-9579-E64B41ED8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1181-1DAF-4B65-B5E3-A9BB94FB93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FEEF-E741-4CF0-9167-CA6A2F59C1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10CEB-D664-4D40-9BBE-5AECA5593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BD12-BD4C-44EF-B4F4-D1B627023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36BE-E4A8-4470-A558-D1F27D9B5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9664-22A9-4908-862F-9CDEDFE10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3A8B-8A8D-4BC7-8FF8-260CE485D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0349F-170D-4609-872C-5C7443F5D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34FA-42EC-4364-B18D-5A210B030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4893A0-EB40-46AB-B4C1-38532D63F5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533520" y="1371600"/>
            <a:ext cx="8458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писать сжатое излож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55520" y="-1851120"/>
            <a:ext cx="39150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55520" y="-1851120"/>
            <a:ext cx="39150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3429000" cy="3138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ёмы сжатия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85560"/>
            <a:ext cx="82281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сключение повт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ключение одного или нескольких из синоним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ключение  уточняющих  и поясняющих  конструк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ключение фрагмента  предл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ключение  одного  или  нескольких  предло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об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про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ияние нескольких предложений в од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мена сложноподчинённого предложения простым предложени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мена  прямой  речи  косвенн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мена фрагмента предложения синонимичным выра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над сжатием текста</a:t>
            </a:r>
            <a:br>
              <a:rPr sz="44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абза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к Василию Александровичу Сухомлинскому пришёл в школу самый старый житель села Иван Степанович. Он очень волновался. Старожил предупредил директора школы, что разговор у них будет серьёз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6160" y="1600200"/>
            <a:ext cx="4038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к В.А. Сухомлинскому пришёл в школу взволнованный  старожил Иван Степанович. Он предупредил директора  о  серьёзном разгов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над сжатием текста</a:t>
            </a:r>
            <a:br>
              <a:rPr sz="44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абза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 развернул на столе белый платок. На нём лежал засохший, видавший виды кусок хлеба. Сухомлинский был удивлён этому.  «Это Святой хлеб!» − сказал Иван Степанович и тяжело вздохну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6160" y="1600200"/>
            <a:ext cx="4038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 принёс с собой в белом платке кусок чёрствого хлеба и сказал, что это святой хлеб. Василий Александрович был этому  удивлё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над сжатием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42800" y="1214280"/>
            <a:ext cx="27147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 абза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856880"/>
            <a:ext cx="40402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ий  Александрович  услышал  рассказ  старого пастуха и узнал, как появился у него этот хлеб. Накануне пришёл Иван Степанович с пастбища и застал в саду неприглядную картину. Четверо его внуков бросают чёрствый кусок хлеба на дерево, сбивают им спелые груши. Сладкие уродились в этом году груш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899560" y="1213920"/>
            <a:ext cx="10152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4000"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4720" y="1857240"/>
            <a:ext cx="40417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 рассказа  старого пастуха директор школы узнал, как к нему попал хлеб. Вечером он вернулся с пастбища и увидел в своём саду неприглядную картину. Его внуки сбивали хлебом спелые груш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над сжатием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28600" y="1214280"/>
            <a:ext cx="27147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 абза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ушка говорит внукам: «Разбойники! Что вы делаете! Хлеб целовать надо, а не бросать его». Засмеялись мальчишки. Бегают по саду, резвятся. Поймал их дед, надрал им уши.  Пустили слезу внуки, но не от стыда, а от боли.  А болело сердце их деда. «Разве вырастут настоящими людьми эти дети?» − сказал он с болью Сухомлинск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 пристыдил сорванцов. Однако  они только посмеялись над ним. С болью сказал Сухомлинскому старожил, что не вырастут такие дети настоящими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над сжатием текста</a:t>
            </a:r>
            <a:br>
              <a:rPr sz="44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абза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коре в селе узнали, что умер Иван Степанович. Запомнил директор школы разговор с мудрым стариком, поэтому и положил сухарь вместе с белым платком в шкаф на видное место. Смотрит Василий Александрович на хлеб и вспоминает он строгие, тревожные глаза старожила. Упрёком его внукам и всем ученикам школы звучат в ушах директора слова: «Это Святой хлеб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6160" y="1600200"/>
            <a:ext cx="4038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коре умер Иван Степанович. А директор школы положил сухарь на видное место, чтобы все его ученики помнили о святом хл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струкция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ак писать сжатое изложение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те в тексте существенные (т.е. важные, необходимые)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среди них главную мыс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ейте текст на части, сгруппировав его вокруг существенных мыслей, выделите микро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аглавьте каждую часть и составьте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, что можно исключить в каждой части, от каких подробностей отказ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думайте средства связи между ча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 отобранную информацию на «свой» язык (используйте приемы сжат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этот сокращенный, «отжатый» текст на черновике, прочитайте, исправьт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шите отредактированный текст на чистов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ятой хлеб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999720"/>
            <a:ext cx="822816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427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к В.А. Сухомлинскому пришёл в школу взволнованный  старожил Иван Степанович. Он предупредил директора  о  серьёзном разгов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 принёс с собой в белом платке кусок чёрствого хлеба и сказал, что это святой хлеб. Василий Александрович был этому  удивлё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 рассказа  старого пастуха директор школы узнал, как к нему попал хлеб. Вечером он вернулся с пастбища и увидел в своём саду неприглядную картину. Его внуки сбивали хлебом спелые груш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 пристыдил сорванцов. Но они только посмеялись над ним. С болью сказал Сухомлинскому старожил, что не вырастут такие дети настоящими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коре умер Иван Степанович. А директор школы положил сухарь на видное место, чтобы все его ученики помнили о святом хлебе.Да. Хлеб всему голова. Мы должны  беречь хлеб и помнить о его настоящей  ц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2"/>
          <p:cNvGrpSpPr/>
          <p:nvPr/>
        </p:nvGrpSpPr>
        <p:grpSpPr>
          <a:xfrm>
            <a:off x="2362320" y="1676520"/>
            <a:ext cx="5045040" cy="4829040"/>
            <a:chOff x="2362320" y="1676520"/>
            <a:chExt cx="5045040" cy="4829040"/>
          </a:xfrm>
        </p:grpSpPr>
        <p:pic>
          <p:nvPicPr>
            <p:cNvPr id="86" name="Picture 3" descr=""/>
            <p:cNvPicPr/>
            <p:nvPr/>
          </p:nvPicPr>
          <p:blipFill>
            <a:blip r:embed="rId1"/>
            <a:stretch/>
          </p:blipFill>
          <p:spPr>
            <a:xfrm>
              <a:off x="2362320" y="1676520"/>
              <a:ext cx="5045040" cy="48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4"/>
            <p:cNvSpPr/>
            <p:nvPr/>
          </p:nvSpPr>
          <p:spPr>
            <a:xfrm>
              <a:off x="2362320" y="1676520"/>
              <a:ext cx="5045040" cy="48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Администратор\Desktop\to2yciodx0wnu30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ва цель урока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. А. Сухомли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Администратор\Desktop\49213081_Suhomlinskiy__.jpg"/>
          <p:cNvPicPr/>
          <p:nvPr/>
        </p:nvPicPr>
        <p:blipFill>
          <a:blip r:embed="rId1"/>
          <a:stretch/>
        </p:blipFill>
        <p:spPr>
          <a:xfrm>
            <a:off x="2571840" y="1357200"/>
            <a:ext cx="40003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41200" y="115920"/>
            <a:ext cx="8686800" cy="78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бота с текс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к Василию Александровичу Сухомлинскому пришёл в школу самый старый житель села Иван Степанович. Он очень волновался. Старожил предупредил директора школы, что разговор у них будет серьёз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 развернул на столе белый платок. На нём лежал засохший, видавший виды кусок хлеба. Сухомлинский был удивлён этому.  «Это Святой хлеб!» − сказал Иван Степанович и тяжело вздохну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ий  Александрович  услышал  рассказ  старого пастуха и узнал, как появился у него этот хлеб. Накануне пришёл Иван Степанович с пастбища и застал в саду неприглядную картину. Четверо его внуков бросают чёрствый кусок хлеба на дерево, сбивают им спелые груши. Сладкие уродились в этом году груш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ушка говорит внукам: «Разбойники! Что вы делаете! Хлеб целовать надо, а не бросать его». Засмеялись мальчишки. Бегают по саду, резвятся. Поймал их дед, надрал им уши.  Пустили слезу внуки, но не от стыда, а от боли.  А болело сердце их деда. «Разве вырастут настоящими людьми эти дети?» − сказал он с болью Сухомлинско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коре в селе узнали, что умер Иван Степанович. Запомнил директор школы разговор с мудрым стариком, поэтому и положил сухарь вместе с белым платком в шкаф на видное место. Смотрит Василий Александрович на хлеб и вспоминает он строгие, тревожные глаза старожила. Упрёком его внукам и всем ученикам школы звучат в ушах директора слова: «Это Святой хлеб!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457200" y="130320"/>
            <a:ext cx="822960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собенности текс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ем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новная мыс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едложения связаны по смыслу и грамматически (средствами связи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вершённость по смысл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деление ключев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71720"/>
            <a:ext cx="822816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427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к Василию Александровичу Сухомлинскому пришёл в школ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ый старый житель сел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 Степанович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 очень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новался. Старожи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дил директо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колы, чт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них будет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ьёзн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ернул на стол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 плато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нём лежал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охш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идавший виды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сок хлеб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хомлинский был удивлён этому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«Эт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той хле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» −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а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ван Степанович и тяжело вздохну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ий  Александрович  услышал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  старого пастух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явилс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нег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хле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канун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ёл Иван Степанович с пастбища и заста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аду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глядную картин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етвер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внук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осают чёрствый кусок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дерево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ивают им спелые груш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ладкие уродились в этом году груш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ушка говори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нукам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бойн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Что вы делаете!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 целовать над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не бросать его»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меялись мальчиш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егают по саду, резвятся. Поймал их дед, надрал им уши.  Пустили слезу внуки, но не от стыда, а от бол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А болело сердце их деда. 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 вырастут настоящими людьми эти де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» −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ал он с болью Сухомлинск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кор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еле узнали, чт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 Иван Степанович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помнил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 школ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говор с мудрым стариком, поэтому 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л сухар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месте с белым платком в шкаф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идное мест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и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силий Александрович на хлеб 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ина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 строгие, тревожные глаза старожила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ёк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го внукам и всем ученикам школы звучат в ушах директора слова: «Эт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той хле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ила построения абза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дном абзаце, как правило, излагается только одна микро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ие предложений внутри абзаца подчиняется схеме: зачин, развитие мысли, концов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главное предложение абзаца (предложение, в котором выражена тема или основная мысль) обычно помещается в начале или в конце абза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ысли в абзаце  осуществляется одним из следующих способов: детализация, приведение примеров, сопоставление или противопоставление, аналогия, объяснение, обоснование тези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текс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 будет серьёз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ёрствый  кусок хлеба на ст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 старого паст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ло сердце д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л директор школы разговор со стар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06:52:39Z</dcterms:created>
  <dc:creator>Инна</dc:creator>
  <dc:description/>
  <dc:language>en-US</dc:language>
  <cp:lastModifiedBy>3</cp:lastModifiedBy>
  <dcterms:modified xsi:type="dcterms:W3CDTF">2016-04-08T08:54:48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