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7CB-AEA7-4D0D-B44D-11CEA8AB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6BB2-FC7F-450B-AA65-A65AE586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AB9-5C60-4898-9340-3041E8E7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B8E6-437D-4D9C-BBFD-6CF9E3A1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3EE8-5E5A-4865-95B4-AB7840BA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6FDF-2AFB-471E-9575-9C9A6897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739E-993D-496F-A14A-46C0061C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D41D-1EAD-43DC-82A4-8B051B96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E8D7-E0CC-4266-BCEE-7950C000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5FEA-EB67-4CCE-8A04-E9610A18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41DA-635C-46C5-AF07-CA8641C4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5AEA-3D8E-412B-9DD8-4FFC255A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38CB-8B42-4824-AE73-2D1D164D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DF4C-69BB-406D-A992-6D69DF19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9B3E-C8D7-49A8-A1F4-8DD99EA1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88D6-C998-473E-9A07-5BE5294D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1C04-387E-464F-B0B5-04201130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1B0-34EF-4F98-919B-A4DF1E31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C50-0D0A-4766-888D-6A46AD14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C21-56C4-4634-BBF3-D4C37E0F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53D-467F-4AD4-B119-E2B311C4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0DD-CA4C-44D5-B8AF-9736718B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D6A-0227-41E9-A328-FD5BB842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4AB2-FC26-4E89-BAC8-9B97F38A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BD48-C72A-4852-B418-5835ACE82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01FF-7F85-4B09-A7F3-45020B88B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lasses.ru/all-german/dictionary-german-russian-universal" TargetMode="External"/><Relationship Id="rId2" Type="http://schemas.openxmlformats.org/officeDocument/2006/relationships/hyperlink" Target="http://mirslovarei.com/" TargetMode="External"/><Relationship Id="rId3" Type="http://schemas.openxmlformats.org/officeDocument/2006/relationships/hyperlink" Target="http://wordsland.ru/zs/dolina/" TargetMode="External"/><Relationship Id="rId4" Type="http://schemas.openxmlformats.org/officeDocument/2006/relationships/hyperlink" Target="http://de.academic.ru/dic.nsf/dewiki/869256" TargetMode="External"/><Relationship Id="rId5" Type="http://schemas.openxmlformats.org/officeDocument/2006/relationships/hyperlink" Target="http://www.redensarten-index.de/" TargetMode="External"/><Relationship Id="rId6" Type="http://schemas.openxmlformats.org/officeDocument/2006/relationships/hyperlink" Target="http://www.zeno.org/Wander-1867" TargetMode="External"/><Relationship Id="rId7" Type="http://schemas.openxmlformats.org/officeDocument/2006/relationships/hyperlink" Target="http://www.zeno.org/Wander-1867" TargetMode="External"/><Relationship Id="rId8" Type="http://schemas.openxmlformats.org/officeDocument/2006/relationships/hyperlink" Target="http://www.zeno.org/Wander-1867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5761080" cy="20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d6"/>
                </a:solidFill>
                <a:latin typeface="Arial"/>
              </a:rPr>
              <a:t>Фразеологизмы с названиями животных в немецком и русском языках</a:t>
            </a:r>
            <a:endParaRPr b="1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58920" y="4005360"/>
            <a:ext cx="55450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0082"/>
                </a:solidFill>
                <a:latin typeface="Arial"/>
              </a:rPr>
              <a:t>Гончарова Ири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10082"/>
                </a:solidFill>
                <a:latin typeface="Arial"/>
              </a:rPr>
              <a:t>МКОУ «Хохольский лицей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0082"/>
                </a:solidFill>
                <a:latin typeface="Arial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Изображение"/>
          <p:cNvPicPr/>
          <p:nvPr/>
        </p:nvPicPr>
        <p:blipFill>
          <a:blip r:embed="rId1"/>
          <a:stretch/>
        </p:blipFill>
        <p:spPr>
          <a:xfrm>
            <a:off x="6948360" y="620640"/>
            <a:ext cx="1941480" cy="298620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3933720"/>
            <a:ext cx="2160720" cy="256392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Неполные эквиваленты(4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450280" cy="511164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Die gebratenen Tauben fliegen einem nicht ins Maul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 труда не вынешь и рыбку из пруда. Голуби являются «лакомым кусочком». И чтобы полакомиться, нужно приложить  усилия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Besser der Sperling in der Hand als die Taube auf dem Dach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чше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ица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ах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уравль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е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 Германии  образ недосягаемого отражается в образе голубя - символа мира,  счастья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Неполные эквиваленты(5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77200" cy="482436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Besser ein dürrer Hab' ich als ein fetter Hätt' 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Лучше синицу в руки, чем журавля в неб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Die Arbeit ist kein Hase, läuft nicht in den Wald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бота не волк: в лес не убеж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Es hilft kein Bad am Raben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ого кота не вымоешь доб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0070"/>
                </a:solidFill>
                <a:latin typeface="Comic Sans MS"/>
              </a:rPr>
              <a:t>A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lter Has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треляный вороб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Неполные эквиваленты(6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34280" cy="525636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Andrer Leute Kühe haben immer größre Euter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чужом огороде всегда трава зелене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In der Not frisst der Teufel Fliege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езрыбье и рак ры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W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o Fuchs und Hase einander gute Nacht sagen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да Макар телят не гонял; у чёрта на кулич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Mit altem Hunde sicherste Jagd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ый конь борозды не испорт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Анимализмы, </a:t>
            </a:r>
            <a:br>
              <a:rPr sz="4400"/>
            </a:b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не имеющие эквивалента(1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8640" cy="532908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меньшую группу (23%) составили фразеологизмы, не имеющие эквивалента с обозначением животного в другом язы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Hahn im Kor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мужчина в женском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einem Affen Zucker geb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аться безудержному веселью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H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ier liegt der Hase im Pfeff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т где собака зарыт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Анимализмы, </a:t>
            </a:r>
            <a:br>
              <a:rPr sz="4400"/>
            </a:b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не имеющие эквивалента(2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45840" y="1700280"/>
            <a:ext cx="8173800" cy="489744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Einen Käfer 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ыть с причу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Sei eine Schnecke im Raten, ein Vogel in Tat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ешай не торопясь, решив не мед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64"/>
                </a:solidFill>
                <a:latin typeface="Comic Sans MS"/>
              </a:rPr>
              <a:t>D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er Katze die Schelle umhängen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.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ять на себя щекотливое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Mein Name ist Hase (-ich weiß von nichts).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Моя хата с краю (- ничего не знаю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Анимализмы, </a:t>
            </a:r>
            <a:br>
              <a:rPr sz="4400"/>
            </a:b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не имеющие эквивалента(3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50280" cy="489744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Herumgehen wie die Katze um den hei</a:t>
            </a:r>
            <a:r>
              <a:rPr b="0" lang="en-US" sz="3200" spc="-1" strike="noStrike">
                <a:solidFill>
                  <a:srgbClr val="380070"/>
                </a:solidFill>
                <a:latin typeface="Comic Sans MS"/>
              </a:rPr>
              <a:t>β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en Brei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Ходить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круг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Aus einem Splitter eine Fuhre Holz spalt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елать из мухи сл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Ihm ist eine </a:t>
            </a:r>
            <a:r>
              <a:rPr b="1" lang="de-DE" sz="3200" spc="-1" strike="noStrike">
                <a:solidFill>
                  <a:srgbClr val="380070"/>
                </a:solidFill>
                <a:latin typeface="Comic Sans MS"/>
              </a:rPr>
              <a:t>Laus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 über die Leber gelauf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не в дух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0070"/>
                </a:solidFill>
                <a:latin typeface="Comic Sans MS"/>
              </a:rPr>
              <a:t>Da stehen die Ochse am Be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о зашло в туп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Einen Kater habe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традать головной болью с похмель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0082"/>
                </a:solidFill>
                <a:latin typeface="Arial"/>
              </a:rPr>
              <a:t>Анимализмы, </a:t>
            </a:r>
            <a:br>
              <a:rPr sz="4000"/>
            </a:br>
            <a:r>
              <a:rPr b="0" lang="en-US" sz="4000" spc="-1" strike="noStrike">
                <a:solidFill>
                  <a:srgbClr val="410082"/>
                </a:solidFill>
                <a:latin typeface="Arial"/>
              </a:rPr>
              <a:t>не имеющие эквивалента(4)</a:t>
            </a:r>
            <a:endParaRPr b="1" lang="en-US" sz="40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450280" cy="518472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064"/>
                </a:solidFill>
                <a:latin typeface="Comic Sans MS"/>
              </a:rPr>
              <a:t>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Weiße Mäuse sehen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.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иться до чер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320064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ie ist eine Fliege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женщина легкого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Es ist ein Katzensprung (bis,zu etw.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)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вух шагах, рукой п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Unter allem Hund sein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ть ниже всякой кри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Mit den Wölfen heulen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.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оединиться к мнению больши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Schwein haben-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ть везуч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Компаративные ФЕ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40720" cy="525636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стика свойства, действия или состояния происходит через сравнительную группу, сравнительное придаточное предложение с союзами wie или al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wie eine Gans schnatter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олтать взд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jah, plötzlich hochfahren wie von der Tarantel gestochen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скочить как ужаленный, букв.: будто укушенный тарантулом»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wie ein Hahn hochgeh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распетушиться, разойт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овпадающие сравнения(1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379000" cy="568800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rot wie ein Kreb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расный как рак;</a:t>
            </a:r>
            <a:br>
              <a:rPr sz="3200"/>
            </a:b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stark wie ein Pferd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(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wie ein Bär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льный как лоша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schwimmt wie ein Fisc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вает как рыба; </a:t>
            </a:r>
            <a:br>
              <a:rPr sz="3200"/>
            </a:b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schwarz wie ein Rab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черный как ворон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alt wie ein Rab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старый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007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störrisch wie ein Ese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прямый как осел; </a:t>
            </a:r>
            <a:br>
              <a:rPr sz="3200"/>
            </a:b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schwätzt wie eine Elst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щит как сорока;</a:t>
            </a:r>
            <a:br>
              <a:rPr sz="3200"/>
            </a:b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essen wie ein Spat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как воробей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schlau wie ein Fuch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трый как ли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matt wie eine Flieg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-  как сонная муха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овпадающие сравнения(2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352000" cy="597672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flink wie ein Eichhörnchen (eine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Katze)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рный как белка, ловкий как кош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ängstlich wie ein Hase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гливый как зая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glatt wie ein Aal -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зкий как угорь, изворотлив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dumm wie ein Schaf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(ein Esel)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упый как баран, осе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sanft wie ein Scha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кроткий как агнец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plump wie ein B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ä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r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клюж как медведь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fleißig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  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wie eine Biene</a:t>
            </a:r>
            <a:r>
              <a:rPr b="0" lang="ru-RU" sz="3200" spc="-1" strike="noStrike">
                <a:solidFill>
                  <a:srgbClr val="38007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38007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лежен как пчел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Что такое анимализмы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09080" cy="496872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разеологизм рождается в языке  для образно-эмоциональной характеристики предметов, признаков, действ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10082"/>
                </a:solidFill>
                <a:latin typeface="Tahoma"/>
              </a:rPr>
              <a:t>анимализмах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образная характеристика человека дается с помощью  переносного  употребления названий живот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56360" y="4797360"/>
            <a:ext cx="2303280" cy="153504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19280" y="4941720"/>
            <a:ext cx="1873080" cy="141156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Отличающиеся  сравнения</a:t>
            </a:r>
            <a:br>
              <a:rPr sz="4400"/>
            </a:b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487000" cy="568980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dastehen wie die Kuh vorm neuen 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уставиться как баран на новые ворота;</a:t>
            </a:r>
            <a:br>
              <a:rPr sz="3200"/>
            </a:b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hungrig wie ein Bä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голодный как волк (собака); </a:t>
            </a:r>
            <a:br>
              <a:rPr sz="3200"/>
            </a:b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böse wie ein Wolf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8007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лой как собака;</a:t>
            </a:r>
            <a:br>
              <a:rPr sz="3200"/>
            </a:b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sanft wie ein Lam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мирнее теленка; </a:t>
            </a:r>
            <a:br>
              <a:rPr sz="3200"/>
            </a:b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wie ein </a:t>
            </a: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Bär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 schlaf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пать как сур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gesund wie ein Bär</a:t>
            </a:r>
            <a:r>
              <a:rPr b="0" lang="ru-RU" sz="3200" spc="-1" strike="noStrike">
                <a:solidFill>
                  <a:srgbClr val="320064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320064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доров как бы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gierig wie ein Hamst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жадный как хомя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wie ein Storch im Salat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длинных худых ногах, ноги как у цап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wie ein Pferd arbeiten-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ть как в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усский язык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ака лает, караван идет (ветер носи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мецкий язы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64"/>
                </a:solidFill>
                <a:latin typeface="Comic Sans MS"/>
              </a:rPr>
              <a:t>Was k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üm</a:t>
            </a:r>
            <a:r>
              <a:rPr b="0" lang="en-US" sz="3200" spc="-1" strike="noStrike">
                <a:solidFill>
                  <a:srgbClr val="320064"/>
                </a:solidFill>
                <a:latin typeface="Comic Sans MS"/>
              </a:rPr>
              <a:t>mert es den Mond, dass die Hunde bellen?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262480" y="2514600"/>
            <a:ext cx="3238560" cy="297180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Задание для учащихся(1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267920"/>
            <a:ext cx="8018640" cy="525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1) Blind wie                a) eine Schnec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2) Stolz wie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        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b) ein Maulwu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3) Langsam wie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   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c) ein Es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4) Geschwätzig wie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d) ein Pf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5) Rennen wie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      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e) eine El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6) Stur wie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          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f) ein 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7) Schleichen wie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g) eine Bi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8)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Fleißig wie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       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h) eine Kat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9) Stumm wie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    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i) ein Fuc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10) Schlau wie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          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j) ein F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905120"/>
            <a:ext cx="28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-531720"/>
          <a:ext cx="8353440" cy="7389360"/>
        </p:xfrm>
        <a:graphic>
          <a:graphicData uri="http://schemas.openxmlformats.org/drawingml/2006/table">
            <a:tbl>
              <a:tblPr/>
              <a:tblGrid>
                <a:gridCol w="4008240"/>
                <a:gridCol w="4345200"/>
              </a:tblGrid>
              <a:tr h="1182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1) Wer sich zum Lamm mach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a) der hat den Bock auf der Heck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2) Wer mit Ochsen fähr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b) braucht keine Peitsch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3) Wer dem Fuchs glaub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c) bekommt auch seine Hörn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4) Wer die Ziegen im Haus ha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d) findet bald ein Net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1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5) Wer mit Hunden zu Bett geh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e) kommt auch zu Mark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6) Wer den Ochsen bekomm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f) wird betro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7) Wer mit fremden Ochsen pflüg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g) steht mit Hornvieh au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8)Wer kein Pferd ha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h) den fressen die Wölf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9) Wer Fische fangen will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i) hat eine magere Er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10) Wer mit Ochsen schlafen geh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320064"/>
                          </a:solidFill>
                          <a:latin typeface="Comic Sans MS"/>
                          <a:ea typeface="Times New Roman"/>
                        </a:rPr>
                        <a:t>j) steht mit Flohen au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0" y="49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Задание для учащихся(3)</a:t>
            </a:r>
            <a:endParaRPr b="1" lang="en-US" sz="40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748720" cy="587700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Wer sich … hält, muss auch für Frösche sorgen.2) … und Licht vertragen sich nicht.3) Weiße … und treue Freunde findet man selten.4) Satte … lassen die besten Körner liegen.5) Wenn die … schnattern, schweigt die Nachtigall.6) Es gibt mehr Spatzen als ….7) Wenn die … fortfliegen, bleiben die Spatzen hier.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 8)… brüten keine Tauben. 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9) Auf … schießt man nicht mit Kanonen.10) Wo … wohnen, schlagen keine Nachtig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a) Raben b) Schwalben c) Gänse d) Ad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e) Störche f) Spatzen g) Eulen h) Habichte i) Lerchen j) Tau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424720" cy="533088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 был В.В. Виноградов, говоривший, что внутреннюю форму фразеологизмов, образ, лежащий в основе их значения и употребления, «можно уяснить лишь на фоне той материальной и духовной культуры, той системы языка, в контексте которой возникло или преобразовалось данное слово или сочетание слов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Заключение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13640" y="4724280"/>
            <a:ext cx="1371600" cy="213372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995640" y="4876920"/>
            <a:ext cx="2952720" cy="198108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66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Используемые источники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21560" cy="518472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http://www.classes.ru/all-german/dictionary-german-russian-uni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http://mirslovarei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http://wordsland.ru/zs/dolin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http://de.academic.ru/dic.nsf/dewiki/8692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ff"/>
                </a:solidFill>
                <a:uFillTx/>
                <a:latin typeface="Arial"/>
                <a:hlinkClick r:id="rId5"/>
              </a:rPr>
              <a:t>http://www.redensarten-index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ff"/>
                </a:solidFill>
                <a:uFillTx/>
                <a:latin typeface="Arial"/>
                <a:hlinkClick r:id="rId6"/>
              </a:rPr>
              <a:t>http://</a:t>
            </a:r>
            <a:r>
              <a:rPr b="0" lang="ru-RU" sz="2800" spc="-1" strike="noStrike" u="sng">
                <a:solidFill>
                  <a:srgbClr val="0066ff"/>
                </a:solidFill>
                <a:uFillTx/>
                <a:latin typeface="Arial"/>
                <a:hlinkClick r:id="rId7"/>
              </a:rPr>
              <a:t>www.zeno.org</a:t>
            </a:r>
            <a:r>
              <a:rPr b="0" lang="ru-RU" sz="2800" spc="-1" strike="noStrike" u="sng">
                <a:solidFill>
                  <a:srgbClr val="0066ff"/>
                </a:solidFill>
                <a:uFillTx/>
                <a:latin typeface="Arial"/>
                <a:hlinkClick r:id="rId8"/>
              </a:rPr>
              <a:t>/Wander-18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064"/>
                </a:solidFill>
                <a:latin typeface="Arial"/>
              </a:rPr>
              <a:t>Бинович Л.Э. Немецко-русский фразеологический словарь, М.: Аквариум,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064"/>
                </a:solidFill>
                <a:latin typeface="Arial"/>
              </a:rPr>
              <a:t>Мальцеве Д.Г.Немецко-русский фразеологический словарь, М.:Русские словари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064"/>
                </a:solidFill>
                <a:latin typeface="Arial"/>
              </a:rPr>
              <a:t>Малахова А.М. 400 наиболее употребительных немецких идиом, М.:Айрис Пресс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064"/>
                </a:solidFill>
                <a:latin typeface="Arial"/>
              </a:rPr>
              <a:t>Семенова О.А.2000 русских и 2000 немецких идиом, Минск: Попурри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Отличительные особенности анимализмов во фразеологии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557000"/>
            <a:ext cx="7766280" cy="504036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являются  устойчивыми словосочетаниями и содержат прямое наименование животн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егда имеют переносное значение «челове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сут в себе оценку действий или поведения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ладают особой выразительной яркостью, метафоричностью, образ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Полные эквиваленты(1)</a:t>
            </a:r>
            <a:r>
              <a:rPr b="0" lang="en-US" sz="4400" spc="-1" strike="noStrike">
                <a:solidFill>
                  <a:srgbClr val="410082"/>
                </a:solidFill>
                <a:latin typeface="Arial Black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3120" cy="522936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3200" spc="-1" strike="noStrike">
                <a:solidFill>
                  <a:srgbClr val="320064"/>
                </a:solidFill>
                <a:latin typeface="Arial"/>
              </a:rPr>
              <a:t>30%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анимализмов составляют фразеологические пары, являющиес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лными эквивалент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B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ei Nacht sind alle Katzen grau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чью все кошки се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Leben wie Hund und Katze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ить как кошка с соб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51280" y="4941720"/>
            <a:ext cx="2016000" cy="150516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835280" y="4941720"/>
            <a:ext cx="1871640" cy="147960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012000" y="5013360"/>
            <a:ext cx="1942920" cy="145080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Полные эквиваленты(2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280360" cy="511164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Sich wie ein Elefant im Porzellanladen benehm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сти себя как слон в посудной лав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Wer unter Wölfen ist, muss heulen</a:t>
            </a:r>
            <a:r>
              <a:rPr b="0" lang="de-DE" sz="3200" spc="-1" strike="noStrike">
                <a:solidFill>
                  <a:srgbClr val="38007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38007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волками жить – по-волчьи вы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Das Ei will klüger sein als die Henne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 курицу не уча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Geschenktem Gaul sieht man nicht ins Maul.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реному коню в зубы не смотр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Неполные эквиваленты(1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5545080" cy="518472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ибольшую группу фразеологических пар (свыше 40%) составили фразеологизмы, являющиес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еполными эквивалент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т.е. обозначение животного в немецкой пословице или поговорке не совпадает с его обозначение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сском язы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00720" y="1557360"/>
            <a:ext cx="2305080" cy="193680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952720" cy="270504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Das trägt die Katze auf dem Schwanz weg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.</a:t>
            </a:r>
            <a:r>
              <a:rPr b="0" lang="de-DE" sz="3200" spc="-1" strike="noStrike">
                <a:solidFill>
                  <a:srgbClr val="320064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 наплак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27280" y="2852640"/>
            <a:ext cx="3888000" cy="356256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Неполные эквиваленты(2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32764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Ein gutes Wort führt die Kuh in den Stahl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е слово и кошке приятн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Auf einer Pfütze ist die Fliege ein Admiral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.</a:t>
            </a:r>
            <a:r>
              <a:rPr b="0" lang="de-DE" sz="3200" spc="-1" strike="noStrike">
                <a:solidFill>
                  <a:srgbClr val="38007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38007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к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лик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ем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оте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Der Hahn ist König auf seinem Mis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Всяк кулик в своем болоте вел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Zwei Fliegen mit einer Klappe schlagen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ить двух зайцев сраз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Er schüttelt es ab, wie der Hund die Flöhe.-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него как с гуся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aafa"/>
            </a:gs>
            <a:gs pos="50000">
              <a:srgbClr val="b7e4ff"/>
            </a:gs>
            <a:gs pos="100000">
              <a:srgbClr val="8eaa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0082"/>
                </a:solidFill>
                <a:latin typeface="Arial"/>
              </a:rPr>
              <a:t>Неполные эквиваленты(3)</a:t>
            </a:r>
            <a:endParaRPr b="1" lang="en-US" sz="4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439120" cy="4896000"/>
          </a:xfrm>
          <a:prstGeom prst="rect">
            <a:avLst/>
          </a:prstGeom>
          <a:noFill/>
          <a:ln w="28440">
            <a:solidFill>
              <a:srgbClr val="41008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Jmdm. ein Kuckucksei ins Nest legen</a:t>
            </a:r>
            <a:r>
              <a:rPr b="0" lang="ru-RU" sz="3200" spc="-1" strike="noStrike">
                <a:solidFill>
                  <a:srgbClr val="38007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380070"/>
                </a:solidFill>
                <a:latin typeface="Arial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ложить свинью кому-либ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Den Hund nach Bratwursten schick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ить козла в ог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Das müsste ja eine Kuh lach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ам на см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80070"/>
                </a:solidFill>
                <a:latin typeface="Comic Sans MS"/>
              </a:rPr>
              <a:t>Gebrühte Katze scheut auch kaltes Wasser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ганая ворона и куста бо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20064"/>
                </a:solidFill>
                <a:latin typeface="Comic Sans MS"/>
              </a:rPr>
              <a:t>Adler fangen nicht Fliege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в мышей не дав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7:10:54Z</dcterms:created>
  <dc:creator>Goncharova</dc:creator>
  <dc:description/>
  <dc:language>en-US</dc:language>
  <cp:lastModifiedBy>Goncharova</cp:lastModifiedBy>
  <dcterms:modified xsi:type="dcterms:W3CDTF">2016-10-11T20:23:24Z</dcterms:modified>
  <cp:revision>41</cp:revision>
  <dc:subject/>
  <dc:title>Слайд 1</dc:title>
</cp:coreProperties>
</file>