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22F-CC7C-4B44-B595-879E1DB4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946-75EF-4CFD-A0BF-CBC055D2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373-0581-4A5B-A880-F75B1B8E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FA1-F9FC-4638-B483-8A891361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90E3-5E9A-4B80-A127-EDD70B44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D015-317A-4193-8B7C-6D0716EF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F5F9-23D9-403C-8070-FB30BF41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FB20-D12C-48D6-8DA2-9D5BFF43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47C8-0CCA-4ABE-AB6A-C9718748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756F-9E96-4F42-8946-64F425D9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A97F-44E1-4F50-94A2-28DE283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FDA-3B36-4738-8068-90203D4C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672E-5EA9-4FCA-8C2F-C50FF6A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9039-7902-4CCA-A6AB-22005FA4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F1EC-B3A3-4EA8-9232-467F8B03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52E3-D73B-46D9-A341-5ABB33E6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0764-3D54-417E-AAE9-2CC9E6CE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8CB-7D45-41C7-91F6-E7F8D5E2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89A-33D5-44B5-B0E4-059D7F49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C74-2809-4311-A980-A6955CF6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145-88E7-4C0C-86F1-1CE85B3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DE5-4252-4AD1-8CF6-76093BB5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73F-A15A-450E-8566-FD627007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D0D-FA3B-44BE-9200-501F8C47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C3D8-8735-490E-950F-6BDE27AD28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277B-5A83-4A2E-8BFD-04C43CEEB1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na-marly.narod.ru/1_2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r.academic.ru/dic.nsf/frwiki/31322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"Le Chant des partisans"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8920" y="11970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'hymne de la Résistanc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0_34859_c92083ef_L"/>
          <p:cNvPicPr/>
          <p:nvPr/>
        </p:nvPicPr>
        <p:blipFill>
          <a:blip r:embed="rId1"/>
          <a:stretch/>
        </p:blipFill>
        <p:spPr>
          <a:xfrm>
            <a:off x="1116000" y="1763640"/>
            <a:ext cx="6356520" cy="3976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"/>
          <p:cNvSpPr/>
          <p:nvPr/>
        </p:nvSpPr>
        <p:spPr>
          <a:xfrm>
            <a:off x="2173320" y="5796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озерская Наталья Николае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БОУ СОШ № 810 г. Москв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0_22964_d9cb69c0_L"/>
          <p:cNvPicPr/>
          <p:nvPr/>
        </p:nvPicPr>
        <p:blipFill>
          <a:blip r:embed="rId1"/>
          <a:stretch/>
        </p:blipFill>
        <p:spPr>
          <a:xfrm>
            <a:off x="755640" y="1270080"/>
            <a:ext cx="763272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Певица, композитор и поэт Анна Юрьевна Смирнова-Марли (Anna Marly) (1917-2006)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о о ней, нашей соотечественнице, генерал де Голль сказал: «Своим талантом она создала оружие для Франции»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8" descr="0_229c6_19397301_L"/>
          <p:cNvPicPr/>
          <p:nvPr/>
        </p:nvPicPr>
        <p:blipFill>
          <a:blip r:embed="rId2"/>
          <a:stretch/>
        </p:blipFill>
        <p:spPr>
          <a:xfrm>
            <a:off x="4716360" y="1484280"/>
            <a:ext cx="38880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816_11_01"/>
          <p:cNvPicPr/>
          <p:nvPr/>
        </p:nvPicPr>
        <p:blipFill>
          <a:blip r:embed="rId1"/>
          <a:stretch/>
        </p:blipFill>
        <p:spPr>
          <a:xfrm>
            <a:off x="4284720" y="333360"/>
            <a:ext cx="4629240" cy="35622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нна Смирнова-Марли, певица, поэт, композитор, родилась в Петрограде в старинной дворянской семье. Среди предков – Лермонтов, Столыпин, Бердяев, атаман Плат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ле ареста и гибели отца от рук большевиков мать с двумя девочками переправилась через Финляндию на юг Франции.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0_22f1b_678b29ac_L"/>
          <p:cNvPicPr/>
          <p:nvPr/>
        </p:nvPicPr>
        <p:blipFill>
          <a:blip r:embed="rId2"/>
          <a:stretch/>
        </p:blipFill>
        <p:spPr>
          <a:xfrm>
            <a:off x="4716360" y="3429000"/>
            <a:ext cx="2208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940 год, немцы во Франции. Анна Марли оказалась в Лондоне, в центре французского Сопротивления во главе с генералом де Голл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10" descr="0_2293d_33904773_M"/>
          <p:cNvPicPr/>
          <p:nvPr/>
        </p:nvPicPr>
        <p:blipFill>
          <a:blip r:embed="rId1"/>
          <a:stretch/>
        </p:blipFill>
        <p:spPr>
          <a:xfrm>
            <a:off x="4284720" y="1989000"/>
            <a:ext cx="468000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L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'hymne de la Résistance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имн французских партизан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Un jour, fin 1942, ayant lu dans 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les journau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britanniques le récit de la bataille de Smolensk,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Anna Marl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prend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a guitare, joue une mélodie rythmée, et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crit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es vers en rus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Joseph Kess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 éc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la version française avec son neveu 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Maurice Dru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Sifflé comme indicatif de l'émission de la BBC "Honneur et Patrie" puis comme signe de reconnaissance dans les maquis, "Le Chant des partisans" s'impose rapidement comme l'hymne de la Résistanc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Песнь партизан» написана в 1942 году в Лондоне на русском языке Анной Мар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ранцузский вариант был написан в 1943 году журналистом Жозефом Кесселем и его племянником Морисом Дрюон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нна Марли исполняла песню на радиоволнах BBC, свист песни проходил через немецкие глушилк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ранцузские партизаны приняли её в качестве своего опознавательного сигнал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0_2294b_c1d40b88_L"/>
          <p:cNvPicPr/>
          <p:nvPr/>
        </p:nvPicPr>
        <p:blipFill>
          <a:blip r:embed="rId1"/>
          <a:stretch/>
        </p:blipFill>
        <p:spPr>
          <a:xfrm>
            <a:off x="2063880" y="274680"/>
            <a:ext cx="4813200" cy="61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наменитые исполните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Picture 3" descr="i"/>
          <p:cNvPicPr/>
          <p:nvPr/>
        </p:nvPicPr>
        <p:blipFill>
          <a:blip r:embed="rId1"/>
          <a:stretch/>
        </p:blipFill>
        <p:spPr>
          <a:xfrm>
            <a:off x="1763640" y="1773360"/>
            <a:ext cx="1627200" cy="21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i (1)"/>
          <p:cNvPicPr/>
          <p:nvPr/>
        </p:nvPicPr>
        <p:blipFill>
          <a:blip r:embed="rId2"/>
          <a:stretch/>
        </p:blipFill>
        <p:spPr>
          <a:xfrm>
            <a:off x="6372360" y="458136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i (2)"/>
          <p:cNvPicPr/>
          <p:nvPr/>
        </p:nvPicPr>
        <p:blipFill>
          <a:blip r:embed="rId3"/>
          <a:stretch/>
        </p:blipFill>
        <p:spPr>
          <a:xfrm>
            <a:off x="900000" y="4437000"/>
            <a:ext cx="2162160" cy="2162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i (4)"/>
          <p:cNvPicPr/>
          <p:nvPr/>
        </p:nvPicPr>
        <p:blipFill>
          <a:blip r:embed="rId4"/>
          <a:stretch/>
        </p:blipFill>
        <p:spPr>
          <a:xfrm>
            <a:off x="5219640" y="1628640"/>
            <a:ext cx="248436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0_22947_60417993_L"/>
          <p:cNvPicPr/>
          <p:nvPr/>
        </p:nvPicPr>
        <p:blipFill>
          <a:blip r:embed="rId1"/>
          <a:stretch/>
        </p:blipFill>
        <p:spPr>
          <a:xfrm>
            <a:off x="2286000" y="277920"/>
            <a:ext cx="457200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0_22962_d839954_L"/>
          <p:cNvPicPr/>
          <p:nvPr/>
        </p:nvPicPr>
        <p:blipFill>
          <a:blip r:embed="rId1"/>
          <a:stretch/>
        </p:blipFill>
        <p:spPr>
          <a:xfrm>
            <a:off x="2481120" y="1652760"/>
            <a:ext cx="418176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kessel"/>
          <p:cNvPicPr/>
          <p:nvPr/>
        </p:nvPicPr>
        <p:blipFill>
          <a:blip r:embed="rId1"/>
          <a:stretch/>
        </p:blipFill>
        <p:spPr>
          <a:xfrm>
            <a:off x="3341520" y="1755720"/>
            <a:ext cx="2460960" cy="28972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" descr=""/>
          <p:cNvPicPr/>
          <p:nvPr/>
        </p:nvPicPr>
        <p:blipFill>
          <a:blip r:embed="rId2"/>
          <a:stretch/>
        </p:blipFill>
        <p:spPr>
          <a:xfrm>
            <a:off x="755640" y="2938320"/>
            <a:ext cx="2494080" cy="5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 Résistance</a:t>
            </a: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—était un  grand mouvement de la zone occupée pendant la Seconde Guerre mondiale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6" descr="300px-Members_of_the_Maquis_in_La_Tresorerie"/>
          <p:cNvPicPr/>
          <p:nvPr/>
        </p:nvPicPr>
        <p:blipFill>
          <a:blip r:embed="rId2"/>
          <a:stretch/>
        </p:blipFill>
        <p:spPr>
          <a:xfrm>
            <a:off x="1547640" y="2050920"/>
            <a:ext cx="604872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0240378860"/>
          <p:cNvPicPr/>
          <p:nvPr/>
        </p:nvPicPr>
        <p:blipFill>
          <a:blip r:embed="rId1"/>
          <a:srcRect l="11310" t="0" r="11310" b="0"/>
          <a:stretch/>
        </p:blipFill>
        <p:spPr>
          <a:xfrm>
            <a:off x="4514760" y="98748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363240"/>
            <a:ext cx="2949480" cy="57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La guerre de 1940 s’appelle « Drôlle de guerre »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La France a été divisée un deux parties:la zone occupée et la zone lib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aris était occupé le 14 juin 1940. Le régime de Vichy a évolué vers le fascisme. L’occupation de la France est devenue totale le 11 novembre 1942.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0_2295c_6ec5317a_M"/>
          <p:cNvPicPr/>
          <p:nvPr/>
        </p:nvPicPr>
        <p:blipFill>
          <a:blip r:embed="rId1"/>
          <a:stretch/>
        </p:blipFill>
        <p:spPr>
          <a:xfrm>
            <a:off x="4859280" y="1074600"/>
            <a:ext cx="2808360" cy="401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Le 18 juin 1940, le  général de Gaulle a lancé de Londres son célèbre appel à la Résistance: " La France a perdu une bataille! Mais la France n’a pas perdu la guerre! Notre patrie est en péril de mort. Luttons tous pour la sauver!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Arial"/>
              </a:rPr>
              <a:t>De Gaulle est devenu le symbole de la Résistance française et son coordinateur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Picture 5" descr="шарль"/>
          <p:cNvPicPr/>
          <p:nvPr/>
        </p:nvPicPr>
        <p:blipFill>
          <a:blip r:embed="rId1"/>
          <a:stretch/>
        </p:blipFill>
        <p:spPr>
          <a:xfrm>
            <a:off x="1695600" y="1870200"/>
            <a:ext cx="561024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689440" y="5013000"/>
            <a:ext cx="3313440" cy="124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ecff"/>
                </a:solidFill>
                <a:latin typeface="Arial"/>
              </a:rPr>
              <a:t>La croix de Lorraine, choisie par le général de Gaulle comme symbole de la Résistanc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Объект 7" descr=""/>
          <p:cNvPicPr/>
          <p:nvPr/>
        </p:nvPicPr>
        <p:blipFill>
          <a:blip r:embed="rId1"/>
          <a:stretch/>
        </p:blipFill>
        <p:spPr>
          <a:xfrm>
            <a:off x="4067280" y="628560"/>
            <a:ext cx="2790720" cy="4384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0000" y="1125000"/>
            <a:ext cx="2949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e 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quis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 désigne un groupe de résistants, le lieu où ils ont opéré durant la Seconde Guerre mondiale. Les résistants sont surnommés « maquisards », cachés dans des régions peu peuplées, forêts ou montag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a plupart des maquisards agissent depuis les régions montagneuses de Bretagne, du Massif Central, des Alpes et du Sud de la Fra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armi les Résistants il y avait des hommes mondialement célèbres, comme les physiciens Paul Langerin et Frédéric Joliot-Curie, le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oètes Louis Aragon et Paul Éluard. 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8" descr="i"/>
          <p:cNvPicPr/>
          <p:nvPr/>
        </p:nvPicPr>
        <p:blipFill>
          <a:blip r:embed="rId1"/>
          <a:stretch/>
        </p:blipFill>
        <p:spPr>
          <a:xfrm>
            <a:off x="755640" y="1916280"/>
            <a:ext cx="1522440" cy="2020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i (1)"/>
          <p:cNvPicPr/>
          <p:nvPr/>
        </p:nvPicPr>
        <p:blipFill>
          <a:blip r:embed="rId2"/>
          <a:stretch/>
        </p:blipFill>
        <p:spPr>
          <a:xfrm>
            <a:off x="5149800" y="1617840"/>
            <a:ext cx="3238560" cy="2023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i (3)"/>
          <p:cNvPicPr/>
          <p:nvPr/>
        </p:nvPicPr>
        <p:blipFill>
          <a:blip r:embed="rId3"/>
          <a:stretch/>
        </p:blipFill>
        <p:spPr>
          <a:xfrm>
            <a:off x="2700360" y="3357720"/>
            <a:ext cx="1522440" cy="2965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 (2)"/>
          <p:cNvPicPr/>
          <p:nvPr/>
        </p:nvPicPr>
        <p:blipFill>
          <a:blip r:embed="rId4"/>
          <a:stretch/>
        </p:blipFill>
        <p:spPr>
          <a:xfrm>
            <a:off x="5867280" y="3933720"/>
            <a:ext cx="16970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La Résistance et les Rus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Beaucoup de Soviétiques et d’émmigrants Russes ont pris part à la Résistance. Parmis eux on peut parler de Vassil Porik. Lieutenant de l’Armée Rouge, il avait courru 2 fois du camp du concentration. Il était tué en 1944 en France. Il est devenu héros de l’Union Soviétique. Il était décoré de l’Ordre national de la légion d’honneur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Рисунок 4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27720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Объект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113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19:48:22Z</dcterms:created>
  <dc:creator>User</dc:creator>
  <dc:description/>
  <dc:language>en-US</dc:language>
  <cp:lastModifiedBy>Admin</cp:lastModifiedBy>
  <dcterms:modified xsi:type="dcterms:W3CDTF">2014-06-25T07:09:21Z</dcterms:modified>
  <cp:revision>15</cp:revision>
  <dc:subject/>
  <dc:title>Слайд 1</dc:title>
</cp:coreProperties>
</file>