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F7E-C1A3-4982-9A98-EF8C701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9B5-3DBF-4221-AE37-19C6A44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D32-0273-4911-9716-18018124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247-297C-4DF5-A185-58955058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34A-2D48-4012-A11A-00B526D8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CDBD-1067-48AC-B748-410C9098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D26-EBEF-4219-8AC1-0B9F0C4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5EC-5795-4BEF-9578-8192A1D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A36-AD20-43B4-86A0-D779940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47F2-4E8F-4227-A38F-780EA37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219-1EDF-4E72-A1FD-4F8CED7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E4E-1080-4492-8249-89BBF5C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DC52-0E69-484B-83D8-93A1491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312E-348A-466F-B7AB-BFE8CF1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4EC6-5028-441A-BCAC-24FEC61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76C7-7D37-4EAC-B4F7-48B0426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C4E-A1FC-49DA-A9A7-6479B823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9C4-92A0-4121-A1B4-DE798D5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5A2-53B2-4CD0-8445-880C152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0CB-DB30-406E-BBD2-25F48654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87E-68F8-4A19-9AD7-2438412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53C-F53F-48F7-9D42-1066EC4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AE5-B67E-483A-A158-BA17D18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4EA-066A-4435-89C4-A152688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FB8-049E-445C-9BC1-720A63C0B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F52-E4A5-4979-AC2A-EE55461E7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82803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Оригами как способ интеграции образовательных областей «Познание» и «Художественное творчество»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644640"/>
            <a:ext cx="68011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знакомить детей с объектами живой природы с помощью техники ориг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знакомить с объектами живой природы , основными геометрическими понятиями; развивать конструктивное и пространственное мышление, творческое воображение, память, художественный вкус, мелкую моторику рук; использовать поделки, выполненные в технике оригами, в театрализованн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2027160" cy="27036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боты-подарки для наших родителей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1277200">
            <a:off x="395280" y="2420640"/>
            <a:ext cx="2197080" cy="30924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399000">
            <a:off x="6732360" y="1988640"/>
            <a:ext cx="2133360" cy="312264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276720" y="4437000"/>
            <a:ext cx="2879640" cy="21528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619200"/>
            <a:ext cx="66135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ти учатся складывать  основные(базовые) фигуры, осваивают основные приёмы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040280" cy="30466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919600" cy="19825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88000" y="4437000"/>
            <a:ext cx="2896920" cy="216864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707760"/>
            <a:ext cx="6286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Изготовленные поделки мы используем в театрализованных постановках.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157560" cy="42148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667800">
            <a:off x="5508360" y="2020680"/>
            <a:ext cx="291924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01000">
            <a:off x="4532400" y="4268520"/>
            <a:ext cx="2919240" cy="21844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384200"/>
            <a:ext cx="8856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 своей работе мы привлекаем и родителей. Вот так мы попросили взрослых помочь своим детям изготовить заготовки-модули, в результате чего у родителей и детей появилось общее дело, а у нас в приёмной – чудесная ваза с подснежни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11480" y="3141720"/>
            <a:ext cx="2540160" cy="338436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42920" y="4365720"/>
            <a:ext cx="291960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4535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готовленные поделки побуждают детей к активному их использованию в театрализованной деятельности. В этом нам также помогает воспитатель по театрализованной деятельности и театральная студия «Лукоморье». Многообразие и несложность выполнения  позволяет инсценировать произведения: «Теремок», «Репка», «Колобок» и др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485400">
            <a:off x="5363640" y="723960"/>
            <a:ext cx="291960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932360" y="3068640"/>
            <a:ext cx="395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пользуя поделки, выполненные в технике оригами, можно разыгрывать не только уже известные сказки, но и придумывать сюжеты своих. Также используем поделки и для постановок теневого театра. Такие мини-спектакли мы показываем ребятам из младших 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6:10:09Z</dcterms:created>
  <dc:creator>Александр</dc:creator>
  <dc:description/>
  <dc:language>en-US</dc:language>
  <cp:lastModifiedBy>Саша</cp:lastModifiedBy>
  <dcterms:modified xsi:type="dcterms:W3CDTF">2016-10-11T19:28:39Z</dcterms:modified>
  <cp:revision>14</cp:revision>
  <dc:subject/>
  <dc:title>Оригами как способ интеграции образовательных областей «Познание» и « Художественное творчество».</dc:title>
</cp:coreProperties>
</file>