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7D2-61D4-4B95-B452-90181989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503-7523-4BCD-A54A-A04A2A8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5FE-B5AF-4410-89B4-153931B4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A4F-2310-42D9-939F-D3C503BE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EB07-52C8-4AA1-B0AA-3A1A19ED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DA8F-0196-4B6E-BF2C-1B3D4E5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96C6-FE1E-435B-863E-EDEED424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40D-0856-40FA-8B54-8EDF26B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CB6-BCD7-4168-B202-38A5A21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A9D2-4013-47D8-BC0E-2D9A3679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5699-B1B5-4D73-8C7D-AD55F49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0C7-D39D-4DE6-9AD3-0349106A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96A5-ED71-4B70-8EF6-0E0BDCA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1E29-6DF8-4CA1-8DB5-B22D798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ED56-BD8E-48CB-9D5E-D34191F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E63D-35F2-4F6B-9A2D-6615A1B7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2E2D-6E8F-471B-B630-A1C088BC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227-4A9F-4381-BEDA-69CA8E12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55E-D995-4CB9-8E53-044EEE62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66E-4319-41A4-A9D4-4EAAF4B4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BC2-51CB-4543-B6AC-1583DF83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96B-2F7D-41F7-981E-BF1155C6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A62-319F-42B7-9D73-3E0D005B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865-5FC6-48F9-B75B-A66B057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3BE-A0F8-4556-BB6C-84F0B6BE9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1A8-9318-4D8B-855C-0F288208F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828036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Оригами как способ интеграции образовательных областей «Познание» и «Художественное творчество»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644640"/>
            <a:ext cx="68011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знакомить детей с объектами живой природы с помощью техники ориг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знакомить с объектами живой природы , основными геометрическими понятиями; развивать конструктивное и пространственное мышление, творческое воображение, память, художественный вкус, мелкую моторику рук; использовать поделки, выполненные в технике оригами, в театрализованной 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2027160" cy="270360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боты-подарки для наших родителей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1277200">
            <a:off x="395280" y="2420640"/>
            <a:ext cx="2197080" cy="309240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399000">
            <a:off x="6732360" y="1988640"/>
            <a:ext cx="2133360" cy="312264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276720" y="4437000"/>
            <a:ext cx="2879640" cy="215280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619200"/>
            <a:ext cx="66135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Дети учатся складывать  основные(базовые) фигуры, осваивают основные приёмы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040280" cy="304668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919600" cy="19825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788000" y="4437000"/>
            <a:ext cx="2896920" cy="216864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707760"/>
            <a:ext cx="6286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Tahoma"/>
              </a:rPr>
              <a:t>Изготовленные поделки мы используем в театрализованных постановках.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157560" cy="421488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667800">
            <a:off x="5508360" y="2020680"/>
            <a:ext cx="2919240" cy="19843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501000">
            <a:off x="4532400" y="4268520"/>
            <a:ext cx="2919240" cy="218448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384200"/>
            <a:ext cx="8856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 своей работе мы привлекаем и родителей. Вот так мы попросили взрослых помочь своим детям изготовить заготовки-модули, в результате чего у родителей и детей появилось общее дело, а у нас в приёмной – чудесная ваза с подснежникам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11480" y="3141720"/>
            <a:ext cx="2540160" cy="338436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42920" y="4365720"/>
            <a:ext cx="2919600" cy="19843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4535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готовленные поделки побуждают детей к активному их использованию в театрализованной деятельности. В этом нам также помогает воспитатель по театрализованной деятельности и театральная студия «Лукоморье». Многообразие и несложность выполнения  позволяет инсценировать произведения: «Теремок», «Репка», «Колобок» и др.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485400">
            <a:off x="5363640" y="723960"/>
            <a:ext cx="2919600" cy="1984320"/>
          </a:xfrm>
          <a:prstGeom prst="rect">
            <a:avLst/>
          </a:prstGeom>
          <a:ln w="57240">
            <a:solidFill>
              <a:srgbClr val="ffcc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932360" y="3068640"/>
            <a:ext cx="3959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пользуя поделки, выполненные в технике оригами, можно разыгрывать не только уже известные сказки, но и придумывать сюжеты своих. Также используем поделки и для постановок теневого театра. Такие мини-спектакли мы показываем ребятам из младших гру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6:10:09Z</dcterms:created>
  <dc:creator>Александр</dc:creator>
  <dc:description/>
  <dc:language>en-US</dc:language>
  <cp:lastModifiedBy>Саша</cp:lastModifiedBy>
  <dcterms:modified xsi:type="dcterms:W3CDTF">2016-10-11T19:28:39Z</dcterms:modified>
  <cp:revision>14</cp:revision>
  <dc:subject/>
  <dc:title>Оригами как способ интеграции образовательных областей «Познание» и « Художественное творчество».</dc:title>
</cp:coreProperties>
</file>