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7.gif" ContentType="image/gif"/>
  <Override PartName="/ppt/media/image6.png" ContentType="image/png"/>
  <Override PartName="/ppt/media/image8.gif" ContentType="image/gif"/>
  <Override PartName="/ppt/media/image18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EB7-374C-4E9F-9DB6-03287623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D22-1BE9-47D9-B2C7-CED4118C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D1C-96A5-4FFE-B47C-ED82D6B5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C28-C37E-4D42-8636-7423C685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0AF-A585-4596-A970-2DF733CF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0EC-D7BF-43F8-9BD3-B7D5574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BBF-AF9C-4CFB-BC4E-8922F20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A06-C8E7-45DD-80A5-479CC923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48A-6537-4FBE-96B4-84826A7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5D6-5E96-4526-B5E7-91DA396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C74-4245-46AD-991D-054C863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F8E-A029-432F-81BA-258B315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99EE-74CA-4C8C-A3BD-8DB766FD8A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3" descr=""/>
          <p:cNvPicPr/>
          <p:nvPr/>
        </p:nvPicPr>
        <p:blipFill>
          <a:blip r:embed="rId2"/>
          <a:stretch/>
        </p:blipFill>
        <p:spPr>
          <a:xfrm>
            <a:off x="4608360" y="4071960"/>
            <a:ext cx="4584960" cy="2395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4" descr=""/>
          <p:cNvPicPr/>
          <p:nvPr/>
        </p:nvPicPr>
        <p:blipFill>
          <a:blip r:embed="rId3"/>
          <a:stretch/>
        </p:blipFill>
        <p:spPr>
          <a:xfrm>
            <a:off x="3067200" y="613260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1\Мои документы\My Pictures\Scan Pictures\Безымянный.JPG"/>
          <p:cNvPicPr/>
          <p:nvPr/>
        </p:nvPicPr>
        <p:blipFill>
          <a:blip r:embed="rId4"/>
          <a:stretch/>
        </p:blipFill>
        <p:spPr>
          <a:xfrm>
            <a:off x="-750960" y="0"/>
            <a:ext cx="1501920" cy="18414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1" descr=""/>
          <p:cNvPicPr/>
          <p:nvPr/>
        </p:nvPicPr>
        <p:blipFill>
          <a:blip r:embed="rId5"/>
          <a:stretch/>
        </p:blipFill>
        <p:spPr>
          <a:xfrm>
            <a:off x="487440" y="60480"/>
            <a:ext cx="9399600" cy="15793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2" descr=""/>
          <p:cNvPicPr/>
          <p:nvPr/>
        </p:nvPicPr>
        <p:blipFill>
          <a:blip r:embed="rId6"/>
          <a:stretch/>
        </p:blipFill>
        <p:spPr>
          <a:xfrm>
            <a:off x="944640" y="1474920"/>
            <a:ext cx="70038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28800"/>
                <a:gridCol w="3429000"/>
                <a:gridCol w="2786040"/>
                <a:gridCol w="20001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рубе вырезаем середину на 60 см и удаляем е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, пассатижи, моло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гибаем стенки и просверливаем 4 отверстия по 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ток, Плоскогубц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сборки профильной трубы используем электрическую свар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ическая сварка, электродре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м покрас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ка, ки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тержень одеваем резиновую прокладку от попадания вл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кл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106" name="Рисунок 7" descr="https://im0-tub-ru.yandex.net/i?id=f467c17b4cc5ba068c6e0f193c610bd6&amp;n=33&amp;h=190&amp;w=380"/>
          <p:cNvPicPr/>
          <p:nvPr/>
        </p:nvPicPr>
        <p:blipFill>
          <a:blip r:embed="rId1"/>
          <a:stretch/>
        </p:blipFill>
        <p:spPr>
          <a:xfrm>
            <a:off x="4429080" y="4143240"/>
            <a:ext cx="2643120" cy="1332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http://ri.kz/s_images/12898143534187.jpg"/>
          <p:cNvPicPr/>
          <p:nvPr/>
        </p:nvPicPr>
        <p:blipFill>
          <a:blip r:embed="rId2"/>
          <a:stretch/>
        </p:blipFill>
        <p:spPr>
          <a:xfrm>
            <a:off x="4429080" y="5572080"/>
            <a:ext cx="2643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ологически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DCIM\100MSDCF\DSC01192.JPG"/>
          <p:cNvPicPr/>
          <p:nvPr/>
        </p:nvPicPr>
        <p:blipFill>
          <a:blip r:embed="rId1"/>
          <a:stretch/>
        </p:blipFill>
        <p:spPr>
          <a:xfrm>
            <a:off x="0" y="1571760"/>
            <a:ext cx="428616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DCIM\100MSDCF\DSC01193.JPG"/>
          <p:cNvPicPr/>
          <p:nvPr/>
        </p:nvPicPr>
        <p:blipFill>
          <a:blip r:embed="rId2"/>
          <a:stretch/>
        </p:blipFill>
        <p:spPr>
          <a:xfrm>
            <a:off x="4786200" y="1571760"/>
            <a:ext cx="435780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:\DCIM\100MSDCF\DSC01195.JPG"/>
          <p:cNvPicPr/>
          <p:nvPr/>
        </p:nvPicPr>
        <p:blipFill>
          <a:blip r:embed="rId3"/>
          <a:stretch/>
        </p:blipFill>
        <p:spPr>
          <a:xfrm>
            <a:off x="4786200" y="4254480"/>
            <a:ext cx="4357800" cy="2603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DCIM\100MSDCF\DSC01196.JPG"/>
          <p:cNvPicPr/>
          <p:nvPr/>
        </p:nvPicPr>
        <p:blipFill>
          <a:blip r:embed="rId4"/>
          <a:stretch/>
        </p:blipFill>
        <p:spPr>
          <a:xfrm>
            <a:off x="0" y="4286160"/>
            <a:ext cx="4286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ер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:\DCIM\100MSDCF\DSC01198.JPG"/>
          <p:cNvPicPr/>
          <p:nvPr/>
        </p:nvPicPr>
        <p:blipFill>
          <a:blip r:embed="rId1"/>
          <a:stretch/>
        </p:blipFill>
        <p:spPr>
          <a:xfrm>
            <a:off x="1258920" y="1628640"/>
            <a:ext cx="6626160" cy="4413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делие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F:\DCIM\100MSDCF\DSC01207.JPG"/>
          <p:cNvPicPr/>
          <p:nvPr/>
        </p:nvPicPr>
        <p:blipFill>
          <a:blip r:embed="rId1"/>
          <a:stretch/>
        </p:blipFill>
        <p:spPr>
          <a:xfrm>
            <a:off x="1928880" y="1714680"/>
            <a:ext cx="557208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24000" y="2602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50920" y="189000"/>
            <a:ext cx="40338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500040" y="0"/>
            <a:ext cx="8207280" cy="1500120"/>
          </a:xfrm>
          <a:prstGeom prst="rect">
            <a:avLst/>
          </a:prstGeom>
          <a:solidFill>
            <a:srgbClr val="d8f95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ча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етушка-2 ча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букв-1час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и сварки-30мину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ска и испытание-30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и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56840"/>
            <a:ext cx="66866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ешил выяснить: нужен ли флюгер на до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просил 3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7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67629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71400"/>
            <a:ext cx="857268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флюгер, показал его людям и повторно провёл 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Диаграмма 4" descr=""/>
          <p:cNvPicPr/>
          <p:nvPr/>
        </p:nvPicPr>
        <p:blipFill>
          <a:blip r:embed="rId1"/>
          <a:stretch/>
        </p:blipFill>
        <p:spPr>
          <a:xfrm>
            <a:off x="1523880" y="2786040"/>
            <a:ext cx="609624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928440"/>
            <a:ext cx="91440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циональное 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 и обоснование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я и анал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ологический эта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емя изгото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ы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й расч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изделия.Рекл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 flipV="1">
            <a:off x="285840" y="35640"/>
            <a:ext cx="842940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ть и изготовить флюгера для до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ить издел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иобрести практические навыки в работе с металл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Изучить устройство сварки и пай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Научиться принимать самостоятельные реш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Развивать творческие способ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7"/>
          <p:cNvSpPr/>
          <p:nvPr/>
        </p:nvSpPr>
        <p:spPr>
          <a:xfrm flipH="1" flipV="1">
            <a:off x="8101080" y="1196280"/>
            <a:ext cx="21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2"/>
          <p:cNvSpPr/>
          <p:nvPr/>
        </p:nvSpPr>
        <p:spPr>
          <a:xfrm>
            <a:off x="6253200" y="3521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3" descr="MAN8"/>
          <p:cNvPicPr/>
          <p:nvPr/>
        </p:nvPicPr>
        <p:blipFill>
          <a:blip r:embed="rId1"/>
          <a:stretch/>
        </p:blipFill>
        <p:spPr>
          <a:xfrm>
            <a:off x="8028000" y="765000"/>
            <a:ext cx="851040" cy="148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artie-com-cr-trunc"/>
          <p:cNvPicPr/>
          <p:nvPr/>
        </p:nvPicPr>
        <p:blipFill>
          <a:blip r:embed="rId2"/>
          <a:stretch/>
        </p:blipFill>
        <p:spPr>
          <a:xfrm>
            <a:off x="0" y="5373720"/>
            <a:ext cx="1276200" cy="1484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45"/>
          <p:cNvSpPr txBox="1"/>
          <p:nvPr/>
        </p:nvSpPr>
        <p:spPr>
          <a:xfrm>
            <a:off x="755640" y="0"/>
            <a:ext cx="770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ор проблемы</a:t>
            </a:r>
            <a:endParaRPr b="0" i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57"/>
          <p:cNvSpPr/>
          <p:nvPr/>
        </p:nvSpPr>
        <p:spPr>
          <a:xfrm>
            <a:off x="4572000" y="981000"/>
            <a:ext cx="2784600" cy="2498760"/>
          </a:xfrm>
          <a:prstGeom prst="hexagon">
            <a:avLst>
              <a:gd name="adj" fmla="val 48476"/>
              <a:gd name="vf" fmla="val 1154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ая сто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9"/>
          <p:cNvSpPr/>
          <p:nvPr/>
        </p:nvSpPr>
        <p:spPr>
          <a:xfrm>
            <a:off x="2050920" y="3933720"/>
            <a:ext cx="3024360" cy="2590920"/>
          </a:xfrm>
          <a:prstGeom prst="hexagon">
            <a:avLst>
              <a:gd name="adj" fmla="val 29182"/>
              <a:gd name="vf" fmla="val 1154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0"/>
            <a:endCxn id="51" idx="0"/>
          </p:cNvCxnSpPr>
          <p:nvPr/>
        </p:nvCxnSpPr>
        <p:spPr>
          <a:xfrm flipH="1" rot="16200000">
            <a:off x="4572000" y="-36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4"/>
          <p:cNvCxnSpPr>
            <a:stCxn id="51" idx="0"/>
            <a:endCxn id="51" idx="0"/>
          </p:cNvCxnSpPr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AutoShape 65"/>
          <p:cNvSpPr/>
          <p:nvPr/>
        </p:nvSpPr>
        <p:spPr>
          <a:xfrm>
            <a:off x="684360" y="765000"/>
            <a:ext cx="3311280" cy="2880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7"/>
          <p:cNvSpPr/>
          <p:nvPr/>
        </p:nvSpPr>
        <p:spPr>
          <a:xfrm>
            <a:off x="642960" y="1197000"/>
            <a:ext cx="3143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югер, приобретённый в магази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9"/>
          <p:cNvSpPr/>
          <p:nvPr/>
        </p:nvSpPr>
        <p:spPr>
          <a:xfrm>
            <a:off x="2268360" y="4437000"/>
            <a:ext cx="2590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сутствие товара в нашем магаз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0"/>
          <p:cNvSpPr/>
          <p:nvPr/>
        </p:nvSpPr>
        <p:spPr>
          <a:xfrm>
            <a:off x="6372360" y="4365720"/>
            <a:ext cx="1871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1"/>
          <p:cNvSpPr/>
          <p:nvPr/>
        </p:nvSpPr>
        <p:spPr>
          <a:xfrm>
            <a:off x="6372360" y="4430880"/>
            <a:ext cx="2330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2"/>
          <p:cNvSpPr/>
          <p:nvPr/>
        </p:nvSpPr>
        <p:spPr>
          <a:xfrm>
            <a:off x="3995640" y="1773360"/>
            <a:ext cx="792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3"/>
          <p:cNvSpPr/>
          <p:nvPr/>
        </p:nvSpPr>
        <p:spPr>
          <a:xfrm>
            <a:off x="3635280" y="321300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4"/>
          <p:cNvSpPr/>
          <p:nvPr/>
        </p:nvSpPr>
        <p:spPr>
          <a:xfrm>
            <a:off x="3995640" y="278136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3"/>
          <p:cNvSpPr/>
          <p:nvPr/>
        </p:nvSpPr>
        <p:spPr>
          <a:xfrm>
            <a:off x="6286680" y="4357800"/>
            <a:ext cx="228600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актич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9"/>
          <p:cNvSpPr/>
          <p:nvPr/>
        </p:nvSpPr>
        <p:spPr>
          <a:xfrm>
            <a:off x="6156360" y="0"/>
            <a:ext cx="3240000" cy="2565360"/>
          </a:xfrm>
          <a:prstGeom prst="irregularSeal2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1258920" y="2060640"/>
            <a:ext cx="6985080" cy="2449440"/>
          </a:xfrm>
          <a:prstGeom prst="ellipse">
            <a:avLst/>
          </a:prstGeom>
          <a:solidFill>
            <a:srgbClr val="d2d6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люг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2771640" y="2781360"/>
            <a:ext cx="194472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5076720" y="1341360"/>
            <a:ext cx="266760" cy="711360"/>
          </a:xfrm>
          <a:custGeom>
            <a:avLst/>
            <a:gdLst>
              <a:gd name="textAreaLeft" fmla="*/ 0 w 266760"/>
              <a:gd name="textAreaRight" fmla="*/ 267120 w 26676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8" h="448">
                <a:moveTo>
                  <a:pt x="168" y="0"/>
                </a:moveTo>
                <a:cubicBezTo>
                  <a:pt x="163" y="29"/>
                  <a:pt x="162" y="60"/>
                  <a:pt x="152" y="88"/>
                </a:cubicBezTo>
                <a:cubicBezTo>
                  <a:pt x="148" y="99"/>
                  <a:pt x="134" y="103"/>
                  <a:pt x="128" y="112"/>
                </a:cubicBezTo>
                <a:cubicBezTo>
                  <a:pt x="123" y="119"/>
                  <a:pt x="125" y="129"/>
                  <a:pt x="120" y="136"/>
                </a:cubicBezTo>
                <a:cubicBezTo>
                  <a:pt x="101" y="160"/>
                  <a:pt x="71" y="169"/>
                  <a:pt x="56" y="200"/>
                </a:cubicBezTo>
                <a:cubicBezTo>
                  <a:pt x="23" y="266"/>
                  <a:pt x="82" y="173"/>
                  <a:pt x="32" y="256"/>
                </a:cubicBezTo>
                <a:cubicBezTo>
                  <a:pt x="22" y="272"/>
                  <a:pt x="0" y="304"/>
                  <a:pt x="0" y="304"/>
                </a:cubicBezTo>
                <a:cubicBezTo>
                  <a:pt x="8" y="349"/>
                  <a:pt x="3" y="367"/>
                  <a:pt x="40" y="392"/>
                </a:cubicBezTo>
                <a:cubicBezTo>
                  <a:pt x="54" y="414"/>
                  <a:pt x="70" y="430"/>
                  <a:pt x="88" y="448"/>
                </a:cubicBezTo>
              </a:path>
            </a:pathLst>
          </a:custGeom>
          <a:noFill/>
          <a:ln w="5724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1835280" y="1916280"/>
            <a:ext cx="850680" cy="698400"/>
          </a:xfrm>
          <a:custGeom>
            <a:avLst/>
            <a:gdLst>
              <a:gd name="textAreaLeft" fmla="*/ 0 w 850680"/>
              <a:gd name="textAreaRight" fmla="*/ 851040 w 8506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536" h="440">
                <a:moveTo>
                  <a:pt x="0" y="0"/>
                </a:moveTo>
                <a:cubicBezTo>
                  <a:pt x="15" y="10"/>
                  <a:pt x="33" y="14"/>
                  <a:pt x="48" y="24"/>
                </a:cubicBezTo>
                <a:cubicBezTo>
                  <a:pt x="108" y="64"/>
                  <a:pt x="39" y="37"/>
                  <a:pt x="96" y="56"/>
                </a:cubicBezTo>
                <a:cubicBezTo>
                  <a:pt x="150" y="110"/>
                  <a:pt x="123" y="97"/>
                  <a:pt x="168" y="112"/>
                </a:cubicBezTo>
                <a:cubicBezTo>
                  <a:pt x="206" y="140"/>
                  <a:pt x="243" y="170"/>
                  <a:pt x="280" y="200"/>
                </a:cubicBezTo>
                <a:cubicBezTo>
                  <a:pt x="310" y="224"/>
                  <a:pt x="330" y="251"/>
                  <a:pt x="368" y="264"/>
                </a:cubicBezTo>
                <a:cubicBezTo>
                  <a:pt x="402" y="315"/>
                  <a:pt x="456" y="309"/>
                  <a:pt x="512" y="320"/>
                </a:cubicBezTo>
                <a:cubicBezTo>
                  <a:pt x="515" y="331"/>
                  <a:pt x="517" y="341"/>
                  <a:pt x="520" y="352"/>
                </a:cubicBezTo>
                <a:cubicBezTo>
                  <a:pt x="525" y="368"/>
                  <a:pt x="536" y="400"/>
                  <a:pt x="536" y="400"/>
                </a:cubicBezTo>
                <a:cubicBezTo>
                  <a:pt x="517" y="428"/>
                  <a:pt x="520" y="414"/>
                  <a:pt x="520" y="44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9"/>
          <p:cNvSpPr/>
          <p:nvPr/>
        </p:nvSpPr>
        <p:spPr>
          <a:xfrm rot="16200000">
            <a:off x="6715800" y="4453200"/>
            <a:ext cx="1052280" cy="155520"/>
          </a:xfrm>
          <a:custGeom>
            <a:avLst/>
            <a:gdLst>
              <a:gd name="textAreaLeft" fmla="*/ 0 w 1052280"/>
              <a:gd name="textAreaRight" fmla="*/ 1052640 w 1052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11" h="544">
                <a:moveTo>
                  <a:pt x="0" y="544"/>
                </a:moveTo>
                <a:cubicBezTo>
                  <a:pt x="175" y="519"/>
                  <a:pt x="158" y="512"/>
                  <a:pt x="368" y="520"/>
                </a:cubicBezTo>
                <a:cubicBezTo>
                  <a:pt x="526" y="501"/>
                  <a:pt x="493" y="513"/>
                  <a:pt x="616" y="456"/>
                </a:cubicBezTo>
                <a:cubicBezTo>
                  <a:pt x="649" y="441"/>
                  <a:pt x="681" y="437"/>
                  <a:pt x="712" y="416"/>
                </a:cubicBezTo>
                <a:cubicBezTo>
                  <a:pt x="731" y="358"/>
                  <a:pt x="724" y="384"/>
                  <a:pt x="736" y="336"/>
                </a:cubicBezTo>
                <a:cubicBezTo>
                  <a:pt x="745" y="154"/>
                  <a:pt x="731" y="228"/>
                  <a:pt x="760" y="112"/>
                </a:cubicBezTo>
                <a:cubicBezTo>
                  <a:pt x="768" y="81"/>
                  <a:pt x="783" y="62"/>
                  <a:pt x="792" y="32"/>
                </a:cubicBezTo>
                <a:cubicBezTo>
                  <a:pt x="795" y="21"/>
                  <a:pt x="789" y="0"/>
                  <a:pt x="800" y="0"/>
                </a:cubicBezTo>
                <a:cubicBezTo>
                  <a:pt x="811" y="0"/>
                  <a:pt x="800" y="21"/>
                  <a:pt x="800" y="3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1908000" y="400536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480" h="480">
                <a:moveTo>
                  <a:pt x="0" y="480"/>
                </a:moveTo>
                <a:cubicBezTo>
                  <a:pt x="18" y="468"/>
                  <a:pt x="39" y="460"/>
                  <a:pt x="56" y="448"/>
                </a:cubicBezTo>
                <a:cubicBezTo>
                  <a:pt x="85" y="427"/>
                  <a:pt x="98" y="396"/>
                  <a:pt x="128" y="376"/>
                </a:cubicBezTo>
                <a:cubicBezTo>
                  <a:pt x="153" y="384"/>
                  <a:pt x="159" y="385"/>
                  <a:pt x="184" y="400"/>
                </a:cubicBezTo>
                <a:cubicBezTo>
                  <a:pt x="200" y="410"/>
                  <a:pt x="232" y="432"/>
                  <a:pt x="232" y="432"/>
                </a:cubicBezTo>
                <a:cubicBezTo>
                  <a:pt x="275" y="368"/>
                  <a:pt x="194" y="243"/>
                  <a:pt x="280" y="272"/>
                </a:cubicBezTo>
                <a:cubicBezTo>
                  <a:pt x="311" y="241"/>
                  <a:pt x="336" y="228"/>
                  <a:pt x="376" y="208"/>
                </a:cubicBezTo>
                <a:cubicBezTo>
                  <a:pt x="383" y="187"/>
                  <a:pt x="385" y="165"/>
                  <a:pt x="392" y="144"/>
                </a:cubicBezTo>
                <a:cubicBezTo>
                  <a:pt x="404" y="109"/>
                  <a:pt x="412" y="111"/>
                  <a:pt x="432" y="80"/>
                </a:cubicBezTo>
                <a:cubicBezTo>
                  <a:pt x="438" y="70"/>
                  <a:pt x="442" y="58"/>
                  <a:pt x="448" y="48"/>
                </a:cubicBezTo>
                <a:cubicBezTo>
                  <a:pt x="458" y="32"/>
                  <a:pt x="480" y="0"/>
                  <a:pt x="480" y="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MANWALK"/>
          <p:cNvPicPr/>
          <p:nvPr/>
        </p:nvPicPr>
        <p:blipFill>
          <a:blip r:embed="rId1"/>
          <a:stretch/>
        </p:blipFill>
        <p:spPr>
          <a:xfrm>
            <a:off x="0" y="2708280"/>
            <a:ext cx="9334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Freeform 37"/>
          <p:cNvSpPr/>
          <p:nvPr/>
        </p:nvSpPr>
        <p:spPr>
          <a:xfrm>
            <a:off x="6940440" y="2205000"/>
            <a:ext cx="181080" cy="257040"/>
          </a:xfrm>
          <a:custGeom>
            <a:avLst/>
            <a:gdLst>
              <a:gd name="textAreaLeft" fmla="*/ 0 w 181080"/>
              <a:gd name="textAreaRight" fmla="*/ 181440 w 18108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114" h="162">
                <a:moveTo>
                  <a:pt x="53" y="0"/>
                </a:moveTo>
                <a:cubicBezTo>
                  <a:pt x="62" y="6"/>
                  <a:pt x="73" y="10"/>
                  <a:pt x="80" y="18"/>
                </a:cubicBezTo>
                <a:cubicBezTo>
                  <a:pt x="114" y="61"/>
                  <a:pt x="46" y="89"/>
                  <a:pt x="17" y="99"/>
                </a:cubicBezTo>
                <a:cubicBezTo>
                  <a:pt x="0" y="150"/>
                  <a:pt x="23" y="120"/>
                  <a:pt x="44" y="162"/>
                </a:cubicBez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5148360" y="3789360"/>
            <a:ext cx="3995640" cy="3068640"/>
          </a:xfrm>
          <a:prstGeom prst="irregularSeal2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285840" y="4049640"/>
            <a:ext cx="3635280" cy="280836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>
            <a:off x="0" y="0"/>
            <a:ext cx="3635280" cy="28083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3429000" y="692280"/>
            <a:ext cx="29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циональ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1571760" y="1000080"/>
            <a:ext cx="216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857160" y="5072040"/>
            <a:ext cx="26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ая  себесто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2"/>
          <p:cNvSpPr txBox="1"/>
          <p:nvPr/>
        </p:nvSpPr>
        <p:spPr>
          <a:xfrm>
            <a:off x="1643040" y="3000240"/>
            <a:ext cx="655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54"/>
          <p:cNvSpPr/>
          <p:nvPr/>
        </p:nvSpPr>
        <p:spPr>
          <a:xfrm>
            <a:off x="3132000" y="3933720"/>
            <a:ext cx="2735280" cy="292428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7"/>
          <p:cNvSpPr/>
          <p:nvPr/>
        </p:nvSpPr>
        <p:spPr>
          <a:xfrm>
            <a:off x="3276720" y="4724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14680" y="4714560"/>
            <a:ext cx="2143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ие навыки в обработки мет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428760" y="450720"/>
            <a:ext cx="83534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                </a:t>
            </a:r>
            <a:r>
              <a:rPr b="1" lang="ru-RU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роекта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идел, идя по улицам на домах установлены, флюгеры указания ветр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интересовался, сколько стоит и оказалось, что стоит в зависимости от размера и формы от 800  рублей и выш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ешил сделать его с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зработки у меня появлялись различные варианты - это кошка, стрелки, животные, птицы, но я остановился на пет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778644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ра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изготовления флюгера я выбрал метал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м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1кв/м ~ 200рубле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1кв/м - можно изготовить 8 таких издел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25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букв я использовал металл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мл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кв/м=300рублей и использовал 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45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фильная труба 1 погонный метр стоит 40 рублей мы израсходовали 24 см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~10рублей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ля покраски мы использовали гуашь и лак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~12рублей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щ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5+45+10+12=9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9"/>
          <p:cNvSpPr txBox="1"/>
          <p:nvPr/>
        </p:nvSpPr>
        <p:spPr>
          <a:xfrm>
            <a:off x="539640" y="404640"/>
            <a:ext cx="820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5786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издел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1714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югер, сделанный моими руками прост в изготовл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этого изделия нужно сварка для соедин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е материалы  доступн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ему образцу можно изготовить и другие подобны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люгер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стоимость составила, всего  я бы мог продать его за 500 рубле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делием можно общаться в МБОУ Никитинской С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87480" y="115920"/>
            <a:ext cx="88056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000080"/>
          <a:ext cx="9144000" cy="8215200"/>
        </p:xfrm>
        <a:graphic>
          <a:graphicData uri="http://schemas.openxmlformats.org/drawingml/2006/table">
            <a:tbl>
              <a:tblPr/>
              <a:tblGrid>
                <a:gridCol w="928800"/>
                <a:gridCol w="3495600"/>
                <a:gridCol w="2790720"/>
                <a:gridCol w="1928880"/>
              </a:tblGrid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довательность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ск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шаблон из фан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андаш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бзи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шаблону обводим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ил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ницы по металл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им отделк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льник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ждачная бум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езаем буквы из метал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жницы по металлу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ильный станок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 1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е для закрепления петушка изготавливаем из колеса старой, детской коля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 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крепления флюгера с крышей выберем  профиль труб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лка по металлу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ейка 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тилка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хнологическая карта изгот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6" descr="Флюгер-петух своими руками"/>
          <p:cNvPicPr/>
          <p:nvPr/>
        </p:nvPicPr>
        <p:blipFill>
          <a:blip r:embed="rId1"/>
          <a:stretch/>
        </p:blipFill>
        <p:spPr>
          <a:xfrm>
            <a:off x="4786200" y="2000160"/>
            <a:ext cx="207180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7" descr="http://www.accbud.ua/data/uploads/013.jpg"/>
          <p:cNvPicPr/>
          <p:nvPr/>
        </p:nvPicPr>
        <p:blipFill>
          <a:blip r:embed="rId2"/>
          <a:stretch/>
        </p:blipFill>
        <p:spPr>
          <a:xfrm>
            <a:off x="4714920" y="3500280"/>
            <a:ext cx="221436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8" descr="buk12"/>
          <p:cNvPicPr/>
          <p:nvPr/>
        </p:nvPicPr>
        <p:blipFill>
          <a:blip r:embed="rId3"/>
          <a:stretch/>
        </p:blipFill>
        <p:spPr>
          <a:xfrm>
            <a:off x="4429080" y="5357880"/>
            <a:ext cx="114300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uk4"/>
          <p:cNvPicPr/>
          <p:nvPr/>
        </p:nvPicPr>
        <p:blipFill>
          <a:blip r:embed="rId4"/>
          <a:stretch/>
        </p:blipFill>
        <p:spPr>
          <a:xfrm>
            <a:off x="4429080" y="607212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0" descr="buk7"/>
          <p:cNvPicPr/>
          <p:nvPr/>
        </p:nvPicPr>
        <p:blipFill>
          <a:blip r:embed="rId5"/>
          <a:stretch/>
        </p:blipFill>
        <p:spPr>
          <a:xfrm>
            <a:off x="5929200" y="5357880"/>
            <a:ext cx="128592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2" descr="buk2"/>
          <p:cNvPicPr/>
          <p:nvPr/>
        </p:nvPicPr>
        <p:blipFill>
          <a:blip r:embed="rId6"/>
          <a:stretch/>
        </p:blipFill>
        <p:spPr>
          <a:xfrm>
            <a:off x="5929200" y="6072120"/>
            <a:ext cx="1282680" cy="568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5:30:43Z</dcterms:created>
  <dc:creator>shkola</dc:creator>
  <dc:description/>
  <dc:language>en-US</dc:language>
  <cp:lastModifiedBy>шагава11</cp:lastModifiedBy>
  <dcterms:modified xsi:type="dcterms:W3CDTF">2016-10-10T12:16:06Z</dcterms:modified>
  <cp:revision>145</cp:revision>
  <dc:subject/>
  <dc:title>Слайд 1</dc:title>
</cp:coreProperties>
</file>