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7.gif" ContentType="image/gif"/>
  <Override PartName="/ppt/media/image6.png" ContentType="image/png"/>
  <Override PartName="/ppt/media/image8.gif" ContentType="image/gif"/>
  <Override PartName="/ppt/media/image18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F3E-EE2C-4085-B0E6-7476764A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AD6-A461-4A67-B6BA-132929DD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AB3-7234-4D89-9E3B-B8C323BA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656-E482-4D57-BCDE-641BE0B6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3B2-4D6C-4BA9-A6DA-CFA16976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D02-0F20-4FEA-8973-607C1EC2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C6C-3D7F-4EC8-8494-830753BD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F6E-1E53-4D2F-A7B0-EA1008F6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72F-8787-44DF-B361-00F4A230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961-A3F8-4CC6-8FC8-00984BEE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D30-2F3E-421F-B0FE-906E3B2B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D8C-08ED-4853-A430-5B0F4D37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0825-6754-4421-AD1F-47E695C3DA7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8" descr="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3" descr=""/>
          <p:cNvPicPr/>
          <p:nvPr/>
        </p:nvPicPr>
        <p:blipFill>
          <a:blip r:embed="rId2"/>
          <a:stretch/>
        </p:blipFill>
        <p:spPr>
          <a:xfrm>
            <a:off x="4608360" y="4071960"/>
            <a:ext cx="4584960" cy="23954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14" descr=""/>
          <p:cNvPicPr/>
          <p:nvPr/>
        </p:nvPicPr>
        <p:blipFill>
          <a:blip r:embed="rId3"/>
          <a:stretch/>
        </p:blipFill>
        <p:spPr>
          <a:xfrm>
            <a:off x="3067200" y="6132600"/>
            <a:ext cx="2011320" cy="79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1\Мои документы\My Pictures\Scan Pictures\Безымянный.JPG"/>
          <p:cNvPicPr/>
          <p:nvPr/>
        </p:nvPicPr>
        <p:blipFill>
          <a:blip r:embed="rId4"/>
          <a:stretch/>
        </p:blipFill>
        <p:spPr>
          <a:xfrm>
            <a:off x="-750960" y="0"/>
            <a:ext cx="1501920" cy="18414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1" descr=""/>
          <p:cNvPicPr/>
          <p:nvPr/>
        </p:nvPicPr>
        <p:blipFill>
          <a:blip r:embed="rId5"/>
          <a:stretch/>
        </p:blipFill>
        <p:spPr>
          <a:xfrm>
            <a:off x="487440" y="60480"/>
            <a:ext cx="9399600" cy="157932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2" descr=""/>
          <p:cNvPicPr/>
          <p:nvPr/>
        </p:nvPicPr>
        <p:blipFill>
          <a:blip r:embed="rId6"/>
          <a:stretch/>
        </p:blipFill>
        <p:spPr>
          <a:xfrm>
            <a:off x="944640" y="1474920"/>
            <a:ext cx="700380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28800"/>
                <a:gridCol w="3429000"/>
                <a:gridCol w="2786040"/>
                <a:gridCol w="20001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рубе вырезаем середину на 60 см и удаляем е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лка по металлу, пассатижи, молот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гибаем стенки и просверливаем 4 отверстия по 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ток, Плоскогубц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сборки профильной трубы используем электрическую свар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рическая сварка, электродре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им покрас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ка, ки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стержень одеваем резиновую прокладку от попадания вл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кла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106" name="Рисунок 7" descr="https://im0-tub-ru.yandex.net/i?id=f467c17b4cc5ba068c6e0f193c610bd6&amp;n=33&amp;h=190&amp;w=380"/>
          <p:cNvPicPr/>
          <p:nvPr/>
        </p:nvPicPr>
        <p:blipFill>
          <a:blip r:embed="rId1"/>
          <a:stretch/>
        </p:blipFill>
        <p:spPr>
          <a:xfrm>
            <a:off x="4429080" y="4143240"/>
            <a:ext cx="2643120" cy="13320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http://ri.kz/s_images/12898143534187.jpg"/>
          <p:cNvPicPr/>
          <p:nvPr/>
        </p:nvPicPr>
        <p:blipFill>
          <a:blip r:embed="rId2"/>
          <a:stretch/>
        </p:blipFill>
        <p:spPr>
          <a:xfrm>
            <a:off x="4429080" y="5572080"/>
            <a:ext cx="264312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хнологически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F:\DCIM\100MSDCF\DSC01192.JPG"/>
          <p:cNvPicPr/>
          <p:nvPr/>
        </p:nvPicPr>
        <p:blipFill>
          <a:blip r:embed="rId1"/>
          <a:stretch/>
        </p:blipFill>
        <p:spPr>
          <a:xfrm>
            <a:off x="0" y="1571760"/>
            <a:ext cx="4286160" cy="226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F:\DCIM\100MSDCF\DSC01193.JPG"/>
          <p:cNvPicPr/>
          <p:nvPr/>
        </p:nvPicPr>
        <p:blipFill>
          <a:blip r:embed="rId2"/>
          <a:stretch/>
        </p:blipFill>
        <p:spPr>
          <a:xfrm>
            <a:off x="4786200" y="1571760"/>
            <a:ext cx="4357800" cy="230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F:\DCIM\100MSDCF\DSC01195.JPG"/>
          <p:cNvPicPr/>
          <p:nvPr/>
        </p:nvPicPr>
        <p:blipFill>
          <a:blip r:embed="rId3"/>
          <a:stretch/>
        </p:blipFill>
        <p:spPr>
          <a:xfrm>
            <a:off x="4786200" y="4254480"/>
            <a:ext cx="4357800" cy="2603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F:\DCIM\100MSDCF\DSC01196.JPG"/>
          <p:cNvPicPr/>
          <p:nvPr/>
        </p:nvPicPr>
        <p:blipFill>
          <a:blip r:embed="rId4"/>
          <a:stretch/>
        </p:blipFill>
        <p:spPr>
          <a:xfrm>
            <a:off x="0" y="4286160"/>
            <a:ext cx="428616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вер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:\DCIM\100MSDCF\DSC01198.JPG"/>
          <p:cNvPicPr/>
          <p:nvPr/>
        </p:nvPicPr>
        <p:blipFill>
          <a:blip r:embed="rId1"/>
          <a:stretch/>
        </p:blipFill>
        <p:spPr>
          <a:xfrm>
            <a:off x="1258920" y="1628640"/>
            <a:ext cx="6626160" cy="4413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делие гот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F:\DCIM\100MSDCF\DSC01207.JPG"/>
          <p:cNvPicPr/>
          <p:nvPr/>
        </p:nvPicPr>
        <p:blipFill>
          <a:blip r:embed="rId1"/>
          <a:stretch/>
        </p:blipFill>
        <p:spPr>
          <a:xfrm>
            <a:off x="1928880" y="1714680"/>
            <a:ext cx="5572080" cy="4178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1"/>
          <p:cNvSpPr/>
          <p:nvPr/>
        </p:nvSpPr>
        <p:spPr>
          <a:xfrm>
            <a:off x="324000" y="2602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250920" y="189000"/>
            <a:ext cx="40338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500040" y="0"/>
            <a:ext cx="8207280" cy="1500120"/>
          </a:xfrm>
          <a:prstGeom prst="rect">
            <a:avLst/>
          </a:prstGeom>
          <a:solidFill>
            <a:srgbClr val="d8f95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час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петушка-2 час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букв-1час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макета и сварки-30мину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аска и испытание-30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и анал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356840"/>
            <a:ext cx="66866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ешил выяснить: нужен ли флюгер на дом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просил 30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Диаграмма 7" descr=""/>
          <p:cNvPicPr/>
          <p:nvPr/>
        </p:nvPicPr>
        <p:blipFill>
          <a:blip r:embed="rId1"/>
          <a:stretch/>
        </p:blipFill>
        <p:spPr>
          <a:xfrm>
            <a:off x="857160" y="3000240"/>
            <a:ext cx="676296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571400"/>
            <a:ext cx="8572680" cy="1143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делал флюгер, показал его людям и повторно провёл о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Диаграмма 4" descr=""/>
          <p:cNvPicPr/>
          <p:nvPr/>
        </p:nvPicPr>
        <p:blipFill>
          <a:blip r:embed="rId1"/>
          <a:stretch/>
        </p:blipFill>
        <p:spPr>
          <a:xfrm>
            <a:off x="1523880" y="2786040"/>
            <a:ext cx="609624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928440"/>
            <a:ext cx="91440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бор пробл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циональное ре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бор и обоснование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ния и анали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хнологический эта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ремя изгото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пыт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ономический расч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ценка изделия.Рекл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 flipV="1">
            <a:off x="285840" y="35640"/>
            <a:ext cx="8429400" cy="70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ать и изготовить флюгера для до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готовить издел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Приобрести практические навыки в работе с металл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Изучить устройство сварки и пай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Научиться принимать самостоятельные реш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Развивать творческие способност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27"/>
          <p:cNvSpPr/>
          <p:nvPr/>
        </p:nvSpPr>
        <p:spPr>
          <a:xfrm flipH="1" flipV="1">
            <a:off x="8101080" y="1196280"/>
            <a:ext cx="21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2"/>
          <p:cNvSpPr/>
          <p:nvPr/>
        </p:nvSpPr>
        <p:spPr>
          <a:xfrm>
            <a:off x="6253200" y="35211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3" descr="MAN8"/>
          <p:cNvPicPr/>
          <p:nvPr/>
        </p:nvPicPr>
        <p:blipFill>
          <a:blip r:embed="rId1"/>
          <a:stretch/>
        </p:blipFill>
        <p:spPr>
          <a:xfrm>
            <a:off x="8028000" y="765000"/>
            <a:ext cx="851040" cy="148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artie-com-cr-trunc"/>
          <p:cNvPicPr/>
          <p:nvPr/>
        </p:nvPicPr>
        <p:blipFill>
          <a:blip r:embed="rId2"/>
          <a:stretch/>
        </p:blipFill>
        <p:spPr>
          <a:xfrm>
            <a:off x="0" y="5373720"/>
            <a:ext cx="1276200" cy="1484280"/>
          </a:xfrm>
          <a:prstGeom prst="rect">
            <a:avLst/>
          </a:prstGeom>
          <a:ln w="0">
            <a:noFill/>
          </a:ln>
        </p:spPr>
      </p:pic>
      <p:sp>
        <p:nvSpPr>
          <p:cNvPr id="56" name="WordArt 45"/>
          <p:cNvSpPr txBox="1"/>
          <p:nvPr/>
        </p:nvSpPr>
        <p:spPr>
          <a:xfrm>
            <a:off x="755640" y="0"/>
            <a:ext cx="770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бор проблемы</a:t>
            </a:r>
            <a:endParaRPr b="0" i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AutoShape 57"/>
          <p:cNvSpPr/>
          <p:nvPr/>
        </p:nvSpPr>
        <p:spPr>
          <a:xfrm>
            <a:off x="4572000" y="981000"/>
            <a:ext cx="2784600" cy="2498760"/>
          </a:xfrm>
          <a:prstGeom prst="hexagon">
            <a:avLst>
              <a:gd name="adj" fmla="val 48476"/>
              <a:gd name="vf" fmla="val 1154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кая сто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9"/>
          <p:cNvSpPr/>
          <p:nvPr/>
        </p:nvSpPr>
        <p:spPr>
          <a:xfrm>
            <a:off x="2050920" y="3933720"/>
            <a:ext cx="3024360" cy="2590920"/>
          </a:xfrm>
          <a:prstGeom prst="hexagon">
            <a:avLst>
              <a:gd name="adj" fmla="val 29182"/>
              <a:gd name="vf" fmla="val 1154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0"/>
            <a:endCxn id="51" idx="0"/>
          </p:cNvCxnSpPr>
          <p:nvPr/>
        </p:nvCxnSpPr>
        <p:spPr>
          <a:xfrm flipH="1" rot="16200000">
            <a:off x="4572000" y="-36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4"/>
          <p:cNvCxnSpPr>
            <a:stCxn id="51" idx="0"/>
            <a:endCxn id="51" idx="0"/>
          </p:cNvCxnSpPr>
          <p:nvPr/>
        </p:nvCxnSpPr>
        <p:spPr>
          <a:xfrm>
            <a:off x="4571640" y="-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AutoShape 65"/>
          <p:cNvSpPr/>
          <p:nvPr/>
        </p:nvSpPr>
        <p:spPr>
          <a:xfrm>
            <a:off x="684360" y="765000"/>
            <a:ext cx="3311280" cy="2880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7"/>
          <p:cNvSpPr/>
          <p:nvPr/>
        </p:nvSpPr>
        <p:spPr>
          <a:xfrm>
            <a:off x="642960" y="1197000"/>
            <a:ext cx="3143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люгер, приобретённый в магази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9"/>
          <p:cNvSpPr/>
          <p:nvPr/>
        </p:nvSpPr>
        <p:spPr>
          <a:xfrm>
            <a:off x="2268360" y="4437000"/>
            <a:ext cx="2590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тсутствие товара в нашем магази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0"/>
          <p:cNvSpPr/>
          <p:nvPr/>
        </p:nvSpPr>
        <p:spPr>
          <a:xfrm>
            <a:off x="6372360" y="4365720"/>
            <a:ext cx="1871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1"/>
          <p:cNvSpPr/>
          <p:nvPr/>
        </p:nvSpPr>
        <p:spPr>
          <a:xfrm>
            <a:off x="6372360" y="4430880"/>
            <a:ext cx="2330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2"/>
          <p:cNvSpPr/>
          <p:nvPr/>
        </p:nvSpPr>
        <p:spPr>
          <a:xfrm>
            <a:off x="3995640" y="1773360"/>
            <a:ext cx="792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3"/>
          <p:cNvSpPr/>
          <p:nvPr/>
        </p:nvSpPr>
        <p:spPr>
          <a:xfrm>
            <a:off x="3635280" y="3213000"/>
            <a:ext cx="144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4"/>
          <p:cNvSpPr/>
          <p:nvPr/>
        </p:nvSpPr>
        <p:spPr>
          <a:xfrm>
            <a:off x="3995640" y="2781360"/>
            <a:ext cx="223200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3"/>
          <p:cNvSpPr/>
          <p:nvPr/>
        </p:nvSpPr>
        <p:spPr>
          <a:xfrm>
            <a:off x="6286680" y="4357800"/>
            <a:ext cx="2286000" cy="207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рактич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39"/>
          <p:cNvSpPr/>
          <p:nvPr/>
        </p:nvSpPr>
        <p:spPr>
          <a:xfrm>
            <a:off x="6156360" y="0"/>
            <a:ext cx="3240000" cy="2565360"/>
          </a:xfrm>
          <a:prstGeom prst="irregularSeal2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1258920" y="2060640"/>
            <a:ext cx="6985080" cy="2449440"/>
          </a:xfrm>
          <a:prstGeom prst="ellipse">
            <a:avLst/>
          </a:prstGeom>
          <a:solidFill>
            <a:srgbClr val="d2d6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люг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делан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2771640" y="2781360"/>
            <a:ext cx="1944720" cy="129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4"/>
          <p:cNvSpPr/>
          <p:nvPr/>
        </p:nvSpPr>
        <p:spPr>
          <a:xfrm>
            <a:off x="5076720" y="1341360"/>
            <a:ext cx="266760" cy="711360"/>
          </a:xfrm>
          <a:custGeom>
            <a:avLst/>
            <a:gdLst>
              <a:gd name="textAreaLeft" fmla="*/ 0 w 266760"/>
              <a:gd name="textAreaRight" fmla="*/ 267120 w 26676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68" h="448">
                <a:moveTo>
                  <a:pt x="168" y="0"/>
                </a:moveTo>
                <a:cubicBezTo>
                  <a:pt x="163" y="29"/>
                  <a:pt x="162" y="60"/>
                  <a:pt x="152" y="88"/>
                </a:cubicBezTo>
                <a:cubicBezTo>
                  <a:pt x="148" y="99"/>
                  <a:pt x="134" y="103"/>
                  <a:pt x="128" y="112"/>
                </a:cubicBezTo>
                <a:cubicBezTo>
                  <a:pt x="123" y="119"/>
                  <a:pt x="125" y="129"/>
                  <a:pt x="120" y="136"/>
                </a:cubicBezTo>
                <a:cubicBezTo>
                  <a:pt x="101" y="160"/>
                  <a:pt x="71" y="169"/>
                  <a:pt x="56" y="200"/>
                </a:cubicBezTo>
                <a:cubicBezTo>
                  <a:pt x="23" y="266"/>
                  <a:pt x="82" y="173"/>
                  <a:pt x="32" y="256"/>
                </a:cubicBezTo>
                <a:cubicBezTo>
                  <a:pt x="22" y="272"/>
                  <a:pt x="0" y="304"/>
                  <a:pt x="0" y="304"/>
                </a:cubicBezTo>
                <a:cubicBezTo>
                  <a:pt x="8" y="349"/>
                  <a:pt x="3" y="367"/>
                  <a:pt x="40" y="392"/>
                </a:cubicBezTo>
                <a:cubicBezTo>
                  <a:pt x="54" y="414"/>
                  <a:pt x="70" y="430"/>
                  <a:pt x="88" y="448"/>
                </a:cubicBezTo>
              </a:path>
            </a:pathLst>
          </a:custGeom>
          <a:noFill/>
          <a:ln w="57240">
            <a:solidFill>
              <a:srgbClr val="99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8"/>
          <p:cNvSpPr/>
          <p:nvPr/>
        </p:nvSpPr>
        <p:spPr>
          <a:xfrm>
            <a:off x="1835280" y="1916280"/>
            <a:ext cx="850680" cy="698400"/>
          </a:xfrm>
          <a:custGeom>
            <a:avLst/>
            <a:gdLst>
              <a:gd name="textAreaLeft" fmla="*/ 0 w 850680"/>
              <a:gd name="textAreaRight" fmla="*/ 851040 w 8506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536" h="440">
                <a:moveTo>
                  <a:pt x="0" y="0"/>
                </a:moveTo>
                <a:cubicBezTo>
                  <a:pt x="15" y="10"/>
                  <a:pt x="33" y="14"/>
                  <a:pt x="48" y="24"/>
                </a:cubicBezTo>
                <a:cubicBezTo>
                  <a:pt x="108" y="64"/>
                  <a:pt x="39" y="37"/>
                  <a:pt x="96" y="56"/>
                </a:cubicBezTo>
                <a:cubicBezTo>
                  <a:pt x="150" y="110"/>
                  <a:pt x="123" y="97"/>
                  <a:pt x="168" y="112"/>
                </a:cubicBezTo>
                <a:cubicBezTo>
                  <a:pt x="206" y="140"/>
                  <a:pt x="243" y="170"/>
                  <a:pt x="280" y="200"/>
                </a:cubicBezTo>
                <a:cubicBezTo>
                  <a:pt x="310" y="224"/>
                  <a:pt x="330" y="251"/>
                  <a:pt x="368" y="264"/>
                </a:cubicBezTo>
                <a:cubicBezTo>
                  <a:pt x="402" y="315"/>
                  <a:pt x="456" y="309"/>
                  <a:pt x="512" y="320"/>
                </a:cubicBezTo>
                <a:cubicBezTo>
                  <a:pt x="515" y="331"/>
                  <a:pt x="517" y="341"/>
                  <a:pt x="520" y="352"/>
                </a:cubicBezTo>
                <a:cubicBezTo>
                  <a:pt x="525" y="368"/>
                  <a:pt x="536" y="400"/>
                  <a:pt x="536" y="400"/>
                </a:cubicBezTo>
                <a:cubicBezTo>
                  <a:pt x="517" y="428"/>
                  <a:pt x="520" y="414"/>
                  <a:pt x="520" y="44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9"/>
          <p:cNvSpPr/>
          <p:nvPr/>
        </p:nvSpPr>
        <p:spPr>
          <a:xfrm rot="16200000">
            <a:off x="6715800" y="4453200"/>
            <a:ext cx="1052280" cy="155520"/>
          </a:xfrm>
          <a:custGeom>
            <a:avLst/>
            <a:gdLst>
              <a:gd name="textAreaLeft" fmla="*/ 0 w 1052280"/>
              <a:gd name="textAreaRight" fmla="*/ 1052640 w 10522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811" h="544">
                <a:moveTo>
                  <a:pt x="0" y="544"/>
                </a:moveTo>
                <a:cubicBezTo>
                  <a:pt x="175" y="519"/>
                  <a:pt x="158" y="512"/>
                  <a:pt x="368" y="520"/>
                </a:cubicBezTo>
                <a:cubicBezTo>
                  <a:pt x="526" y="501"/>
                  <a:pt x="493" y="513"/>
                  <a:pt x="616" y="456"/>
                </a:cubicBezTo>
                <a:cubicBezTo>
                  <a:pt x="649" y="441"/>
                  <a:pt x="681" y="437"/>
                  <a:pt x="712" y="416"/>
                </a:cubicBezTo>
                <a:cubicBezTo>
                  <a:pt x="731" y="358"/>
                  <a:pt x="724" y="384"/>
                  <a:pt x="736" y="336"/>
                </a:cubicBezTo>
                <a:cubicBezTo>
                  <a:pt x="745" y="154"/>
                  <a:pt x="731" y="228"/>
                  <a:pt x="760" y="112"/>
                </a:cubicBezTo>
                <a:cubicBezTo>
                  <a:pt x="768" y="81"/>
                  <a:pt x="783" y="62"/>
                  <a:pt x="792" y="32"/>
                </a:cubicBezTo>
                <a:cubicBezTo>
                  <a:pt x="795" y="21"/>
                  <a:pt x="789" y="0"/>
                  <a:pt x="800" y="0"/>
                </a:cubicBezTo>
                <a:cubicBezTo>
                  <a:pt x="811" y="0"/>
                  <a:pt x="800" y="21"/>
                  <a:pt x="800" y="32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0"/>
          <p:cNvSpPr/>
          <p:nvPr/>
        </p:nvSpPr>
        <p:spPr>
          <a:xfrm>
            <a:off x="1908000" y="4005360"/>
            <a:ext cx="762120" cy="761760"/>
          </a:xfrm>
          <a:custGeom>
            <a:avLst/>
            <a:gdLst>
              <a:gd name="textAreaLeft" fmla="*/ 0 w 762120"/>
              <a:gd name="textAreaRight" fmla="*/ 762480 w 7621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480" h="480">
                <a:moveTo>
                  <a:pt x="0" y="480"/>
                </a:moveTo>
                <a:cubicBezTo>
                  <a:pt x="18" y="468"/>
                  <a:pt x="39" y="460"/>
                  <a:pt x="56" y="448"/>
                </a:cubicBezTo>
                <a:cubicBezTo>
                  <a:pt x="85" y="427"/>
                  <a:pt x="98" y="396"/>
                  <a:pt x="128" y="376"/>
                </a:cubicBezTo>
                <a:cubicBezTo>
                  <a:pt x="153" y="384"/>
                  <a:pt x="159" y="385"/>
                  <a:pt x="184" y="400"/>
                </a:cubicBezTo>
                <a:cubicBezTo>
                  <a:pt x="200" y="410"/>
                  <a:pt x="232" y="432"/>
                  <a:pt x="232" y="432"/>
                </a:cubicBezTo>
                <a:cubicBezTo>
                  <a:pt x="275" y="368"/>
                  <a:pt x="194" y="243"/>
                  <a:pt x="280" y="272"/>
                </a:cubicBezTo>
                <a:cubicBezTo>
                  <a:pt x="311" y="241"/>
                  <a:pt x="336" y="228"/>
                  <a:pt x="376" y="208"/>
                </a:cubicBezTo>
                <a:cubicBezTo>
                  <a:pt x="383" y="187"/>
                  <a:pt x="385" y="165"/>
                  <a:pt x="392" y="144"/>
                </a:cubicBezTo>
                <a:cubicBezTo>
                  <a:pt x="404" y="109"/>
                  <a:pt x="412" y="111"/>
                  <a:pt x="432" y="80"/>
                </a:cubicBezTo>
                <a:cubicBezTo>
                  <a:pt x="438" y="70"/>
                  <a:pt x="442" y="58"/>
                  <a:pt x="448" y="48"/>
                </a:cubicBezTo>
                <a:cubicBezTo>
                  <a:pt x="458" y="32"/>
                  <a:pt x="480" y="0"/>
                  <a:pt x="480" y="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4" descr="MANWALK"/>
          <p:cNvPicPr/>
          <p:nvPr/>
        </p:nvPicPr>
        <p:blipFill>
          <a:blip r:embed="rId1"/>
          <a:stretch/>
        </p:blipFill>
        <p:spPr>
          <a:xfrm>
            <a:off x="0" y="2708280"/>
            <a:ext cx="933480" cy="2209680"/>
          </a:xfrm>
          <a:prstGeom prst="rect">
            <a:avLst/>
          </a:prstGeom>
          <a:ln w="0">
            <a:noFill/>
          </a:ln>
        </p:spPr>
      </p:pic>
      <p:sp>
        <p:nvSpPr>
          <p:cNvPr id="78" name="Freeform 37"/>
          <p:cNvSpPr/>
          <p:nvPr/>
        </p:nvSpPr>
        <p:spPr>
          <a:xfrm>
            <a:off x="6940440" y="2205000"/>
            <a:ext cx="181080" cy="257040"/>
          </a:xfrm>
          <a:custGeom>
            <a:avLst/>
            <a:gdLst>
              <a:gd name="textAreaLeft" fmla="*/ 0 w 181080"/>
              <a:gd name="textAreaRight" fmla="*/ 181440 w 18108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114" h="162">
                <a:moveTo>
                  <a:pt x="53" y="0"/>
                </a:moveTo>
                <a:cubicBezTo>
                  <a:pt x="62" y="6"/>
                  <a:pt x="73" y="10"/>
                  <a:pt x="80" y="18"/>
                </a:cubicBezTo>
                <a:cubicBezTo>
                  <a:pt x="114" y="61"/>
                  <a:pt x="46" y="89"/>
                  <a:pt x="17" y="99"/>
                </a:cubicBezTo>
                <a:cubicBezTo>
                  <a:pt x="0" y="150"/>
                  <a:pt x="23" y="120"/>
                  <a:pt x="44" y="162"/>
                </a:cubicBezTo>
              </a:path>
            </a:pathLst>
          </a:custGeom>
          <a:noFill/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0"/>
          <p:cNvSpPr/>
          <p:nvPr/>
        </p:nvSpPr>
        <p:spPr>
          <a:xfrm>
            <a:off x="5148360" y="3789360"/>
            <a:ext cx="3995640" cy="3068640"/>
          </a:xfrm>
          <a:prstGeom prst="irregularSeal2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1"/>
          <p:cNvSpPr/>
          <p:nvPr/>
        </p:nvSpPr>
        <p:spPr>
          <a:xfrm>
            <a:off x="285840" y="4049640"/>
            <a:ext cx="3635280" cy="2808360"/>
          </a:xfrm>
          <a:prstGeom prst="irregularSeal2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>
            <a:off x="0" y="0"/>
            <a:ext cx="3635280" cy="28083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3429000" y="692280"/>
            <a:ext cx="29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циональное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1571760" y="1000080"/>
            <a:ext cx="216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857160" y="5072040"/>
            <a:ext cx="26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ая  себесто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52"/>
          <p:cNvSpPr txBox="1"/>
          <p:nvPr/>
        </p:nvSpPr>
        <p:spPr>
          <a:xfrm>
            <a:off x="1643040" y="3000240"/>
            <a:ext cx="655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AutoShape 54"/>
          <p:cNvSpPr/>
          <p:nvPr/>
        </p:nvSpPr>
        <p:spPr>
          <a:xfrm>
            <a:off x="3132000" y="3933720"/>
            <a:ext cx="2735280" cy="292428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7"/>
          <p:cNvSpPr/>
          <p:nvPr/>
        </p:nvSpPr>
        <p:spPr>
          <a:xfrm>
            <a:off x="3276720" y="472428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гот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14680" y="4714560"/>
            <a:ext cx="21430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ие навыки в обработки метал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428760" y="450720"/>
            <a:ext cx="835344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                </a:t>
            </a:r>
            <a:r>
              <a:rPr b="1" lang="ru-RU" sz="4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проекта</a:t>
            </a: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идел, идя по улицам на домах установлены, флюгеры указания ветр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интересовался, сколько стоит и оказалось, что стоит в зависимости от размера и формы от 800  рублей и выш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ешил сделать его сам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азработки у меня появлялись различные варианты - это кошка, стрелки, животные, птицы, но я остановился на пет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440" y="500040"/>
            <a:ext cx="778644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расч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6760" y="149976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ля изготовления флюгера я выбрал металл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мл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1кв/м ~ 200рублей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1кв/м - можно изготовить 8 таких изделий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щ.~25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букв я использовал металл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мл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кв/м=300рублей и использовал 1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щ.~45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офильная труба 1 погонный метр стоит 40 рублей мы израсходовали 24 см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щ.~10рублей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ля покраски мы использовали гуашь и лак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щ~12рублей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щ.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5+45+10+12=92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9"/>
          <p:cNvSpPr txBox="1"/>
          <p:nvPr/>
        </p:nvSpPr>
        <p:spPr>
          <a:xfrm>
            <a:off x="539640" y="404640"/>
            <a:ext cx="820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5786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издел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17146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югер, сделанный моими руками прост в изготовле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этого изделия нужно сварка для соединени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ьные материалы  доступны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ему образцу можно изготовить и другие подобны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люгер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бестоимость составила, всего  я бы мог продать его за 500 рубле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делием можно общаться в МБОУ Никитинской С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87480" y="115920"/>
            <a:ext cx="88056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000080"/>
          <a:ext cx="9144000" cy="8215200"/>
        </p:xfrm>
        <a:graphic>
          <a:graphicData uri="http://schemas.openxmlformats.org/drawingml/2006/table">
            <a:tbl>
              <a:tblPr/>
              <a:tblGrid>
                <a:gridCol w="928800"/>
                <a:gridCol w="3495600"/>
                <a:gridCol w="2790720"/>
                <a:gridCol w="1928880"/>
              </a:tblGrid>
              <a:tr h="96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ледовательность рабо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ск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стр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резаем шаблон из фане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андаш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нейка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бзик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шаблону обводим изде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тил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резаем изде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жницы по металл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им отделк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ильник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ждачная бума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резаем буквы из метал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жницы по металлу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рлильный станок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рло 1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ание для закрепления петушка изготавливаем из колеса старой, детской коляс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лка по металлу 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ней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5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крепления флюгера с крышей выберем  профиль труб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лка по металлу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нейка 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тилка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хнологическая карта изгото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16" descr="Флюгер-петух своими руками"/>
          <p:cNvPicPr/>
          <p:nvPr/>
        </p:nvPicPr>
        <p:blipFill>
          <a:blip r:embed="rId1"/>
          <a:stretch/>
        </p:blipFill>
        <p:spPr>
          <a:xfrm>
            <a:off x="4786200" y="2000160"/>
            <a:ext cx="2071800" cy="7146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7" descr="http://www.accbud.ua/data/uploads/013.jpg"/>
          <p:cNvPicPr/>
          <p:nvPr/>
        </p:nvPicPr>
        <p:blipFill>
          <a:blip r:embed="rId2"/>
          <a:stretch/>
        </p:blipFill>
        <p:spPr>
          <a:xfrm>
            <a:off x="4714920" y="3500280"/>
            <a:ext cx="221436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8" descr="buk12"/>
          <p:cNvPicPr/>
          <p:nvPr/>
        </p:nvPicPr>
        <p:blipFill>
          <a:blip r:embed="rId3"/>
          <a:stretch/>
        </p:blipFill>
        <p:spPr>
          <a:xfrm>
            <a:off x="4429080" y="5357880"/>
            <a:ext cx="1143000" cy="642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buk4"/>
          <p:cNvPicPr/>
          <p:nvPr/>
        </p:nvPicPr>
        <p:blipFill>
          <a:blip r:embed="rId4"/>
          <a:stretch/>
        </p:blipFill>
        <p:spPr>
          <a:xfrm>
            <a:off x="4429080" y="6072120"/>
            <a:ext cx="1143000" cy="5716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0" descr="buk7"/>
          <p:cNvPicPr/>
          <p:nvPr/>
        </p:nvPicPr>
        <p:blipFill>
          <a:blip r:embed="rId5"/>
          <a:stretch/>
        </p:blipFill>
        <p:spPr>
          <a:xfrm>
            <a:off x="5929200" y="5357880"/>
            <a:ext cx="1285920" cy="6429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2" descr="buk2"/>
          <p:cNvPicPr/>
          <p:nvPr/>
        </p:nvPicPr>
        <p:blipFill>
          <a:blip r:embed="rId6"/>
          <a:stretch/>
        </p:blipFill>
        <p:spPr>
          <a:xfrm>
            <a:off x="5929200" y="6072120"/>
            <a:ext cx="1282680" cy="568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5:30:43Z</dcterms:created>
  <dc:creator>shkola</dc:creator>
  <dc:description/>
  <dc:language>en-US</dc:language>
  <cp:lastModifiedBy>шагава11</cp:lastModifiedBy>
  <dcterms:modified xsi:type="dcterms:W3CDTF">2016-10-10T12:16:06Z</dcterms:modified>
  <cp:revision>145</cp:revision>
  <dc:subject/>
  <dc:title>Слайд 1</dc:title>
</cp:coreProperties>
</file>