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721-3F76-46C4-980A-C0AAFC1B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8C2-6304-4204-9666-9D8BF384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434-020F-4738-943E-44E7C2A0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09B-EA0D-4C18-92AE-10A0FD05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5C2E-610B-4133-865A-B0ED38D6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8BED-EFF4-400D-85CD-92FBE453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545D-C272-486A-9567-C5EB2621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FD11-6811-4984-8BA3-51CCBE2A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1641-5834-4BC9-A803-1CE5D75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6B0-9391-48D3-A23E-37AEBE57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6660-0F2F-490B-A4C5-C66108CA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276-AE06-4F0D-ADB7-95720770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F3CA-BBC0-4C9D-AA11-F4FBD8D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8A7-FC52-4F7B-997F-8132852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560E-40A0-4F5B-BAD9-BD70C4A0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420A-A6EF-46CA-8BD0-F0CCE9F8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846C-ADA5-499B-B20C-491809D2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536-A836-49F8-8471-2AEE6BEF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33C-26B2-4D07-B067-BB9BF964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3EB-89E4-49F3-9789-C655688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B40-FB40-4B17-88A9-3CA2263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782-1D2A-47D7-8479-8803EF2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CDD-F47C-4F78-87A6-D2675406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F30-B4A8-422D-A9C0-F0F63034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81B5-D8F4-497F-850E-73A7E70FD7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EB8F-764A-4D62-A3B8-047D8D3E61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ники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4 класса МОУ Иванковской СО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ь: И.В. Черныш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i-main-pic" descr="Картинка 59 из 7115"/>
          <p:cNvPicPr/>
          <p:nvPr/>
        </p:nvPicPr>
        <p:blipFill>
          <a:blip r:embed="rId1"/>
          <a:stretch/>
        </p:blipFill>
        <p:spPr>
          <a:xfrm>
            <a:off x="611280" y="692280"/>
            <a:ext cx="8208720" cy="2952720"/>
          </a:xfrm>
          <a:prstGeom prst="rect">
            <a:avLst/>
          </a:prstGeom>
          <a:ln w="0">
            <a:noFill/>
          </a:ln>
        </p:spPr>
      </p:pic>
      <p:sp>
        <p:nvSpPr>
          <p:cNvPr id="213" name="WordArt 8"/>
          <p:cNvSpPr txBox="1"/>
          <p:nvPr/>
        </p:nvSpPr>
        <p:spPr>
          <a:xfrm>
            <a:off x="2050920" y="2924280"/>
            <a:ext cx="5143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ект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Сказка у нас в гостях»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...и Золушка стала просто красавицей!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3" descr="И вот такой Золушка стала...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олушка очутилась на балу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 принц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i-main-pic" descr="Картинка 36 из 41400"/>
          <p:cNvPicPr/>
          <p:nvPr/>
        </p:nvPicPr>
        <p:blipFill>
          <a:blip r:embed="rId1"/>
          <a:stretch/>
        </p:blipFill>
        <p:spPr>
          <a:xfrm>
            <a:off x="971640" y="1600200"/>
            <a:ext cx="7488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полночь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лшебство закончилос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i-main-pic" descr="Картинка 38 из 41400"/>
          <p:cNvPicPr/>
          <p:nvPr/>
        </p:nvPicPr>
        <p:blipFill>
          <a:blip r:embed="rId1"/>
          <a:stretch/>
        </p:blipFill>
        <p:spPr>
          <a:xfrm>
            <a:off x="2050920" y="1484280"/>
            <a:ext cx="46087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казке всегда добро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беждает зло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i-main-pic" descr="Картинка 33 из 2161"/>
          <p:cNvPicPr/>
          <p:nvPr/>
        </p:nvPicPr>
        <p:blipFill>
          <a:blip r:embed="rId1"/>
          <a:stretch/>
        </p:blipFill>
        <p:spPr>
          <a:xfrm>
            <a:off x="1258920" y="1773360"/>
            <a:ext cx="684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петиционный пери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упление на Новогоднем утрен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2700360" y="549360"/>
            <a:ext cx="402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ческий эта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1057320" y="2908440"/>
            <a:ext cx="702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 работы над проектом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казка у нас в гостях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упление на новогоднем утренни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PC260006"/>
          <p:cNvPicPr/>
          <p:nvPr/>
        </p:nvPicPr>
        <p:blipFill>
          <a:blip r:embed="rId1"/>
          <a:stretch/>
        </p:blipFill>
        <p:spPr>
          <a:xfrm>
            <a:off x="2484360" y="1989000"/>
            <a:ext cx="46101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1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хотелось мне на бал, хоть меня никто не зва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 наряд мой нехорош, как на бал в таком пойдёш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PC260006"/>
          <p:cNvPicPr/>
          <p:nvPr/>
        </p:nvPicPr>
        <p:blipFill>
          <a:blip r:embed="rId1"/>
          <a:stretch/>
        </p:blipFill>
        <p:spPr>
          <a:xfrm>
            <a:off x="1908000" y="1700280"/>
            <a:ext cx="5688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128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лужила ты свой ба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 на бал тебя позв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PC260006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Эту ткань скорей берите,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латье золушке скроите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Чтоб нарядней всех она,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 балу у нас была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PC260007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лючевых компетенций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творческих способностей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самостоятельности и ответственности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праздничного настро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Я всё на свете освещаю,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Я много вижу, много знаю.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Танец свой я начинаю,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И тебя я приглашаю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PC260008"/>
          <p:cNvPicPr/>
          <p:nvPr/>
        </p:nvPicPr>
        <p:blipFill>
          <a:blip r:embed="rId1"/>
          <a:stretch/>
        </p:blipFill>
        <p:spPr>
          <a:xfrm>
            <a:off x="1332000" y="1916280"/>
            <a:ext cx="590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Одевайся, дорогая,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Не то на бал ты опоздаеш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PC260009"/>
          <p:cNvPicPr/>
          <p:nvPr/>
        </p:nvPicPr>
        <p:blipFill>
          <a:blip r:embed="rId1"/>
          <a:stretch/>
        </p:blipFill>
        <p:spPr>
          <a:xfrm>
            <a:off x="1979640" y="1484280"/>
            <a:ext cx="597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От души благодарю.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Я вас очень всех люблю.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Но как на бал я попаду?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Разве по снегу пойду?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PC260010"/>
          <p:cNvPicPr/>
          <p:nvPr/>
        </p:nvPicPr>
        <p:blipFill>
          <a:blip r:embed="rId1"/>
          <a:stretch/>
        </p:blipFill>
        <p:spPr>
          <a:xfrm>
            <a:off x="1403280" y="1700280"/>
            <a:ext cx="64818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ощай и спасибо!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Я еду на бал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ам принц меня в гости сегодня позва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PC260011"/>
          <p:cNvPicPr/>
          <p:nvPr/>
        </p:nvPicPr>
        <p:blipFill>
          <a:blip r:embed="rId1"/>
          <a:stretch/>
        </p:blipFill>
        <p:spPr>
          <a:xfrm>
            <a:off x="1476360" y="1628640"/>
            <a:ext cx="626436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, родители 4 класса, выражаем искреннюю благодарность классному руководителю Чернышевой Ирине Витальевне за постановку сказ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Золушка». Огромное спасибо говор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м ребятам, которые подарили нам праздник. Желаем всем дальнейших творческих успехов и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отова Людмил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ктуальность проекта:</a:t>
            </a:r>
            <a:br>
              <a:rPr sz="40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Снова к нам пришёл сегодня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Праздник ёлки и зимы,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Этот праздник новогодний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С нетерпеньем ждали мы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619280" y="5013360"/>
          <a:ext cx="5937120" cy="17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013360"/>
                    <a:ext cx="5937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WordArt 5"/>
          <p:cNvSpPr txBox="1"/>
          <p:nvPr/>
        </p:nvSpPr>
        <p:spPr>
          <a:xfrm>
            <a:off x="2340000" y="1916280"/>
            <a:ext cx="4457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туальность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Picture 8" descr="Обоя 'Зимние пейзажи, снег'"/>
          <p:cNvPicPr/>
          <p:nvPr/>
        </p:nvPicPr>
        <p:blipFill>
          <a:blip r:embed="rId3"/>
          <a:stretch/>
        </p:blipFill>
        <p:spPr>
          <a:xfrm>
            <a:off x="611280" y="1844640"/>
            <a:ext cx="806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2124000" y="333360"/>
            <a:ext cx="473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ап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ы над проектом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4" name="i-main-pic" descr="Картинка 190 из 1064031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79280" y="1197000"/>
            <a:ext cx="8964720" cy="78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здание творческой групп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афеева Кс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олаева Екате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ирнов Серг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слова Ма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Выбор формы проведения праздни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ценированная сказ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одбор сценар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зка «Золуш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Распределение ро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бор и изготовление костю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зготовление сказочного реквизи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бор музыкального оформ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2556000" y="692280"/>
            <a:ext cx="407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готовительны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ение и обсуждение сказ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ля Перро «Золуш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Иллюстрирование сказ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оздание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стория Золушки в картинка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2124000" y="333360"/>
            <a:ext cx="522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комство со сказк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арля Перро "Золушк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627912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4" descr="fe7058819858"/>
          <p:cNvPicPr/>
          <p:nvPr/>
        </p:nvPicPr>
        <p:blipFill>
          <a:blip r:embed="rId1"/>
          <a:stretch/>
        </p:blipFill>
        <p:spPr>
          <a:xfrm>
            <a:off x="1187280" y="1700280"/>
            <a:ext cx="7056720" cy="468144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>
            <a:off x="1476360" y="836640"/>
            <a:ext cx="638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Золушки в картинка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начале Золушка была очень похожа на замарашк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Вот такой сначала была Золушка.."/>
          <p:cNvPicPr/>
          <p:nvPr/>
        </p:nvPicPr>
        <p:blipFill>
          <a:blip r:embed="rId1"/>
          <a:stretch/>
        </p:blipFill>
        <p:spPr>
          <a:xfrm>
            <a:off x="2916360" y="1484280"/>
            <a:ext cx="3240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о потом появилась добрая фея..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Потом появилась фея"/>
          <p:cNvPicPr/>
          <p:nvPr/>
        </p:nvPicPr>
        <p:blipFill>
          <a:blip r:embed="rId1"/>
          <a:stretch/>
        </p:blipFill>
        <p:spPr>
          <a:xfrm>
            <a:off x="1692360" y="1557360"/>
            <a:ext cx="6191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3:51:33Z</dcterms:created>
  <dc:creator>Ирина</dc:creator>
  <dc:description/>
  <dc:language>en-US</dc:language>
  <cp:lastModifiedBy>школа</cp:lastModifiedBy>
  <dcterms:modified xsi:type="dcterms:W3CDTF">2016-10-11T13:04:11Z</dcterms:modified>
  <cp:revision>17</cp:revision>
  <dc:subject/>
  <dc:title>Слайд 1</dc:title>
</cp:coreProperties>
</file>