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.jpeg" ContentType="image/jpeg"/>
  <Override PartName="/ppt/media/image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23232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9E1C-02E1-41E6-B22F-4C76C3360CAC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9096-C498-49A8-815F-16FEE8032E2E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33BE-0238-4890-A251-0F902A4C2060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Микробы, находящиеся в ротовой полости в огромном количестве, выделяют кислоты, которые разрушают зубы. Грамотная жевательная резинка должна нейтрализовать кислоту. Для этого в резинку добавляют карбамид. При покупке жевательной резинки необходимо обращать внимание на наличие в ней сахара или сахарозаменителей. Если в качестве подсластителя используется глюкоза, о дисбактериальных свойствах можно забыть, так как глюкоза является лакомством для бактерий. В то же время усваивать ксилит или сорбит микробы не способны, что позволяет, как говорится в рекламе, «сохранить кислотно-щелочной баланс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Большинство жевательных резинок вместо защиты зубов и десен содержит такие компоненты, которые сами являются причиной таких заболеваний зубов, десен и полости рта, как кариес, пародонтоз и различные виды гингивитов. Жевательные резинки содержат стабилизатор Е-422 – это глицерин; загуститель Е-414 – это гуммиарабик; антиоксидант Е-320 – это бутилгидрооксиназол; эмульгатор Е-322 – это лецитины и фосфатиды. Этот список настораживает, так как в определенных пропорциях и концентрациях эти вещества патологически воздействуют на организм. Так, глицерин при всасывании в кровь обладает токсическими свойствами, вызывая серьезные заболевания крови, такие, как гемолиз, гемоглобинурию, а также метгемоглобиновые инфаркты почек. Бутилгидрооксианизол при частом употреблении повышает уровень холестерина в крови. Лецитины ускоряют слюновыделение, что, в свою очередь, приводит к постепенному нарушению работы пищеварительного тракта. Истощаются компоненты слюны, отсутствие которых приводит к таким  заболеваниям, как кариес, пародонтоз, гингивиты…Химики утверждают, что карбамид – это хорошо известная всем сельхозработникам мочевина, из которой делают концентрированное азотное удобрение. Различные соединения мочевины при попадании в желудок вызывают отек легких и угнетение двигательной активности. А долгое и неконтролируемое употребление лимонной кислоты может вызвать серьезные заболевания кров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33AF-5A44-4B5A-90D5-E1B8741D0417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жительные стороны жевательных рези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B61F-1220-4910-9253-F1C878DAB0D3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о, когда нечего делать или на душе беспокойно, хочется чего–нибудь пожевать. Это наше «наследство» от предков – животных: поглощение пищи для зверя означает, что в ближайшее время он не будет голодным. Ещё в начал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а американские учёные обнаружили, что , жуя человек успокаивается. Впрочем, уже через несколько десятков лет была обнаружена «другая сторона медали» - жевание снижает умственную активность, человек «тупеет». Получается, что жвачка во время контрольной – как минимум полбалла доло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жуют все – и дети, и взрослые. У многих людей наблюдается повальное увлечение жевательной резинкой. Жующих людей можно встретить везде – в школе, в институте, дома, в детском саду и других местах. Потребители жвачки не задумываются о том, полезно ли жевать вообще. Люди не разбирают ни времени, ни места, жуют во время разговора, пренебрегая определенными эстетическими нормами, присущими человеку. Детей в большей степени привлекает внешняя сторона: многообразие красиво упакованных пачек и пластинок с различными названиями, картинками, а также активная пропаганда, ежедневно идущая с экранов наших телевизоров. Реклама приписывает жевательной резинке различные чудодейственные свойства: улучшает зубную эмаль, предотвращает появление и зубного камня, устраняет запах изо рта, восстанавливает кислотно-щелочной баланс и проч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5238-4DD0-43B2-BEE2-4CCBF8B7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8CC1-83E1-4DBD-BA89-220AB75F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F1C3-2C8A-477A-8AB3-815735E45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82BF-55E7-4272-AD3F-71813FB33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0F91-EA1B-4D61-9DE8-8A9A307F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C1F1-45DA-44F4-A54D-5812F5D1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3DFA-A822-405E-8ECD-4E430161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17C4-69B1-4F6A-A511-8518FBA7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E69C-176D-4850-A48C-61AB1E17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379C-53C8-4091-B5A8-9C44F5FD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7F3E-0095-4D11-9F6C-9BF7BA04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7E72-A93A-4201-AB20-D111A8F4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4BF7-8A8D-4B5F-99A0-FC65DDCD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15AA-7C9B-48DC-A137-1849A875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029A-CD62-496E-8725-FDB183F8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D79F-EE60-4EEB-9DE7-1001C1D39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D833-B29F-43E1-89A4-48336AC4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4FED-487E-4DAD-8692-879A25E1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09B2-6F69-49BA-91B8-2AC5B032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98F1-1B3A-4B85-A004-AAA10C60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84B0-02F6-4C40-97C6-DEC7B9C2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50E2-1D04-44C0-BCC2-182C5B4F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9A12-372C-410B-A401-E00E39EC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584F-E1F9-43D8-8399-04D97026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f07f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6b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e3de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23232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07f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58BA-0C00-4F48-BC8E-087E6FA1DD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f07f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e3d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e3de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6b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e3de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23232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07f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6b0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1CDD-81A3-4CDC-8357-39EB17E172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102024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следовательский проек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Жевательная резинк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враг или друг нашему здоровью?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»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2428920" y="2442240"/>
            <a:ext cx="6429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выполнили  ученики  3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Иванковской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евская Анаста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итин Матв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рамова А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убева Екате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проект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ышева И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1403280" y="333360"/>
            <a:ext cx="65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f2936"/>
                </a:solidFill>
                <a:latin typeface="Monotype Corsiva"/>
              </a:rPr>
              <a:t>Рейтинг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3097080" cy="460872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7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f07f09">
              <a:alpha val="16000"/>
            </a:srgbClr>
          </a:solidFill>
          <a:ln w="9360">
            <a:solidFill>
              <a:srgbClr val="33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8"/>
          <p:cNvSpPr/>
          <p:nvPr/>
        </p:nvSpPr>
        <p:spPr>
          <a:xfrm>
            <a:off x="71280" y="6381720"/>
            <a:ext cx="540000" cy="405000"/>
          </a:xfrm>
          <a:custGeom>
            <a:avLst/>
            <a:gdLst>
              <a:gd name="textAreaLeft" fmla="*/ 25920 w 540000"/>
              <a:gd name="textAreaRight" fmla="*/ 514080 w 540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7493"/>
                </a:moveTo>
                <a:lnTo>
                  <a:pt x="10898" y="7493"/>
                </a:lnTo>
                <a:lnTo>
                  <a:pt x="10898" y="12828"/>
                </a:lnTo>
                <a:cubicBezTo>
                  <a:pt x="10898" y="13751"/>
                  <a:pt x="11699" y="14482"/>
                  <a:pt x="12734" y="14482"/>
                </a:cubicBezTo>
                <a:lnTo>
                  <a:pt x="14397" y="14482"/>
                </a:lnTo>
                <a:cubicBezTo>
                  <a:pt x="15433" y="14482"/>
                  <a:pt x="16233" y="13751"/>
                  <a:pt x="16233" y="12828"/>
                </a:cubicBezTo>
                <a:lnTo>
                  <a:pt x="16233" y="7493"/>
                </a:lnTo>
                <a:lnTo>
                  <a:pt x="14397" y="7493"/>
                </a:lnTo>
                <a:lnTo>
                  <a:pt x="17904" y="3985"/>
                </a:lnTo>
                <a:lnTo>
                  <a:pt x="21577" y="7493"/>
                </a:lnTo>
                <a:lnTo>
                  <a:pt x="19741" y="7493"/>
                </a:lnTo>
                <a:lnTo>
                  <a:pt x="19741" y="12828"/>
                </a:lnTo>
                <a:cubicBezTo>
                  <a:pt x="19741" y="15596"/>
                  <a:pt x="17165" y="18155"/>
                  <a:pt x="14397" y="18155"/>
                </a:cubicBezTo>
                <a:lnTo>
                  <a:pt x="12734" y="18155"/>
                </a:lnTo>
                <a:cubicBezTo>
                  <a:pt x="9967" y="18155"/>
                  <a:pt x="7390" y="15596"/>
                  <a:pt x="7390" y="12828"/>
                </a:cubicBezTo>
                <a:close/>
              </a:path>
            </a:pathLst>
          </a:custGeom>
          <a:solidFill>
            <a:srgbClr val="00ccff">
              <a:alpha val="10000"/>
            </a:srgbClr>
          </a:solidFill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8"/>
          <p:cNvSpPr/>
          <p:nvPr/>
        </p:nvSpPr>
        <p:spPr>
          <a:xfrm>
            <a:off x="3492360" y="1700280"/>
            <a:ext cx="54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ы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овел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опрос среди учащих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б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9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классов с целью выяснить, какую жвачку они предпочитаю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1.Любите ли вы жевательную резинку?</a:t>
            </a:r>
            <a:endParaRPr b="0" lang="en-US" sz="2900" spc="-1" strike="noStrike">
              <a:solidFill>
                <a:srgbClr val="323232"/>
              </a:solidFill>
              <a:latin typeface="Times New Roman"/>
            </a:endParaRPr>
          </a:p>
        </p:txBody>
      </p:sp>
      <p:graphicFrame>
        <p:nvGraphicFramePr>
          <p:cNvPr id="175" name="Rectangle 8"/>
          <p:cNvGraphicFramePr/>
          <p:nvPr/>
        </p:nvGraphicFramePr>
        <p:xfrm>
          <a:off x="833400" y="1125360"/>
          <a:ext cx="7424640" cy="528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Rectangle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3400" y="1125360"/>
                    <a:ext cx="7424640" cy="52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82440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.Какой сорт жевательной резинки вы предпочитаете?</a:t>
            </a:r>
            <a:endParaRPr b="0" lang="en-US" sz="2900" spc="-1" strike="noStrike">
              <a:solidFill>
                <a:srgbClr val="323232"/>
              </a:solidFill>
              <a:latin typeface="Times New Roman"/>
            </a:endParaRPr>
          </a:p>
        </p:txBody>
      </p:sp>
      <p:graphicFrame>
        <p:nvGraphicFramePr>
          <p:cNvPr id="178" name="Rectangle 8"/>
          <p:cNvGraphicFramePr/>
          <p:nvPr/>
        </p:nvGraphicFramePr>
        <p:xfrm>
          <a:off x="250920" y="947880"/>
          <a:ext cx="8316720" cy="591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Rectangle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947880"/>
                    <a:ext cx="831672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9660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.Вредна или полезна жевательная резинка?</a:t>
            </a:r>
            <a:endParaRPr b="0" lang="en-US" sz="2900" spc="-1" strike="noStrike">
              <a:solidFill>
                <a:srgbClr val="323232"/>
              </a:solidFill>
              <a:latin typeface="Times New Roman"/>
            </a:endParaRPr>
          </a:p>
        </p:txBody>
      </p:sp>
      <p:graphicFrame>
        <p:nvGraphicFramePr>
          <p:cNvPr id="181" name="Rectangle 8"/>
          <p:cNvGraphicFramePr/>
          <p:nvPr/>
        </p:nvGraphicFramePr>
        <p:xfrm>
          <a:off x="826920" y="1052640"/>
          <a:ext cx="7812360" cy="555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Rectangle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1052640"/>
                    <a:ext cx="7812360" cy="55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6560" y="404280"/>
            <a:ext cx="8713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Как часто используете жевательную резинку?</a:t>
            </a:r>
            <a:endParaRPr b="0" lang="en-US" sz="2900" spc="-1" strike="noStrike">
              <a:solidFill>
                <a:srgbClr val="323232"/>
              </a:solidFill>
              <a:latin typeface="Times New Roman"/>
            </a:endParaRPr>
          </a:p>
        </p:txBody>
      </p:sp>
      <p:graphicFrame>
        <p:nvGraphicFramePr>
          <p:cNvPr id="184" name="Rectangle 8"/>
          <p:cNvGraphicFramePr/>
          <p:nvPr/>
        </p:nvGraphicFramePr>
        <p:xfrm>
          <a:off x="838080" y="1197000"/>
          <a:ext cx="7404120" cy="527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Rectangle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197000"/>
                    <a:ext cx="7404120" cy="52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86920" y="274680"/>
            <a:ext cx="6409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.Куда выбрасывать использованную жевательную резинку?</a:t>
            </a:r>
            <a:endParaRPr b="0" lang="en-US" sz="2900" spc="-1" strike="noStrike">
              <a:solidFill>
                <a:srgbClr val="323232"/>
              </a:solidFill>
              <a:latin typeface="Times New Roman"/>
            </a:endParaRPr>
          </a:p>
        </p:txBody>
      </p:sp>
      <p:graphicFrame>
        <p:nvGraphicFramePr>
          <p:cNvPr id="187" name="Rectangle 8"/>
          <p:cNvGraphicFramePr/>
          <p:nvPr/>
        </p:nvGraphicFramePr>
        <p:xfrm>
          <a:off x="395280" y="1197000"/>
          <a:ext cx="8388360" cy="566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Rectangle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197000"/>
                    <a:ext cx="838836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7380360" y="260280"/>
            <a:ext cx="1531800" cy="10731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920" y="274680"/>
            <a:ext cx="7634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6.Какие вещества входят в состав жевательной резинки?</a:t>
            </a:r>
            <a:endParaRPr b="0" lang="en-US" sz="2500" spc="-1" strike="noStrike">
              <a:solidFill>
                <a:srgbClr val="323232"/>
              </a:solidFill>
              <a:latin typeface="Times New Roman"/>
            </a:endParaRPr>
          </a:p>
        </p:txBody>
      </p:sp>
      <p:graphicFrame>
        <p:nvGraphicFramePr>
          <p:cNvPr id="191" name="Rectangle 8"/>
          <p:cNvGraphicFramePr/>
          <p:nvPr/>
        </p:nvGraphicFramePr>
        <p:xfrm>
          <a:off x="-468360" y="1413000"/>
          <a:ext cx="8748720" cy="483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Rectangle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468360" y="1413000"/>
                    <a:ext cx="8748720" cy="48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6659640" y="4780080"/>
            <a:ext cx="2160360" cy="1746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"/>
          <p:cNvGrpSpPr/>
          <p:nvPr/>
        </p:nvGrpSpPr>
        <p:grpSpPr>
          <a:xfrm>
            <a:off x="684360" y="1557360"/>
            <a:ext cx="7991280" cy="5040360"/>
            <a:chOff x="684360" y="1557360"/>
            <a:chExt cx="7991280" cy="5040360"/>
          </a:xfrm>
        </p:grpSpPr>
        <p:sp>
          <p:nvSpPr>
            <p:cNvPr id="196" name="AutoShape 9"/>
            <p:cNvSpPr/>
            <p:nvPr/>
          </p:nvSpPr>
          <p:spPr>
            <a:xfrm>
              <a:off x="684360" y="1557360"/>
              <a:ext cx="799128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8"/>
            <p:cNvSpPr/>
            <p:nvPr/>
          </p:nvSpPr>
          <p:spPr>
            <a:xfrm flipH="1">
              <a:off x="3276000" y="1638000"/>
              <a:ext cx="416880" cy="76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7"/>
            <p:cNvSpPr/>
            <p:nvPr/>
          </p:nvSpPr>
          <p:spPr>
            <a:xfrm>
              <a:off x="5147640" y="1557360"/>
              <a:ext cx="307440" cy="10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6"/>
            <p:cNvSpPr/>
            <p:nvPr/>
          </p:nvSpPr>
          <p:spPr>
            <a:xfrm>
              <a:off x="991800" y="2674800"/>
              <a:ext cx="2306160" cy="151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олгое жевание приводит к утомлению мышц рт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5"/>
            <p:cNvSpPr/>
            <p:nvPr/>
          </p:nvSpPr>
          <p:spPr>
            <a:xfrm>
              <a:off x="5297040" y="2674800"/>
              <a:ext cx="2664360" cy="162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Жевание на голодный желудок приводит к разрушению стенок кишечник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4"/>
            <p:cNvSpPr/>
            <p:nvPr/>
          </p:nvSpPr>
          <p:spPr>
            <a:xfrm>
              <a:off x="3298320" y="4190760"/>
              <a:ext cx="2028600" cy="88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еэтично жевать жвачку при разговоре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3"/>
            <p:cNvSpPr/>
            <p:nvPr/>
          </p:nvSpPr>
          <p:spPr>
            <a:xfrm>
              <a:off x="991800" y="4957920"/>
              <a:ext cx="2273040" cy="11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екультурно выбрасывать жвачку на улице, в помещении и т. д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2"/>
            <p:cNvSpPr/>
            <p:nvPr/>
          </p:nvSpPr>
          <p:spPr>
            <a:xfrm>
              <a:off x="5297040" y="4997880"/>
              <a:ext cx="2664360" cy="134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еправильное жевание приводит к разрушению зубной эмал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16"/>
          <p:cNvSpPr/>
          <p:nvPr/>
        </p:nvSpPr>
        <p:spPr>
          <a:xfrm>
            <a:off x="571680" y="457200"/>
            <a:ext cx="810396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880" bIns="29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Отрицательные влия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0" y="739800"/>
            <a:ext cx="91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0" y="-2206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f2936"/>
                </a:solidFill>
                <a:latin typeface="Monotype Corsiva"/>
              </a:rPr>
              <a:t>Влияние жевательной резинки на организм человек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2"/>
          <a:stretch/>
        </p:blipFill>
        <p:spPr>
          <a:xfrm>
            <a:off x="324000" y="2205000"/>
            <a:ext cx="4140000" cy="30560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7"/>
          <p:cNvSpPr/>
          <p:nvPr/>
        </p:nvSpPr>
        <p:spPr>
          <a:xfrm>
            <a:off x="826920" y="5661000"/>
            <a:ext cx="33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вательная рези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4500720" y="2421000"/>
            <a:ext cx="439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Микробы, находящиеся в ротовой полости в огромном количестве, выделяют кислоты, которые разрушают зуб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9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f07f09">
              <a:alpha val="16000"/>
            </a:srgbClr>
          </a:solidFill>
          <a:ln w="9360">
            <a:solidFill>
              <a:srgbClr val="33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5"/>
          <p:cNvSpPr/>
          <p:nvPr/>
        </p:nvSpPr>
        <p:spPr>
          <a:xfrm flipH="1">
            <a:off x="1692000" y="1628640"/>
            <a:ext cx="863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4643280" y="162864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7"/>
          <p:cNvSpPr/>
          <p:nvPr/>
        </p:nvSpPr>
        <p:spPr>
          <a:xfrm>
            <a:off x="6516000" y="1628640"/>
            <a:ext cx="863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3635280" y="2924280"/>
            <a:ext cx="201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ежее дых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6227640" y="2708280"/>
            <a:ext cx="23050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полнительная жевательная нагру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1"/>
          <p:cNvSpPr/>
          <p:nvPr/>
        </p:nvSpPr>
        <p:spPr>
          <a:xfrm>
            <a:off x="1763640" y="28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84360" y="3645000"/>
            <a:ext cx="2158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ышение слюноот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1763640" y="4292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755640" y="5084640"/>
            <a:ext cx="2016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очищение полости 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6"/>
          <p:cNvSpPr/>
          <p:nvPr/>
        </p:nvSpPr>
        <p:spPr>
          <a:xfrm>
            <a:off x="6635880" y="4772160"/>
            <a:ext cx="1800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енировка жевательных мыш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7"/>
          <p:cNvSpPr/>
          <p:nvPr/>
        </p:nvSpPr>
        <p:spPr>
          <a:xfrm>
            <a:off x="108000" y="580536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cc"/>
                </a:solidFill>
                <a:uFillTx/>
                <a:latin typeface="Monotype Corsiva"/>
              </a:rPr>
              <a:t>Профилактика кариеса и заболеваний полости 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8"/>
          <p:cNvSpPr/>
          <p:nvPr/>
        </p:nvSpPr>
        <p:spPr>
          <a:xfrm>
            <a:off x="4643280" y="2637000"/>
            <a:ext cx="0" cy="31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9"/>
          <p:cNvSpPr/>
          <p:nvPr/>
        </p:nvSpPr>
        <p:spPr>
          <a:xfrm>
            <a:off x="7547040" y="3716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0"/>
          <p:cNvSpPr/>
          <p:nvPr/>
        </p:nvSpPr>
        <p:spPr>
          <a:xfrm flipH="1">
            <a:off x="5796000" y="5157720"/>
            <a:ext cx="792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1"/>
          <p:cNvSpPr/>
          <p:nvPr/>
        </p:nvSpPr>
        <p:spPr>
          <a:xfrm>
            <a:off x="2843280" y="5661000"/>
            <a:ext cx="36036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3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f07f09">
              <a:alpha val="16000"/>
            </a:srgbClr>
          </a:solidFill>
          <a:ln w="9360">
            <a:solidFill>
              <a:srgbClr val="33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4"/>
          <p:cNvSpPr/>
          <p:nvPr/>
        </p:nvSpPr>
        <p:spPr>
          <a:xfrm>
            <a:off x="71280" y="6381720"/>
            <a:ext cx="540000" cy="405000"/>
          </a:xfrm>
          <a:custGeom>
            <a:avLst/>
            <a:gdLst>
              <a:gd name="textAreaLeft" fmla="*/ 25920 w 540000"/>
              <a:gd name="textAreaRight" fmla="*/ 514080 w 540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7493"/>
                </a:moveTo>
                <a:lnTo>
                  <a:pt x="10898" y="7493"/>
                </a:lnTo>
                <a:lnTo>
                  <a:pt x="10898" y="12828"/>
                </a:lnTo>
                <a:cubicBezTo>
                  <a:pt x="10898" y="13751"/>
                  <a:pt x="11699" y="14482"/>
                  <a:pt x="12734" y="14482"/>
                </a:cubicBezTo>
                <a:lnTo>
                  <a:pt x="14397" y="14482"/>
                </a:lnTo>
                <a:cubicBezTo>
                  <a:pt x="15433" y="14482"/>
                  <a:pt x="16233" y="13751"/>
                  <a:pt x="16233" y="12828"/>
                </a:cubicBezTo>
                <a:lnTo>
                  <a:pt x="16233" y="7493"/>
                </a:lnTo>
                <a:lnTo>
                  <a:pt x="14397" y="7493"/>
                </a:lnTo>
                <a:lnTo>
                  <a:pt x="17904" y="3985"/>
                </a:lnTo>
                <a:lnTo>
                  <a:pt x="21577" y="7493"/>
                </a:lnTo>
                <a:lnTo>
                  <a:pt x="19741" y="7493"/>
                </a:lnTo>
                <a:lnTo>
                  <a:pt x="19741" y="12828"/>
                </a:lnTo>
                <a:cubicBezTo>
                  <a:pt x="19741" y="15596"/>
                  <a:pt x="17165" y="18155"/>
                  <a:pt x="14397" y="18155"/>
                </a:cubicBezTo>
                <a:lnTo>
                  <a:pt x="12734" y="18155"/>
                </a:lnTo>
                <a:cubicBezTo>
                  <a:pt x="9967" y="18155"/>
                  <a:pt x="7390" y="15596"/>
                  <a:pt x="7390" y="12828"/>
                </a:cubicBezTo>
                <a:close/>
              </a:path>
            </a:pathLst>
          </a:custGeom>
          <a:solidFill>
            <a:srgbClr val="00ccff">
              <a:alpha val="10000"/>
            </a:srgbClr>
          </a:solidFill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21"/>
          <p:cNvSpPr/>
          <p:nvPr/>
        </p:nvSpPr>
        <p:spPr>
          <a:xfrm>
            <a:off x="684360" y="242100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крепление эм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2"/>
          <p:cNvSpPr/>
          <p:nvPr/>
        </p:nvSpPr>
        <p:spPr>
          <a:xfrm>
            <a:off x="684360" y="509400"/>
            <a:ext cx="84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f2936"/>
                </a:solidFill>
                <a:latin typeface="Arial"/>
                <a:ea typeface="Times New Roman"/>
              </a:rPr>
              <a:t>Положительные влияния жвач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8000"/>
                            </p:stCondLst>
                            <p:childTnLst>
                              <p:par>
                                <p:cTn id="1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8"/>
          <p:cNvSpPr/>
          <p:nvPr/>
        </p:nvSpPr>
        <p:spPr>
          <a:xfrm>
            <a:off x="468360" y="0"/>
            <a:ext cx="934920" cy="6381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0" y="0"/>
            <a:ext cx="9144000" cy="1617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Monotype Corsiva"/>
              </a:rPr>
              <a:t>Жевательная резинка – враг или друг нашему здоровью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0" y="1700280"/>
            <a:ext cx="9000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0" y="3716280"/>
            <a:ext cx="6843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0" y="3933720"/>
            <a:ext cx="11160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0" y="4149720"/>
            <a:ext cx="5396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0" y="4005360"/>
            <a:ext cx="6843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0" y="4292640"/>
            <a:ext cx="6112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0" y="4437000"/>
            <a:ext cx="6843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0" y="4797360"/>
            <a:ext cx="8269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0" y="1484280"/>
            <a:ext cx="6843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0" y="2852640"/>
            <a:ext cx="10429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0" y="3068640"/>
            <a:ext cx="6112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0" y="3141720"/>
            <a:ext cx="2509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0" y="3284640"/>
            <a:ext cx="6843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0" y="3357720"/>
            <a:ext cx="75564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0" y="1916280"/>
            <a:ext cx="6112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0" y="2133720"/>
            <a:ext cx="3952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0" y="2205000"/>
            <a:ext cx="11160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0" y="2492280"/>
            <a:ext cx="8269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7" descr=""/>
          <p:cNvPicPr/>
          <p:nvPr/>
        </p:nvPicPr>
        <p:blipFill>
          <a:blip r:embed="rId2"/>
          <a:stretch/>
        </p:blipFill>
        <p:spPr>
          <a:xfrm>
            <a:off x="1763640" y="1700280"/>
            <a:ext cx="5715000" cy="37591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8"/>
          <p:cNvSpPr/>
          <p:nvPr/>
        </p:nvSpPr>
        <p:spPr>
          <a:xfrm>
            <a:off x="3311640" y="5487840"/>
            <a:ext cx="4932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аждая проблема имеет решение, вся трудность в том, чтобы найти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Эвви Не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-468360" y="692280"/>
            <a:ext cx="15112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5"/>
          <p:cNvSpPr/>
          <p:nvPr/>
        </p:nvSpPr>
        <p:spPr>
          <a:xfrm>
            <a:off x="0" y="2060640"/>
            <a:ext cx="9716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6"/>
          <p:cNvSpPr/>
          <p:nvPr/>
        </p:nvSpPr>
        <p:spPr>
          <a:xfrm>
            <a:off x="0" y="0"/>
            <a:ext cx="611280" cy="57340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9"/>
          <p:cNvSpPr/>
          <p:nvPr/>
        </p:nvSpPr>
        <p:spPr>
          <a:xfrm>
            <a:off x="468360" y="4221000"/>
            <a:ext cx="574560" cy="4572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0"/>
          <p:cNvSpPr/>
          <p:nvPr/>
        </p:nvSpPr>
        <p:spPr>
          <a:xfrm>
            <a:off x="539640" y="4797360"/>
            <a:ext cx="647640" cy="4572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1"/>
          <p:cNvSpPr/>
          <p:nvPr/>
        </p:nvSpPr>
        <p:spPr>
          <a:xfrm>
            <a:off x="539640" y="4581360"/>
            <a:ext cx="216000" cy="4572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2"/>
          <p:cNvSpPr/>
          <p:nvPr/>
        </p:nvSpPr>
        <p:spPr>
          <a:xfrm>
            <a:off x="539640" y="3068640"/>
            <a:ext cx="576360" cy="4572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3"/>
          <p:cNvSpPr/>
          <p:nvPr/>
        </p:nvSpPr>
        <p:spPr>
          <a:xfrm>
            <a:off x="684360" y="3933720"/>
            <a:ext cx="502920" cy="4572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4"/>
          <p:cNvSpPr/>
          <p:nvPr/>
        </p:nvSpPr>
        <p:spPr>
          <a:xfrm>
            <a:off x="395280" y="3357720"/>
            <a:ext cx="504720" cy="4572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5"/>
          <p:cNvSpPr/>
          <p:nvPr/>
        </p:nvSpPr>
        <p:spPr>
          <a:xfrm>
            <a:off x="468360" y="3645000"/>
            <a:ext cx="358560" cy="4572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6"/>
          <p:cNvSpPr/>
          <p:nvPr/>
        </p:nvSpPr>
        <p:spPr>
          <a:xfrm>
            <a:off x="555480" y="4005360"/>
            <a:ext cx="184320" cy="4572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7"/>
          <p:cNvSpPr/>
          <p:nvPr/>
        </p:nvSpPr>
        <p:spPr>
          <a:xfrm>
            <a:off x="395280" y="1628640"/>
            <a:ext cx="936720" cy="4572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8"/>
          <p:cNvSpPr/>
          <p:nvPr/>
        </p:nvSpPr>
        <p:spPr>
          <a:xfrm>
            <a:off x="395280" y="2565360"/>
            <a:ext cx="863640" cy="4572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9"/>
          <p:cNvSpPr/>
          <p:nvPr/>
        </p:nvSpPr>
        <p:spPr>
          <a:xfrm>
            <a:off x="395280" y="2924280"/>
            <a:ext cx="936720" cy="4572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1"/>
          <p:cNvSpPr/>
          <p:nvPr/>
        </p:nvSpPr>
        <p:spPr>
          <a:xfrm>
            <a:off x="611280" y="1989000"/>
            <a:ext cx="792000" cy="4572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2"/>
          <p:cNvSpPr/>
          <p:nvPr/>
        </p:nvSpPr>
        <p:spPr>
          <a:xfrm>
            <a:off x="324000" y="2205000"/>
            <a:ext cx="863280" cy="4572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3"/>
          <p:cNvSpPr/>
          <p:nvPr/>
        </p:nvSpPr>
        <p:spPr>
          <a:xfrm>
            <a:off x="539640" y="1197000"/>
            <a:ext cx="216000" cy="4572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5724360" y="1773360"/>
            <a:ext cx="3168720" cy="26622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0" y="185760"/>
            <a:ext cx="914400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9f2936"/>
                </a:solidFill>
                <a:latin typeface="Monotype Corsiva"/>
              </a:rPr>
              <a:t>Средство борьбы с кариесом.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611280" y="2565360"/>
            <a:ext cx="511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томатологи в рекламе не кривят душой, когда рекомендуют жевательную резинку, как средство борьбы с кариес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7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f07f09">
              <a:alpha val="16000"/>
            </a:srgbClr>
          </a:solidFill>
          <a:ln w="9360">
            <a:solidFill>
              <a:srgbClr val="33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71280" y="6381720"/>
            <a:ext cx="540000" cy="405000"/>
          </a:xfrm>
          <a:custGeom>
            <a:avLst/>
            <a:gdLst>
              <a:gd name="textAreaLeft" fmla="*/ 25920 w 540000"/>
              <a:gd name="textAreaRight" fmla="*/ 514080 w 540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7493"/>
                </a:moveTo>
                <a:lnTo>
                  <a:pt x="10898" y="7493"/>
                </a:lnTo>
                <a:lnTo>
                  <a:pt x="10898" y="12828"/>
                </a:lnTo>
                <a:cubicBezTo>
                  <a:pt x="10898" y="13751"/>
                  <a:pt x="11699" y="14482"/>
                  <a:pt x="12734" y="14482"/>
                </a:cubicBezTo>
                <a:lnTo>
                  <a:pt x="14397" y="14482"/>
                </a:lnTo>
                <a:cubicBezTo>
                  <a:pt x="15433" y="14482"/>
                  <a:pt x="16233" y="13751"/>
                  <a:pt x="16233" y="12828"/>
                </a:cubicBezTo>
                <a:lnTo>
                  <a:pt x="16233" y="7493"/>
                </a:lnTo>
                <a:lnTo>
                  <a:pt x="14397" y="7493"/>
                </a:lnTo>
                <a:lnTo>
                  <a:pt x="17904" y="3985"/>
                </a:lnTo>
                <a:lnTo>
                  <a:pt x="21577" y="7493"/>
                </a:lnTo>
                <a:lnTo>
                  <a:pt x="19741" y="7493"/>
                </a:lnTo>
                <a:lnTo>
                  <a:pt x="19741" y="12828"/>
                </a:lnTo>
                <a:cubicBezTo>
                  <a:pt x="19741" y="15596"/>
                  <a:pt x="17165" y="18155"/>
                  <a:pt x="14397" y="18155"/>
                </a:cubicBezTo>
                <a:lnTo>
                  <a:pt x="12734" y="18155"/>
                </a:lnTo>
                <a:cubicBezTo>
                  <a:pt x="9967" y="18155"/>
                  <a:pt x="7390" y="15596"/>
                  <a:pt x="7390" y="12828"/>
                </a:cubicBezTo>
                <a:close/>
              </a:path>
            </a:pathLst>
          </a:custGeom>
          <a:solidFill>
            <a:srgbClr val="00ccff">
              <a:alpha val="10000"/>
            </a:srgbClr>
          </a:solidFill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25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8250"/>
                            </p:stCondLst>
                            <p:childTnLst>
                              <p:par>
                                <p:cTn id="20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0" y="2602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Monotype Corsiva"/>
              </a:rPr>
              <a:t>Подведение итогов и рекомендации по использованию жвач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6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f07f09">
              <a:alpha val="16000"/>
            </a:srgbClr>
          </a:solidFill>
          <a:ln w="9360">
            <a:solidFill>
              <a:srgbClr val="33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7"/>
          <p:cNvSpPr/>
          <p:nvPr/>
        </p:nvSpPr>
        <p:spPr>
          <a:xfrm>
            <a:off x="71280" y="6381720"/>
            <a:ext cx="540000" cy="405000"/>
          </a:xfrm>
          <a:custGeom>
            <a:avLst/>
            <a:gdLst>
              <a:gd name="textAreaLeft" fmla="*/ 25920 w 540000"/>
              <a:gd name="textAreaRight" fmla="*/ 514080 w 540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7493"/>
                </a:moveTo>
                <a:lnTo>
                  <a:pt x="10898" y="7493"/>
                </a:lnTo>
                <a:lnTo>
                  <a:pt x="10898" y="12828"/>
                </a:lnTo>
                <a:cubicBezTo>
                  <a:pt x="10898" y="13751"/>
                  <a:pt x="11699" y="14482"/>
                  <a:pt x="12734" y="14482"/>
                </a:cubicBezTo>
                <a:lnTo>
                  <a:pt x="14397" y="14482"/>
                </a:lnTo>
                <a:cubicBezTo>
                  <a:pt x="15433" y="14482"/>
                  <a:pt x="16233" y="13751"/>
                  <a:pt x="16233" y="12828"/>
                </a:cubicBezTo>
                <a:lnTo>
                  <a:pt x="16233" y="7493"/>
                </a:lnTo>
                <a:lnTo>
                  <a:pt x="14397" y="7493"/>
                </a:lnTo>
                <a:lnTo>
                  <a:pt x="17904" y="3985"/>
                </a:lnTo>
                <a:lnTo>
                  <a:pt x="21577" y="7493"/>
                </a:lnTo>
                <a:lnTo>
                  <a:pt x="19741" y="7493"/>
                </a:lnTo>
                <a:lnTo>
                  <a:pt x="19741" y="12828"/>
                </a:lnTo>
                <a:cubicBezTo>
                  <a:pt x="19741" y="15596"/>
                  <a:pt x="17165" y="18155"/>
                  <a:pt x="14397" y="18155"/>
                </a:cubicBezTo>
                <a:lnTo>
                  <a:pt x="12734" y="18155"/>
                </a:lnTo>
                <a:cubicBezTo>
                  <a:pt x="9967" y="18155"/>
                  <a:pt x="7390" y="15596"/>
                  <a:pt x="7390" y="12828"/>
                </a:cubicBezTo>
                <a:close/>
              </a:path>
            </a:pathLst>
          </a:custGeom>
          <a:solidFill>
            <a:srgbClr val="00ccff">
              <a:alpha val="10000"/>
            </a:srgbClr>
          </a:solidFill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684360" y="1844640"/>
            <a:ext cx="8208720" cy="51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1.Жевательную резинку используют после еды, для удаления остатков пищи из ротовой пол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2.Жевательную резинку следует применять в течение 10-15 минут, так как после этого ее полезные свойства перестают быть эффектив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3. Лучше жевать жевательную резинку без сахара, так как она не способствует активному размножению микробов в полости 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4.Жевательная резинка является дополнительным средством гигиены и </a:t>
            </a:r>
            <a:r>
              <a:rPr b="1" i="1" lang="en-US" sz="2400" spc="-1" strike="noStrike">
                <a:solidFill>
                  <a:srgbClr val="9f2936"/>
                </a:solidFill>
                <a:latin typeface="Arial"/>
                <a:ea typeface="Calibri"/>
              </a:rPr>
              <a:t>НЕ ЗАМЕНЯЕТ ЗУБНУЮ ЩЕТКУ И ЗУБНУЮ ПА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0" y="454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Comic Sans MS"/>
                <a:ea typeface="Calibri"/>
              </a:rPr>
              <a:t>                       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Comic Sans MS"/>
                <a:ea typeface="Calibri"/>
              </a:rPr>
              <a:t>ВЫВОД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" descr="http://www.asessor.ru/inform26.jpg"/>
          <p:cNvPicPr/>
          <p:nvPr/>
        </p:nvPicPr>
        <p:blipFill>
          <a:blip r:embed="rId2"/>
          <a:stretch/>
        </p:blipFill>
        <p:spPr>
          <a:xfrm>
            <a:off x="7596360" y="260280"/>
            <a:ext cx="1266480" cy="12668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"/>
          <p:cNvSpPr/>
          <p:nvPr/>
        </p:nvSpPr>
        <p:spPr>
          <a:xfrm>
            <a:off x="611280" y="3760920"/>
            <a:ext cx="83534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179280" y="1635840"/>
            <a:ext cx="914580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проведении данного исследования выяснилось, что большинство опрошенных не знают и не обращают внимания на наличие вредных веществ в жевательных резин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воей работой мы показали, что жевательные резинки оказывают не только положительное, но и отрицательное воздействие. К сожалению, отрицательных свойств оказалось намного больше, чем положитель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же нами  обнаружено, что в жевательные резинки все-таки входят вредные для нашего организма вещества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Выводы делать только вам: друг жевательная резинка или вр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4"/>
          <p:cNvSpPr/>
          <p:nvPr/>
        </p:nvSpPr>
        <p:spPr>
          <a:xfrm>
            <a:off x="428760" y="260280"/>
            <a:ext cx="871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Monotype Corsiva"/>
              </a:rPr>
              <a:t>Список источников информ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642960" y="2060640"/>
            <a:ext cx="82868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. Дайджест Ридерз // Все о здоровом образе жизни,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. Константинов А.П. // Занимательная экология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. Сост.: Тулянкин В.Ф. и д.р. – М.: Рейтер / Домашний доктор,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4. Шелтон Г. Основы правильного питания. – СПб.: Невский проспект,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6"/>
          <p:cNvSpPr/>
          <p:nvPr/>
        </p:nvSpPr>
        <p:spPr>
          <a:xfrm>
            <a:off x="71280" y="6381720"/>
            <a:ext cx="540000" cy="405000"/>
          </a:xfrm>
          <a:custGeom>
            <a:avLst/>
            <a:gdLst>
              <a:gd name="textAreaLeft" fmla="*/ 25920 w 540000"/>
              <a:gd name="textAreaRight" fmla="*/ 514080 w 540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7493"/>
                </a:moveTo>
                <a:lnTo>
                  <a:pt x="10898" y="7493"/>
                </a:lnTo>
                <a:lnTo>
                  <a:pt x="10898" y="12828"/>
                </a:lnTo>
                <a:cubicBezTo>
                  <a:pt x="10898" y="13751"/>
                  <a:pt x="11699" y="14482"/>
                  <a:pt x="12734" y="14482"/>
                </a:cubicBezTo>
                <a:lnTo>
                  <a:pt x="14397" y="14482"/>
                </a:lnTo>
                <a:cubicBezTo>
                  <a:pt x="15433" y="14482"/>
                  <a:pt x="16233" y="13751"/>
                  <a:pt x="16233" y="12828"/>
                </a:cubicBezTo>
                <a:lnTo>
                  <a:pt x="16233" y="7493"/>
                </a:lnTo>
                <a:lnTo>
                  <a:pt x="14397" y="7493"/>
                </a:lnTo>
                <a:lnTo>
                  <a:pt x="17904" y="3985"/>
                </a:lnTo>
                <a:lnTo>
                  <a:pt x="21577" y="7493"/>
                </a:lnTo>
                <a:lnTo>
                  <a:pt x="19741" y="7493"/>
                </a:lnTo>
                <a:lnTo>
                  <a:pt x="19741" y="12828"/>
                </a:lnTo>
                <a:cubicBezTo>
                  <a:pt x="19741" y="15596"/>
                  <a:pt x="17165" y="18155"/>
                  <a:pt x="14397" y="18155"/>
                </a:cubicBezTo>
                <a:lnTo>
                  <a:pt x="12734" y="18155"/>
                </a:lnTo>
                <a:cubicBezTo>
                  <a:pt x="9967" y="18155"/>
                  <a:pt x="7390" y="15596"/>
                  <a:pt x="7390" y="12828"/>
                </a:cubicBezTo>
                <a:close/>
              </a:path>
            </a:pathLst>
          </a:custGeom>
          <a:solidFill>
            <a:srgbClr val="00ccff">
              <a:alpha val="10000"/>
            </a:srgbClr>
          </a:solidFill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7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f07f09">
              <a:alpha val="16000"/>
            </a:srgbClr>
          </a:solidFill>
          <a:ln w="9360">
            <a:solidFill>
              <a:srgbClr val="33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12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-828720" y="333360"/>
            <a:ext cx="1116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f2936"/>
                </a:solidFill>
                <a:latin typeface="Monotype Corsiva"/>
              </a:rPr>
              <a:t>Авторская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6000" spc="-1" strike="noStrike">
                <a:solidFill>
                  <a:srgbClr val="9f2936"/>
                </a:solidFill>
                <a:latin typeface="Monotype Corsiva"/>
              </a:rPr>
              <a:t>страничка</a:t>
            </a:r>
            <a:r>
              <a:rPr b="0" lang="en-US" sz="8000" spc="-1" strike="noStrike">
                <a:solidFill>
                  <a:srgbClr val="9f2936"/>
                </a:solidFill>
                <a:latin typeface="Monotype Corsiva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571760" y="4724280"/>
            <a:ext cx="739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4859280" y="522936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cc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 flipV="1" rot="10800000">
            <a:off x="1618920" y="188640"/>
            <a:ext cx="576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f2936"/>
                </a:solidFill>
                <a:latin typeface="Monotype Corsiva"/>
              </a:rPr>
              <a:t>Цель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39640" y="1557360"/>
            <a:ext cx="860436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Дать чёткое представление о жевательной резин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Изучить виды и характеристики жевательной резин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Узнать влияние жевательной резинки на состояние здоровь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f07f09">
              <a:alpha val="16000"/>
            </a:srgbClr>
          </a:solidFill>
          <a:ln w="9360">
            <a:solidFill>
              <a:srgbClr val="33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971640" y="47628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f2936"/>
                </a:solidFill>
                <a:latin typeface="Monotype Corsiva"/>
              </a:rPr>
              <a:t>Задачи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84360" y="1373040"/>
            <a:ext cx="799128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зучить историю возникновения жевательной рези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Проанализировать литературу о влиянии жевательной резинки на здоровье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Провести анкетирование среди обучающихся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6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f07f09">
              <a:alpha val="16000"/>
            </a:srgbClr>
          </a:solidFill>
          <a:ln w="9360">
            <a:solidFill>
              <a:srgbClr val="33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3232"/>
                </a:solidFill>
                <a:latin typeface="Times New Roman"/>
              </a:rPr>
              <a:t>Гипотеза</a:t>
            </a:r>
            <a:r>
              <a:rPr b="0" lang="en-US" sz="3200" spc="-1" strike="noStrike">
                <a:solidFill>
                  <a:srgbClr val="323232"/>
                </a:solidFill>
                <a:latin typeface="Times New Roman"/>
              </a:rPr>
              <a:t>: если ребёнок часто употребляет жевательную резинку, то принесёт ли она ему пользу?</a:t>
            </a:r>
            <a:endParaRPr b="0" lang="en-US" sz="32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2707920"/>
            <a:ext cx="74026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тоды исследова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учение литературы по данной 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иск информации в сети Интер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едение анкет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826920" y="1125360"/>
            <a:ext cx="777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9f2936"/>
                </a:solidFill>
                <a:uFillTx/>
                <a:latin typeface="Monotype Corsiva"/>
              </a:rPr>
              <a:t>Полезно ли жевать вообще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6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f07f09">
              <a:alpha val="16000"/>
            </a:srgbClr>
          </a:solidFill>
          <a:ln w="9360">
            <a:solidFill>
              <a:srgbClr val="33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4" descr="4"/>
          <p:cNvPicPr/>
          <p:nvPr/>
        </p:nvPicPr>
        <p:blipFill>
          <a:blip r:embed="rId2"/>
          <a:stretch/>
        </p:blipFill>
        <p:spPr>
          <a:xfrm>
            <a:off x="6804000" y="3645000"/>
            <a:ext cx="1873440" cy="2490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1"/>
          <p:cNvPicPr/>
          <p:nvPr/>
        </p:nvPicPr>
        <p:blipFill>
          <a:blip r:embed="rId3"/>
          <a:stretch/>
        </p:blipFill>
        <p:spPr>
          <a:xfrm rot="20504400">
            <a:off x="847800" y="2833560"/>
            <a:ext cx="2087640" cy="2305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8"/>
          <p:cNvPicPr/>
          <p:nvPr/>
        </p:nvPicPr>
        <p:blipFill>
          <a:blip r:embed="rId4"/>
          <a:stretch/>
        </p:blipFill>
        <p:spPr>
          <a:xfrm>
            <a:off x="3492360" y="4221000"/>
            <a:ext cx="26654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200"/>
                            </p:stCondLst>
                            <p:childTnLst>
                              <p:par>
                                <p:cTn id="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1116000" y="0"/>
            <a:ext cx="64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f2936"/>
                </a:solidFill>
                <a:latin typeface="Monotype Corsiva"/>
              </a:rPr>
              <a:t>Введение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2987640" y="1628640"/>
            <a:ext cx="59054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годня, практически, каждый школьник постоянно жуёт жвачку. Они жуют её на уроке, когда отвечают учителю, да и просто, когда разговаривают. Нам это кажется неэтич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611280" y="836640"/>
            <a:ext cx="2181240" cy="252108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7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f07f09">
              <a:alpha val="16000"/>
            </a:srgbClr>
          </a:solidFill>
          <a:ln w="9360">
            <a:solidFill>
              <a:srgbClr val="33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6"/>
          <p:cNvSpPr/>
          <p:nvPr/>
        </p:nvSpPr>
        <p:spPr>
          <a:xfrm>
            <a:off x="2484360" y="3933720"/>
            <a:ext cx="640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только не жевали наши древние предки! Греки «чистили зубы» и «освежали дыхание» с помощью смолы мастикового дерева, индейцы племени майя жевали высушенный сок каучука . Древнюю жвачку готовили также из сосновой смолы и пчелиного во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3299"/>
          <p:cNvPicPr/>
          <p:nvPr/>
        </p:nvPicPr>
        <p:blipFill>
          <a:blip r:embed="rId3"/>
          <a:stretch/>
        </p:blipFill>
        <p:spPr>
          <a:xfrm rot="20691600">
            <a:off x="953640" y="3808080"/>
            <a:ext cx="155124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489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Из истории создания жевательной резинки…..</a:t>
            </a:r>
            <a:endParaRPr b="0" lang="en-US" sz="34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 Древней Греции и на Ближнем Востоке жевали смолу мастикового дерева, называя ее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stiche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(мастич). Многие сибирские народы жевали смолу хвойных деревьев, а европейцы – вишнёвую и сливовую камедь, считая, что это укрепляет и отбеливает зуб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Основы промышленного производства жвачки заложи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брать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Куртис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 1848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год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.Ф Семп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лучил первый патент на производство жевательной резинки в 1869 год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Антонио Лопес Санта – Ан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 1869 году изобрёл настоящую жевательную резин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Томас Адамс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ервый производитель жевательной резинки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lack Jack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и получил патент в 1871 году на автомат по производству жевательной рези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ильям Ригли сы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– основатель компании по производству жевательной резинки на промышленной основе с 1892 года. «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rigley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»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(Ригли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810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Химический состав жевательной резинки</a:t>
            </a:r>
            <a:endParaRPr b="0" lang="en-US" sz="3400" spc="-1" strike="noStrike">
              <a:solidFill>
                <a:srgbClr val="323232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Карам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Резиновая ос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Вкусовые добавки (лимонная Е-330 и уксусная Е-296 кисло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Сахар или заменитель сах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Ароматизатор (натуральный и искусствен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Краситель (натуральный, синтетический, неорганическ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Загуститель Е-4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Эмульгатор Е-3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6b0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Антиоксидант Е-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804000" y="3860640"/>
            <a:ext cx="2112840" cy="2808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2:37:36Z</dcterms:created>
  <dc:creator>5350</dc:creator>
  <dc:description/>
  <dc:language>en-US</dc:language>
  <cp:lastModifiedBy>Ирина</cp:lastModifiedBy>
  <dcterms:modified xsi:type="dcterms:W3CDTF">2013-05-13T17:44:24Z</dcterms:modified>
  <cp:revision>145</cp:revision>
  <dc:subject/>
  <dc:title>Слайд 1</dc:title>
</cp:coreProperties>
</file>