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3C78-6273-46B5-9D60-581A82D1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D55F-7CB8-433E-AA43-1BA94541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740D-3964-4FD1-8EB2-E4BAF0B74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8BDA-BFC6-4BA9-A5B3-183C51C1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8AB4-DEEC-4C42-BD4C-CB8F33F5A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4809-2CBD-492F-8F50-684D94B3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151F-7EB1-4920-A41E-2FF88595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3D71-051F-4786-98C4-83CD7B85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99FE-6E3F-4561-AC85-E952DAC4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81FB-C110-48C5-9189-F4EE220E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A969-774F-412A-B779-DB9375AB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6E67-2F81-4878-ACA9-D4CCBDDF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7CDC-9176-4288-BC46-0ACBE9B6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7F8E-1F63-4AED-89A6-5B30C112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C3B1-6CE6-4905-A4C5-D61E1C25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9083-FFD6-4404-BBFD-648F73F28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88FC-2AD0-4619-A05F-72D0E101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CD13-22C9-4E8C-9A76-842CA84A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999C-1D37-45AD-BBC7-8F2DFB20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7755-B0C4-404E-B22F-E0B953C5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969E-C127-41B7-A70C-935B0052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4078-C32F-4A2F-B187-445ADE2C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70EA-58FC-4B65-861B-0C282D50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5EE7-0AE9-4048-91A5-78982D5E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F7E5-2FEF-4A45-A412-3662E4345B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DE2B-DF15-4BFF-BDA0-01AE4C189F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Arial"/>
              </a:rPr>
              <a:t>«Зимняя птица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6477120" cy="17240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809880" y="3048120"/>
            <a:ext cx="4419720" cy="35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920" y="1252440"/>
            <a:ext cx="4731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Тихо в воздухе кружатся 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Бабочки-снежинки, 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И на голый лес ложатся 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Липкие пушин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Вечер движется несмело, 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Снег всё реже, тише. 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Словно кто-то краской белой 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Разукрасил крыш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К ним наутро от мороза 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Снег пристынет клейкий. 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И оденутся берёзы 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В заячьи шубей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(Г. Зайце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181480" y="22860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816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имняя птиц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638440" y="1600200"/>
            <a:ext cx="3473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ля работы необходим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ний карт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атные палоч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елая и желтая гуаш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стой карандаш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876920" y="13716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553080" y="175248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4952880" y="4038480"/>
            <a:ext cx="3124440" cy="16671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838080" y="4724280"/>
            <a:ext cx="2857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Этапы работ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сполагаем лист картона вертикаль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стым карандашом изображаем туловище пт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800600" y="1447920"/>
            <a:ext cx="32511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Этапы работ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исуем крыль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33606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Этапы работ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исуем хвос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0" y="1295280"/>
            <a:ext cx="347508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Этапы работ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бавляем элементы рисун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3543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Этапы работ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 контуру рисунка с помощью ватных палочек наносим цв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734000" y="1600200"/>
            <a:ext cx="3473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</cp:lastModifiedBy>
  <dcterms:modified xsi:type="dcterms:W3CDTF">2014-02-02T12:38:2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