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1EA3-D446-4268-B7AE-603C4402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8334-9204-4EBA-9A6A-0466141B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3B0B-D451-4846-A28F-765B2DC2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8E3-4558-4A8C-96FC-6A3B0802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1046-245B-430A-8FA3-AFE34102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0BE8-9D35-4E4E-9802-87C2DDF3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EBDA-E331-4A74-9B5C-3772812F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2C75-83B5-4DE3-81D0-B2326B8A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AD27-F5CE-48CB-AB05-C7862430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482F-6937-4E44-8ACB-23E85E9A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E6F3-C9C6-4CF4-851A-2CBE9CCB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9102-A09A-47D2-9956-D3D2999B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B65B-987C-47B5-892D-2179F221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AC34-5A9C-4C5C-A806-70C238D4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0B72-2539-450D-A1A4-8F25CA2F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652E-7DEC-4B16-802C-27B1C459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DD20-6B80-4E3F-9575-325AA1C6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8E8-7292-4396-B61A-74E2F4C3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B3B-AB7B-4E86-9E4C-5F5698BC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30A-83BF-4F7F-91FA-00B0205C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47BA-77EA-412F-844D-9BCF5E09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1196-730F-4390-9E45-339B0409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6A35-977D-4317-9C74-BCBC0067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FE3-0B5A-4BCF-A801-16B2162C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70DC-281E-4373-BEEB-286AF2D7E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21F7-18BE-4CC8-B946-A14DA94F6A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Arial"/>
              </a:rPr>
              <a:t>«Зимняя птиц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477120" cy="1724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809880" y="3048120"/>
            <a:ext cx="441972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920" y="1252440"/>
            <a:ext cx="4731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Тихо в воздухе кружатся 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Бабочки-снежинки, 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И на голый лес ложатся 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Липкие пушин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Вечер движется несмело, 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Снег всё реже, тише. 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Словно кто-то краской белой 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Разукрасил крыш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К ним наутро от мороза 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Снег пристынет клейкий. 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И оденутся берёзы 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В заячьи шубей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(Г. Зайце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816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имняя птиц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638440" y="1600200"/>
            <a:ext cx="3473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ля работы необходим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ний карт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атные палоч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лая и желтая гуаш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стой карандаш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553080" y="175248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952880" y="4038480"/>
            <a:ext cx="3124440" cy="1667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838080" y="4724280"/>
            <a:ext cx="2857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Этапы рабо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полагаем лист картона вертикаль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стым карандашом изображаем туловище пт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251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Этапы рабо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исуем крыл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33606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Этапы рабо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исуем хво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0" y="1295280"/>
            <a:ext cx="347508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Этапы рабо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бавляем элементы рису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543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Этапы рабо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 контуру рисунка с помощью ватных палочек наносим цв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734000" y="1600200"/>
            <a:ext cx="3473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</cp:lastModifiedBy>
  <dcterms:modified xsi:type="dcterms:W3CDTF">2014-02-02T12:38:2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