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E0FB-55AA-4818-AC62-3B741BAEA2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70DF-A798-4E2C-9948-58CD3D804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C61-9973-43B6-8A28-FF925688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7C1-4C2E-45BA-B13E-A6850455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A70-616B-4C04-BE01-B3CEE111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8F2-D63F-4EE8-85CD-C88046E2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B0ED-99F2-4BBF-8C15-E16888A6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6F14-13BF-485E-B727-0C480CAE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921C-2E2F-434B-806D-93C6FA06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2F52-7215-4378-A008-E16E6190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DBE6-E812-4495-9978-805DE378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EA8F-FA72-4EBA-9E90-0AD03F5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9065-3224-49E2-A365-599934B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75F-1B3E-4996-9C6E-64C3471A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1745-CD9F-400E-BEB7-7A232E00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A863-04A5-41C0-BAC1-D596AF70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7487-EEF1-45B7-96AE-B7E83246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6952-1344-4757-907C-43D266A7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03D1-4037-4FB8-906B-1D8CC486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644E4-106C-41AC-AD27-F7013E1A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FB68-F9C7-42F8-9576-60E06B8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179B-9BE7-4CA4-9E0C-14FABCEB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EC02-64F7-4029-A350-B7635762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6845-E2D7-4876-A7C7-E4CF1F96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42C-C93D-4805-9FC8-54A05AE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59D0-70B2-4DA4-BB5A-A53207D5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08D9-7FF6-4C81-8A1D-E1B3484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39DB-9B74-4E4E-B4B2-54982AB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4D3B-69CC-4238-BEE1-F402E0E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DE8D-F630-417C-AB20-07BB2A27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DB95-B238-4B68-B6AD-FEF96918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18D3-2640-4F49-9FF4-B940EC27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E3CF2-A572-4B97-A9A1-E9526828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66396-6DEB-4935-94C6-A02F5AF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AA8A-E939-4F0A-8FE8-6DB9D21A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144-9C48-4065-9232-686356B6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3C2C-7DEB-4BA1-8EF7-65B37342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84F6-BB3C-4D51-A54B-2306B6D1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3510-0EBA-4F95-98EC-9BD8A405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8E883-F20E-4E30-A922-96F583FC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078E-3FCE-4AC0-81FB-C4E9B70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28FE3-65E6-404B-9B1D-83C4B44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C76F-9EAF-41AC-A035-B88CA81F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CC984-2B40-494B-95D3-56308C83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89826-7D81-4882-9195-04518C44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EE4F9-2AA5-4C7C-9997-36B136E4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7FC-4B01-4CEB-BE42-807600F5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E8CD0-4497-4F4C-9BC5-BD4EB941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68CD1-6BFF-44EC-AC45-6BC67B8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121B-E52F-42C2-8052-49C69BD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639B8-9308-450E-B057-E189E46D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AE39A-5D98-4E38-8F58-FB55900F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32C8-E066-40D0-8775-0E840D1B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4F84E-8FF1-4261-909E-ED43FFC6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9DC9-D9B1-477F-9C50-26F5797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27F8-2DEA-4728-9545-1A043A21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B1BB-94E0-437E-BADC-C0DAF356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811-DA8A-4541-AAD9-24054EAB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ED18-B63D-4E5B-B6EE-8F66BDE6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A77C-9337-4D98-83B6-48E60FEB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41FA5-E9E9-4606-B1A4-0AD154FF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0D60-486B-4D5E-9C07-9005D980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41C33-5582-4D11-88E6-2775F47A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2A234-5C6B-4B11-94AD-3B17AAB7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3C54-897C-4360-8E46-8641DF97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7D7C0-1CB8-48A4-BDCB-6C86155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E88DE-883F-4720-9522-5E22F4A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0D4CB-6515-4E48-A35E-413AA2B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107-88B6-41C4-AE3F-4BB03D33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65E58-E288-4625-AD2C-02F62F48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4FC87-B186-46D9-910C-364E2BF0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D0C0A-9F30-4513-BBC6-306D4BCF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A6F87-3D19-44E2-A60A-CEA518B4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A84E6-836B-44BB-AC42-861BD650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119B-2314-4A68-B025-7D51EE5E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3D731-6948-43F6-B5DE-2AA3710D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26EB-9261-431A-BAE5-6CFD289F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BD56-48C6-47A9-B958-B6F7981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73F8E-F335-47A9-9A64-204AC05D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450-3AF8-4D76-AC56-0E4C5C3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4909C-1974-4AB0-AF26-31C9D0B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315F6-7DBF-49F8-A5B9-A72E15E2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4FC21-A318-4296-AA58-BB731BC3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EECD2-DF98-4165-9609-829AAEFD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6C2A5-2EB7-4DA5-9704-02051EF8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0F4-B2D0-4646-BD99-6EC4A0D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30040" y="228600"/>
            <a:ext cx="869328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09520" y="1679400"/>
            <a:ext cx="8724960" cy="1330560"/>
            <a:chOff x="209520" y="1679400"/>
            <a:chExt cx="872496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7560" y="169668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7080" y="170784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09520" y="167940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5623-E5F7-4E47-8A44-CCAD942A4AA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2870-F32B-41E3-A65B-620633023B1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30040" y="228600"/>
            <a:ext cx="869328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5120" y="4203720"/>
            <a:ext cx="28782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7440" y="4087800"/>
            <a:ext cx="547056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09520" y="4059360"/>
            <a:ext cx="87249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5620-50FB-49E1-AFA0-8945C1FCD36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09520" y="714240"/>
            <a:ext cx="8724960" cy="1330560"/>
            <a:chOff x="209520" y="714240"/>
            <a:chExt cx="872496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7560" y="73152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7080" y="74268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09520" y="71424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C90A-9E9C-458B-87F8-868EBEFC0D5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1FF5-C4DA-485F-9437-01C4294DC7F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DF56-CA67-4561-9696-8025C1A7182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AACD-3D60-49AE-A32B-041D137BB61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2" descr=""/>
          <p:cNvPicPr/>
          <p:nvPr/>
        </p:nvPicPr>
        <p:blipFill>
          <a:blip r:embed="rId1"/>
          <a:stretch/>
        </p:blipFill>
        <p:spPr>
          <a:xfrm>
            <a:off x="517680" y="2127240"/>
            <a:ext cx="8248320" cy="231156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4"/>
          <p:cNvSpPr/>
          <p:nvPr/>
        </p:nvSpPr>
        <p:spPr>
          <a:xfrm>
            <a:off x="376200" y="366840"/>
            <a:ext cx="8767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C:\Users\Сергей\Desktop\standart.jpg"/>
          <p:cNvPicPr/>
          <p:nvPr/>
        </p:nvPicPr>
        <p:blipFill>
          <a:blip r:embed="rId2"/>
          <a:stretch/>
        </p:blipFill>
        <p:spPr>
          <a:xfrm>
            <a:off x="484200" y="4395960"/>
            <a:ext cx="3295800" cy="25160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345" name="Picture 7" descr="F:\стандарт\2011-07-15_075053.png"/>
          <p:cNvPicPr/>
          <p:nvPr/>
        </p:nvPicPr>
        <p:blipFill>
          <a:blip r:embed="rId3"/>
          <a:stretch/>
        </p:blipFill>
        <p:spPr>
          <a:xfrm>
            <a:off x="176040" y="890640"/>
            <a:ext cx="30672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8000" y="40428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ово участие родителей? (взаимодействие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татья 44 «Закон Об образовании в РФ» «родители обязаны обеспечить получение детьми общего образования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участвовать в реализации программы, в создании условий для полноценного и своевременного развития ребенка в дошкольном возрас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быть активными участниками образовательного процесса, участниками всех проектов, независимо от того, какая деятельность в них доминирует, а не просто сторонними наблюдателя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Рисунок 2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45370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2"/>
          <p:cNvSpPr/>
          <p:nvPr/>
        </p:nvSpPr>
        <p:spPr>
          <a:xfrm>
            <a:off x="0" y="260280"/>
            <a:ext cx="89647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 ДО Организация обязана по отношению к родител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родителей (законных представителей) и общественность относительно целей дошкольного образования, об Образовательной  Программ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открытость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участия родителей (законных представителей) в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родителей (законных представителей) в воспитании детей, охране и укреплении их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вовлечение семей непосредственно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взрослых по поиску, использованию материалов, обеспечивающих реализацию Программы, в том числе в информационной среде, а также для обсуждения с родителями (законными представителями) детей вопросов, связанных с реализаци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1587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ДОБРЫЙ  ПУТЬ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8" name="Рисунок 4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667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0" y="2852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от 29.12.2012г. №273- Ф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 – уровень общего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яет дошкольное образование от услуги по присмотру и у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527280" cy="1440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C:\Users\Сергей\Desktop\MH900230410.JPG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324000" y="476280"/>
            <a:ext cx="842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7.10.2013г. №1155 «Об утверждении Федерального государственного образовательного стандарта дошкольного образовани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государственных гарантий и требований к программам, условиям и результатам получения бесплатного доступного качествен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ершенно особый документ, связанный с поддержкой разнообразия детства, а не его унифик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о табу на любые формы и методы школьной модели обучения, т.е. та, классно — урочная модель образования, которая присутствовала в детских садах и была привнесена из школы, будет утрач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C:\Users\Сергей\Desktop\image-602.jpg"/>
          <p:cNvPicPr/>
          <p:nvPr/>
        </p:nvPicPr>
        <p:blipFill>
          <a:blip r:embed="rId1"/>
          <a:stretch/>
        </p:blipFill>
        <p:spPr>
          <a:xfrm>
            <a:off x="5724360" y="4724280"/>
            <a:ext cx="31417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250920" y="549360"/>
            <a:ext cx="8713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ГОС 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единства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1"/>
          <a:stretch/>
        </p:blipFill>
        <p:spPr>
          <a:xfrm>
            <a:off x="2987640" y="4221000"/>
            <a:ext cx="3384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250920" y="404640"/>
            <a:ext cx="8713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адачи дошкольного образования решает Стандар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, в том числе их эмоционального благополуч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равных возможностей для полноценного развития каждого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дошкольного детства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еемственности целей, задач и содержания образования, реализуемых в рамках образовательных программ различных уровн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развития детей в соответствии с их возрастными и индивидуальными особенностями и склонностями, развитие способностей и творческого потенциала каждого ребенка как субъекта отношений с самим собой, другими детьми, взрослыми и ми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детей, в том числе ценностей здорового образа жизни, развитие их социальных, нравственных, эстетических, интеллектуальных, физических качеств, инициативности, самостоятельности и ответственности ребенка, формирование предпосылок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я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79280" y="476280"/>
            <a:ext cx="87138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тличительной особенностью 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ДО не допускает переноса учебно-дисциплинарной модели образования на жизнь ребёнка дошкольного возраста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документ ставит во главу угла индивидуальный подход к ребенку через игру, где происходит сохранение самоценности дошкольного детства и сохраняется сама природа дошкольника. Ведущими видами детской деятельности станут: игровая, коммуникативная, двигательная, познавательно-исследовательская, продуктивная и др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метить, что каждому виду детской деятельности соответствуют определенные формы работы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и способ организации детских видов деятельности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уководство взрослого, а совместная (партнерская) деятельность взрослого и ребенка – это наиболее естественный и эффективный контекст развития в дошкольном дет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09520" y="40752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C:\Users\Сергей\Desktop\Тигран Шмис   Стандарт сделает дошкольное образование инновационным    РИА Новости_files\950353184.jpg"/>
          <p:cNvPicPr/>
          <p:nvPr/>
        </p:nvPicPr>
        <p:blipFill>
          <a:blip r:embed="rId1"/>
          <a:stretch/>
        </p:blipFill>
        <p:spPr>
          <a:xfrm>
            <a:off x="979560" y="420840"/>
            <a:ext cx="7199280" cy="29318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2"/>
          <p:cNvSpPr/>
          <p:nvPr/>
        </p:nvSpPr>
        <p:spPr>
          <a:xfrm>
            <a:off x="901800" y="2637000"/>
            <a:ext cx="8048520" cy="720720"/>
          </a:xfrm>
          <a:prstGeom prst="rect">
            <a:avLst/>
          </a:prstGeom>
          <a:solidFill>
            <a:srgbClr val="c6e7f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должен быть выпускник ДО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"/>
          <p:cNvSpPr/>
          <p:nvPr/>
        </p:nvSpPr>
        <p:spPr>
          <a:xfrm>
            <a:off x="112680" y="3357720"/>
            <a:ext cx="89344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ящий свой народ, свой край и свою Роди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уважающий и принимающий ценности семьи 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ознательный , активно и заинтересованно познающий ми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ладеющий основами умения учиться, способный  к организации соб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готовый самостоятельно действовать и отвечать за свои поступки перед семьей и обще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доброжелательный, умеющий слушать и слышать собеседника, обосновывать свою позицию, высказывать свое м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ыполняющий правила здорового и безопасного для себя и для окружающих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23640" y="33336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 ФГОС обеспечит подготовку детей к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работчики стандарта красной нитью проводят утверждение о том, ч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е ребенок должен быть готов к школе, а школа должна быть готова к ребенку»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ни указывают на то, что все родители должны знать о том, что для успешной адаптации к школьной жизни гораздо важнее, чем умение читать и считать,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ку нужны психологическая стабильность, высокая самооценка, вера в свои силы и социальные способност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эти психологические характеристики лежат в основе высокой мотивации детей к обучению в школ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5280" y="475920"/>
            <a:ext cx="8353440" cy="62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удут ли учиться дошкольники как в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ок должен учиться через игры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ерез игру, экспериментирование, общение дети знакомятся с окружающим миром.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 этом главное не надвинуть на дошкольное образование формы школьной жиз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924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gey</dc:creator>
  <dc:description/>
  <dc:language>en-US</dc:language>
  <cp:lastModifiedBy>App Store</cp:lastModifiedBy>
  <dcterms:modified xsi:type="dcterms:W3CDTF">2016-09-18T15:48:09Z</dcterms:modified>
  <cp:revision>283</cp:revision>
  <dc:subject/>
  <dc:title>Презентация PowerPoint</dc:title>
</cp:coreProperties>
</file>