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DBCE-EEF6-4EDB-B7E9-5403E881E1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4D06-3F3C-4FE6-AF1F-CDB5C1BB80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6B33-C0BC-407B-A268-5C0A44C3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7519-F25B-4C8C-B4DF-F4E96344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8A87-C2BE-474F-9779-D86C9172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FFF7-9DB0-49E0-83FE-00C7C298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B0EA-3711-4021-AAD7-891727CF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D52D-A73A-4449-9285-3FB720EB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4BBC-C3CE-4A19-8016-694FA971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59A3-73FD-4D26-884D-005A838D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A8E0-07B6-4E03-98DB-CDF91456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F318-4F9F-4D2D-BDC8-E7590DB4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3AEF-E333-467A-9C9D-D8EFC862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E555-C844-401A-97E9-D8977AFA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7F6C-29F7-4989-8F05-90A7CA07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E6ED-AA3B-43CD-87D2-ED52DF09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9088-D9D2-4BD2-8701-F28BB42B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7658-0A56-4AB0-9373-0744D46F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5B9D-AAAB-4B8C-AC45-09522A2D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111BB-8044-4FDC-94A4-9EE95042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596D7-E878-44DD-B152-C541B88F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30836-BE85-4C4A-8992-44312E68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B043A-A303-4953-913F-ED6C9E69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75C8A-96E6-4B0A-95F6-7FE27E12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BA9A-204C-4429-887F-E77531D2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71DA6-1C46-4858-AC07-52870403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DCF5B-E210-41A6-8D22-1F60ADED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2D86B-8514-4EBB-9F77-438576C5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7A66A-1DCF-426C-8CBF-0B5C4CE3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52D8C-7DC5-44EB-8079-DEFB88A2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9E207-3104-42F0-A136-70993EBA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D05F9-B5D9-4C51-B07B-CC986F96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AD3BE-26E2-4788-863F-C6BC3D14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14165-B01E-479F-A0DA-97488F3E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96081-DB4A-47AD-ADDF-C71C1423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4B19-CA55-4016-8833-702A0D54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67E5F-3060-4909-BD87-90EE3C95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4A915-EFD7-41F4-9DB5-1CD0D82D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F33F2-F832-4D13-80FC-BFB91EAA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21807-ABC6-468B-821D-D937D984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AF490-B199-48B7-8D6E-7A84DA38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C2308-143E-4DD3-8766-F273621C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40A27-8F42-4F63-8537-1A7633DE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996DC-C538-43AE-B007-646E440D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FE2A7-ED74-497F-B625-602FC32E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67827-5660-4665-8DBB-B5F11A5D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E91C-E672-48E5-83B9-261946A7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63F0C-767B-4F6D-B575-F10B621C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C3773-1005-45E0-9487-FD7CB168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B82C9-EE05-4E8E-81ED-1C8E6338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FAAD5-1085-4613-9159-FA1CD6AF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3057A-DE5F-4A64-B6A3-02348687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467D8-E1E9-412D-B64B-4AEFA043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E272F-3E45-417C-8B32-86ADE7D2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12C5D-9136-4DA9-A37D-4AD3A87F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3DD57-1BBA-4482-B03C-03625DFA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DB28C-19FF-47A5-A3D2-9932F32E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1AB6-3BA0-42A6-B86A-F579B58C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F16EC-7E25-4827-A4B3-A0D9B293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0C973-8FF7-42ED-A1DA-CD9B30F4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2107B-B7CA-49C4-AD6D-18943112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3BB8A-DDDD-42AE-BD01-1EFD18E0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B8774-4144-447F-89BC-2C78D111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72C3C-2C0A-4A36-81AE-D99C74E9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91DE6-97EF-4A86-88DA-6191732C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F1B5A-02ED-4B19-9A2F-39F2BDA9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83BAA-5F13-4A1C-817D-4AE01BE1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53DAD-7287-42C4-8C23-935069C5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EAD8-39A9-4EEB-8705-02FD202D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332E2-1BBA-4FC4-AEBB-4D5DF026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BA254-7128-4DAE-8872-0E4854AB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3AD75-CB0A-4761-BD13-EFE09585D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313D9-483B-4014-AEA2-6A690EB3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F27E7-EF6D-4F03-8198-463C130B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13761-F1B2-444A-8A3D-DF103877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68D39-D77D-433A-83A8-70181895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F048F-9F09-4884-97E7-2E19BCA5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3E88B-5853-4E79-A316-F27EDCCC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A9C9B-1B62-4150-9758-A26290CC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9B8F-1745-47FC-90C6-ACEDCEE1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06FE5-2C82-44A4-90C3-15A2E3C8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C1C78-ED76-4D51-9A39-95B233DC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047D4-ADB8-4AB0-A0E4-E473ADFB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60487-017F-428C-9C27-4ACC5566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DD43B-1DE8-486C-A311-41CCF7D0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2718-B6FA-4F5C-ADF7-8806D0F4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30040" y="228600"/>
            <a:ext cx="869328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09520" y="1679400"/>
            <a:ext cx="8724960" cy="1330560"/>
            <a:chOff x="209520" y="1679400"/>
            <a:chExt cx="872496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7560" y="1696680"/>
              <a:ext cx="554508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7080" y="1707840"/>
              <a:ext cx="546912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09520" y="1679400"/>
              <a:ext cx="87249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B328-ADC4-462B-8A6D-1E3BA6256A22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30040" y="228600"/>
            <a:ext cx="869328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09520" y="5354640"/>
            <a:ext cx="8724960" cy="1330200"/>
            <a:chOff x="209520" y="5354640"/>
            <a:chExt cx="872496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3040" y="5499000"/>
              <a:ext cx="28814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0800" y="5371920"/>
              <a:ext cx="555300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212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09520" y="5354640"/>
              <a:ext cx="87249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7117-26A3-4C2D-91B3-3D4101ADBA99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30040" y="228600"/>
            <a:ext cx="869328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5120" y="4203720"/>
            <a:ext cx="28782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7440" y="4087800"/>
            <a:ext cx="547056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09520" y="4059360"/>
            <a:ext cx="87249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FAB1-5E58-4D04-BDBE-F05D6B442A84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30040" y="228600"/>
            <a:ext cx="869328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09520" y="714240"/>
            <a:ext cx="8724960" cy="1330560"/>
            <a:chOff x="209520" y="714240"/>
            <a:chExt cx="872496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7560" y="731520"/>
              <a:ext cx="554508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7080" y="742680"/>
              <a:ext cx="546912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09520" y="714240"/>
              <a:ext cx="87249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C00F-E9C0-473D-B19B-F71CE3D865B6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30040" y="228600"/>
            <a:ext cx="869328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09520" y="714240"/>
            <a:ext cx="8724960" cy="1332000"/>
            <a:chOff x="209520" y="714240"/>
            <a:chExt cx="872496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3040" y="860040"/>
              <a:ext cx="28814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0800" y="731520"/>
              <a:ext cx="555300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212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09520" y="714240"/>
              <a:ext cx="87249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1C54-1A11-46A6-9001-655844C277FD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30040" y="228600"/>
            <a:ext cx="869328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09520" y="5354640"/>
            <a:ext cx="8724960" cy="1330200"/>
            <a:chOff x="209520" y="5354640"/>
            <a:chExt cx="872496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3040" y="5499000"/>
              <a:ext cx="28814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0800" y="5371920"/>
              <a:ext cx="555300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212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09520" y="5354640"/>
              <a:ext cx="87249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554C-DAB0-4118-88B3-2B85616DFC08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30040" y="228600"/>
            <a:ext cx="869328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09520" y="714240"/>
            <a:ext cx="8724960" cy="1332000"/>
            <a:chOff x="209520" y="714240"/>
            <a:chExt cx="872496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3040" y="860040"/>
              <a:ext cx="28814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0800" y="731520"/>
              <a:ext cx="555300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212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09520" y="714240"/>
              <a:ext cx="87249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FFAE-AC14-4F39-8FF2-D8EE83FC8421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Прямоугольник 2" descr=""/>
          <p:cNvPicPr/>
          <p:nvPr/>
        </p:nvPicPr>
        <p:blipFill>
          <a:blip r:embed="rId1"/>
          <a:stretch/>
        </p:blipFill>
        <p:spPr>
          <a:xfrm>
            <a:off x="517680" y="2127240"/>
            <a:ext cx="8248320" cy="231156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4"/>
          <p:cNvSpPr/>
          <p:nvPr/>
        </p:nvSpPr>
        <p:spPr>
          <a:xfrm>
            <a:off x="376200" y="366840"/>
            <a:ext cx="87678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6" descr="C:\Users\Сергей\Desktop\standart.jpg"/>
          <p:cNvPicPr/>
          <p:nvPr/>
        </p:nvPicPr>
        <p:blipFill>
          <a:blip r:embed="rId2"/>
          <a:stretch/>
        </p:blipFill>
        <p:spPr>
          <a:xfrm>
            <a:off x="484200" y="4395960"/>
            <a:ext cx="3295800" cy="251604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pic>
        <p:nvPicPr>
          <p:cNvPr id="345" name="Picture 7" descr="F:\стандарт\2011-07-15_075053.png"/>
          <p:cNvPicPr/>
          <p:nvPr/>
        </p:nvPicPr>
        <p:blipFill>
          <a:blip r:embed="rId3"/>
          <a:stretch/>
        </p:blipFill>
        <p:spPr>
          <a:xfrm>
            <a:off x="176040" y="890640"/>
            <a:ext cx="306720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08000" y="404280"/>
            <a:ext cx="8856720" cy="626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аково участие родителей? (взаимодействие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татья 44 «Закон Об образовании в РФ» «родители обязаны обеспечить получение детьми общего образования»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одители должны участвовать в реализации программы, в создании условий для полноценного и своевременного развития ребенка в дошкольном возраст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одители должны быть активными участниками образовательного процесса, участниками всех проектов, независимо от того, какая деятельность в них доминирует, а не просто сторонними наблюдателям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3" name="Рисунок 2" descr=""/>
          <p:cNvPicPr/>
          <p:nvPr/>
        </p:nvPicPr>
        <p:blipFill>
          <a:blip r:embed="rId1"/>
          <a:stretch/>
        </p:blipFill>
        <p:spPr>
          <a:xfrm>
            <a:off x="2195640" y="3933720"/>
            <a:ext cx="45370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2"/>
          <p:cNvSpPr/>
          <p:nvPr/>
        </p:nvSpPr>
        <p:spPr>
          <a:xfrm>
            <a:off x="0" y="260280"/>
            <a:ext cx="8964720" cy="70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ФГОС ДО Организация обязана по отношению к родителя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ть родителей (законных представителей) и общественность относительно целей дошкольного образования, об Образовательной  Программе детского с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открытость дошкольно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условия для участия родителей (законных представителей) в образователь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ть родителей (законных представителей) в воспитании детей, охране и укреплении их здоров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вовлечение семей непосредственно в образовательную деятельность, в том числе посредством создания образовательных проектов совместно с семьёй на основе выявления потребностей и поддержки образовательных инициатив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условия для взрослых по поиску, использованию материалов, обеспечивающих реализацию Программы, в том числе в информационной среде, а также для обсуждения с родителями (законными представителями) детей вопросов, связанных с реализацией Про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5" descr=""/>
          <p:cNvPicPr/>
          <p:nvPr/>
        </p:nvPicPr>
        <p:blipFill>
          <a:blip r:embed="rId1"/>
          <a:stretch/>
        </p:blipFill>
        <p:spPr>
          <a:xfrm>
            <a:off x="7524720" y="5589720"/>
            <a:ext cx="15876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90480" y="246348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640720" cy="12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ДОБРЫЙ  ПУТЬ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8" name="Рисунок 4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5667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"/>
          <p:cNvSpPr/>
          <p:nvPr/>
        </p:nvSpPr>
        <p:spPr>
          <a:xfrm>
            <a:off x="0" y="285264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З от 29.12.2012г. №273- Ф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бразовании в Российской Федерац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е образование – уровень общего образ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яет дошкольное образование от услуги по присмотру и ух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3527280" cy="1440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C:\Users\Сергей\Desktop\MH900230410.JPG"/>
          <p:cNvPicPr/>
          <p:nvPr/>
        </p:nvPicPr>
        <p:blipFill>
          <a:blip r:embed="rId2"/>
          <a:stretch/>
        </p:blipFill>
        <p:spPr>
          <a:xfrm>
            <a:off x="6156360" y="260280"/>
            <a:ext cx="2736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1"/>
          <p:cNvSpPr/>
          <p:nvPr/>
        </p:nvSpPr>
        <p:spPr>
          <a:xfrm>
            <a:off x="324000" y="476280"/>
            <a:ext cx="842472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обрнауки России от 17.10.2013г. №1155 «Об утверждении Федерального государственного образовательного стандарта дошкольного образования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овокупность государственных гарантий и требований к программам, условиям и результатам получения бесплатного доступного качественно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овершенно особый документ, связанный с поддержкой разнообразия детства, а не его унификац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жено табу на любые формы и методы школьной модели обучения, т.е. та, классно — урочная модель образования, которая присутствовала в детских садах и была привнесена из школы, будет утраче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5" descr="C:\Users\Сергей\Desktop\image-602.jpg"/>
          <p:cNvPicPr/>
          <p:nvPr/>
        </p:nvPicPr>
        <p:blipFill>
          <a:blip r:embed="rId1"/>
          <a:stretch/>
        </p:blipFill>
        <p:spPr>
          <a:xfrm>
            <a:off x="5724360" y="4724280"/>
            <a:ext cx="314172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1"/>
          <p:cNvSpPr/>
          <p:nvPr/>
        </p:nvSpPr>
        <p:spPr>
          <a:xfrm>
            <a:off x="250920" y="549360"/>
            <a:ext cx="87138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ФГОС Д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государством равенства возможностей для каждого ребёнка в получении качественного дошкольно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государственных гарантий уровня и качества образования на основе единства обязательных требований к условиям реализации основных образовательных программ, их структуре и результатам их осво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единства образовательного простра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Рисунок 2" descr=""/>
          <p:cNvPicPr/>
          <p:nvPr/>
        </p:nvPicPr>
        <p:blipFill>
          <a:blip r:embed="rId1"/>
          <a:stretch/>
        </p:blipFill>
        <p:spPr>
          <a:xfrm>
            <a:off x="2987640" y="4221000"/>
            <a:ext cx="338472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1"/>
          <p:cNvSpPr/>
          <p:nvPr/>
        </p:nvSpPr>
        <p:spPr>
          <a:xfrm>
            <a:off x="250920" y="404640"/>
            <a:ext cx="871380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задачи дошкольного образования решает Стандар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и укрепление физического и психического здоровья детей, в том числе их эмоционального благополуч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равных возможностей для полноценного развития каждого ребенк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иод дошкольного детства независимо от места жительства, пола, нации, языка, социального статуса, психофизиологических и других особенностей (в том числе ограниченных возможностей здоровь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реемственности целей, задач и содержания образования, реализуемых в рамках образовательных программ различных уровн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благоприятных условий развития детей в соответствии с их возрастными и индивидуальными особенностями и склонностями, развитие способностей и творческого потенциала каждого ребенка как субъекта отношений с самим собой, другими детьми, взрослыми и мир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бщей культуры личности детей, в том числе ценностей здорового образа жизни, развитие их социальных, нравственных, эстетических, интеллектуальных, физических качеств, инициативности, самостоятельности и ответственности ребенка, формирование предпосылок учеб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сихолого-педагогической поддержки семьи и повышения компетентности родителей (законных представителей) в вопросах развития и образования, охраны и укрепления здоровья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"/>
          <p:cNvSpPr/>
          <p:nvPr/>
        </p:nvSpPr>
        <p:spPr>
          <a:xfrm>
            <a:off x="179280" y="476280"/>
            <a:ext cx="871380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является отличительной особенностью ФГОС Д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образовательных программ дошкольного образования не сопровождается проведением промежуточных аттестаций и итоговой аттестации обучаю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 ДО не допускает переноса учебно-дисциплинарной модели образования на жизнь ребёнка дошкольного возраста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й документ ставит во главу угла индивидуальный подход к ребенку через игру, где происходит сохранение самоценности дошкольного детства и сохраняется сама природа дошкольника. Ведущими видами детской деятельности станут: игровая, коммуникативная, двигательная, познавательно-исследовательская, продуктивная и др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отметить, что каждому виду детской деятельности соответствуют определенные формы работы с деть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ется и способ организации детских видов деятельности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уководство взрослого, а совместная (партнерская) деятельность взрослого и ребенка – это наиболее естественный и эффективный контекст развития в дошкольном дет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"/>
          <p:cNvSpPr/>
          <p:nvPr/>
        </p:nvSpPr>
        <p:spPr>
          <a:xfrm>
            <a:off x="209520" y="4075200"/>
            <a:ext cx="87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" descr="C:\Users\Сергей\Desktop\Тигран Шмис   Стандарт сделает дошкольное образование инновационным    РИА Новости_files\950353184.jpg"/>
          <p:cNvPicPr/>
          <p:nvPr/>
        </p:nvPicPr>
        <p:blipFill>
          <a:blip r:embed="rId1"/>
          <a:stretch/>
        </p:blipFill>
        <p:spPr>
          <a:xfrm>
            <a:off x="979560" y="420840"/>
            <a:ext cx="7199280" cy="293184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оугольник 2"/>
          <p:cNvSpPr/>
          <p:nvPr/>
        </p:nvSpPr>
        <p:spPr>
          <a:xfrm>
            <a:off x="901800" y="2637000"/>
            <a:ext cx="8048520" cy="720720"/>
          </a:xfrm>
          <a:prstGeom prst="rect">
            <a:avLst/>
          </a:prstGeom>
          <a:solidFill>
            <a:srgbClr val="c6e7f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 должен быть выпускник ДО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1"/>
          <p:cNvSpPr/>
          <p:nvPr/>
        </p:nvSpPr>
        <p:spPr>
          <a:xfrm>
            <a:off x="112680" y="3357720"/>
            <a:ext cx="89344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любящий свой народ, свой край и свою Родин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уважающий и принимающий ценности семьи и общ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любознательный , активно и заинтересованно познающий ми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владеющий основами умения учиться, способный  к организации собствен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готовый самостоятельно действовать и отвечать за свои поступки перед семьей и обществ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доброжелательный, умеющий слушать и слышать собеседника, обосновывать свою позицию, высказывать свое мн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выполняющий правила здорового и безопасного для себя и для окружающих образа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23640" y="33336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ак ФГОС обеспечит подготовку детей к школе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азработчики стандарта красной нитью проводят утверждение о том, что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е ребенок должен быть готов к школе, а школа должна быть готова к ребенку»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ни указывают на то, что все родители должны знать о том, что для успешной адаптации к школьной жизни гораздо важнее, чем умение читать и считать,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ебенку нужны психологическая стабильность, высокая самооценка, вера в свои силы и социальные способности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се эти психологические характеристики лежат в основе высокой мотивации детей к обучению в школе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95280" y="475920"/>
            <a:ext cx="8353440" cy="62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Будут ли учиться дошкольники как в школе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ебенок должен учиться через игры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Через игру, экспериментирование, общение дети знакомятся с окружающим миром.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и этом главное не надвинуть на дошкольное образование формы школьной жизн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1" name="Рисунок 2" descr=""/>
          <p:cNvPicPr/>
          <p:nvPr/>
        </p:nvPicPr>
        <p:blipFill>
          <a:blip r:embed="rId1"/>
          <a:stretch/>
        </p:blipFill>
        <p:spPr>
          <a:xfrm>
            <a:off x="2340000" y="3716280"/>
            <a:ext cx="392436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rgey</dc:creator>
  <dc:description/>
  <dc:language>en-US</dc:language>
  <cp:lastModifiedBy>App Store</cp:lastModifiedBy>
  <dcterms:modified xsi:type="dcterms:W3CDTF">2016-09-18T15:48:09Z</dcterms:modified>
  <cp:revision>283</cp:revision>
  <dc:subject/>
  <dc:title>Презентация PowerPoint</dc:title>
</cp:coreProperties>
</file>