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489-5475-48E7-B3DA-95F8019C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FF9-35CC-4068-8EEE-569765E5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9B7-FE3A-48EE-BEB8-78B36706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096-C3D4-471D-B4FC-8BBD9B3F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EF55-C52E-47E5-819A-694C77CC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4C7B-2349-497E-820B-BC295F29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83A4-70F0-4073-B309-8725EEC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89CD-80C6-475C-9BD4-0507E1D7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6A29-9D28-4695-A923-45D4CC6F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E529-71FB-488C-A334-0401127C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FF2B-01E8-45DE-B76B-3FD9EF2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E80-870E-4506-B17C-805267FB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29DB-1603-480C-A532-C52D9258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8D42-B117-4553-92E7-B58CE184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DD32-8D4D-440B-AF83-F94DB0E9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818D-0B58-4202-88A8-2243A95B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19B7-27AA-474F-85F6-63606A52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CD4-FCE4-4C8D-8E90-18A9DE54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C3C-E70C-4C71-9EA6-4F29FFEC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2D7-6570-4080-B311-3DEC4AB5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396-C10D-45F3-9E20-2033BFEF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63A-D9CB-40C2-A373-10F999C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486-8991-49B9-A545-5A0C589A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434-06A6-45DF-B6FF-98CAE53F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0E96-E0E4-46BB-BBCA-209E6EBF05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7CC3-ACEB-469C-84B3-7BD7FD8021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n-US" sz="4900" spc="-1" strike="noStrike">
                <a:solidFill>
                  <a:srgbClr val="006666"/>
                </a:solidFill>
                <a:latin typeface="Arial"/>
              </a:rPr>
              <a:t>ПРЕОБРАЗОВАНИЕ РАЦИОНАЛЬНЫХ ВЫРАЖЕНИЙ</a:t>
            </a:r>
            <a:endParaRPr b="0" lang="en-US" sz="4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4652640"/>
            <a:ext cx="7931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Школа №2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учитель Ильенко М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г. Севастоп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Ответы самостоятельной работы: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74872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3137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66"/>
                </a:solidFill>
                <a:latin typeface="Verdana"/>
              </a:rPr>
              <a:t>1 группа: стр. 51 №1-№6    Тесты «Проверь себя»;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66"/>
                </a:solidFill>
                <a:latin typeface="Verdana"/>
              </a:rPr>
              <a:t>2 группа: №177 ( 4;5;6),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66"/>
                </a:solidFill>
                <a:latin typeface="Verdana"/>
              </a:rPr>
              <a:t>                   </a:t>
            </a:r>
            <a:r>
              <a:rPr b="0" lang="en-US" sz="3700" spc="-1" strike="noStrike">
                <a:solidFill>
                  <a:srgbClr val="006666"/>
                </a:solidFill>
                <a:latin typeface="Verdana"/>
              </a:rPr>
              <a:t>178 (1)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71640" y="549000"/>
            <a:ext cx="468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993080" cy="44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96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575928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5543280" cy="703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5689440" cy="68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835280" y="3213000"/>
            <a:ext cx="5257800" cy="695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900000" y="3860640"/>
            <a:ext cx="5040360" cy="66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476360" y="4437000"/>
            <a:ext cx="5688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Verdana"/>
              </a:rPr>
              <a:t>Служить истине-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5600" spc="-1" strike="noStrike">
                <a:solidFill>
                  <a:srgbClr val="000000"/>
                </a:solidFill>
                <a:latin typeface="Verdana"/>
              </a:rPr>
              <a:t>служить справедливости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262640" y="0"/>
            <a:ext cx="1881360" cy="2592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Verdana"/>
              </a:rPr>
              <a:t>Гипатия    10101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Verdana"/>
              </a:rPr>
              <a:t>Е.Ф. Литвинова      11100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Verdana"/>
              </a:rPr>
              <a:t>С.В. Ковалевская   10111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4653000"/>
            <a:ext cx="1816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0160" y="2642760"/>
            <a:ext cx="3590640" cy="248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2847960" cy="1276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2914560" cy="111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800520" cy="111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843280" y="3860640"/>
            <a:ext cx="3190680" cy="140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627280" y="5373720"/>
            <a:ext cx="3714840" cy="1171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8930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д рождения С. В. Ковалевской:</a:t>
            </a:r>
            <a:br>
              <a:rPr sz="32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3- 1880 г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4- 1850 г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5- 1872 г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8098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Первый учитель С.В. Ковалевской: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24360" y="1555920"/>
                <a:ext cx="868320" cy="15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924360" y="3139920"/>
                <a:ext cx="86976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995640" y="4878360"/>
                <a:ext cx="711360" cy="18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148360" y="1916280"/>
            <a:ext cx="669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Васнецов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3645000"/>
            <a:ext cx="4608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Малевич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5516640"/>
            <a:ext cx="35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Шишки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5816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1611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187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80000" y="1268280"/>
                <a:ext cx="12078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5280" y="3068640"/>
            <a:ext cx="165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188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653000"/>
            <a:ext cx="1871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189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708360" y="3068640"/>
                <a:ext cx="127008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067280" y="4724280"/>
                <a:ext cx="6285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19640" y="907920"/>
            <a:ext cx="36194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39:16Z</dcterms:created>
  <dc:creator>Tanya</dc:creator>
  <dc:description/>
  <dc:language>en-US</dc:language>
  <cp:lastModifiedBy>Tanya</cp:lastModifiedBy>
  <dcterms:modified xsi:type="dcterms:W3CDTF">2011-11-08T14:05:11Z</dcterms:modified>
  <cp:revision>14</cp:revision>
  <dc:subject/>
  <dc:title>ПРЕОБРАЗОВАНИЕ РАЦИОНАЛЬНЫХ ВЫРАЖЕНИЙ</dc:title>
</cp:coreProperties>
</file>