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734-46AC-4C4A-8EB3-56C786F5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C16-8871-4D4A-9A4A-1E75363E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D63-0D91-49D1-9527-3ED877EB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FEA-A1B2-4845-A951-225A0206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8473-81B1-44F8-8630-B57E8CA9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C390-7277-48FF-ADDB-1FEB336F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F81C-C931-41C1-A5DC-D2FC1C10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24A2-4100-4E67-AC49-C10EE44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D4E7-E9C5-428B-8526-15DA8259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AB7B-2366-4BBB-B751-C9E2EAD5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0CFD-F582-4FC3-8DE6-92A21B7F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41A-CAA1-4A20-9A65-685E2423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2630-DDAD-4A06-9587-4A9AFA3A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D4D7-2E24-4FD2-9F20-BF9D0799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3E95-44A3-4881-9DC5-DA6BF0B0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0B0A-BF51-4DD5-8149-55C34B3B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6DD8-74FE-46D9-A785-B52E6312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A93-E82A-4A5F-82DE-42C1AD1C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BC1-DC25-41E0-87DF-DFCEC82E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939-2DAB-416D-9FC9-93A9E324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649-3BC4-4CDC-9749-8DAE894D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D09-C992-4CBC-81F9-33886C52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E90-5B5A-4007-86CC-7EC550E9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649-CDF8-49EC-932C-1918855D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A355-461F-4ABA-BD3A-3DF3E619FF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FCC4-1B65-4E9D-B077-0AF8D98BA6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n-US" sz="4900" spc="-1" strike="noStrike">
                <a:solidFill>
                  <a:srgbClr val="006666"/>
                </a:solidFill>
                <a:latin typeface="Arial"/>
              </a:rPr>
              <a:t>ПРЕОБРАЗОВАНИЕ РАЦИОНАЛЬНЫХ ВЫРАЖЕНИЙ</a:t>
            </a:r>
            <a:endParaRPr b="0" lang="en-US" sz="4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4652640"/>
            <a:ext cx="7931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Школа №2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учитель Ильенко М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г. Севастоп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Ответы самостоятельной работы: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168640"/>
            <a:ext cx="874872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3137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66"/>
                </a:solidFill>
                <a:latin typeface="Verdana"/>
              </a:rPr>
              <a:t>1 группа: стр. 51 №1-№6    Тесты «Проверь себя»;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66"/>
                </a:solidFill>
                <a:latin typeface="Verdana"/>
              </a:rPr>
              <a:t>2 группа: №177 ( 4;5;6),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66"/>
                </a:solidFill>
                <a:latin typeface="Verdana"/>
              </a:rPr>
              <a:t>                   </a:t>
            </a:r>
            <a:r>
              <a:rPr b="0" lang="en-US" sz="3700" spc="-1" strike="noStrike">
                <a:solidFill>
                  <a:srgbClr val="006666"/>
                </a:solidFill>
                <a:latin typeface="Verdana"/>
              </a:rPr>
              <a:t>178 (1)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71640" y="549000"/>
            <a:ext cx="468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993080" cy="44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96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575928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5543280" cy="703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5689440" cy="68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835280" y="3213000"/>
            <a:ext cx="5257800" cy="695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900000" y="3860640"/>
            <a:ext cx="5040360" cy="66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476360" y="4437000"/>
            <a:ext cx="5688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Verdana"/>
              </a:rPr>
              <a:t>Служить истине-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5600" spc="-1" strike="noStrike">
                <a:solidFill>
                  <a:srgbClr val="000000"/>
                </a:solidFill>
                <a:latin typeface="Verdana"/>
              </a:rPr>
              <a:t>служить справедливости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262640" y="0"/>
            <a:ext cx="1881360" cy="2592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Verdana"/>
              </a:rPr>
              <a:t>Гипатия    10101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Verdana"/>
              </a:rPr>
              <a:t>Е.Ф. Литвинова      11100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Verdana"/>
              </a:rPr>
              <a:t>С.В. Ковалевская   10111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4653000"/>
            <a:ext cx="18162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0160" y="2642760"/>
            <a:ext cx="3590640" cy="248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2847960" cy="1276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843280" y="1557360"/>
            <a:ext cx="2914560" cy="111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800520" cy="111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843280" y="3860640"/>
            <a:ext cx="3190680" cy="140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627280" y="5373720"/>
            <a:ext cx="3714840" cy="1171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8930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д рождения С. В. Ковалевской:</a:t>
            </a:r>
            <a:br>
              <a:rPr sz="32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3- 1880 г.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4- 1850 г.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000000"/>
                </a:solidFill>
                <a:latin typeface="Verdana"/>
              </a:rPr>
              <a:t>5- 1872 г.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8098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Первый учитель С.В. Ковалевской: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924360" y="1555920"/>
                <a:ext cx="868320" cy="15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924360" y="3139920"/>
                <a:ext cx="86976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995640" y="4878360"/>
                <a:ext cx="711360" cy="18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148360" y="1916280"/>
            <a:ext cx="669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Васнецов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3645000"/>
            <a:ext cx="4608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Малевич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5516640"/>
            <a:ext cx="35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Шишки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5816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1611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1871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80000" y="1268280"/>
                <a:ext cx="12078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5280" y="3068640"/>
            <a:ext cx="165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188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653000"/>
            <a:ext cx="1871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189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708360" y="3068640"/>
                <a:ext cx="127008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067280" y="4724280"/>
                <a:ext cx="6285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19640" y="907920"/>
            <a:ext cx="36194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39:16Z</dcterms:created>
  <dc:creator>Tanya</dc:creator>
  <dc:description/>
  <dc:language>en-US</dc:language>
  <cp:lastModifiedBy>Tanya</cp:lastModifiedBy>
  <dcterms:modified xsi:type="dcterms:W3CDTF">2011-11-08T14:05:11Z</dcterms:modified>
  <cp:revision>14</cp:revision>
  <dc:subject/>
  <dc:title>ПРЕОБРАЗОВАНИЕ РАЦИОНАЛЬНЫХ ВЫРАЖЕНИЙ</dc:title>
</cp:coreProperties>
</file>