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A95-E35E-4E96-8A73-375A9AFD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230-974B-4784-A12B-3F8804F9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3CA-2013-41B5-A9F1-536CBB31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A1E-3FD9-4E20-8316-92B55890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B184-DD27-4609-A02D-4D0CC642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EB5A-52DD-46BB-9847-782AFAD4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6A32-B1EB-42D7-BD4C-FE96A8EA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3EA0-4C49-4523-B2C8-50EE2C2F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FC31-0344-487E-A239-3242317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D87E-0C23-4FF8-B190-C8F10BCC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CAEB-F09A-423C-922A-F2026F31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86F-9112-42DA-B450-E2EA4133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7976-43AA-45E3-9B31-A6ADE45B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F3C0-3360-4120-9CB5-185ADF1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DF8B-68FF-4BF0-880B-89EA34C2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23EE-746D-42FA-B3F4-7079A97C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0994-16CD-456B-8BB1-713AD452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199-DA78-44E6-9624-8AFBDB12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009-E8D0-448A-B73B-014B00F3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581-395E-4E14-BA4F-55E330BF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FB2-10B7-41C5-8683-768795D1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608-B37C-4B13-8826-ACD0C66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993-18B4-40A6-BC09-978199D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E40-674E-4975-868C-39B55BF8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82F9-E01B-4566-912C-6B55492C82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8E13-244F-4F86-B142-8C9707704F6C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931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рок литературного чтения в 1 класс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А. Митта «Шар в окошке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611280" y="5373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БОУ СОШ № 262 г. Санкт-Петербург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исеева В.Н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обери пословицу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6924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корней, друзей, человек, без, что, дерево, без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milash13"/>
          <p:cNvPicPr/>
          <p:nvPr/>
        </p:nvPicPr>
        <p:blipFill>
          <a:blip r:embed="rId1"/>
          <a:stretch/>
        </p:blipFill>
        <p:spPr>
          <a:xfrm>
            <a:off x="7667640" y="765000"/>
            <a:ext cx="12384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4860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еловек без друзей, что дерево без корн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0" descr="normal_812632"/>
          <p:cNvPicPr/>
          <p:nvPr/>
        </p:nvPicPr>
        <p:blipFill>
          <a:blip r:embed="rId1"/>
          <a:stretch/>
        </p:blipFill>
        <p:spPr>
          <a:xfrm>
            <a:off x="1979640" y="3068640"/>
            <a:ext cx="489744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84072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Объект 3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8044200" cy="60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ружб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это умение сочувствовать, сострадать, сопереживать, проявление заботы, внимания, отзывчивости, желание помочь, защитить в случае необходимост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91440" cy="54687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1908000" y="476280"/>
            <a:ext cx="204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3371760" y="26208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e9e9"/>
                </a:solidFill>
                <a:latin typeface="Arial"/>
              </a:rPr>
              <a:t>Коля заболе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бо в окош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1692360" y="1149480"/>
            <a:ext cx="5759280" cy="53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ар в окошк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400720" cy="53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2:27:11Z</dcterms:created>
  <dc:creator>123</dc:creator>
  <dc:description/>
  <dc:language>en-US</dc:language>
  <cp:lastModifiedBy>User</cp:lastModifiedBy>
  <dcterms:modified xsi:type="dcterms:W3CDTF">2016-04-06T12:06:01Z</dcterms:modified>
  <cp:revision>16</cp:revision>
  <dc:subject/>
  <dc:title>Слайд 1</dc:title>
</cp:coreProperties>
</file>