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AA3-163F-4C83-B249-8C11B9E6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9CF-BD19-4F9F-A90A-94FDC245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D02-8A2D-4D2E-9DED-BE1B41CE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F1D-9FFC-4E22-A431-79705041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2C5F-0564-401B-9E01-3A5ED830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A142-9FC5-4DFD-B16A-C016CC08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C19F-C2AA-4FD7-B4DD-FB29CBC9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C64D-25B7-4056-B47F-082DA31C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DBAB-9C33-4FF3-9804-0F7AFA51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14D3-3E8E-4FCD-8C2E-AB5F040D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E910-8FAB-40CA-BEA9-D8EE871F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A5D-11BE-409F-85CB-57E5FA73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18A1-EBDB-4319-925E-9553F8F6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055D-D8AD-4C6F-B88A-6AC7FD6C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1556-FA3F-433B-A9F2-C7EE6536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2D31-4342-4122-980D-8C107607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C8FF-1B8C-4E72-A332-29C8EF6C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12D-3F05-48BB-A58C-28B3CCBF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22A-BD7F-4449-81E9-CEC77A3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072-D71E-4B41-99B1-0DCD9F07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61D-B653-4021-B758-5B4B527B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AB0-E334-4839-A0DC-7CDBF81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17E-6BB7-4FB2-A0C2-9C90713F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2BD-DEF1-4FB2-A20B-BD4A869E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134D-61E8-4465-8E59-B1D995FE55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A76A-19AE-4AB7-B6DC-9BB499751640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931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рок литературного чтения в 1 класс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А. Митта «Шар в окошке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611280" y="5373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БОУ СОШ № 262 г. Санкт-Петербург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исеева В.Н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обери пословицу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6924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корней, друзей, человек, без, что, дерево, без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milash13"/>
          <p:cNvPicPr/>
          <p:nvPr/>
        </p:nvPicPr>
        <p:blipFill>
          <a:blip r:embed="rId1"/>
          <a:stretch/>
        </p:blipFill>
        <p:spPr>
          <a:xfrm>
            <a:off x="7667640" y="765000"/>
            <a:ext cx="12384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14860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еловек без друзей, что дерево без корн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0" descr="normal_812632"/>
          <p:cNvPicPr/>
          <p:nvPr/>
        </p:nvPicPr>
        <p:blipFill>
          <a:blip r:embed="rId1"/>
          <a:stretch/>
        </p:blipFill>
        <p:spPr>
          <a:xfrm>
            <a:off x="1979640" y="3068640"/>
            <a:ext cx="489744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840720" cy="51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Объект 3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8044200" cy="60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ружб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это умение сочувствовать, сострадать, сопереживать, проявление заботы, внимания, отзывчивости, желание помочь, защитить в случае необходимост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91440" cy="54687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1908000" y="476280"/>
            <a:ext cx="204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3371760" y="26208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9e9e9"/>
                </a:solidFill>
                <a:latin typeface="Arial"/>
              </a:rPr>
              <a:t>Коля заболе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бо в окош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Рисунок 2" descr=""/>
          <p:cNvPicPr/>
          <p:nvPr/>
        </p:nvPicPr>
        <p:blipFill>
          <a:blip r:embed="rId1"/>
          <a:stretch/>
        </p:blipFill>
        <p:spPr>
          <a:xfrm>
            <a:off x="1692360" y="1149480"/>
            <a:ext cx="5759280" cy="53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Шар в окошк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400720" cy="53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2:27:11Z</dcterms:created>
  <dc:creator>123</dc:creator>
  <dc:description/>
  <dc:language>en-US</dc:language>
  <cp:lastModifiedBy>User</cp:lastModifiedBy>
  <dcterms:modified xsi:type="dcterms:W3CDTF">2016-04-06T12:06:01Z</dcterms:modified>
  <cp:revision>16</cp:revision>
  <dc:subject/>
  <dc:title>Слайд 1</dc:title>
</cp:coreProperties>
</file>