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7.jpeg" ContentType="image/jpeg"/>
  <Override PartName="/ppt/media/image38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236-8913-47DE-8226-F9E40BCE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A4C-D1E4-45FA-9FF4-6AC53808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F0E-8329-4968-B391-D881EB24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D1C-BCBA-402C-961E-07F17250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219-AC97-498D-A2D7-2521CAE6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3A5-64E9-4994-92E5-E4425AE5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148-7F80-4E2E-85D8-E261F7C9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EF4-7D7C-45F9-93B7-DAA5C36E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0EC-0634-4B78-B31B-F4282D09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5E7-A5D5-422C-AC3E-E216D2B8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1D5-0773-4134-9C0C-7053DEBF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8F5-94AB-46D8-83AE-B4E2663F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0169-C989-438B-AE20-0FE5A2AEF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флаг.png"/>
          <p:cNvPicPr/>
          <p:nvPr/>
        </p:nvPicPr>
        <p:blipFill>
          <a:blip r:embed="rId1"/>
          <a:stretch/>
        </p:blipFill>
        <p:spPr>
          <a:xfrm>
            <a:off x="928800" y="2786040"/>
            <a:ext cx="3000240" cy="182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1195560" y="884160"/>
            <a:ext cx="7772400" cy="146844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3"/>
          <a:stretch/>
        </p:blipFill>
        <p:spPr>
          <a:xfrm>
            <a:off x="-324000" y="2492280"/>
            <a:ext cx="9083880" cy="37483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флаг.jpg"/>
          <p:cNvPicPr/>
          <p:nvPr/>
        </p:nvPicPr>
        <p:blipFill>
          <a:blip r:embed="rId4"/>
          <a:stretch/>
        </p:blipFill>
        <p:spPr>
          <a:xfrm>
            <a:off x="6786720" y="4786200"/>
            <a:ext cx="2143080" cy="160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76280" y="360360"/>
            <a:ext cx="8229600" cy="49356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4" descr="tower.jpg"/>
          <p:cNvPicPr/>
          <p:nvPr/>
        </p:nvPicPr>
        <p:blipFill>
          <a:blip r:embed="rId2"/>
          <a:stretch/>
        </p:blipFill>
        <p:spPr>
          <a:xfrm>
            <a:off x="611280" y="1125360"/>
            <a:ext cx="3500280" cy="496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427640" y="1916280"/>
            <a:ext cx="4298760" cy="322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TextBox 6"/>
          <p:cNvSpPr/>
          <p:nvPr/>
        </p:nvSpPr>
        <p:spPr>
          <a:xfrm>
            <a:off x="1551240" y="61657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The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5545080" y="530064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s Inva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76280" y="285840"/>
            <a:ext cx="8229600" cy="49536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4" descr="tower.jpg"/>
          <p:cNvPicPr/>
          <p:nvPr/>
        </p:nvPicPr>
        <p:blipFill>
          <a:blip r:embed="rId2"/>
          <a:stretch/>
        </p:blipFill>
        <p:spPr>
          <a:xfrm>
            <a:off x="395280" y="1916280"/>
            <a:ext cx="4095720" cy="307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932360" y="981000"/>
            <a:ext cx="3824280" cy="510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TextBox 6"/>
          <p:cNvSpPr/>
          <p:nvPr/>
        </p:nvSpPr>
        <p:spPr>
          <a:xfrm>
            <a:off x="1311840" y="51577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London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581080" y="62373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Disneyland de Paris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8229600" cy="785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928760" y="785880"/>
            <a:ext cx="40388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ur le pont d’Av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On y danse, on y dan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ur le pont d’Av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On y danse tout en r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2718000" cy="273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tretch/>
        </p:blipFill>
        <p:spPr>
          <a:xfrm>
            <a:off x="1042920" y="3683160"/>
            <a:ext cx="3529080" cy="26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2ac"/>
                </a:solidFill>
                <a:latin typeface="Arial"/>
              </a:rPr>
              <a:t>Goodb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2ac"/>
                </a:solidFill>
                <a:latin typeface="Arial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u revo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Bonne chance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5219640" y="2349360"/>
            <a:ext cx="22194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9280" y="148428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ac"/>
                </a:solidFill>
                <a:latin typeface="Arial"/>
              </a:rPr>
              <a:t>What is your na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ac"/>
                </a:solidFill>
                <a:latin typeface="Arial"/>
              </a:rPr>
              <a:t>My name is…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ac"/>
                </a:solidFill>
                <a:latin typeface="Arial"/>
              </a:rPr>
              <a:t>How are yo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ac"/>
                </a:solidFill>
                <a:latin typeface="Arial"/>
              </a:rPr>
              <a:t>Fine, th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2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435280" y="1413000"/>
            <a:ext cx="325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Comment t’appelles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t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Je m’appelle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Comment ça v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Bien, mer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3211560" y="2060640"/>
            <a:ext cx="22240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360" y="428400"/>
            <a:ext cx="40384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ac"/>
                </a:solidFill>
                <a:latin typeface="Arial"/>
              </a:rPr>
              <a:t>What do you lik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ac"/>
                </a:solidFill>
                <a:latin typeface="Arial"/>
              </a:rPr>
              <a:t>I lik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ban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2920" y="428400"/>
            <a:ext cx="40388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Qu’est-ce que tu aim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J’aime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mu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ciné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té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basket-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volley-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choco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ban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7380360" y="1268280"/>
            <a:ext cx="133344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1763640" y="1413000"/>
            <a:ext cx="111456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4"/>
          <a:stretch/>
        </p:blipFill>
        <p:spPr>
          <a:xfrm>
            <a:off x="6588000" y="2637000"/>
            <a:ext cx="1656000" cy="128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5"/>
          <a:stretch/>
        </p:blipFill>
        <p:spPr>
          <a:xfrm>
            <a:off x="6443640" y="4581360"/>
            <a:ext cx="220968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6"/>
          <a:stretch/>
        </p:blipFill>
        <p:spPr>
          <a:xfrm>
            <a:off x="755640" y="4292640"/>
            <a:ext cx="1981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6"/>
          <p:cNvSpPr/>
          <p:nvPr/>
        </p:nvSpPr>
        <p:spPr>
          <a:xfrm>
            <a:off x="1606320" y="51577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Teddy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728680" y="507204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Coq Gaul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220824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340000" cy="2951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имв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76280" y="285840"/>
            <a:ext cx="8229600" cy="4953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tower.jpg"/>
          <p:cNvPicPr/>
          <p:nvPr/>
        </p:nvPicPr>
        <p:blipFill>
          <a:blip r:embed="rId2"/>
          <a:stretch/>
        </p:blipFill>
        <p:spPr>
          <a:xfrm>
            <a:off x="755640" y="1197000"/>
            <a:ext cx="33940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643280" y="1857240"/>
            <a:ext cx="403884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TextBox 6"/>
          <p:cNvSpPr/>
          <p:nvPr/>
        </p:nvSpPr>
        <p:spPr>
          <a:xfrm>
            <a:off x="1839240" y="580536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Big 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5786280" y="507204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Tour Eif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549360" y="360360"/>
            <a:ext cx="8229600" cy="49356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4" descr="tower.jpg"/>
          <p:cNvPicPr/>
          <p:nvPr/>
        </p:nvPicPr>
        <p:blipFill>
          <a:blip r:embed="rId2"/>
          <a:stretch/>
        </p:blipFill>
        <p:spPr>
          <a:xfrm>
            <a:off x="826920" y="1125360"/>
            <a:ext cx="3303720" cy="495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786200" y="1714680"/>
            <a:ext cx="4095720" cy="307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TextBox 6"/>
          <p:cNvSpPr/>
          <p:nvPr/>
        </p:nvSpPr>
        <p:spPr>
          <a:xfrm>
            <a:off x="1210680" y="60930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Trafalgar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5364360" y="500076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Place de l’Eto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76280" y="506520"/>
            <a:ext cx="8229600" cy="48708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tower.jpg"/>
          <p:cNvPicPr/>
          <p:nvPr/>
        </p:nvPicPr>
        <p:blipFill>
          <a:blip r:embed="rId2"/>
          <a:stretch/>
        </p:blipFill>
        <p:spPr>
          <a:xfrm>
            <a:off x="250920" y="2924280"/>
            <a:ext cx="4078080" cy="27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643280" y="1857240"/>
            <a:ext cx="4280040" cy="28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TextBox 6"/>
          <p:cNvSpPr/>
          <p:nvPr/>
        </p:nvSpPr>
        <p:spPr>
          <a:xfrm>
            <a:off x="861480" y="57340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The British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5927040" y="49291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Lo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476280" y="646200"/>
            <a:ext cx="8229600" cy="49356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4" descr="tower.jpg"/>
          <p:cNvPicPr/>
          <p:nvPr/>
        </p:nvPicPr>
        <p:blipFill>
          <a:blip r:embed="rId2"/>
          <a:stretch/>
        </p:blipFill>
        <p:spPr>
          <a:xfrm>
            <a:off x="324000" y="2637000"/>
            <a:ext cx="4001760" cy="300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786200" y="1836720"/>
            <a:ext cx="4095720" cy="282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TextBox 6"/>
          <p:cNvSpPr/>
          <p:nvPr/>
        </p:nvSpPr>
        <p:spPr>
          <a:xfrm>
            <a:off x="748440" y="573408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Buckingham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305680" y="500076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Palais de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549360" y="360360"/>
            <a:ext cx="8229600" cy="49356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5" descr="эйфелева.jpg"/>
          <p:cNvPicPr/>
          <p:nvPr/>
        </p:nvPicPr>
        <p:blipFill>
          <a:blip r:embed="rId2"/>
          <a:stretch/>
        </p:blipFill>
        <p:spPr>
          <a:xfrm>
            <a:off x="5219640" y="1268280"/>
            <a:ext cx="342900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TextBox 6"/>
          <p:cNvSpPr/>
          <p:nvPr/>
        </p:nvSpPr>
        <p:spPr>
          <a:xfrm>
            <a:off x="1041840" y="573408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St Paul’s Cat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5300280" y="595008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Notre-Dame de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250920" y="2023920"/>
            <a:ext cx="4321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18:46:37Z</dcterms:created>
  <dc:creator>User</dc:creator>
  <dc:description/>
  <dc:language>en-US</dc:language>
  <cp:lastModifiedBy>Admin</cp:lastModifiedBy>
  <dcterms:modified xsi:type="dcterms:W3CDTF">2015-11-18T10:21:01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