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70B-1F4D-4B12-BF8D-2327F5E1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0C9-4504-4D32-8D99-B5B0D74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B88-DF45-49F3-8145-5C336D3D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914-9D91-440E-B195-DF11E771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07C-7FA9-44AD-952D-066918A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2F3-FA50-4431-A90C-C4239A3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34B-AA50-4C80-A5A0-5AB82C48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785-FC96-423D-B2F2-2D501A42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F1D-843F-481F-9E37-CC1E0F3F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8FA-9BC4-4DDA-BEA8-687AD733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2DA-1AEC-4573-9DB1-1BE41B6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489-5376-421C-8E64-D6EBC87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1AA-31BC-4251-A26A-B588FAE24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флаг.png"/>
          <p:cNvPicPr/>
          <p:nvPr/>
        </p:nvPicPr>
        <p:blipFill>
          <a:blip r:embed="rId1"/>
          <a:stretch/>
        </p:blipFill>
        <p:spPr>
          <a:xfrm>
            <a:off x="928800" y="2786040"/>
            <a:ext cx="3000240" cy="182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1195560" y="88416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-324000" y="2492280"/>
            <a:ext cx="9083880" cy="3748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флаг.jpg"/>
          <p:cNvPicPr/>
          <p:nvPr/>
        </p:nvPicPr>
        <p:blipFill>
          <a:blip r:embed="rId4"/>
          <a:stretch/>
        </p:blipFill>
        <p:spPr>
          <a:xfrm>
            <a:off x="6786720" y="4786200"/>
            <a:ext cx="2143080" cy="160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7628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tower.jpg"/>
          <p:cNvPicPr/>
          <p:nvPr/>
        </p:nvPicPr>
        <p:blipFill>
          <a:blip r:embed="rId2"/>
          <a:stretch/>
        </p:blipFill>
        <p:spPr>
          <a:xfrm>
            <a:off x="611280" y="1125360"/>
            <a:ext cx="3500280" cy="496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427640" y="1916280"/>
            <a:ext cx="4298760" cy="32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TextBox 6"/>
          <p:cNvSpPr/>
          <p:nvPr/>
        </p:nvSpPr>
        <p:spPr>
          <a:xfrm>
            <a:off x="1551240" y="616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5545080" y="53006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s Inva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76280" y="285840"/>
            <a:ext cx="822960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tower.jpg"/>
          <p:cNvPicPr/>
          <p:nvPr/>
        </p:nvPicPr>
        <p:blipFill>
          <a:blip r:embed="rId2"/>
          <a:stretch/>
        </p:blipFill>
        <p:spPr>
          <a:xfrm>
            <a:off x="395280" y="1916280"/>
            <a:ext cx="4095720" cy="30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932360" y="981000"/>
            <a:ext cx="3824280" cy="51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6"/>
          <p:cNvSpPr/>
          <p:nvPr/>
        </p:nvSpPr>
        <p:spPr>
          <a:xfrm>
            <a:off x="1311840" y="51577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London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581080" y="62373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Disneyland de Paris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7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928760" y="785880"/>
            <a:ext cx="4038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ur le pont d’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n y danse, on y dan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ur le pont d’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n y danse tout en r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2718000" cy="273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1042920" y="3683160"/>
            <a:ext cx="3529080" cy="26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2ac"/>
                </a:solidFill>
                <a:latin typeface="Arial"/>
              </a:rPr>
              <a:t>Goodb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2ac"/>
                </a:solidFill>
                <a:latin typeface="Arial"/>
              </a:rPr>
              <a:t>Good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u rev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Bonne chance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22194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280" y="1484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What is your n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My name is…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How are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ac"/>
                </a:solidFill>
                <a:latin typeface="Arial"/>
              </a:rPr>
              <a:t>Fine, th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2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35280" y="1413000"/>
            <a:ext cx="325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omment t’appelles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t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Je m’appelle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omment ça 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Bien, mer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3211560" y="2060640"/>
            <a:ext cx="22240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428400"/>
            <a:ext cx="40384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ac"/>
                </a:solidFill>
                <a:latin typeface="Arial"/>
              </a:rPr>
              <a:t>What do you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2ac"/>
                </a:solidFill>
                <a:latin typeface="Arial"/>
              </a:rPr>
              <a:t>I lik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an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2920" y="428400"/>
            <a:ext cx="40388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Qu’est-ce que tu aim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J’aim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mu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in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té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basket-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volley-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hoco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ban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1763640" y="141300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6588000" y="2637000"/>
            <a:ext cx="16560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5"/>
          <a:stretch/>
        </p:blipFill>
        <p:spPr>
          <a:xfrm>
            <a:off x="6443640" y="4581360"/>
            <a:ext cx="22096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6"/>
          <a:stretch/>
        </p:blipFill>
        <p:spPr>
          <a:xfrm>
            <a:off x="755640" y="4292640"/>
            <a:ext cx="1981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1606320" y="51577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728680" y="50720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Coq Gaul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220824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340000" cy="295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76280" y="285840"/>
            <a:ext cx="8229600" cy="4953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tower.jpg"/>
          <p:cNvPicPr/>
          <p:nvPr/>
        </p:nvPicPr>
        <p:blipFill>
          <a:blip r:embed="rId2"/>
          <a:stretch/>
        </p:blipFill>
        <p:spPr>
          <a:xfrm>
            <a:off x="755640" y="119700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643280" y="1857240"/>
            <a:ext cx="403884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6"/>
          <p:cNvSpPr/>
          <p:nvPr/>
        </p:nvSpPr>
        <p:spPr>
          <a:xfrm>
            <a:off x="1839240" y="580536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ig 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5786280" y="50720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Tour Eif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54936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4" descr="tower.jpg"/>
          <p:cNvPicPr/>
          <p:nvPr/>
        </p:nvPicPr>
        <p:blipFill>
          <a:blip r:embed="rId2"/>
          <a:stretch/>
        </p:blipFill>
        <p:spPr>
          <a:xfrm>
            <a:off x="826920" y="1125360"/>
            <a:ext cx="3303720" cy="495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786200" y="1714680"/>
            <a:ext cx="4095720" cy="307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Box 6"/>
          <p:cNvSpPr/>
          <p:nvPr/>
        </p:nvSpPr>
        <p:spPr>
          <a:xfrm>
            <a:off x="1210680" y="60930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rafalgar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5364360" y="50007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a Place de l’Eto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76280" y="506520"/>
            <a:ext cx="8229600" cy="48708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tower.jpg"/>
          <p:cNvPicPr/>
          <p:nvPr/>
        </p:nvPicPr>
        <p:blipFill>
          <a:blip r:embed="rId2"/>
          <a:stretch/>
        </p:blipFill>
        <p:spPr>
          <a:xfrm>
            <a:off x="250920" y="2924280"/>
            <a:ext cx="407808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643280" y="1857240"/>
            <a:ext cx="4280040" cy="28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Box 6"/>
          <p:cNvSpPr/>
          <p:nvPr/>
        </p:nvSpPr>
        <p:spPr>
          <a:xfrm>
            <a:off x="861480" y="5734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The British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927040" y="4929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Lo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76280" y="64620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4" descr="tower.jpg"/>
          <p:cNvPicPr/>
          <p:nvPr/>
        </p:nvPicPr>
        <p:blipFill>
          <a:blip r:embed="rId2"/>
          <a:stretch/>
        </p:blipFill>
        <p:spPr>
          <a:xfrm>
            <a:off x="324000" y="2637000"/>
            <a:ext cx="4001760" cy="300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Содержимое 5" descr="эйфелева.jpg"/>
          <p:cNvPicPr/>
          <p:nvPr/>
        </p:nvPicPr>
        <p:blipFill>
          <a:blip r:embed="rId3"/>
          <a:stretch/>
        </p:blipFill>
        <p:spPr>
          <a:xfrm>
            <a:off x="4786200" y="1836720"/>
            <a:ext cx="4095720" cy="28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TextBox 6"/>
          <p:cNvSpPr/>
          <p:nvPr/>
        </p:nvSpPr>
        <p:spPr>
          <a:xfrm>
            <a:off x="748440" y="573408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Buckingham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305680" y="50007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e Palais de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549360" y="360360"/>
            <a:ext cx="8229600" cy="4935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5" descr="эйфелева.jpg"/>
          <p:cNvPicPr/>
          <p:nvPr/>
        </p:nvPicPr>
        <p:blipFill>
          <a:blip r:embed="rId2"/>
          <a:stretch/>
        </p:blipFill>
        <p:spPr>
          <a:xfrm>
            <a:off x="5219640" y="1268280"/>
            <a:ext cx="342900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6"/>
          <p:cNvSpPr/>
          <p:nvPr/>
        </p:nvSpPr>
        <p:spPr>
          <a:xfrm>
            <a:off x="1041840" y="5734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ac"/>
                </a:solidFill>
                <a:latin typeface="Arial"/>
              </a:rPr>
              <a:t>St Paul’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300280" y="595008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Notre-Dame de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250920" y="202392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8:46:37Z</dcterms:created>
  <dc:creator>User</dc:creator>
  <dc:description/>
  <dc:language>en-US</dc:language>
  <cp:lastModifiedBy>Admin</cp:lastModifiedBy>
  <dcterms:modified xsi:type="dcterms:W3CDTF">2015-11-18T10:21:01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