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090-B69D-4C69-ABD9-A4D2C9A0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86D-1BD6-4A73-A316-8FDA11DF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FC8-0DBA-4F54-806A-6404BBA8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6E6-FDB4-4732-91FA-2A8E2886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F8E-23A4-4269-8A34-6C33868E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2C6-0FF0-4AFD-B430-3080CA71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28A-2B33-43C4-84B4-32ED5EDE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8E3-CF9E-44C2-95E2-45907790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E83-2931-47F7-848C-CFA11A38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804-37F6-4992-B8B2-D0485A24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0CB-368C-4A44-96D7-798636C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C5D-2351-44ED-898E-131BC447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7C79-EC29-4442-9D21-86217FA9D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бота социального педагога с родителями одаренных, трудных, педагогически запущенных детей, а также с родителями ребенка-инвали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Социальный педаг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ГБПОУ  МО «Люберецкий техникум имени героя Советского Союза, лётчика-космонавта Ю.А.Гагар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Двухименная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Трудный реб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удный ребе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такой ребенок, чье поведение откланяется от принятых в обществе стандартов и н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8512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Типы "трудных" семей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ья, в которой "трудные" родител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часто одинокая мать, которой ребенок мешает устроить личную жизнь. Атмосфера в такой семье характеризуется холодностью, безразличием, лишенностью духовного конфли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323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 Семья, где господствует безнадзорнос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емьях этого типа родители, как правило, употребляют алкоголь. Для отцов и матерей характерна культурная ограниченность, бедность чувств, отсутствие духовных связей с деть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88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   Семьи, характеризующиеся педагогической неграмотностью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акой семье родители не понимают детей, обнаруживают полное незнание методов воздействия, недооценивают значение семейного воспитания, подрывают авторитет ОУ и учите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1767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ьи, в которых отдается приоритет материальному благополучию над духовной жизн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 таких семьях дети, как правило, растут эгоистами, излишне практичными потребителями. И родители эти качества детей поощряю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3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и, в которых родители предъявляют детям завышенные требования, граничащие с жестокостью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аких семьях детей наказывают, часто физически, за малейшую провинность. И, как результат, дети растут жестокими и озлоблен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трудного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агностика проблем семь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ветительская работа по вопросам воспитания, психологических особенностей детей, гражданских пра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 содействие в получении социальной помощ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ализ результатов рабо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Диагностика проблем семь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197000"/>
          <a:ext cx="8569080" cy="5479920"/>
        </p:xfrm>
        <a:graphic>
          <a:graphicData uri="http://schemas.openxmlformats.org/drawingml/2006/table">
            <a:tbl>
              <a:tblPr/>
              <a:tblGrid>
                <a:gridCol w="1487520"/>
                <a:gridCol w="2119320"/>
                <a:gridCol w="1788840"/>
                <a:gridCol w="1517760"/>
                <a:gridCol w="16556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дически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недостатки, патологии самих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опека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к элементарных педагогических и психологически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матери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семь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ние своих прав и обязанностей как родител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недостатки, патологии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бенку позволяется практически все, отсутствие контроля со стороны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ликты в семье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хие жилищные услов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дическая не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ческие растройства одного из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ждение, несогласованность в методах воспитания между родителями;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ая предметная обеспе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ческие заболования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овый барьер (двуязычие)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коголизм, наркомания и т.п. 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Просветительская работа по вопросам воспитания, психологических особенностей детей, гражданских пра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ганда ЗО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индивидуальных профилактических бесед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встреч учителей и специалистов техникума с родителя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глашение на заседания Совета профилакти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ультации по вопросам занятости во внеурочное врем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ледование жилищно-бытовых условий жизни несовершеннолет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О содействие в получении социальной помощ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ая работа с орган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. защи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об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рона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енс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доровление и ле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. к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ь в трудной жизненной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нсии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Цель взаимодействия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специалиста и родител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е образовательного учреждения и семьи предполагает установление заинтересованного диалога и сотрудничества, перерастающего в активную помощь, направленную на обеспечение главной функции воспитательной системы – развитость, целостность личности ребенка, а также его адаптации и комфор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Анализ результатов работ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азателем успешности работы с родителями трудных подростков будет являться умение классного руководителя сделать родителей своих учеников союзниками педагогических намер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Times New Roman"/>
              </a:rPr>
              <a:t>Ребенок - инвал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бенок- инвали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ребенок  с врожденными нарушениями работы различных органов чувств, с физическими недостатками или умственно отсталый реб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- инвалида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адекватного восприятия родителями своего ребенка: важно отойти от понятия «болезни» и перейти к понятию «особых законов развит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благоприятного микроклимата в семье для максимального раскрытия имеющихся у ребенка личностных ресур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артнерских взаимоотношений родителей с учреждениями, реализующими взаимосвязь и взаимодополнение знаний, обогащение опыт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е и социальное развитие родителей, формирование навыков социальной активности и конструктивности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Формы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 по вопросам развития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выездных мероприятий: посещение театров, музеев, выставок, выезд за город и п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 семин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; общественные а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сс-клубы и тематические круглые столы; публикации опыта воспитания ребенка в семье; встречи с представителями вл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я в системе «ребенок – родитель – специалист»; участие в экспертизе динамики развития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56360" y="1600200"/>
            <a:ext cx="34304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ЛИ (если личный контакт невозможен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ски объявл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ия о собран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ия о предстоящих мероприят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о деятельности в группе: какая в данный момент идет тема в группе, чем занимаются дети в групп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казывание детей в течение д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ые распис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ности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на стенде может дублироваться или развивать информацию, фигурирующую в записках, в бесед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шю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ают родителям ознакомиться с заболеванием и другими темами. Они могут содержать различн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е бюллете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гут рассылаться раз или два раза в месяц, (цели могут быть разными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о различных специальных мероприятиях: собраниях, вечерах, экскурсиях, спектаклях и т. д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событий, происходящих в интерна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видов занятий, проводящихся в группе, а так же мер, по поддержке этих занятий до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ложение идей, позволяющих лучше преподнести тему, которая проходит в группе («Осень», «Моя семья», «Домашние животные» и т. д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Индивидуальные кармашки: (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дин раз в неделю). В кармашки складываются записки о последних достижениях ребенка, его успехах и новых приобретениях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Личные фотоальбомы, альбомы, дневники, которые передаются от педагога к родителю и обратно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роткие сообщения о достижениях ребен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звещение о особых событиях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лагодарность родителя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доровье ребен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личный рост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тот способ особенно подходит родителям, которые легко выражают свои мысли в письменной форме. Для тех, кто не привык пользоваться такой техникой, подойдут другие вариант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акрытые ящики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(в виде почтового ящика) для предложений. Анонимные записки, где родитель может выразить свое отношение к группе, идеи по оформлению, советы, предложения и т. 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Из опыта работы МБОУ СОШ №9 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г. Бирс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новные проблемы семей, имеющих детей с отклонениями в развит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ьное по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блемы обучения и реабилитации ребенка средствами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учение полноценной медицинской помощи и социально-бытового обслужи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Работа социального педагога с семьями, воспитывающими ребенка – инвалида 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лью социально-педагогической деятельности является реализация программы комплексной поддерж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ап – диагностическ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Диагностика семьи: материальные и бытовые условия, численность и структура семьи, эмоционально-психологический климат и характер взаимоотношений между ее членами, жизненный опыт и культурно-образовательный уровень, распределение обязанностей и наличие свободного времени, характер организации совместной деятельности, стиль общения, уровень педагогической компетенции взрослых членов семьи, семейные традиции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ап  - организационный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обучение родителей специфическим способам и приемам работы с ребенком на основе индивидуальной программы; активизация участия одного из членов семьи как организатора реабилитации; подбор дидактического материала для специальных занятий, изготовление наглядных пособий, приспособлений; отработка организационных форм работы, условий обучения; налаживание стиля семейного общения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       Этап - оценка эффективности проделанной работы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устойчивость психоэмоционального состояния ребенка и родителей; уровень сформированности совместной деятельности;уровень развития навыков общен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108" name="Organization Chart 20"/>
          <p:cNvGrpSpPr/>
          <p:nvPr/>
        </p:nvGrpSpPr>
        <p:grpSpPr>
          <a:xfrm>
            <a:off x="395280" y="260280"/>
            <a:ext cx="8208000" cy="6191280"/>
            <a:chOff x="395280" y="260280"/>
            <a:chExt cx="8208000" cy="6191280"/>
          </a:xfrm>
        </p:grpSpPr>
        <p:cxnSp>
          <p:nvCxnSpPr>
            <p:cNvPr id="109" name="_s1028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4984920" y="2250360"/>
              <a:ext cx="1238760" cy="2210040"/>
            </a:xfrm>
            <a:prstGeom prst="bentConnector3">
              <a:avLst>
                <a:gd name="adj1" fmla="val 9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9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2775240" y="2250000"/>
              <a:ext cx="1238760" cy="2210760"/>
            </a:xfrm>
            <a:prstGeom prst="bentConnector3">
              <a:avLst>
                <a:gd name="adj1" fmla="val 9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30"/>
            <p:cNvSpPr/>
            <p:nvPr/>
          </p:nvSpPr>
          <p:spPr>
            <a:xfrm>
              <a:off x="2605680" y="26028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грамма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сихолого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едагогической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аботы с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емьями,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оспитывающими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етей-инвалидо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_s1031"/>
            <p:cNvSpPr/>
            <p:nvPr/>
          </p:nvSpPr>
          <p:spPr>
            <a:xfrm>
              <a:off x="395280" y="397512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а с родителями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 использованием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етодов активног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дагогического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уч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815000" y="397512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а с детьми и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дителями с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пользованием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гровой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ятельност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с использованием методов активного социально-педагогического обучения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ение родителей выходу из стрессовых ситу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тревоги и страха отвер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я личностных нарушений и установ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репление внутрисемейных связей, формирование гармоничных взаимоотнош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етение уверенности в своих сил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епление гармоничного образа семь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Работа социального педаг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одаренных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трудных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ребенка – инвал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педагогически-запущенного реб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детьми и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одителями с использованием игровой деятельности </a:t>
            </a:r>
            <a:br>
              <a:rPr sz="3200"/>
            </a:b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ое взаимодействие, знакомство, развитие координации, органов осязания и обоня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епление внутрисемейных связей, формирование гармоничных взаимоотнош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етение уверенности в своих сил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елкой моторики, телесного контак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самооце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едагогически  запущенный ребе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 запущенный ребе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устойчивое отклонение от нормы в поведении ребенка, нравственном сознании, учебной деятельности, проявляющаяся в неразвитости, необразованности и невоспитанности ребенка, отставании его развития от собственных возможностей, обусловленные отрицательным влиянием среды и ошибками в воспитании, частой сменой школ и преподавателей, отрицательным влиянием улицы, безнадзорность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43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Формы педагогической запущенности (Э.С. Заседателева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 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формированность элементов и навыков учеб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дивидуальные особенности интеллектуального развит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хая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формированность мотивации учения; направленность на другие нешкольные (не соответствующие возрасту) виды деятель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фантилизм воспитания; гиперопека; неблагоприятные факторы, разрушившие положительную мотивацию (межличностные отношения, неадекватная оценка учебной деятельност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хая успеваемость и поведение на фоне достаточного уровня познавательны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II 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пособность произвольной регуляции внимания, учеб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собенности семейного воспитания (потворствующая либо доминирующая гиперпротекция), тот же тип воспитания в детском саду и начальной шко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организованность, невнимательность, зависимость, ведомость, нарушения общения, слабая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Классификация В.Г. Бажен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197000"/>
          <a:ext cx="8229600" cy="5559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и, степень педагогической запущенности которых незначительна. У них отрицательные черты и качества неустойчивы. Интерес к школе у них сохраняется, отношение к учебе в основном положительное. Нет конфликтов с учителями и сверстниками. Детей этой группы отличает легкая внушаемость, неустойчивость, неуверенность в себе. Им свойственны такие качества, как лень, неумение противостоять своим отрицательным ситуативным желаниям, рассеянность, неорганизованность, безынициативность, несамостоятельность. Положение таких детей в коллективе может быть благополучным, они, как правило, не оказываются в изоля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уется низкой успеваемость, конфликтные отношения со сверстниками, учителями. Такие дети, как правило, из неблагополучных семей. Их отличает показная грубость. Познавательные интересы их развиты недостаточно, в начальных классах они не осваивают учебные действия. В основном у этих детей интересы направлены на внеучебную деятельность. Они отличаются легкой внушаемостью, а отсутствие нравственных убеждений способствует тому, что они легко поддаются отрицательному влиянию. Эмоционально-волевая сфера характеризуется недостатком выдержки, неумением владеть собой, вспыльчивостью, озлобленностью, недоброжелательностью. Однако конфликты со сверстниками не носят затяжного характера, а конфликты с учителями возникают из-за неуспеха в учеб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ует отрицательное отношение к нравственным и правовым нормам. Они откровенно грубы по отношению к родителям, учителям и одноклассникам. Обстановка в семье, как правило, неблагополучная. Для таких детей характерна очень слабая успеваемость. Изолированность в классе они компенсируют в общении с себе подобными. Их отличает безволие, склонность к эффектным вспышкам, слабое развитие процессов торможения и тому подобно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педагогически запущенного 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схем организации контактов с детьми и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психологом (обязатель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К. Лу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даренный реб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аренный ребен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1036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абота с родителями одаренного ребенка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(по работе учителя Романовской Е.А.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ое сопровождение семьи способного ребенк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информационная среда для родител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совместная практическая деятельность способного ребенка и его родител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поддержка и поощрение родителей на уровне образовательного учрежде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сихологическое сопровождение семьи способного ребенка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619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с психолог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ие возможностей понимания одаренного ребен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учшение рефлексии своих взаимоотношений с одаренным ребенк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ку новых навыков взаимодействия с ребенк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и развитие отношений сотрудничества и партнерства родителей с ребенком. (тесты, тренинги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304488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Информационная сред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кл родительских собра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лые стол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ерен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е копилки (тесты, анкеты, разные ситуации для дискусси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975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Совместная практическая деятельность способного ребенка и его родителей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местная исследовательская деятель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торепортаж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люд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рисов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местные экскурс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оддержка и поощрение родителей на уровне школы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церты для родите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лагодарственные пись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504d"/>
                </a:solidFill>
                <a:latin typeface="Times New Roman"/>
              </a:rPr>
              <a:t>Одним из критериев результативности является удовлетворенность учащихся, родителей, учителей жизнедеятельностью одаренных детей в образовательном учреждени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ГБОУ СПО МОТОТ</cp:lastModifiedBy>
  <dcterms:modified xsi:type="dcterms:W3CDTF">2016-10-07T12:31:48Z</dcterms:modified>
  <cp:revision>7</cp:revision>
  <dc:subject/>
  <dc:title>Презентация PowerPoint</dc:title>
</cp:coreProperties>
</file>