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3998-1D4C-435E-9618-C6C658705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3171-5497-45F5-8303-30820E460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54EB-E08A-48D3-A0B1-441F27D4A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EDA9-6697-4EEB-9B90-BD5121FA1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F9F4-864F-4169-B994-050EBA0D5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0B7A-9216-4593-8F52-4ED5E04B4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9F2A-C8E2-4414-AAEA-EC368E499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FE90-D53E-4017-B0EC-6A513EB28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85CF-6A9D-4327-8DEE-5B4804DEA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577B-2C92-4DEA-BC44-96F6574B1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6668-25CD-42C5-AC57-6B6665B78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7AE0-D385-4A76-AE97-659C6C446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D41E4-5A80-47BD-9D72-7FF31E5AFD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Работа социального педагога с родителями одаренных, трудных, педагогически запущенных детей, а также с родителями ребенка-инвалид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3933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Times New Roman"/>
              </a:rPr>
              <a:t>Подготови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Times New Roman"/>
              </a:rPr>
              <a:t>Социальный педагог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Times New Roman"/>
              </a:rPr>
              <a:t>ГБПОУ  МО «Люберецкий техникум имени героя Советского Союза, лётчика-космонавта Ю.А.Гагарин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Times New Roman"/>
              </a:rPr>
              <a:t>Двухименная О.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Times New Roman"/>
              </a:rPr>
              <a:t>Трудный ребено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рудный ребено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 это такой ребенок, чье поведение откланяется от принятых в обществе стандартов и нор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4643280" y="1600200"/>
            <a:ext cx="3851280" cy="37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1" lang="ru-RU" sz="4400" spc="-1" strike="noStrike">
                <a:solidFill>
                  <a:srgbClr val="1f497d"/>
                </a:solidFill>
                <a:latin typeface="Times New Roman"/>
              </a:rPr>
              <a:t>Типы "трудных" семей: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11280" y="1267920"/>
            <a:ext cx="403848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емья, в которой "трудные" родители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Это часто одинокая мать, которой ребенок мешает устроить личную жизнь. Атмосфера в такой семье характеризуется холодностью, безразличием, лишенностью духовного конфликт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4643280" y="1600200"/>
            <a:ext cx="403236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3848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  Семья, где господствует безнадзорность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В семьях этого типа родители, как правило, употребляют алкоголь. Для отцов и матерей характерна культурная ограниченность, бедность чувств, отсутствие духовных связей с детьм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4788000" y="1125360"/>
            <a:ext cx="38876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     Семьи, характеризующиеся педагогической неграмотностью родителей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 такой семье родители не понимают детей, обнаруживают полное незнание методов воздействия, недооценивают значение семейного воспитания, подрывают авторитет ОУ и учителе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7" descr=""/>
          <p:cNvPicPr/>
          <p:nvPr/>
        </p:nvPicPr>
        <p:blipFill>
          <a:blip r:embed="rId1"/>
          <a:stretch/>
        </p:blipFill>
        <p:spPr>
          <a:xfrm>
            <a:off x="4356000" y="1916280"/>
            <a:ext cx="4176720" cy="43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38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емьи, в которых отдается приоритет материальному благополучию над духовной жизнью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В таких семьях дети, как правило, растут эгоистами, излишне практичными потребителями. И родители эти качества детей поощряют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4643280" y="1600200"/>
            <a:ext cx="33847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.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емьи, в которых родители предъявляют детям завышенные требования, граничащие с жестокостью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 таких семьях детей наказывают, часто физически, за малейшую провинность. И, как результат, дети растут жестокими и озлобленным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1"/>
          <a:stretch/>
        </p:blipFill>
        <p:spPr>
          <a:xfrm>
            <a:off x="4284720" y="1773360"/>
            <a:ext cx="424800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</a:rPr>
              <a:t>Работа с родителями трудного ребенка</a:t>
            </a:r>
            <a:br>
              <a:rPr sz="3200"/>
            </a:br>
            <a:r>
              <a:rPr b="1" lang="ru-RU" sz="3200" spc="-1" strike="noStrike">
                <a:solidFill>
                  <a:srgbClr val="1f497d"/>
                </a:solidFill>
                <a:latin typeface="Times New Roman"/>
              </a:rPr>
              <a:t> ведется по направлениям 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Диагностика проблем семьи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85000" indent="-5850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осветительская работа по вопросам воспитания, психологических особенностей детей, гражданских прав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85000" indent="-5850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 содействие в получении социальной помощи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85000" indent="-5850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Анализ результатов работы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Times New Roman"/>
              </a:rPr>
              <a:t>Диагностика проблем семь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250920" y="1197000"/>
          <a:ext cx="8569080" cy="5479920"/>
        </p:xfrm>
        <a:graphic>
          <a:graphicData uri="http://schemas.openxmlformats.org/drawingml/2006/table">
            <a:tbl>
              <a:tblPr/>
              <a:tblGrid>
                <a:gridCol w="1487520"/>
                <a:gridCol w="2119320"/>
                <a:gridCol w="1788840"/>
                <a:gridCol w="1517760"/>
                <a:gridCol w="1655640"/>
              </a:tblGrid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циально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дицинск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циально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дагогическ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циально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сихологическ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циально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кономическ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циально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юридические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ические недостатки, патологии самих родителей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иперопека ребенка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достаток элементарных педагогических и психологических зн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зкий материаль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вень семь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знание своих прав и обязанностей как родителей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ические недостатки, патологии ребенка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бенку позволяется практически все, отсутствие контроля со стороны родителей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фликты в семье.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охие жилищные услов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юридическая некомпетент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сихические растройства одного из родителей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схождение, несогласованность в методах воспитания между родителями;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зкая предметная обеспечен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сихические заболования ребенка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зыковый барьер (двуязычие).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лкоголизм, наркомания и т.п. 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Times New Roman"/>
              </a:rPr>
              <a:t>Просветительская работа по вопросам воспитания, психологических особенностей детей, гражданских пра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паганда ЗОЖ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ведение индивидуальных профилактических бесед с родителя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рганизация встреч учителей и специалистов техникума с родителям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глашение на заседания Совета профилактик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одительские собр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сультации по вопросам занятости во внеурочное врем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следование жилищно-бытовых условий жизни несовершеннолетни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Times New Roman"/>
              </a:rPr>
              <a:t>О содействие в получении социальной помощ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вместная работа с органам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ц. защиты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соб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атронаж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мпенс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здоровление и леч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абилитац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ц. кар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мощь в трудной жизненной ситу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нсии и т.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Times New Roman"/>
              </a:rPr>
              <a:t>Цель взаимодействия</a:t>
            </a:r>
            <a:br>
              <a:rPr sz="4400"/>
            </a:br>
            <a:r>
              <a:rPr b="1" lang="ru-RU" sz="4400" spc="-1" strike="noStrike">
                <a:solidFill>
                  <a:srgbClr val="1f497d"/>
                </a:solidFill>
                <a:latin typeface="Times New Roman"/>
              </a:rPr>
              <a:t>специалиста и родителей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заимодействие образовательного учреждения и семьи предполагает установление заинтересованного диалога и сотрудничества, перерастающего в активную помощь, направленную на обеспечение главной функции воспитательной системы – развитость, целостность личности ребенка, а также его адаптации и комфорт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Times New Roman"/>
              </a:rPr>
              <a:t>Анализ результатов работы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казателем успешности работы с родителями трудных подростков будет являться умение классного руководителя сделать родителей своих учеников союзниками педагогических намерений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81bd"/>
                </a:solidFill>
                <a:latin typeface="Times New Roman"/>
              </a:rPr>
              <a:t>Ребенок - инвали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бенок- инвалид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это ребенок  с врожденными нарушениями работы различных органов чувств, с физическими недостатками или умственно отсталый ребено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4648320" y="1413000"/>
            <a:ext cx="40384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</a:rPr>
              <a:t>Работа с родителями  ребенка</a:t>
            </a:r>
            <a:br>
              <a:rPr sz="3200"/>
            </a:br>
            <a:r>
              <a:rPr b="1" lang="ru-RU" sz="3200" spc="-1" strike="noStrike">
                <a:solidFill>
                  <a:srgbClr val="1f497d"/>
                </a:solidFill>
                <a:latin typeface="Times New Roman"/>
              </a:rPr>
              <a:t>- инвалида ведется по направлениям 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ирование адекватного восприятия родителями своего ребенка: важно отойти от понятия «болезни» и перейти к понятию «особых законов развития»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ирование благоприятного микроклимата в семье для максимального раскрытия имеющихся у ребенка личностных ресурс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ирование партнерских взаимоотношений родителей с учреждениями, реализующими взаимосвязь и взаимодополнение знаний, обогащение опыто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ичностное и социальное развитие родителей, формирование навыков социальной активности и конструктивности повед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Times New Roman"/>
              </a:rPr>
              <a:t>Формы работ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330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ндивидуальные консультации по вопросам развития ребенк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рганизация выездных мероприятий: посещение театров, музеев, выставок, выезд за город и пр.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разовательные семинар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сихологические тренинги; общественные акци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сс-клубы и тематические круглые столы; публикации опыта воспитания ребенка в семье; встречи с представителями вла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нятия в системе «ребенок – родитель – специалист»; участие в экспертизе динамики развития ребен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5256360" y="1600200"/>
            <a:ext cx="3430440" cy="38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ЛИ (если личный контакт невозможен)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оски объявлений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ъявления о собраниях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ъявления о предстоящих мероприятиях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нформация о деятельности в группе: какая в данный момент идет тема в группе, чем занимаются дети в групп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сказывание детей в течение дн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жедневные расписан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лагодарности родителя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нформация на стенде может дублироваться или развивать информацию, фигурирующую в записках, в беседа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рошюр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могают родителям ознакомиться с заболеванием и другими темами. Они могут содержать различную информацию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нформационные бюллетен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огут рассылаться раз или два раза в месяц, (цели могут быть разными)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нформация о различных специальных мероприятиях: собраниях, вечерах, экскурсиях, спектаклях и т. д.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писание событий, происходящих в интернат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писание видов занятий, проводящихся в группе, а так же мер, по поддержке этих занятий дом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зложение идей, позволяющих лучше преподнести тему, которая проходит в группе («Осень», «Моя семья», «Домашние животные» и т. д.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Индивидуальные кармашки: (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один раз в неделю). В кармашки складываются записки о последних достижениях ребенка, его успехах и новых приобретениях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Личные фотоальбомы, альбомы, дневники, которые передаются от педагога к родителю и обратно: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короткие сообщения о достижениях ребенка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извещение о особых событиях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благодарность родителям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здоровье ребенка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личный рост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Этот способ особенно подходит родителям, которые легко выражают свои мысли в письменной форме. Для тех, кто не привык пользоваться такой техникой, подойдут другие варианты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Закрытые ящики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(в виде почтового ящика) для предложений. Анонимные записки, где родитель может выразить свое отношение к группе, идеи по оформлению, советы, предложения и т. д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Times New Roman"/>
              </a:rPr>
              <a:t>Из опыта работы МБОУ СОШ №9 </a:t>
            </a:r>
            <a:br>
              <a:rPr sz="4000"/>
            </a:br>
            <a:r>
              <a:rPr b="1" lang="ru-RU" sz="4000" spc="-1" strike="noStrike">
                <a:solidFill>
                  <a:srgbClr val="1f497d"/>
                </a:solidFill>
                <a:latin typeface="Times New Roman"/>
              </a:rPr>
              <a:t>г. Бирск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сновные проблемы семей, имеющих детей с отклонениями в развити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материальное полож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роблемы обучения и реабилитации ребенка средствами образова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олучение полноценной медицинской помощи и социально-бытового обслужива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Times New Roman"/>
              </a:rPr>
              <a:t>Работа социального педагога с семьями, воспитывающими ребенка – инвалида </a:t>
            </a:r>
            <a:r>
              <a:rPr b="1" lang="ru-RU" sz="1400" spc="-1" strike="noStrike">
                <a:solidFill>
                  <a:srgbClr val="1f497d"/>
                </a:solidFill>
                <a:latin typeface="Times New Roman"/>
              </a:rPr>
              <a:t>(Из опыта работы МБОУ СОШ №9 г. Бирска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773000"/>
            <a:ext cx="814716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Целью социально-педагогической деятельности является реализация программы комплексной поддержк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Этап – диагностический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(Диагностика семьи: материальные и бытовые условия, численность и структура семьи, эмоционально-психологический климат и характер взаимоотношений между ее членами, жизненный опыт и культурно-образовательный уровень, распределение обязанностей и наличие свободного времени, характер организации совместной деятельности, стиль общения, уровень педагогической компетенции взрослых членов семьи, семейные традиции.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Этап  - организационный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(обучение родителей специфическим способам и приемам работы с ребенком на основе индивидуальной программы; активизация участия одного из членов семьи как организатора реабилитации; подбор дидактического материала для специальных занятий, изготовление наглядных пособий, приспособлений; отработка организационных форм работы, условий обучения; налаживание стиля семейного общения.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3.       Этап - оценка эффективности проделанной работы.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(устойчивость психоэмоционального состояния ребенка и родителей; уровень сформированности совместной деятельности;уровень развития навыков общения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1f497d"/>
              </a:solidFill>
              <a:latin typeface="Times New Roman"/>
            </a:endParaRPr>
          </a:p>
        </p:txBody>
      </p:sp>
      <p:grpSp>
        <p:nvGrpSpPr>
          <p:cNvPr id="108" name="Organization Chart 20"/>
          <p:cNvGrpSpPr/>
          <p:nvPr/>
        </p:nvGrpSpPr>
        <p:grpSpPr>
          <a:xfrm>
            <a:off x="395280" y="260280"/>
            <a:ext cx="8208000" cy="6191280"/>
            <a:chOff x="395280" y="260280"/>
            <a:chExt cx="8208000" cy="6191280"/>
          </a:xfrm>
        </p:grpSpPr>
        <p:cxnSp>
          <p:nvCxnSpPr>
            <p:cNvPr id="109" name="_s1028"/>
            <p:cNvCxnSpPr>
              <a:stCxn id="110" idx="0"/>
              <a:endCxn id="111" idx="2"/>
            </p:cNvCxnSpPr>
            <p:nvPr/>
          </p:nvCxnSpPr>
          <p:spPr>
            <a:xfrm flipV="1" rot="16200000">
              <a:off x="4984920" y="2250360"/>
              <a:ext cx="1238760" cy="2210040"/>
            </a:xfrm>
            <a:prstGeom prst="bentConnector3">
              <a:avLst>
                <a:gd name="adj1" fmla="val 979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2" name="_s1029"/>
            <p:cNvCxnSpPr>
              <a:stCxn id="113" idx="0"/>
              <a:endCxn id="111" idx="2"/>
            </p:cNvCxnSpPr>
            <p:nvPr/>
          </p:nvCxnSpPr>
          <p:spPr>
            <a:xfrm flipH="1" flipV="1" rot="5400000">
              <a:off x="2775240" y="2250000"/>
              <a:ext cx="1238760" cy="2210760"/>
            </a:xfrm>
            <a:prstGeom prst="bentConnector3">
              <a:avLst>
                <a:gd name="adj1" fmla="val 979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1" name="_s1030"/>
            <p:cNvSpPr/>
            <p:nvPr/>
          </p:nvSpPr>
          <p:spPr>
            <a:xfrm>
              <a:off x="2605680" y="260280"/>
              <a:ext cx="3788280" cy="247644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Программа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психолого-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педагогической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работы с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семьями,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воспитывающими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детей-инвалидов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_s1031"/>
            <p:cNvSpPr/>
            <p:nvPr/>
          </p:nvSpPr>
          <p:spPr>
            <a:xfrm>
              <a:off x="395280" y="3975120"/>
              <a:ext cx="3788280" cy="247644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Работа с родителями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с использованием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методов активного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социально-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педагогического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обучения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_s1032"/>
            <p:cNvSpPr/>
            <p:nvPr/>
          </p:nvSpPr>
          <p:spPr>
            <a:xfrm>
              <a:off x="4815000" y="3975120"/>
              <a:ext cx="3788280" cy="247644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Работа с детьми и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родителями с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использованием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игровой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деятельности.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</a:rPr>
              <a:t>Работа с родителями с использованием методов активного социально-педагогического обучения</a:t>
            </a:r>
            <a:r>
              <a:rPr b="0" lang="ru-RU" sz="3600" spc="-1" strike="noStrike">
                <a:solidFill>
                  <a:srgbClr val="1f497d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ru-RU" sz="1400" spc="-1" strike="noStrike">
                <a:solidFill>
                  <a:srgbClr val="1f497d"/>
                </a:solidFill>
                <a:latin typeface="Times New Roman"/>
              </a:rPr>
              <a:t>(Из опыта работы МБОУ СОШ №9 г. Бирска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Цел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учение родителей выходу из стрессовых ситуаци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нижение тревоги и страха отверже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ррекция личностных нарушений и установо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крепление внутрисемейных связей, формирование гармоничных взаимоотношени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ретение уверенности в своих силах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крепление гармоничного образа семь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Times New Roman"/>
              </a:rPr>
              <a:t>Работа социального педагог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 родителями одаренных дет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 родителями трудных дет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 родителями ребенка – инвали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 родителями педагогически-запущенного ребен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</a:rPr>
              <a:t>Работа с детьми и </a:t>
            </a:r>
            <a:br>
              <a:rPr sz="3200"/>
            </a:br>
            <a:r>
              <a:rPr b="1" lang="ru-RU" sz="3200" spc="-1" strike="noStrike">
                <a:solidFill>
                  <a:srgbClr val="1f497d"/>
                </a:solidFill>
                <a:latin typeface="Times New Roman"/>
              </a:rPr>
              <a:t>родителями с использованием игровой деятельности </a:t>
            </a:r>
            <a:br>
              <a:rPr sz="3200"/>
            </a:br>
            <a:r>
              <a:rPr b="1" lang="ru-RU" sz="1400" spc="-1" strike="noStrike">
                <a:solidFill>
                  <a:srgbClr val="1f497d"/>
                </a:solidFill>
                <a:latin typeface="Times New Roman"/>
              </a:rPr>
              <a:t>(Из опыта работы МБОУ СОШ №9 г. Бирска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л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0280" indent="-350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рупповое взаимодействие, знакомство, развитие координации, органов осязания и обоня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0280" indent="-350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крепление внутрисемейных связей, формирование гармоничных взаимоотношени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0280" indent="-350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ретение уверенности в своих силах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0280" indent="-350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витие мелкой моторики, телесного контакт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0280" indent="-350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вышение самооцен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Times New Roman"/>
              </a:rPr>
              <a:t>Педагогически  запущенный ребено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едагогически запущенный ребено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это устойчивое отклонение от нормы в поведении ребенка, нравственном сознании, учебной деятельности, проявляющаяся в неразвитости, необразованности и невоспитанности ребенка, отставании его развития от собственных возможностей, обусловленные отрицательным влиянием среды и ошибками в воспитании, частой сменой школ и преподавателей, отрицательным влиянием улицы, безнадзорностью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4643280" y="1600200"/>
            <a:ext cx="40435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f497d"/>
                </a:solidFill>
                <a:latin typeface="Times New Roman"/>
              </a:rPr>
              <a:t>Формы педагогической запущенности (Э.С. Заседателева)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I Форм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несформированность элементов и навыков учебной деятельност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ичина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ндивидуальные особенности интеллектуального развития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ледствие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лохая успеваемост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форм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несформированность мотивации учения; направленность на другие нешкольные (не соответствующие возрасту) виды деятельност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ичина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нфантилизм воспитания; гиперопека; неблагоприятные факторы, разрушившие положительную мотивацию (межличностные отношения, неадекватная оценка учебной деятельности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ледствие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лохая успеваемость и поведение на фоне достаточного уровня познавательных возможност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III форм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неспособность произвольной регуляции внимания, учебной деятельност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ичина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особенности семейного воспитания (потворствующая либо доминирующая гиперпротекция), тот же тип воспитания в детском саду и начальной школ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ледствие;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неорганизованность, невнимательность, зависимость, ведомость, нарушения общения, слабая успеваемост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Times New Roman"/>
              </a:rPr>
              <a:t>Классификация В.Г. Баженов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57200" y="1197000"/>
          <a:ext cx="8229600" cy="55594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77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групп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групп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групп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кольники, степень педагогической запущенности которых незначительна. У них отрицательные черты и качества неустойчивы. Интерес к школе у них сохраняется, отношение к учебе в основном положительное. Нет конфликтов с учителями и сверстниками. Детей этой группы отличает легкая внушаемость, неустойчивость, неуверенность в себе. Им свойственны такие качества, как лень, неумение противостоять своим отрицательным ситуативным желаниям, рассеянность, неорганизованность, безынициативность, несамостоятельность. Положение таких детей в коллективе может быть благополучным, они, как правило, не оказываются в изоляци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арактеризуется низкой успеваемость, конфликтные отношения со сверстниками, учителями. Такие дети, как правило, из неблагополучных семей. Их отличает показная грубость. Познавательные интересы их развиты недостаточно, в начальных классах они не осваивают учебные действия. В основном у этих детей интересы направлены на внеучебную деятельность. Они отличаются легкой внушаемостью, а отсутствие нравственных убеждений способствует тому, что они легко поддаются отрицательному влиянию. Эмоционально-волевая сфера характеризуется недостатком выдержки, неумением владеть собой, вспыльчивостью, озлобленностью, недоброжелательностью. Однако конфликты со сверстниками не носят затяжного характера, а конфликты с учителями возникают из-за неуспеха в учебной деятельност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арактеризует отрицательное отношение к нравственным и правовым нормам. Они откровенно грубы по отношению к родителям, учителям и одноклассникам. Обстановка в семье, как правило, неблагополучная. Для таких детей характерна очень слабая успеваемость. Изолированность в классе они компенсируют в общении с себе подобными. Их отличает безволие, склонность к эффектным вспышкам, слабое развитие процессов торможения и тому подобно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1f497d"/>
                </a:solidFill>
                <a:latin typeface="Times New Roman"/>
              </a:rPr>
              <a:t>Работа с родителями педагогически запущенного  ребенка</a:t>
            </a:r>
            <a:br>
              <a:rPr sz="3200"/>
            </a:br>
            <a:r>
              <a:rPr b="1" lang="ru-RU" sz="3200" spc="-1" strike="noStrike">
                <a:solidFill>
                  <a:srgbClr val="1f497d"/>
                </a:solidFill>
                <a:latin typeface="Times New Roman"/>
              </a:rPr>
              <a:t> ведется по направлениям 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работка схем организации контактов с детьми и родителя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нсультирова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бота с психологом (обязательно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.К. Лук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пасиб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з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Одаренный ребено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даренный ребено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— это ребенок, который выделяется яркими, очевидными, иногда выдающимися достижениями (или имеет внутренние предпосылки для таких достижений) в том или ином виде деятельности»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6" descr=""/>
          <p:cNvPicPr/>
          <p:nvPr/>
        </p:nvPicPr>
        <p:blipFill>
          <a:blip r:embed="rId1"/>
          <a:stretch/>
        </p:blipFill>
        <p:spPr>
          <a:xfrm>
            <a:off x="4500720" y="1989000"/>
            <a:ext cx="410364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800" spc="-1" strike="noStrike">
                <a:solidFill>
                  <a:srgbClr val="1f497d"/>
                </a:solidFill>
                <a:latin typeface="Times New Roman"/>
              </a:rPr>
              <a:t>Работа с родителями одаренного ребенка</a:t>
            </a:r>
            <a:br>
              <a:rPr sz="2800"/>
            </a:br>
            <a:r>
              <a:rPr b="1" lang="ru-RU" sz="2800" spc="-1" strike="noStrike">
                <a:solidFill>
                  <a:srgbClr val="1f497d"/>
                </a:solidFill>
                <a:latin typeface="Times New Roman"/>
              </a:rPr>
              <a:t> ведется по направлениям :</a:t>
            </a:r>
            <a:br>
              <a:rPr sz="2800"/>
            </a:br>
            <a:r>
              <a:rPr b="1" lang="ru-RU" sz="2400" spc="-1" strike="noStrike">
                <a:solidFill>
                  <a:srgbClr val="1f497d"/>
                </a:solidFill>
                <a:latin typeface="Times New Roman"/>
              </a:rPr>
              <a:t>(по работе учителя Романовской Е.А.)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1f497d"/>
                </a:solidFill>
                <a:latin typeface="Times New Roman"/>
              </a:rPr>
              <a:t>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сихологическое сопровождение семьи способного ребенка;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2. информационная среда для родителей;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3. совместная практическая деятельность способного ребенка и его родителей;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4. поддержка и поощрение родителей на уровне образовательного учреждения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Times New Roman"/>
              </a:rPr>
              <a:t>Психологическое сопровождение семьи способного ребенка: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6195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бота с психологом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ширение возможностей понимания одаренного ребенка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лучшение рефлексии своих взаимоотношений с одаренным ребенком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работку новых навыков взаимодействия с ребенком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становление и развитие отношений сотрудничества и партнерства родителей с ребенком. (тесты, тренинги и т.д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5508720" y="2276640"/>
            <a:ext cx="3044880" cy="34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Times New Roman"/>
              </a:rPr>
              <a:t>Информационная среда: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икл родительских собраний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руглые столы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нференции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актикумы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ворческие копилки (тесты, анкеты, разные ситуации для дискуссии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4572000" y="1628640"/>
            <a:ext cx="39751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f497d"/>
                </a:solidFill>
                <a:latin typeface="Times New Roman"/>
              </a:rPr>
              <a:t>Совместная практическая деятельность способного ребенка и его родителей: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овместная исследовательская деятельность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оторепортаж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блюдение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рисовки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вместные экскурсии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зент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4788000" y="2060640"/>
            <a:ext cx="374472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Times New Roman"/>
              </a:rPr>
              <a:t>Поддержка и поощрение родителей на уровне школы: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онцерты для родителе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Благодарственные письм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Грамо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c0504d"/>
                </a:solidFill>
                <a:latin typeface="Times New Roman"/>
              </a:rPr>
              <a:t>Одним из критериев результативности является удовлетворенность учащихся, родителей, учителей жизнедеятельностью одаренных детей в образовательном учреждении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15:29:49Z</dcterms:created>
  <dc:creator>Катенок</dc:creator>
  <dc:description/>
  <dc:language>en-US</dc:language>
  <cp:lastModifiedBy>ГБОУ СПО МОТОТ</cp:lastModifiedBy>
  <dcterms:modified xsi:type="dcterms:W3CDTF">2016-10-12T05:38:10Z</dcterms:modified>
  <cp:revision>8</cp:revision>
  <dc:subject/>
  <dc:title>Презентация PowerPoint</dc:title>
</cp:coreProperties>
</file>