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236F-8C37-4DF9-A441-192BE9AED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EB40-07AE-4411-97FD-C60FBFCA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950A-677A-4455-B868-826135E01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4013-6DE2-4293-99B9-7B9926E2A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D307-5B04-4D85-910A-28A250B3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A041-832A-406F-892C-88E33B91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0556-8E64-4971-94E9-59BBEDF4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5D5D-E8D8-41A7-AF83-4F559EC4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751B-819D-4528-A622-93A68D4C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FDE6-0255-4A5F-B700-27F46826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CD1D-39D6-46BC-AB99-7009C215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E782-E91D-4E2C-A6F9-7E4BCD74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80A5-6052-48FA-BEA3-A6CF000E3F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абота социального педагога с родителями одаренных, трудных, педагогически запущенных детей, а также с родителями ребенка-инвали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</a:rPr>
              <a:t>Подготови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</a:rPr>
              <a:t>Социальный педаго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</a:rPr>
              <a:t>ГБПОУ  МО «Люберецкий техникум имени героя Советского Союза, лётчика-космонавта Ю.А.Гагарин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</a:rPr>
              <a:t>Двухименная О.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Трудный ребен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рудный ребено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это такой ребенок, чье поведение откланяется от принятых в обществе стандартов и нор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4643280" y="1600200"/>
            <a:ext cx="385128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Типы "трудных" семей: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403848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мья, в которой "трудные" родител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Это часто одинокая мать, которой ребенок мешает устроить личную жизнь. Атмосфера в такой семье характеризуется холодностью, безразличием, лишенностью духовного конфликт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4643280" y="1600200"/>
            <a:ext cx="40323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 Семья, где господствует безнадзорность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 семьях этого типа родители, как правило, употребляют алкоголь. Для отцов и матерей характерна культурная ограниченность, бедность чувств, отсутствие духовных связей с деть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4788000" y="1125360"/>
            <a:ext cx="3887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    Семьи, характеризующиеся педагогической неграмотностью родителей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такой семье родители не понимают детей, обнаруживают полное незнание методов воздействия, недооценивают значение семейного воспитания, подрывают авторитет ОУ и учител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4356000" y="1916280"/>
            <a:ext cx="417672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мьи, в которых отдается приоритет материальному благополучию над духовной жизнь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В таких семьях дети, как правило, растут эгоистами, излишне практичными потребителями. И родители эти качества детей поощряю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4643280" y="1600200"/>
            <a:ext cx="33847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мьи, в которых родители предъявляют детям завышенные требования, граничащие с жестокостью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таких семьях детей наказывают, часто физически, за малейшую провинность. И, как результат, дети растут жестокими и озлобленны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4284720" y="1773360"/>
            <a:ext cx="4248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Работа с родителями трудного ребенка</a:t>
            </a:r>
            <a:br>
              <a:rPr sz="3200"/>
            </a:b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 ведется по направлениям 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иагностика проблем семь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светительская работа по вопросам воспитания, психологических особенностей детей, гражданских прав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 содействие в получении социальной помощ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нализ результатов работы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Диагностика проблем семь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1197000"/>
          <a:ext cx="8569080" cy="5479920"/>
        </p:xfrm>
        <a:graphic>
          <a:graphicData uri="http://schemas.openxmlformats.org/drawingml/2006/table">
            <a:tbl>
              <a:tblPr/>
              <a:tblGrid>
                <a:gridCol w="1487520"/>
                <a:gridCol w="2119320"/>
                <a:gridCol w="1788840"/>
                <a:gridCol w="1517760"/>
                <a:gridCol w="165564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агог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олог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оном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юридические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ие недостатки, патологии самих родителей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перопека ребенка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достаток элементарных педагогических и психологических зн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ий материа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ень семь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знание своих прав и обязанностей как родителе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ие недостатки, патологии ребенка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бенку позволяется практически все, отсутствие контроля со стороны родителей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фликты в семье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охие жилищные услов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юридическая некомпетент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ические растройства одного из родителей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ждение, несогласованность в методах воспитания между родителями;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ая предметная обеспече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ические заболования ребенка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зыковый барьер (двуязычие)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коголизм, наркомания и т.п. 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</a:rPr>
              <a:t>Просветительская работа по вопросам воспитания, психологических особенностей детей, гражданских пра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паганда ЗО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ведение индивидуальных профилактических бесед с родителя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ганизация встреч учителей и специалистов техникума с родителя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глашение на заседания Совета профилактик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дительские собр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сультации по вопросам занятости во внеурочное врем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следование жилищно-бытовых условий жизни несовершеннолетни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О содействие в получении социальной помощ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местная работа с органа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ц. защит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об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трона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пенс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здоровление и леч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абилит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ц. кар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мощь в трудной жизненной ситу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нсии и т.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Цель взаимодействия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специалиста и родителе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аимодействие образовательного учреждения и семьи предполагает установление заинтересованного диалога и сотрудничества, перерастающего в активную помощь, направленную на обеспечение главной функции воспитательной системы – развитость, целостность личности ребенка, а также его адаптации и комфорт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Анализ результатов работы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казателем успешности работы с родителями трудных подростков будет являться умение классного руководителя сделать родителей своих учеников союзниками педагогических намерени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81bd"/>
                </a:solidFill>
                <a:latin typeface="Times New Roman"/>
              </a:rPr>
              <a:t>Ребенок - инвали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бенок- инвали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это ребенок  с врожденными нарушениями работы различных органов чувств, с физическими недостатками или умственно отсталый ребен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4648320" y="1413000"/>
            <a:ext cx="40384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Работа с родителями  ребенка</a:t>
            </a:r>
            <a:br>
              <a:rPr sz="3200"/>
            </a:b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- инвалида ведется по направлениям 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адекватного восприятия родителями своего ребенка: важно отойти от понятия «болезни» и перейти к понятию «особых законов развития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благоприятного микроклимата в семье для максимального раскрытия имеющихся у ребенка личностных ресурс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партнерских взаимоотношений родителей с учреждениями, реализующими взаимосвязь и взаимодополнение знаний, обогащение опыт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стное и социальное развитие родителей, формирование навыков социальной активности и конструктивности повед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Формы рабо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дивидуальные консультации по вопросам развития ребен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ганизация выездных мероприятий: посещение театров, музеев, выставок, выезд за город и пр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овательные семинар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ологические тренинги; общественные ак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сс-клубы и тематические круглые столы; публикации опыта воспитания ребенка в семье; встречи с представителями вла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нятия в системе «ребенок – родитель – специалист»; участие в экспертизе динамики развития ребе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256360" y="1600200"/>
            <a:ext cx="343044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ЛИ (если личный контакт невозможен)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ски объявлени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ъявления о собрания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ъявления о предстоящих мероприятия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о деятельности в группе: какая в данный момент идет тема в группе, чем занимаются дети в групп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сказывание детей в течение дн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жедневные распис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лагодарности родителя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на стенде может дублироваться или развивать информацию, фигурирующую в записках, в бесед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рошюр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могают родителям ознакомиться с заболеванием и другими темами. Они могут содержать различную информац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формационные бюллетен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гут рассылаться раз или два раза в месяц, (цели могут быть разными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о различных специальных мероприятиях: собраниях, вечерах, экскурсиях, спектаклях и т. д.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исание событий, происходящих в интернат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исание видов занятий, проводящихся в группе, а так же мер, по поддержке этих занятий дом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ложение идей, позволяющих лучше преподнести тему, которая проходит в группе («Осень», «Моя семья», «Домашние животные» и т. д.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Индивидуальные кармашки: (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дин раз в неделю). В кармашки складываются записки о последних достижениях ребенка, его успехах и новых приобретениях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Личные фотоальбомы, альбомы, дневники, которые передаются от педагога к родителю и обратно: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ороткие сообщения о достижениях ребенка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извещение о особых событиях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благодарность родителям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здоровье ребенка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личный рост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Этот способ особенно подходит родителям, которые легко выражают свои мысли в письменной форме. Для тех, кто не привык пользоваться такой техникой, подойдут другие варианты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Закрытые ящики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(в виде почтового ящика) для предложений. Анонимные записки, где родитель может выразить свое отношение к группе, идеи по оформлению, советы, предложения и т. д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</a:rPr>
              <a:t>Из опыта работы МБОУ СОШ №9 </a:t>
            </a:r>
            <a:br>
              <a:rPr sz="4000"/>
            </a:br>
            <a:r>
              <a:rPr b="1" lang="ru-RU" sz="4000" spc="-1" strike="noStrike">
                <a:solidFill>
                  <a:srgbClr val="1f497d"/>
                </a:solidFill>
                <a:latin typeface="Times New Roman"/>
              </a:rPr>
              <a:t>г. Бирс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сновные проблемы семей, имеющих детей с отклонениями в развит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материальное полож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облемы обучения и реабилитации ребенка средствами образов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лучение полноценной медицинской помощи и социально-бытового обслужив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</a:rPr>
              <a:t>Работа социального педагога с семьями, воспитывающими ребенка – инвалида </a:t>
            </a:r>
            <a:r>
              <a:rPr b="1" lang="ru-RU" sz="1400" spc="-1" strike="noStrike">
                <a:solidFill>
                  <a:srgbClr val="1f497d"/>
                </a:solidFill>
                <a:latin typeface="Times New Roman"/>
              </a:rPr>
              <a:t>(Из опыта работы МБОУ СОШ №9 г. Бирска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814716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Целью социально-педагогической деятельности является реализация программы комплексной поддерж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Этап – диагностический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(Диагностика семьи: материальные и бытовые условия, численность и структура семьи, эмоционально-психологический климат и характер взаимоотношений между ее членами, жизненный опыт и культурно-образовательный уровень, распределение обязанностей и наличие свободного времени, характер организации совместной деятельности, стиль общения, уровень педагогической компетенции взрослых членов семьи, семейные традиции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Этап  - организационный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(обучение родителей специфическим способам и приемам работы с ребенком на основе индивидуальной программы; активизация участия одного из членов семьи как организатора реабилитации; подбор дидактического материала для специальных занятий, изготовление наглядных пособий, приспособлений; отработка организационных форм работы, условий обучения; налаживание стиля семейного общения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3.       Этап - оценка эффективности проделанной работы.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(устойчивость психоэмоционального состояния ребенка и родителей; уровень сформированности совместной деятельности;уровень развития навыков общения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Times New Roman"/>
            </a:endParaRPr>
          </a:p>
        </p:txBody>
      </p:sp>
      <p:grpSp>
        <p:nvGrpSpPr>
          <p:cNvPr id="108" name="Organization Chart 20"/>
          <p:cNvGrpSpPr/>
          <p:nvPr/>
        </p:nvGrpSpPr>
        <p:grpSpPr>
          <a:xfrm>
            <a:off x="395280" y="260280"/>
            <a:ext cx="8208000" cy="6191280"/>
            <a:chOff x="395280" y="260280"/>
            <a:chExt cx="8208000" cy="6191280"/>
          </a:xfrm>
        </p:grpSpPr>
        <p:cxnSp>
          <p:nvCxnSpPr>
            <p:cNvPr id="109" name="_s1028"/>
            <p:cNvCxnSpPr>
              <a:stCxn id="110" idx="0"/>
              <a:endCxn id="111" idx="2"/>
            </p:cNvCxnSpPr>
            <p:nvPr/>
          </p:nvCxnSpPr>
          <p:spPr>
            <a:xfrm flipV="1" rot="16200000">
              <a:off x="4984920" y="2250360"/>
              <a:ext cx="1238760" cy="2210040"/>
            </a:xfrm>
            <a:prstGeom prst="bentConnector3">
              <a:avLst>
                <a:gd name="adj1" fmla="val 97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1029"/>
            <p:cNvCxnSpPr>
              <a:stCxn id="113" idx="0"/>
              <a:endCxn id="111" idx="2"/>
            </p:cNvCxnSpPr>
            <p:nvPr/>
          </p:nvCxnSpPr>
          <p:spPr>
            <a:xfrm flipH="1" flipV="1" rot="5400000">
              <a:off x="2775240" y="2250000"/>
              <a:ext cx="1238760" cy="2210760"/>
            </a:xfrm>
            <a:prstGeom prst="bentConnector3">
              <a:avLst>
                <a:gd name="adj1" fmla="val 97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1" name="_s1030"/>
            <p:cNvSpPr/>
            <p:nvPr/>
          </p:nvSpPr>
          <p:spPr>
            <a:xfrm>
              <a:off x="2605680" y="260280"/>
              <a:ext cx="3788280" cy="24764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рограмма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сихолого-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едагогической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работы с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семьями,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воспитывающими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детей-инвалидов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_s1031"/>
            <p:cNvSpPr/>
            <p:nvPr/>
          </p:nvSpPr>
          <p:spPr>
            <a:xfrm>
              <a:off x="395280" y="3975120"/>
              <a:ext cx="3788280" cy="24764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Работа с родителями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 использованием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методов активного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оциально-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едагогического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бучени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_s1032"/>
            <p:cNvSpPr/>
            <p:nvPr/>
          </p:nvSpPr>
          <p:spPr>
            <a:xfrm>
              <a:off x="4815000" y="3975120"/>
              <a:ext cx="3788280" cy="24764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Работа с детьми и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родителями с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спользованием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гровой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еятельности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Работа с родителями с использованием методов активного социально-педагогического обучения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ru-RU" sz="1400" spc="-1" strike="noStrike">
                <a:solidFill>
                  <a:srgbClr val="1f497d"/>
                </a:solidFill>
                <a:latin typeface="Times New Roman"/>
              </a:rPr>
              <a:t>(Из опыта работы МБОУ СОШ №9 г. Бирска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л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учение родителей выходу из стрессовых ситуац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нижение тревоги и страха отверж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ррекция личностных нарушений и установ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крепление внутрисемейных связей, формирование гармоничных взаимоотношен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етение уверенности в своих сила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репление гармоничного образа семь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Работа социального педаго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 родителями одаренных де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 родителями трудных де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 родителями ребенка – инвали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 родителями педагогически-запущенного ребе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Работа с детьми и </a:t>
            </a:r>
            <a:br>
              <a:rPr sz="3200"/>
            </a:b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родителями с использованием игровой деятельности </a:t>
            </a:r>
            <a:br>
              <a:rPr sz="3200"/>
            </a:br>
            <a:r>
              <a:rPr b="1" lang="ru-RU" sz="1400" spc="-1" strike="noStrike">
                <a:solidFill>
                  <a:srgbClr val="1f497d"/>
                </a:solidFill>
                <a:latin typeface="Times New Roman"/>
              </a:rPr>
              <a:t>(Из опыта работы МБОУ СОШ №9 г. Бирска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упповое взаимодействие, знакомство, развитие координации, органов осязания и обоня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крепление внутрисемейных связей, формирование гармоничных взаимоотнош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етение уверенности в своих сила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мелкой моторики, телесного контакт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е самооцен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</a:rPr>
              <a:t>Педагогически  запущенный ребен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дагогически запущенный ребено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это устойчивое отклонение от нормы в поведении ребенка, нравственном сознании, учебной деятельности, проявляющаяся в неразвитости, необразованности и невоспитанности ребенка, отставании его развития от собственных возможностей, обусловленные отрицательным влиянием среды и ошибками в воспитании, частой сменой школ и преподавателей, отрицательным влиянием улицы, безнадзорностью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4643280" y="1600200"/>
            <a:ext cx="4043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</a:rPr>
              <a:t>Формы педагогической запущенности (Э.С. Заседателева)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I Форм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несформированность элементов и навыков учебной деятельност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чин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ндивидуальные особенности интеллектуального развит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ледствие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лохая успеваемо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рм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несформированность мотивации учения; направленность на другие нешкольные (не соответствующие возрасту) виды деятельност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чин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нфантилизм воспитания; гиперопека; неблагоприятные факторы, разрушившие положительную мотивацию (межличностные отношения, неадекватная оценка учебной деятельности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ледствие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лохая успеваемость и поведение на фоне достаточного уровня познавательных возможнос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III форм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неспособность произвольной регуляции внимания, учебной деятельност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чин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собенности семейного воспитания (потворствующая либо доминирующая гиперпротекция), тот же тип воспитания в детском саду и начальной школ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ледствие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еорганизованность, невнимательность, зависимость, ведомость, нарушения общения, слабая успеваемо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</a:rPr>
              <a:t>Классификация В.Г. Баженов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1197000"/>
          <a:ext cx="8229600" cy="55594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руп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груп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груп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ьники, степень педагогической запущенности которых незначительна. У них отрицательные черты и качества неустойчивы. Интерес к школе у них сохраняется, отношение к учебе в основном положительное. Нет конфликтов с учителями и сверстниками. Детей этой группы отличает легкая внушаемость, неустойчивость, неуверенность в себе. Им свойственны такие качества, как лень, неумение противостоять своим отрицательным ситуативным желаниям, рассеянность, неорганизованность, безынициативность, несамостоятельность. Положение таких детей в коллективе может быть благополучным, они, как правило, не оказываются в изоля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зуется низкой успеваемость, конфликтные отношения со сверстниками, учителями. Такие дети, как правило, из неблагополучных семей. Их отличает показная грубость. Познавательные интересы их развиты недостаточно, в начальных классах они не осваивают учебные действия. В основном у этих детей интересы направлены на внеучебную деятельность. Они отличаются легкой внушаемостью, а отсутствие нравственных убеждений способствует тому, что они легко поддаются отрицательному влиянию. Эмоционально-волевая сфера характеризуется недостатком выдержки, неумением владеть собой, вспыльчивостью, озлобленностью, недоброжелательностью. Однако конфликты со сверстниками не носят затяжного характера, а конфликты с учителями возникают из-за неуспеха в учебной деятель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зует отрицательное отношение к нравственным и правовым нормам. Они откровенно грубы по отношению к родителям, учителям и одноклассникам. Обстановка в семье, как правило, неблагополучная. Для таких детей характерна очень слабая успеваемость. Изолированность в классе они компенсируют в общении с себе подобными. Их отличает безволие, склонность к эффектным вспышкам, слабое развитие процессов торможения и тому подобно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Работа с родителями педагогически запущенного  ребенка</a:t>
            </a:r>
            <a:br>
              <a:rPr sz="3200"/>
            </a:b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 ведется по направлениям 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аботка схем организации контактов с детьми и родител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сультиров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а с психологом (обязательн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.К. Лук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пасиб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Одаренный ребен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даренный ребен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— это ребенок, который выделяется яркими, очевидными, иногда выдающимися достижениями (или имеет внутренние предпосылки для таких достижений) в том или ином виде деятельности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4500720" y="1989000"/>
            <a:ext cx="410364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Работа с родителями одаренного ребенка</a:t>
            </a:r>
            <a:br>
              <a:rPr sz="2800"/>
            </a:b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 ведется по направлениям :</a:t>
            </a:r>
            <a:br>
              <a:rPr sz="28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</a:rPr>
              <a:t>(по работе учителя Романовской Е.А.)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</a:rPr>
              <a:t>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сихологическое сопровождение семьи способного ребенка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 информационная среда для родителей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. совместная практическая деятельность способного ребенка и его родителей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. поддержка и поощрение родителей на уровне образовательного учрежден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</a:rPr>
              <a:t>Психологическое сопровождение семьи способного ребенка: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619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та с психолого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ширение возможностей понимания одаренного ребенк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лучшение рефлексии своих взаимоотношений с одаренным ребенком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работку новых навыков взаимодействия с ребенком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тановление и развитие отношений сотрудничества и партнерства родителей с ребенком. (тесты, тренинги и т.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5508720" y="2276640"/>
            <a:ext cx="3044880" cy="34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</a:rPr>
              <a:t>Информационная среда: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икл родительских собрани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углые стол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ференци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ктикум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рческие копилки (тесты, анкеты, разные ситуации для дискуссии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39751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</a:rPr>
              <a:t>Совместная практическая деятельность способного ребенка и его родителей: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вместная исследовательская деятельнос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торепортаж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блюдени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рисовк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местные экскурси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зен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4788000" y="2060640"/>
            <a:ext cx="3744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</a:rPr>
              <a:t>Поддержка и поощрение родителей на уровне школы: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нцерты для родител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лагодарственные пись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рамо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0504d"/>
                </a:solidFill>
                <a:latin typeface="Times New Roman"/>
              </a:rPr>
              <a:t>Одним из критериев результативности является удовлетворенность учащихся, родителей, учителей жизнедеятельностью одаренных детей в образовательном учреждени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29:49Z</dcterms:created>
  <dc:creator>Катенок</dc:creator>
  <dc:description/>
  <dc:language>en-US</dc:language>
  <cp:lastModifiedBy>ГБОУ СПО МОТОТ</cp:lastModifiedBy>
  <dcterms:modified xsi:type="dcterms:W3CDTF">2016-10-12T05:38:10Z</dcterms:modified>
  <cp:revision>8</cp:revision>
  <dc:subject/>
  <dc:title>Презентация PowerPoint</dc:title>
</cp:coreProperties>
</file>