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7AA-3DD9-4197-A62E-FD3FB4EB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2C7-F6BC-441C-A27B-03CF05C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AEB-148D-478B-BE93-060D1D37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59B-D17D-455B-B704-860CD691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D76-1D3B-4691-B4DB-E60D46CE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4AE-C81E-4328-9596-027248EB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C1F-2C09-4C90-9290-D89DEC0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EFF-1BBF-4E06-87F6-803F501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BE-E61B-4F1E-A152-A2BBE552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5E-B032-4F87-A2E0-79778E88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87F-6C0E-43A9-A0CB-8D60C1D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43C-A887-4F9D-BD8F-BA279C8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EDB-95D1-4D6D-B564-51DF4018E2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с двумя вырезанными противолежащими углами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с двумя выреза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19280" y="728640"/>
              <a:ext cx="77054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7200" y="6596280"/>
            <a:ext cx="105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fake- medicines.jpg"/>
          <p:cNvPicPr/>
          <p:nvPr/>
        </p:nvPicPr>
        <p:blipFill>
          <a:blip r:embed="rId3"/>
          <a:stretch/>
        </p:blipFill>
        <p:spPr>
          <a:xfrm rot="1853400">
            <a:off x="7327800" y="5733720"/>
            <a:ext cx="1408320" cy="102708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9" descr="knitting needles.jpg"/>
          <p:cNvPicPr/>
          <p:nvPr/>
        </p:nvPicPr>
        <p:blipFill>
          <a:blip r:embed="rId4"/>
          <a:stretch/>
        </p:blipFill>
        <p:spPr>
          <a:xfrm rot="1161600">
            <a:off x="301680" y="338040"/>
            <a:ext cx="10555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4;&#1072;&#1096;&#1085;&#1080;&#1077;%20&#1086;&#1087;&#1072;&#1089;&#1085;&#1086;&#1089;&#1090;&#1080;%201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24000" y="1268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Тест по те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f6228"/>
                </a:solidFill>
                <a:latin typeface="Arial"/>
              </a:rPr>
              <a:t>«Домашние опасност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563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8. Что вы самостоятельно можете взять из аптечк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2920" y="278136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табле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сту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620720" y="3573360"/>
            <a:ext cx="35748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1547640" y="422100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5"/>
          <p:cNvSpPr/>
          <p:nvPr/>
        </p:nvSpPr>
        <p:spPr>
          <a:xfrm>
            <a:off x="1620720" y="28544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056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9. Что вы самостоятельно можете делать с телевизоро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2565360"/>
            <a:ext cx="8713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ставлять электрическую вилку в розет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нажимать кнопки переключения кан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заменять детали в телевизо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50040" indent="-95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395280" y="364500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"/>
          <p:cNvSpPr/>
          <p:nvPr/>
        </p:nvSpPr>
        <p:spPr>
          <a:xfrm>
            <a:off x="395280" y="450864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>
            <a:off x="395280" y="263700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10. С чем не должны играть дет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6000" y="2565360"/>
            <a:ext cx="721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игруш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 конструкто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 спич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692360" y="335772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4f6228"/>
                </a:solidFill>
                <a:latin typeface="Arial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851280" y="2565360"/>
            <a:ext cx="642960" cy="78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9"/>
          <p:cNvSpPr/>
          <p:nvPr/>
        </p:nvSpPr>
        <p:spPr>
          <a:xfrm>
            <a:off x="2556000" y="4797360"/>
            <a:ext cx="78552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0"/>
          <p:cNvSpPr/>
          <p:nvPr/>
        </p:nvSpPr>
        <p:spPr>
          <a:xfrm>
            <a:off x="1403280" y="4797360"/>
            <a:ext cx="79236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20"/>
          <p:cNvSpPr/>
          <p:nvPr/>
        </p:nvSpPr>
        <p:spPr>
          <a:xfrm>
            <a:off x="6156360" y="256536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1"/>
          <p:cNvSpPr/>
          <p:nvPr/>
        </p:nvSpPr>
        <p:spPr>
          <a:xfrm>
            <a:off x="2627280" y="256536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3924360" y="4869000"/>
            <a:ext cx="642960" cy="78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4"/>
          <p:cNvSpPr/>
          <p:nvPr/>
        </p:nvSpPr>
        <p:spPr>
          <a:xfrm>
            <a:off x="1476360" y="2565360"/>
            <a:ext cx="79200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6"/>
          <p:cNvSpPr/>
          <p:nvPr/>
        </p:nvSpPr>
        <p:spPr>
          <a:xfrm>
            <a:off x="6156360" y="4869000"/>
            <a:ext cx="792000" cy="857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5076720" y="2565360"/>
            <a:ext cx="642960" cy="78588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5076720" y="4869000"/>
            <a:ext cx="642960" cy="78552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7164360" y="4941720"/>
            <a:ext cx="1763640" cy="1727280"/>
          </a:xfrm>
          <a:custGeom>
            <a:avLst/>
            <a:gdLst>
              <a:gd name="textAreaLeft" fmla="*/ 111960 w 1763640"/>
              <a:gd name="textAreaRight" fmla="*/ 1651680 w 176364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22055" h="21600">
                <a:moveTo>
                  <a:pt x="0" y="0"/>
                </a:moveTo>
                <a:lnTo>
                  <a:pt x="22055" y="0"/>
                </a:lnTo>
                <a:lnTo>
                  <a:pt x="22055" y="21600"/>
                </a:lnTo>
                <a:lnTo>
                  <a:pt x="0" y="21600"/>
                </a:lnTo>
                <a:close/>
              </a:path>
              <a:path fill="lightenLess" w="22055" h="21600">
                <a:moveTo>
                  <a:pt x="0" y="0"/>
                </a:moveTo>
                <a:lnTo>
                  <a:pt x="22055" y="0"/>
                </a:lnTo>
                <a:lnTo>
                  <a:pt x="20655" y="1400"/>
                </a:lnTo>
                <a:lnTo>
                  <a:pt x="1400" y="1400"/>
                </a:lnTo>
                <a:close/>
              </a:path>
              <a:path fill="darken" w="22055" h="21600">
                <a:moveTo>
                  <a:pt x="22055" y="0"/>
                </a:moveTo>
                <a:lnTo>
                  <a:pt x="22055" y="21600"/>
                </a:lnTo>
                <a:lnTo>
                  <a:pt x="20655" y="20200"/>
                </a:lnTo>
                <a:lnTo>
                  <a:pt x="20655" y="1400"/>
                </a:lnTo>
                <a:close/>
              </a:path>
              <a:path fill="darkenLess" w="22055" h="21600">
                <a:moveTo>
                  <a:pt x="22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55" y="20200"/>
                </a:lnTo>
                <a:close/>
              </a:path>
              <a:path fill="lighten" w="22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55" h="21600">
                <a:moveTo>
                  <a:pt x="11027" y="3837"/>
                </a:moveTo>
                <a:lnTo>
                  <a:pt x="13604" y="6448"/>
                </a:lnTo>
                <a:lnTo>
                  <a:pt x="13604" y="4707"/>
                </a:lnTo>
                <a:lnTo>
                  <a:pt x="15379" y="4707"/>
                </a:lnTo>
                <a:lnTo>
                  <a:pt x="15379" y="8224"/>
                </a:lnTo>
                <a:lnTo>
                  <a:pt x="17990" y="10800"/>
                </a:lnTo>
                <a:lnTo>
                  <a:pt x="16337" y="10800"/>
                </a:lnTo>
                <a:lnTo>
                  <a:pt x="16337" y="17989"/>
                </a:lnTo>
                <a:lnTo>
                  <a:pt x="5718" y="17989"/>
                </a:lnTo>
                <a:lnTo>
                  <a:pt x="5718" y="10800"/>
                </a:lnTo>
                <a:lnTo>
                  <a:pt x="4064" y="10800"/>
                </a:lnTo>
                <a:close/>
              </a:path>
              <a:path fill="darkenLess" w="22055" h="21600">
                <a:moveTo>
                  <a:pt x="13604" y="6448"/>
                </a:moveTo>
                <a:lnTo>
                  <a:pt x="13604" y="4707"/>
                </a:lnTo>
                <a:lnTo>
                  <a:pt x="15379" y="4707"/>
                </a:lnTo>
                <a:lnTo>
                  <a:pt x="15379" y="8224"/>
                </a:lnTo>
                <a:close/>
              </a:path>
              <a:path fill="darkenLess" w="22055" h="21600">
                <a:moveTo>
                  <a:pt x="10105" y="14299"/>
                </a:moveTo>
                <a:lnTo>
                  <a:pt x="11950" y="14299"/>
                </a:lnTo>
                <a:lnTo>
                  <a:pt x="11950" y="17989"/>
                </a:lnTo>
                <a:lnTo>
                  <a:pt x="16337" y="17989"/>
                </a:lnTo>
                <a:lnTo>
                  <a:pt x="16337" y="10800"/>
                </a:lnTo>
                <a:lnTo>
                  <a:pt x="5718" y="10800"/>
                </a:lnTo>
                <a:lnTo>
                  <a:pt x="5718" y="17989"/>
                </a:lnTo>
                <a:lnTo>
                  <a:pt x="10105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622880" y="1773360"/>
            <a:ext cx="53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     2     3      4    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407240" y="4076640"/>
            <a:ext cx="56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     7      8      9   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971640" y="3789360"/>
            <a:ext cx="6480000" cy="73080"/>
          </a:xfrm>
          <a:prstGeom prst="rect">
            <a:avLst/>
          </a:prstGeom>
          <a:solidFill>
            <a:srgbClr val="6783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468360" y="1341360"/>
            <a:ext cx="83516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 внимательно все ответы. Выбери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 геометрическую фигуру             ,                  ,соответствующую тво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исуй её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042920" y="357336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4"/>
          <p:cNvSpPr/>
          <p:nvPr/>
        </p:nvSpPr>
        <p:spPr>
          <a:xfrm>
            <a:off x="1835280" y="3573360"/>
            <a:ext cx="428400" cy="4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5"/>
          <p:cNvSpPr/>
          <p:nvPr/>
        </p:nvSpPr>
        <p:spPr>
          <a:xfrm>
            <a:off x="2556000" y="3573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1332000" y="404640"/>
            <a:ext cx="691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1.Что нельзя дел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Arial"/>
              </a:rPr>
              <a:t>на балко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шать бель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ыходить на балк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вешиваться с бал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6228"/>
                </a:solidFill>
                <a:latin typeface="Arial"/>
              </a:rPr>
              <a:t>2. Что можно делать с окном?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1916280"/>
            <a:ext cx="856908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крывать и закрывать ок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ысовываться из ок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1000" indent="-9810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идеть на подокон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611280" y="270828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4"/>
          <p:cNvSpPr/>
          <p:nvPr/>
        </p:nvSpPr>
        <p:spPr>
          <a:xfrm>
            <a:off x="611280" y="3357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Равнобедренный треугольник 5"/>
          <p:cNvSpPr/>
          <p:nvPr/>
        </p:nvSpPr>
        <p:spPr>
          <a:xfrm>
            <a:off x="539640" y="1916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698508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3. Чем опасны иголки, гвозди и спиц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03280" y="2492280"/>
            <a:ext cx="7283520" cy="25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х можно проглот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уколо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порез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692360" y="328464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4"/>
          <p:cNvSpPr/>
          <p:nvPr/>
        </p:nvSpPr>
        <p:spPr>
          <a:xfrm>
            <a:off x="1692360" y="3860640"/>
            <a:ext cx="42840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авнобедренный треугольник 5"/>
          <p:cNvSpPr/>
          <p:nvPr/>
        </p:nvSpPr>
        <p:spPr>
          <a:xfrm>
            <a:off x="1692360" y="2565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920360" cy="18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4. Чем опасны сковорода, кастрюля и чайник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47280" y="256536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 них можно ушиби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ми можно обжеч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ни могут ударить то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763640" y="3357720"/>
            <a:ext cx="357120" cy="4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1692360" y="3933720"/>
            <a:ext cx="42840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5"/>
          <p:cNvSpPr/>
          <p:nvPr/>
        </p:nvSpPr>
        <p:spPr>
          <a:xfrm>
            <a:off x="1692360" y="270828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993080" cy="18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5. Какую опасность могут принести соковыжималка, мясорубка и кофемол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6920" y="2852640"/>
            <a:ext cx="7210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орезать паль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бжечь р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уколоть ру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1474920" y="357192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"/>
          <p:cNvSpPr/>
          <p:nvPr/>
        </p:nvSpPr>
        <p:spPr>
          <a:xfrm>
            <a:off x="1403280" y="4221000"/>
            <a:ext cx="428760" cy="500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5"/>
          <p:cNvSpPr/>
          <p:nvPr/>
        </p:nvSpPr>
        <p:spPr>
          <a:xfrm>
            <a:off x="1403280" y="292428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5610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6. Найди опасное веществ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560" y="1988640"/>
            <a:ext cx="72104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вани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крахм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укс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258920" y="335592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1258920" y="400536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5"/>
          <p:cNvSpPr/>
          <p:nvPr/>
        </p:nvSpPr>
        <p:spPr>
          <a:xfrm>
            <a:off x="1258920" y="270828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6985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Arial"/>
              </a:rPr>
              <a:t>7. Как надо ставить ложки, вилки и ножи в подставк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87280" y="2924280"/>
            <a:ext cx="7282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учками ввер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ручками вни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без разн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403280" y="3716280"/>
            <a:ext cx="357120" cy="428760"/>
          </a:xfrm>
          <a:prstGeom prst="rect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1403280" y="4363920"/>
            <a:ext cx="428760" cy="500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авнобедренный треугольник 5"/>
          <p:cNvSpPr/>
          <p:nvPr/>
        </p:nvSpPr>
        <p:spPr>
          <a:xfrm>
            <a:off x="1403280" y="29955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07:07Z</dcterms:created>
  <dc:creator>Компас</dc:creator>
  <dc:description/>
  <dc:language>en-US</dc:language>
  <cp:lastModifiedBy>USER</cp:lastModifiedBy>
  <dcterms:modified xsi:type="dcterms:W3CDTF">2016-07-22T08:02:45Z</dcterms:modified>
  <cp:revision>15</cp:revision>
  <dc:subject/>
  <dc:title>Окружающий мир  2 класс</dc:title>
</cp:coreProperties>
</file>