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EB1D-F4FC-48BC-8F69-425CEE19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9A0B-FE7C-42C8-BDC5-6B398B4E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76CE-844C-4E15-B526-B6E297B4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ABE2-8AEA-4AB3-BE5C-448BF065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B64A-8387-4906-98EE-8AED01C7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B1AD-5FC2-4F18-AF37-00CCD5E2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A96-6FAE-44DB-8298-895E4AF8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607-57D3-4F16-9291-6AB32586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3A49-A92E-4ED4-8BC4-0643902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253F-8816-4E8F-B7BF-EC07B7F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850C-DF37-4A54-BFD1-54A301C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A36F-7D3B-4448-94A2-795E842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1C4D-2DEC-4FC8-9AAF-F7CDE08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90B-72C4-4ED4-B79B-109D487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EAE6-E854-43FA-A5C0-50B5C4D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2635-3BDC-429F-A9A0-8F53A3BE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70FE-438B-4F80-BF64-1585DDF0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CEF4-EEE2-47F6-B0D3-F8C1293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E6E3-4D23-475C-BDB1-68865E0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B4CF-C570-49E0-9D7A-CE5F954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8815-4C90-480E-9949-5E75B14B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E2AE-2332-404C-ADFE-8A0F95FD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D6FB-BA2C-4EFF-BD64-1F80E4A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310E-2353-4784-BE07-153F6FA3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CB9-BDBB-4CB5-8C93-CDDD9FA00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EBB-460B-4340-A1F5-46525FFF8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Виды жилья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ногоэтажный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многоквартирный )до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64360" cy="462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астный (индивидуальный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6626160" cy="497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5580000" cy="4467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24000" y="3132000"/>
            <a:ext cx="49672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ттедж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7488360" cy="532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63880" y="1989000"/>
            <a:ext cx="61801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115" name="_s21516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21515"/>
            <p:cNvCxnSpPr>
              <a:stCxn id="119" idx="0"/>
              <a:endCxn id="117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21514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21510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Виды кварти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1511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однокомна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21512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двухкомна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1513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многокомна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ль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0908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1457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ух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077240" cy="5435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286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569080" cy="5060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187280"/>
            <a:ext cx="8137440" cy="507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6804360" cy="510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47640" y="1096920"/>
            <a:ext cx="7417080" cy="50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908000" y="1857240"/>
            <a:ext cx="6667560" cy="5000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2627280" y="1700280"/>
            <a:ext cx="6334200" cy="474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403280" y="1125360"/>
            <a:ext cx="71294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0:24:23Z</dcterms:created>
  <dc:creator>1</dc:creator>
  <dc:description/>
  <dc:language>en-US</dc:language>
  <cp:lastModifiedBy>1</cp:lastModifiedBy>
  <dcterms:modified xsi:type="dcterms:W3CDTF">2016-10-12T17:59:19Z</dcterms:modified>
  <cp:revision>6</cp:revision>
  <dc:subject/>
  <dc:title>Виды жилья.</dc:title>
</cp:coreProperties>
</file>