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181A-0B9B-4AE7-B92B-37B9F289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DFB7-15F1-40B3-BA7A-CF1F612C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C8D9-F027-4DB3-8143-50E95063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C94C-3518-43F6-9AA2-31574B0A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6AF3-807E-462D-B80F-79F6B423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EA7A-1E24-4FA3-9AF6-B03ADACA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804A-DCAC-48ED-86A9-D0EE8080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B427-E1BB-4651-B461-7AA40761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1023-E170-4F14-A36F-67F2C145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35CA-258A-4D88-A735-865CB941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D457-6A6A-476E-8F95-5A941D21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81CE-1C9E-4387-A05F-D1A968A3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21C9-30D6-4179-B166-ACAA2001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1523-0723-446F-A3E3-73DABDFF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EE71-C8C7-4DE1-A38B-D2FDC882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563C-B045-4ED7-B683-6C819FD9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F3E0-E46E-4FC4-87DF-7AF6E961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53A6-39E8-48B8-83EF-4F8B6851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03B8-5C83-4774-B7AE-A1001D11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EF36-3A6D-466D-840D-9D131AAF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2BD1-FAD8-423F-AD60-7B370515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BCE0-968C-4364-B7BA-231EAE31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8831-9CF3-4895-93A3-75F35321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7BD5-670E-4637-81BF-63A3A85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F7C4-1EC4-46C6-9AA9-C47737A4E9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5EA2-BE3D-4F6E-AEA7-D904DD6F6A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Garamond"/>
              </a:rPr>
              <a:t>Виды жилья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ногоэтажный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многоквартирный )до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064360" cy="4627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Частный (индивидуальный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6626160" cy="4970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5580000" cy="4467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24000" y="3132000"/>
            <a:ext cx="49672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оттедж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7488360" cy="532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63880" y="1989000"/>
            <a:ext cx="61801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115" name="_s21516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21515"/>
            <p:cNvCxnSpPr>
              <a:stCxn id="119" idx="0"/>
              <a:endCxn id="117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21514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7" name="_s21510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Garamond"/>
                </a:rPr>
                <a:t>Виды кварти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21511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однокомнат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21512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двухкомнат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1513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aramond"/>
                </a:rPr>
                <a:t>многокомнат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паль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0908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145728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ух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077240" cy="5435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2868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569080" cy="5060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1187280"/>
            <a:ext cx="8137440" cy="507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6804360" cy="5103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47640" y="1096920"/>
            <a:ext cx="7417080" cy="50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908000" y="1857240"/>
            <a:ext cx="6667560" cy="5000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2627280" y="1700280"/>
            <a:ext cx="6334200" cy="474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1403280" y="1125360"/>
            <a:ext cx="71294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0:24:23Z</dcterms:created>
  <dc:creator>1</dc:creator>
  <dc:description/>
  <dc:language>en-US</dc:language>
  <cp:lastModifiedBy>1</cp:lastModifiedBy>
  <dcterms:modified xsi:type="dcterms:W3CDTF">2016-10-12T17:59:19Z</dcterms:modified>
  <cp:revision>6</cp:revision>
  <dc:subject/>
  <dc:title>Виды жилья.</dc:title>
</cp:coreProperties>
</file>