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2932-C25F-4898-BFE5-0C75212AC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5C57-D77A-45FF-877A-EDDB91C3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D1F2-3A4C-40A5-82B1-893F8AA81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07BE-79BC-4BFF-9797-8F1BECEF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9DCA-5A11-4B66-90E5-E327D9DF1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0D59-CFCB-4D1E-A5D4-019F1A29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C86A-001E-4272-8A4E-331B3B36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C186-08AE-4AAC-9CBC-BD2DAFD9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7D56-F1CE-4084-B5CD-0A2DC5BD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0F81-C512-49A6-9E7F-7C37A302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64C2-38B1-4E14-9A47-19316C76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FA1B-898B-4371-900B-1D8A7B88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CB77-3FF7-45BF-A92C-9D2671DB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F9E4-1B48-4FA6-A645-0CB06762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7737-33C9-4B1E-879D-4875C48E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5405-7FF6-44D3-8D49-5DB2AC6B8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32DC-5DD8-47B8-8EEF-157984772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66B7-6E16-4E77-8C66-87E59696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081D-B0A2-4176-B6CF-6337887C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7934-6B41-439B-BCBB-38F377F1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F6D4-707E-4DAC-8BBE-A5B4224E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614D-3CCA-4FEE-A6AF-57A64DCD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6DF8-AB48-4F20-B41C-F31301F6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0E17-5C09-412E-90AF-1031427A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5121-66F0-4078-9A4F-CC2CB65B2A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DAFC-D160-43F1-882B-3385FA4B2FB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pn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        </a:t>
            </a: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Специальная (коррекционная)                           общеобразовательная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школа – интернат № 31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VI</a:t>
            </a: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 вида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Зачетная работа по биолог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троение и свойства вирус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Ученицы 12 «А» 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ирилкиной Ан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Вирусный гепати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5410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Вирусный гепатит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- инфекционное заболевание, протекающее с поражением печени, желтушным окрашивании кожи, интоксикацией. Вирус гепатита обладает высокой устойчивостью,  он выдерживает кипячение в течение 30 мину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7" descr="гепатит"/>
          <p:cNvPicPr/>
          <p:nvPr/>
        </p:nvPicPr>
        <p:blipFill>
          <a:blip r:embed="rId1"/>
          <a:stretch/>
        </p:blipFill>
        <p:spPr>
          <a:xfrm>
            <a:off x="5410080" y="1752480"/>
            <a:ext cx="3733920" cy="35928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Способы передачи вирусных заболеван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апельная инфекция – самый обычный способ распространения заболеван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онтагиозная передач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(при непосредственном физическом контакт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26" descr="j0430501"/>
          <p:cNvPicPr/>
          <p:nvPr/>
        </p:nvPicPr>
        <p:blipFill>
          <a:blip r:embed="rId1"/>
          <a:stretch/>
        </p:blipFill>
        <p:spPr>
          <a:xfrm>
            <a:off x="5638680" y="1905120"/>
            <a:ext cx="3124440" cy="2019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30" name="Picture 31" descr="j0422215"/>
          <p:cNvPicPr/>
          <p:nvPr/>
        </p:nvPicPr>
        <p:blipFill>
          <a:blip r:embed="rId2"/>
          <a:stretch/>
        </p:blipFill>
        <p:spPr>
          <a:xfrm>
            <a:off x="5562720" y="4076640"/>
            <a:ext cx="3200400" cy="2019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38512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Синдром приобретенного иммунного дефицита (Спид)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ичиной СПИДА и связанных с н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болеваний является виру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иммунодефицита человека (ВИЧ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ирус выводит из строя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истему иммунитета, о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оникает в клет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лимфацитов, разруша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иммунную систему и организм не в состоян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отивостоять возбудителям различных инфекц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вич"/>
          <p:cNvPicPr/>
          <p:nvPr/>
        </p:nvPicPr>
        <p:blipFill>
          <a:blip r:embed="rId1"/>
          <a:stretch/>
        </p:blipFill>
        <p:spPr>
          <a:xfrm>
            <a:off x="6477120" y="1905120"/>
            <a:ext cx="2666880" cy="33526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9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9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9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9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9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9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9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9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9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Как происходит заражение?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927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ПИД передается только от человека к человеку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оловым путем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через кровь, содержащую вирус иммунодефицит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т матери к плоду и новорожденном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7" descr="3456"/>
          <p:cNvPicPr/>
          <p:nvPr/>
        </p:nvPicPr>
        <p:blipFill>
          <a:blip r:embed="rId1"/>
          <a:stretch/>
        </p:blipFill>
        <p:spPr>
          <a:xfrm>
            <a:off x="5029200" y="1600200"/>
            <a:ext cx="3733920" cy="4114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37" name="Text Box 8"/>
          <p:cNvSpPr/>
          <p:nvPr/>
        </p:nvSpPr>
        <p:spPr>
          <a:xfrm>
            <a:off x="0" y="6095880"/>
            <a:ext cx="1043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Вич не распространяется через обыкновенные бытовые контак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ru-RU" sz="4400" spc="-1" strike="noStrike" u="sng">
                <a:solidFill>
                  <a:srgbClr val="ffff00"/>
                </a:solidFill>
                <a:uFillTx/>
                <a:latin typeface="Arial Black"/>
              </a:rPr>
              <a:t>Меры профилактики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46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Избегать случайных половых контактов, использование презервати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нутривенное употребление наркотиков.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7" descr="17791_20070630191535"/>
          <p:cNvPicPr/>
          <p:nvPr/>
        </p:nvPicPr>
        <p:blipFill>
          <a:blip r:embed="rId1"/>
          <a:srcRect l="0" t="0" r="0" b="12504"/>
          <a:stretch/>
        </p:blipFill>
        <p:spPr>
          <a:xfrm>
            <a:off x="4952880" y="1828800"/>
            <a:ext cx="3810240" cy="34052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838080" y="5715000"/>
            <a:ext cx="7848720" cy="52056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сновное условие - Ваше поведени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914400" y="6278400"/>
            <a:ext cx="7620120" cy="5814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Не погибни из-за невежества!”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457560"/>
            <a:ext cx="83851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Жестокая правда о Спиде!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4" name="Picture 4" descr="46_3"/>
          <p:cNvPicPr/>
          <p:nvPr/>
        </p:nvPicPr>
        <p:blipFill>
          <a:blip r:embed="rId1"/>
          <a:stretch/>
        </p:blipFill>
        <p:spPr>
          <a:xfrm>
            <a:off x="304920" y="990720"/>
            <a:ext cx="2552760" cy="1944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45" name="Picture 6" descr="7e53152f_1"/>
          <p:cNvPicPr/>
          <p:nvPr/>
        </p:nvPicPr>
        <p:blipFill>
          <a:blip r:embed="rId2"/>
          <a:stretch/>
        </p:blipFill>
        <p:spPr>
          <a:xfrm>
            <a:off x="2819520" y="1143000"/>
            <a:ext cx="2324160" cy="17780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46" name="Picture 7" descr="30359"/>
          <p:cNvPicPr/>
          <p:nvPr/>
        </p:nvPicPr>
        <p:blipFill>
          <a:blip r:embed="rId3"/>
          <a:stretch/>
        </p:blipFill>
        <p:spPr>
          <a:xfrm>
            <a:off x="990720" y="2819520"/>
            <a:ext cx="2819160" cy="2114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47" name="Picture 8" descr="36835"/>
          <p:cNvPicPr/>
          <p:nvPr/>
        </p:nvPicPr>
        <p:blipFill>
          <a:blip r:embed="rId4"/>
          <a:stretch/>
        </p:blipFill>
        <p:spPr>
          <a:xfrm>
            <a:off x="7251840" y="3352680"/>
            <a:ext cx="1892160" cy="30099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48" name="Picture 9" descr="1147017_371"/>
          <p:cNvPicPr/>
          <p:nvPr/>
        </p:nvPicPr>
        <p:blipFill>
          <a:blip r:embed="rId5"/>
          <a:stretch/>
        </p:blipFill>
        <p:spPr>
          <a:xfrm>
            <a:off x="5334120" y="990720"/>
            <a:ext cx="3200400" cy="2131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49" name="Picture 10" descr="image025"/>
          <p:cNvPicPr/>
          <p:nvPr/>
        </p:nvPicPr>
        <p:blipFill>
          <a:blip r:embed="rId6"/>
          <a:stretch/>
        </p:blipFill>
        <p:spPr>
          <a:xfrm>
            <a:off x="4267080" y="2895480"/>
            <a:ext cx="2514600" cy="18860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50" name="Picture 11" descr="files"/>
          <p:cNvPicPr/>
          <p:nvPr/>
        </p:nvPicPr>
        <p:blipFill>
          <a:blip r:embed="rId7"/>
          <a:srcRect l="0" t="0" r="5980" b="5092"/>
          <a:stretch/>
        </p:blipFill>
        <p:spPr>
          <a:xfrm>
            <a:off x="2895480" y="4807080"/>
            <a:ext cx="2362320" cy="2050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51" name="Picture 12" descr="3"/>
          <p:cNvPicPr/>
          <p:nvPr/>
        </p:nvPicPr>
        <p:blipFill>
          <a:blip r:embed="rId8"/>
          <a:stretch/>
        </p:blipFill>
        <p:spPr>
          <a:xfrm>
            <a:off x="533520" y="5292720"/>
            <a:ext cx="2347920" cy="1565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52" name="Picture 13" descr="21729173_1203"/>
          <p:cNvPicPr/>
          <p:nvPr/>
        </p:nvPicPr>
        <p:blipFill>
          <a:blip r:embed="rId9"/>
          <a:stretch/>
        </p:blipFill>
        <p:spPr>
          <a:xfrm>
            <a:off x="5715000" y="4648320"/>
            <a:ext cx="1463760" cy="22096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Заключ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84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ирусы являются  возбудителями важнейших болезней человека, сельскохозяйственных животных и растений. Они наши постоянные спутники и со дня рождения сопровождают нас  всегда и везде. Вред, который они причиняют, очень велик. Поэтому борьба с вирусами – одна из первоочередных зада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Царство вирусов самое агрессивное и коварно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Picture 7" descr="вирус"/>
          <p:cNvPicPr/>
          <p:nvPr/>
        </p:nvPicPr>
        <p:blipFill>
          <a:blip r:embed="rId1"/>
          <a:stretch/>
        </p:blipFill>
        <p:spPr>
          <a:xfrm>
            <a:off x="457200" y="1905120"/>
            <a:ext cx="3403440" cy="3733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190760" y="1904760"/>
            <a:ext cx="4654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Его представители не любят жить в мире ни друг с другом, ни с окружающими. Вирусы живут пока сражаются и погибают от бездействия. Они очень прихотливы к пище, живут «взаймы» за счёт клеток животных, растений и даже бактер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6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6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Открытие вируса табачной 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                мозаики   </a:t>
            </a:r>
            <a:br>
              <a:rPr sz="36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                                                                          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А в 1892 году,  русский ученый Д. И. Ивановский описал необычные свойства возбудителей болезни табака – (табачной мозаики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13" descr="Д"/>
          <p:cNvPicPr/>
          <p:nvPr/>
        </p:nvPicPr>
        <p:blipFill>
          <a:blip r:embed="rId1"/>
          <a:stretch/>
        </p:blipFill>
        <p:spPr>
          <a:xfrm>
            <a:off x="1220760" y="1905120"/>
            <a:ext cx="3160800" cy="41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Первый открытый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             виру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4876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Ученый собрал листья с больных растений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пыты показали, что возбудитель передается листьями, попавшими в почву, перезимовывает и весной поражает посев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7" descr="вир таб мозаики"/>
          <p:cNvPicPr/>
          <p:nvPr/>
        </p:nvPicPr>
        <p:blipFill>
          <a:blip r:embed="rId1"/>
          <a:stretch/>
        </p:blipFill>
        <p:spPr>
          <a:xfrm>
            <a:off x="5562720" y="1676520"/>
            <a:ext cx="3276360" cy="449568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Химический соста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267080" y="1447560"/>
            <a:ext cx="457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ирусы состоят из нуклеиновой кислоты (ДНК или РНК) и несколько белков, образующих оболочку. Белковая оболочка называется капсидом. Примером таких вирусов является вирус табачной мозаики. Его капсид содержит всего один белок с небольшой молярной массой.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9" descr="вирус табачной мозайки"/>
          <p:cNvPicPr/>
          <p:nvPr/>
        </p:nvPicPr>
        <p:blipFill>
          <a:blip r:embed="rId1"/>
          <a:stretch/>
        </p:blipFill>
        <p:spPr>
          <a:xfrm>
            <a:off x="228600" y="1371600"/>
            <a:ext cx="3637080" cy="480060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3758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Проникновение вируса в клетку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5486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ирус прикрепляется к оболочке клетки, «пробуравлевает» там крошечное отверстие и впрыскивает в нее свою нуклеиновую кислот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компьютерная модель табачной мозаики"/>
          <p:cNvPicPr/>
          <p:nvPr/>
        </p:nvPicPr>
        <p:blipFill>
          <a:blip r:embed="rId1"/>
          <a:stretch/>
        </p:blipFill>
        <p:spPr>
          <a:xfrm>
            <a:off x="5334120" y="1371600"/>
            <a:ext cx="3809880" cy="48006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Новая наука       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        «Вирусология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4918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 1917 году Ф.д’Эррель открыл бактериофаг – вирус, поражающий бактер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ыли открыты вирусы растений, животных и микроорганизм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ти  события положили начало новой науке -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ирусологии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, изучающей неклеточные формы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7" descr="эррель"/>
          <p:cNvPicPr/>
          <p:nvPr/>
        </p:nvPicPr>
        <p:blipFill>
          <a:blip r:embed="rId1"/>
          <a:stretch/>
        </p:blipFill>
        <p:spPr>
          <a:xfrm>
            <a:off x="5334120" y="1905120"/>
            <a:ext cx="3543120" cy="4267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Новая группа вирусов фаг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57600" y="1523520"/>
            <a:ext cx="5486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Бактериофаг или  Фаг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2, по форме  напоминающий головастика прикрепляется к бактериальной клетке и затем впрыскивает в неё длинную одиночную нить ДНК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10" descr="278062236"/>
          <p:cNvPicPr/>
          <p:nvPr/>
        </p:nvPicPr>
        <p:blipFill>
          <a:blip r:embed="rId1"/>
          <a:stretch/>
        </p:blipFill>
        <p:spPr>
          <a:xfrm>
            <a:off x="228600" y="2133720"/>
            <a:ext cx="306216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Самые опасные заболевания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38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Грипп остаётся «королём» эпидемий. Ни одна болезнь не может за короткое время охватить сотни миллионов людей, а гриппом во время пандемии заболевает более миллиарда людей!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19" descr="вирус гриппа"/>
          <p:cNvPicPr/>
          <p:nvPr/>
        </p:nvPicPr>
        <p:blipFill>
          <a:blip r:embed="rId1"/>
          <a:stretch/>
        </p:blipFill>
        <p:spPr>
          <a:xfrm>
            <a:off x="5029200" y="1905120"/>
            <a:ext cx="356544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ксей</dc:creator>
  <dc:description/>
  <dc:language>en-US</dc:language>
  <cp:lastModifiedBy>Алексей</cp:lastModifiedBy>
  <dcterms:modified xsi:type="dcterms:W3CDTF">2016-10-12T12:56:27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