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1C2-839D-41EE-8CDF-E18CEF80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9C9-CE1C-4CB5-8CF3-1449666F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645-186F-4381-B33A-C805F33B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B41-6884-48D7-B5D1-D0BF6E29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870-E641-4C67-82FB-A120285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7616-4D3B-4986-89F2-80400FB8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BB46-EC6A-4631-BC85-8F4D7E8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5EC-949F-4847-9A23-9CB692C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2F8A-619B-4554-90BF-C57C088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491-7275-4384-A619-A35B89B7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5AF-864B-4440-B94A-1853F7E9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2C3-C285-4175-AEB7-7D0357AC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FE9-B940-49FF-8FB9-7510F20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1D20-9EE5-4FCE-BB86-AFF996F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D111-420D-458D-BE75-A20B1A4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987-06C3-4752-8667-09791E13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F886-1F29-42F8-AF43-D2A5539E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3EB-F114-4205-9CD1-BD1B9B9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135-12B4-4A97-9A74-F9223EEC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169-EAE3-4A27-B550-3561A52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CB2-261E-4C19-85F3-81EAEDBC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24F-D175-4EFD-8F8A-5DB235D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8B5-ADE0-4901-801B-84DC3A1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4AC-C632-42ED-8C2D-60037DC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3CF-70BA-4D02-B4E4-EF37676E4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96D-A62B-4D7F-86D1-2898ED27A9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        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Специальная (коррекционная)                           общеобразовательная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школа – интернат № 31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VI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вид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четная работа по би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и свойства виру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цы 12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ирилкиной Ан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ирусный гепати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ирусный гепатит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- инфекционное заболевание, протекающее с поражением печени, желтушным окрашивании кожи, интоксикацией. Вирус гепатита обладает высокой устойчивостью,  он выдерживает кипячение в течение 3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гепатит"/>
          <p:cNvPicPr/>
          <p:nvPr/>
        </p:nvPicPr>
        <p:blipFill>
          <a:blip r:embed="rId1"/>
          <a:stretch/>
        </p:blipFill>
        <p:spPr>
          <a:xfrm>
            <a:off x="5410080" y="1752480"/>
            <a:ext cx="3733920" cy="3592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особы передачи вирусных заболев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пельная инфекция – самый обычный способ распространения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тагиозная переда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(при непосредственном физическом контакт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6" descr="j0430501"/>
          <p:cNvPicPr/>
          <p:nvPr/>
        </p:nvPicPr>
        <p:blipFill>
          <a:blip r:embed="rId1"/>
          <a:stretch/>
        </p:blipFill>
        <p:spPr>
          <a:xfrm>
            <a:off x="5638680" y="1905120"/>
            <a:ext cx="3124440" cy="2019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Picture 31" descr="j0422215"/>
          <p:cNvPicPr/>
          <p:nvPr/>
        </p:nvPicPr>
        <p:blipFill>
          <a:blip r:embed="rId2"/>
          <a:stretch/>
        </p:blipFill>
        <p:spPr>
          <a:xfrm>
            <a:off x="5562720" y="4076640"/>
            <a:ext cx="3200400" cy="2019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Синдром приобретенного иммунного дефицита (Спид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чиной СПИДА и связанных с 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болеваний является вир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ммунодефицита человека (ВИЧ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ирус выводит из стро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истему иммунитета, 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никает в клет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мфацитов, разруш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ммунную систему и организм не в состоя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тивостоять возбудителям различных инфе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вич"/>
          <p:cNvPicPr/>
          <p:nvPr/>
        </p:nvPicPr>
        <p:blipFill>
          <a:blip r:embed="rId1"/>
          <a:stretch/>
        </p:blipFill>
        <p:spPr>
          <a:xfrm>
            <a:off x="6477120" y="1905120"/>
            <a:ext cx="2666880" cy="33526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ак происходит заражение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92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ПИД передается только от человека к человеку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овым путе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ерез кровь, содержащую вирус иммунодефици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матери к плоду и новорожденн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7" descr="3456"/>
          <p:cNvPicPr/>
          <p:nvPr/>
        </p:nvPicPr>
        <p:blipFill>
          <a:blip r:embed="rId1"/>
          <a:stretch/>
        </p:blipFill>
        <p:spPr>
          <a:xfrm>
            <a:off x="5029200" y="1600200"/>
            <a:ext cx="3733920" cy="4114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7" name="Text Box 8"/>
          <p:cNvSpPr/>
          <p:nvPr/>
        </p:nvSpPr>
        <p:spPr>
          <a:xfrm>
            <a:off x="0" y="6095880"/>
            <a:ext cx="104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Вич не распространяется через обыкновенные бытовые конта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Меры профилактик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4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бегать случайных половых контактов, использование презерва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утривенное употребление наркотиков.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17791_20070630191535"/>
          <p:cNvPicPr/>
          <p:nvPr/>
        </p:nvPicPr>
        <p:blipFill>
          <a:blip r:embed="rId1"/>
          <a:srcRect l="0" t="0" r="0" b="12504"/>
          <a:stretch/>
        </p:blipFill>
        <p:spPr>
          <a:xfrm>
            <a:off x="4952880" y="1828800"/>
            <a:ext cx="3810240" cy="3405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838080" y="57150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сновное условие - Ваше поведе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14400" y="6278400"/>
            <a:ext cx="762012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Не погибни из-за невежества!”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457560"/>
            <a:ext cx="8385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Жестокая правда о Спид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46_3"/>
          <p:cNvPicPr/>
          <p:nvPr/>
        </p:nvPicPr>
        <p:blipFill>
          <a:blip r:embed="rId1"/>
          <a:stretch/>
        </p:blipFill>
        <p:spPr>
          <a:xfrm>
            <a:off x="304920" y="990720"/>
            <a:ext cx="25527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5" name="Picture 6" descr="7e53152f_1"/>
          <p:cNvPicPr/>
          <p:nvPr/>
        </p:nvPicPr>
        <p:blipFill>
          <a:blip r:embed="rId2"/>
          <a:stretch/>
        </p:blipFill>
        <p:spPr>
          <a:xfrm>
            <a:off x="2819520" y="1143000"/>
            <a:ext cx="2324160" cy="1778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6" name="Picture 7" descr="30359"/>
          <p:cNvPicPr/>
          <p:nvPr/>
        </p:nvPicPr>
        <p:blipFill>
          <a:blip r:embed="rId3"/>
          <a:stretch/>
        </p:blipFill>
        <p:spPr>
          <a:xfrm>
            <a:off x="990720" y="2819520"/>
            <a:ext cx="2819160" cy="211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7" name="Picture 8" descr="36835"/>
          <p:cNvPicPr/>
          <p:nvPr/>
        </p:nvPicPr>
        <p:blipFill>
          <a:blip r:embed="rId4"/>
          <a:stretch/>
        </p:blipFill>
        <p:spPr>
          <a:xfrm>
            <a:off x="7251840" y="3352680"/>
            <a:ext cx="1892160" cy="3009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8" name="Picture 9" descr="1147017_371"/>
          <p:cNvPicPr/>
          <p:nvPr/>
        </p:nvPicPr>
        <p:blipFill>
          <a:blip r:embed="rId5"/>
          <a:stretch/>
        </p:blipFill>
        <p:spPr>
          <a:xfrm>
            <a:off x="5334120" y="990720"/>
            <a:ext cx="3200400" cy="2131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9" name="Picture 10" descr="image025"/>
          <p:cNvPicPr/>
          <p:nvPr/>
        </p:nvPicPr>
        <p:blipFill>
          <a:blip r:embed="rId6"/>
          <a:stretch/>
        </p:blipFill>
        <p:spPr>
          <a:xfrm>
            <a:off x="4267080" y="2895480"/>
            <a:ext cx="251460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0" name="Picture 11" descr="files"/>
          <p:cNvPicPr/>
          <p:nvPr/>
        </p:nvPicPr>
        <p:blipFill>
          <a:blip r:embed="rId7"/>
          <a:srcRect l="0" t="0" r="5980" b="5092"/>
          <a:stretch/>
        </p:blipFill>
        <p:spPr>
          <a:xfrm>
            <a:off x="2895480" y="4807080"/>
            <a:ext cx="2362320" cy="205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1" name="Picture 12" descr="3"/>
          <p:cNvPicPr/>
          <p:nvPr/>
        </p:nvPicPr>
        <p:blipFill>
          <a:blip r:embed="rId8"/>
          <a:stretch/>
        </p:blipFill>
        <p:spPr>
          <a:xfrm>
            <a:off x="533520" y="5292720"/>
            <a:ext cx="2347920" cy="156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Picture 13" descr="21729173_1203"/>
          <p:cNvPicPr/>
          <p:nvPr/>
        </p:nvPicPr>
        <p:blipFill>
          <a:blip r:embed="rId9"/>
          <a:stretch/>
        </p:blipFill>
        <p:spPr>
          <a:xfrm>
            <a:off x="5715000" y="4648320"/>
            <a:ext cx="1463760" cy="220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84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ирусы являются  возбудителями важнейших болезней человека, сельскохозяйственных животных и растений. Они наши постоянные спутники и со дня рождения сопровождают нас  всегда и везде. Вред, который они причиняют, очень велик. Поэтому борьба с вирусами – одна из первоочередных зада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Царство вирусов самое агрессивное и коварн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7" descr="вирус"/>
          <p:cNvPicPr/>
          <p:nvPr/>
        </p:nvPicPr>
        <p:blipFill>
          <a:blip r:embed="rId1"/>
          <a:stretch/>
        </p:blipFill>
        <p:spPr>
          <a:xfrm>
            <a:off x="457200" y="1905120"/>
            <a:ext cx="3403440" cy="3733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654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Его представители не любят жить в мире ни друг с другом, ни с окружающими. Вирусы живут пока сражаются и погибают от бездействия. Они очень прихотливы к пище, живут «взаймы» за счёт клеток животных, растений и даже бактер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Открытие вируса табачной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                мозаики   </a:t>
            </a:r>
            <a:br>
              <a:rPr sz="36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 в 1892 году,  русский ученый Д. И. Ивановский описал необычные свойства возбудителей болезни табака – (табачной мозаи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Д"/>
          <p:cNvPicPr/>
          <p:nvPr/>
        </p:nvPicPr>
        <p:blipFill>
          <a:blip r:embed="rId1"/>
          <a:stretch/>
        </p:blipFill>
        <p:spPr>
          <a:xfrm>
            <a:off x="1220760" y="1905120"/>
            <a:ext cx="31608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ервый открытый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            вир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ый собрал листья с больных растений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пыты показали, что возбудитель передается листьями, попавшими в почву, перезимовывает и весной поражает посе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вир таб мозаики"/>
          <p:cNvPicPr/>
          <p:nvPr/>
        </p:nvPicPr>
        <p:blipFill>
          <a:blip r:embed="rId1"/>
          <a:stretch/>
        </p:blipFill>
        <p:spPr>
          <a:xfrm>
            <a:off x="5562720" y="1676520"/>
            <a:ext cx="3276360" cy="44956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Химический соста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57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ирусы состоят из нуклеиновой кислоты (ДНК или РНК) и несколько белков, образующих оболочку. Белковая оболочка называется капсидом. Примером таких вирусов является вирус табачной мозаики. Его капсид содержит всего один белок с небольшой молярной массой.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вирус табачной мозайки"/>
          <p:cNvPicPr/>
          <p:nvPr/>
        </p:nvPicPr>
        <p:blipFill>
          <a:blip r:embed="rId1"/>
          <a:stretch/>
        </p:blipFill>
        <p:spPr>
          <a:xfrm>
            <a:off x="228600" y="1371600"/>
            <a:ext cx="3637080" cy="48006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37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Проникновение вируса в клетк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ирус прикрепляется к оболочке клетки, «пробуравлевает» там крошечное отверстие и впрыскивает в нее свою нуклеиновую кисло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компьютерная модель табачной мозаики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4800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Новая наука       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        «Вирусологи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491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1917 году Ф.д’Эррель открыл бактериофаг – вирус, поражающий 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ли открыты вирусы растений, животных и микроорганиз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  события положили начало новой науке -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ирусологии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, изучающей неклеточные формы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эррель"/>
          <p:cNvPicPr/>
          <p:nvPr/>
        </p:nvPicPr>
        <p:blipFill>
          <a:blip r:embed="rId1"/>
          <a:stretch/>
        </p:blipFill>
        <p:spPr>
          <a:xfrm>
            <a:off x="5334120" y="1905120"/>
            <a:ext cx="354312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Новая группа вирусов фаг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600" y="15235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актериофаг или  Фаг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, по форме  напоминающий головастика прикрепляется к бактериальной клетке и затем впрыскивает в неё длинную одиночную нить ДН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278062236"/>
          <p:cNvPicPr/>
          <p:nvPr/>
        </p:nvPicPr>
        <p:blipFill>
          <a:blip r:embed="rId1"/>
          <a:stretch/>
        </p:blipFill>
        <p:spPr>
          <a:xfrm>
            <a:off x="228600" y="2133720"/>
            <a:ext cx="306216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Самые опасные заболе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38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ипп остаётся «королём» эпидемий. Ни одна болезнь не может за короткое время охватить сотни миллионов людей, а гриппом во время пандемии заболевает более миллиарда людей!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9" descr="вирус гриппа"/>
          <p:cNvPicPr/>
          <p:nvPr/>
        </p:nvPicPr>
        <p:blipFill>
          <a:blip r:embed="rId1"/>
          <a:stretch/>
        </p:blipFill>
        <p:spPr>
          <a:xfrm>
            <a:off x="5029200" y="1905120"/>
            <a:ext cx="35654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6-10-12T12:56:2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