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9EFF-5041-4C6E-95FC-8464B7270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BED5-E355-4DC7-B3A1-2F90A2D01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berra is the newest city in Australia. It was planned by Walter Burley Griffin – an American architect in 1912, was built in 1923-19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3BA7-93FA-4899-8A96-3C045B6B0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 Opera House was opened in 1973 for music, theatre and dance. Its roof looks like sails. About 4 mln people live in Syd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EE17-535E-4CCF-B864-2B2BC115D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h reminds many Americans of cities in Southern California. It is the major west coast city and a sea 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4FF5-1A07-444A-86ED-61C63F42D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bourne was the capital from 1901 to 19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1F75-7897-4611-8C07-F78110C07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Coral Reef is the most beautiful place in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115-832F-40C7-B491-2B546344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8F7-2449-490C-94C9-3820D3F8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220-AD18-4CD0-B6BD-0BCEE9CE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A9D-F777-410B-9767-74AF7D6F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FCB-391A-4EC0-8A8B-9B7CBA7F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5E6-A4A5-4159-8C85-834BF2B0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BF1-374C-42D9-9546-BC3BFDD0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416-C2AE-4084-A9BD-79A2F781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829-B0B2-4F05-B562-80C5C35C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22F-FB41-4204-A9FE-DFF79C76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3BF-5778-474F-8FDC-F3284ED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89F-CE98-4993-8295-1F785A2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F5DD-3030-404D-A4B7-10B87C3E5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Arial"/>
              </a:rPr>
              <a:t>Austral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австралия-скалы"/>
          <p:cNvPicPr/>
          <p:nvPr/>
        </p:nvPicPr>
        <p:blipFill>
          <a:blip r:embed="rId1"/>
          <a:stretch/>
        </p:blipFill>
        <p:spPr>
          <a:xfrm>
            <a:off x="395280" y="1341360"/>
            <a:ext cx="388944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was discovered in 1606 and named “New Holland”. Captain James Cook landed on the east coast in 1707. Since that time Australia has belonged to Britain. The name Australia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жная земля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fixed in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австралия-горы2"/>
          <p:cNvPicPr/>
          <p:nvPr/>
        </p:nvPicPr>
        <p:blipFill>
          <a:blip r:embed="rId2"/>
          <a:stretch/>
        </p:blipFill>
        <p:spPr>
          <a:xfrm>
            <a:off x="4788000" y="1341360"/>
            <a:ext cx="396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Let’s sum u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 is situated in the Southern Hemi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 continent, an island and a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6 states and 2 territories in Australia. Canberra is the capital of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mportant cities are Sydney, Melbourne, Brisb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 is a land of striking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ommonwealth of  Austra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aus_flag"/>
          <p:cNvPicPr/>
          <p:nvPr/>
        </p:nvPicPr>
        <p:blipFill>
          <a:blip r:embed="rId1"/>
          <a:stretch/>
        </p:blipFill>
        <p:spPr>
          <a:xfrm>
            <a:off x="468360" y="1197000"/>
            <a:ext cx="4248000" cy="2257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0" y="1125360"/>
            <a:ext cx="42116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constitutional monarch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the head of the State is the Queen of Great Britain –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arliament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 1 January 19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six Australian states became on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berr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b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pital of Australia since 1927 and now it is an important centr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Канберра"/>
          <p:cNvPicPr/>
          <p:nvPr/>
        </p:nvPicPr>
        <p:blipFill>
          <a:blip r:embed="rId2"/>
          <a:stretch/>
        </p:blipFill>
        <p:spPr>
          <a:xfrm>
            <a:off x="539640" y="3568680"/>
            <a:ext cx="4176720" cy="274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796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796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796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796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ix states, two terr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оперный театр(Сидней)"/>
          <p:cNvPicPr/>
          <p:nvPr/>
        </p:nvPicPr>
        <p:blipFill>
          <a:blip r:embed="rId1"/>
          <a:stretch/>
        </p:blipFill>
        <p:spPr>
          <a:xfrm>
            <a:off x="1547640" y="1341360"/>
            <a:ext cx="5761080" cy="309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outh W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industrial state. Its capital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dn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the largest city in Australia, founded in 1788. It is a busy modern city, the center for much Australian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ix states, two terr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3860280"/>
            <a:ext cx="83023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stern Austr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nhospitable, dry state. But it has the most beautiful Australian city - the capit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least populated and least developed part is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Northern Terri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rocodiles still live there. It has only two large settlements –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Darw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ts capital – and Alice Springs – the only town in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isb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apital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eensl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second largest state in Australia. It is famous for its sandy be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Brisbane"/>
          <p:cNvPicPr/>
          <p:nvPr/>
        </p:nvPicPr>
        <p:blipFill>
          <a:blip r:embed="rId1"/>
          <a:stretch/>
        </p:blipFill>
        <p:spPr>
          <a:xfrm>
            <a:off x="4716360" y="981000"/>
            <a:ext cx="4033800" cy="273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Perth"/>
          <p:cNvPicPr/>
          <p:nvPr/>
        </p:nvPicPr>
        <p:blipFill>
          <a:blip r:embed="rId2"/>
          <a:stretch/>
        </p:blipFill>
        <p:spPr>
          <a:xfrm>
            <a:off x="468360" y="981000"/>
            <a:ext cx="3743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ix states, two terr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ictoria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inancial centre of the nation. The main cit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lbour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previous capital of Austral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 Austra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ell-known as the largest exporter of wine. Its capit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ela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mous for Festivals of Art held every two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Мельбурн"/>
          <p:cNvPicPr/>
          <p:nvPr/>
        </p:nvPicPr>
        <p:blipFill>
          <a:blip r:embed="rId1"/>
          <a:stretch/>
        </p:blipFill>
        <p:spPr>
          <a:xfrm>
            <a:off x="468360" y="981000"/>
            <a:ext cx="4176720" cy="280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Аделаида"/>
          <p:cNvPicPr/>
          <p:nvPr/>
        </p:nvPicPr>
        <p:blipFill>
          <a:blip r:embed="rId2"/>
          <a:stretch/>
        </p:blipFill>
        <p:spPr>
          <a:xfrm>
            <a:off x="395280" y="3933720"/>
            <a:ext cx="41306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ix states, two terr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53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asman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island state, produces most of Australia’s apples, pears and berries. Its capita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ba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one of the oldest city in Australia, was founded in 18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Тасмания1"/>
          <p:cNvPicPr/>
          <p:nvPr/>
        </p:nvPicPr>
        <p:blipFill>
          <a:blip r:embed="rId1"/>
          <a:stretch/>
        </p:blipFill>
        <p:spPr>
          <a:xfrm>
            <a:off x="4284720" y="3645000"/>
            <a:ext cx="4680000" cy="2948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Тасмания2"/>
          <p:cNvPicPr/>
          <p:nvPr/>
        </p:nvPicPr>
        <p:blipFill>
          <a:blip r:embed="rId2"/>
          <a:stretch/>
        </p:blipFill>
        <p:spPr>
          <a:xfrm>
            <a:off x="4284720" y="765000"/>
            <a:ext cx="46800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upside down world” – the most extraordinary countr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австралия-скалы2"/>
          <p:cNvPicPr/>
          <p:nvPr/>
        </p:nvPicPr>
        <p:blipFill>
          <a:blip r:embed="rId1"/>
          <a:stretch/>
        </p:blipFill>
        <p:spPr>
          <a:xfrm>
            <a:off x="779400" y="1600200"/>
            <a:ext cx="3721320" cy="23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скала эйрс"/>
          <p:cNvPicPr/>
          <p:nvPr/>
        </p:nvPicPr>
        <p:blipFill>
          <a:blip r:embed="rId2"/>
          <a:stretch/>
        </p:blipFill>
        <p:spPr>
          <a:xfrm>
            <a:off x="4970520" y="1600200"/>
            <a:ext cx="3778200" cy="240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скала эйрс(вид)"/>
          <p:cNvPicPr/>
          <p:nvPr/>
        </p:nvPicPr>
        <p:blipFill>
          <a:blip r:embed="rId3"/>
          <a:stretch/>
        </p:blipFill>
        <p:spPr>
          <a:xfrm>
            <a:off x="766800" y="3938760"/>
            <a:ext cx="3733920" cy="265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риф ночной"/>
          <p:cNvPicPr/>
          <p:nvPr/>
        </p:nvPicPr>
        <p:blipFill>
          <a:blip r:embed="rId4"/>
          <a:stretch/>
        </p:blipFill>
        <p:spPr>
          <a:xfrm>
            <a:off x="5003640" y="4294080"/>
            <a:ext cx="3600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ustralia is the hottest place in the South Hemi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риф с самолета"/>
          <p:cNvPicPr/>
          <p:nvPr/>
        </p:nvPicPr>
        <p:blipFill>
          <a:blip r:embed="rId1"/>
          <a:stretch/>
        </p:blipFill>
        <p:spPr>
          <a:xfrm rot="427200">
            <a:off x="250920" y="1844640"/>
            <a:ext cx="4230720" cy="319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карта рифа"/>
          <p:cNvPicPr/>
          <p:nvPr/>
        </p:nvPicPr>
        <p:blipFill>
          <a:blip r:embed="rId2"/>
          <a:stretch/>
        </p:blipFill>
        <p:spPr>
          <a:xfrm rot="20779200">
            <a:off x="4716360" y="1844280"/>
            <a:ext cx="4114800" cy="3341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reat Coral Reef is the largest in the world and the most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риф под вод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12:28Z</dcterms:created>
  <dc:creator>USER</dc:creator>
  <dc:description/>
  <dc:language>en-US</dc:language>
  <cp:lastModifiedBy>Пользователь Windows</cp:lastModifiedBy>
  <dcterms:modified xsi:type="dcterms:W3CDTF">2016-10-13T19:01:25Z</dcterms:modified>
  <cp:revision>18</cp:revision>
  <dc:subject/>
  <dc:title>kffmnv</dc:title>
</cp:coreProperties>
</file>