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2.jpeg" ContentType="image/jpeg"/>
  <Override PartName="/ppt/media/image11.png" ContentType="image/png"/>
  <Override PartName="/ppt/media/image9.png" ContentType="image/png"/>
  <Override PartName="/ppt/media/image7.png" ContentType="image/png"/>
  <Override PartName="/ppt/media/image1.jpeg" ContentType="image/jpeg"/>
  <Override PartName="/ppt/media/image19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2.jpeg" ContentType="image/jpeg"/>
  <Override PartName="/ppt/media/image3.jpeg" ContentType="image/jpeg"/>
  <Override PartName="/ppt/media/image15.png" ContentType="image/png"/>
  <Override PartName="/ppt/media/image5.jpeg" ContentType="image/jpeg"/>
  <Override PartName="/ppt/media/image10.png" ContentType="image/png"/>
  <Override PartName="/ppt/media/image6.jpeg" ContentType="image/jpeg"/>
  <Override PartName="/ppt/media/image8.png" ContentType="image/png"/>
  <Override PartName="/ppt/media/image1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F009C-FE68-4920-B1DD-8E080A83FE4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0E3E8-B8E2-4F41-9FB5-BD7C76E9A74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berra is the newest city in Australia. It was planned by Walter Burley Griffin – an American architect in 1912, was built in 1923-19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41250-06CB-44E5-BDB8-7CBAFEA5902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dney Opera House was opened in 1973 for music, theatre and dance. Its roof looks like sails. About 4 mln people live in Sydne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3023B-0771-4C0B-938E-9BBA22017D1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th reminds many Americans of cities in Southern California. It is the major west coast city and a sea por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2C0D6-E7FE-4BC3-AD07-9067905BC19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lbourne was the capital from 1901 to 1927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8B374-6634-4E89-972B-8F8D8C7D6A9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reat Coral Reef is the most beautiful place in the worl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AF36F-6BFB-4AD5-AEAE-85465D4E9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908ED-92A2-4E47-9A03-4681AA0E7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4CF15-FF80-4EBC-B789-C19714A43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C2043-1F9C-4A9B-87F4-CD4A5D505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EFA5C-2207-4FAB-8E2B-D6A6DBE08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40B00-873B-4DA5-96F2-4935D222B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C76D1-E3DD-4CB6-A13F-17D8F00AA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D4987-2600-4A50-A805-851B10416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1174B-F802-493F-9A7A-E49E6F721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C3050-9B75-426A-8AAD-91F6A189C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E2EAA-6262-4222-8D65-6A5AF2188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5F340-5BD8-4F95-B14B-A79E29BAB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5893D-BE44-40D9-8107-B25938641C5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47765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4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9900"/>
                </a:solidFill>
                <a:latin typeface="Arial"/>
              </a:rPr>
              <a:t>Australia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9" descr="австралия-скалы"/>
          <p:cNvPicPr/>
          <p:nvPr/>
        </p:nvPicPr>
        <p:blipFill>
          <a:blip r:embed="rId1"/>
          <a:stretch/>
        </p:blipFill>
        <p:spPr>
          <a:xfrm>
            <a:off x="395280" y="1341360"/>
            <a:ext cx="3889440" cy="2232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360" y="3715920"/>
            <a:ext cx="8229600" cy="31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t was discovered in 1606 and named “New Holland”. Captain James Cook landed on the east coast in 1707. Since that time Australia has belonged to Britain. The name Australia (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Южная земля)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as fixed in 19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centu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0" descr="австралия-горы2"/>
          <p:cNvPicPr/>
          <p:nvPr/>
        </p:nvPicPr>
        <p:blipFill>
          <a:blip r:embed="rId2"/>
          <a:stretch/>
        </p:blipFill>
        <p:spPr>
          <a:xfrm>
            <a:off x="4788000" y="1341360"/>
            <a:ext cx="396072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00"/>
                </a:solidFill>
                <a:latin typeface="Arial"/>
              </a:rPr>
              <a:t>Let’s sum up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4000" y="1196640"/>
            <a:ext cx="86407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ustralia is situated in the Southern Hemisp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t is a continent, an island and a count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re are 6 states and 2 territories in Australia. Canberra is the capital of the count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ther important cities are Sydney, Melbourne, Brisban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ustralia is a land of striking dif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3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3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3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30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30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30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30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30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30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3000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30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30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300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30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30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Commonwealth of  Australi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6" descr="aus_flag"/>
          <p:cNvPicPr/>
          <p:nvPr/>
        </p:nvPicPr>
        <p:blipFill>
          <a:blip r:embed="rId1"/>
          <a:stretch/>
        </p:blipFill>
        <p:spPr>
          <a:xfrm>
            <a:off x="468360" y="1197000"/>
            <a:ext cx="4248000" cy="225756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932000" y="1125360"/>
            <a:ext cx="421164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ustralia is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constitutional monarch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- the head of the State is the Queen of Great Britain – and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parliament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On 1 January 190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he six Australian states became one count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anberr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s bee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pital of Australia since 1927 and now it is an important centre of lear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1" descr="Канберра"/>
          <p:cNvPicPr/>
          <p:nvPr/>
        </p:nvPicPr>
        <p:blipFill>
          <a:blip r:embed="rId2"/>
          <a:stretch/>
        </p:blipFill>
        <p:spPr>
          <a:xfrm>
            <a:off x="539640" y="3568680"/>
            <a:ext cx="4176720" cy="27478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0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796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" fill="hold">
                                          <p:stCondLst>
                                            <p:cond delay="1796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796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" fill="hold">
                                          <p:stCondLst>
                                            <p:cond delay="1796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796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" fill="hold">
                                          <p:stCondLst>
                                            <p:cond delay="1796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796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" fill="hold">
                                          <p:stCondLst>
                                            <p:cond delay="1796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Arial"/>
              </a:rPr>
              <a:t>Six states, two territo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7" descr="оперный театр(Сидней)"/>
          <p:cNvPicPr/>
          <p:nvPr/>
        </p:nvPicPr>
        <p:blipFill>
          <a:blip r:embed="rId1"/>
          <a:stretch/>
        </p:blipFill>
        <p:spPr>
          <a:xfrm>
            <a:off x="1547640" y="1341360"/>
            <a:ext cx="5761080" cy="309564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360" y="450864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New South Wale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is the industrial state. Its capital is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ydney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– the largest city in Australia, founded in 1788. It is a busy modern city, the center for much Australian busine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Arial"/>
              </a:rPr>
              <a:t>Six states, two territo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24000" y="3860280"/>
            <a:ext cx="830232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Western Australi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n inhospitable, dry state. But it has the most beautiful Australian city - the capital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Per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next least populated and least developed part is </a:t>
            </a:r>
            <a:r>
              <a:rPr b="0" lang="en-US" sz="2400" spc="-1" strike="noStrike">
                <a:solidFill>
                  <a:srgbClr val="ff5050"/>
                </a:solidFill>
                <a:latin typeface="Arial"/>
              </a:rPr>
              <a:t>Northern Territor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Crocodiles still live there. It has only two large settlements – </a:t>
            </a:r>
            <a:r>
              <a:rPr b="0" lang="en-US" sz="2400" spc="-1" strike="noStrike">
                <a:solidFill>
                  <a:srgbClr val="ff5050"/>
                </a:solidFill>
                <a:latin typeface="Arial"/>
              </a:rPr>
              <a:t>Darw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its capital – and Alice Springs – the only town in the sou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Brisban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capital of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Queenslan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the second largest state in Australia. It is famous for its sandy beach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9" descr="Brisbane"/>
          <p:cNvPicPr/>
          <p:nvPr/>
        </p:nvPicPr>
        <p:blipFill>
          <a:blip r:embed="rId1"/>
          <a:stretch/>
        </p:blipFill>
        <p:spPr>
          <a:xfrm>
            <a:off x="4716360" y="981000"/>
            <a:ext cx="4033800" cy="27370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0" descr="Perth"/>
          <p:cNvPicPr/>
          <p:nvPr/>
        </p:nvPicPr>
        <p:blipFill>
          <a:blip r:embed="rId2"/>
          <a:stretch/>
        </p:blipFill>
        <p:spPr>
          <a:xfrm>
            <a:off x="468360" y="981000"/>
            <a:ext cx="3743280" cy="27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0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8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5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Arial"/>
              </a:rPr>
              <a:t>Six states, two territo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48320" y="1197000"/>
            <a:ext cx="44956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Victoria sta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the financial centre of the nation. The main city is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Melbourn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the previous capital of Australi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South Australi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well-known as the largest exporter of wine. Its capital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delai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famous for Festivals of Art held every two yea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8" descr="Мельбурн"/>
          <p:cNvPicPr/>
          <p:nvPr/>
        </p:nvPicPr>
        <p:blipFill>
          <a:blip r:embed="rId1"/>
          <a:stretch/>
        </p:blipFill>
        <p:spPr>
          <a:xfrm>
            <a:off x="468360" y="981000"/>
            <a:ext cx="4176720" cy="28051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9" descr="Аделаида"/>
          <p:cNvPicPr/>
          <p:nvPr/>
        </p:nvPicPr>
        <p:blipFill>
          <a:blip r:embed="rId2"/>
          <a:stretch/>
        </p:blipFill>
        <p:spPr>
          <a:xfrm>
            <a:off x="395280" y="3933720"/>
            <a:ext cx="4130640" cy="27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Arial"/>
              </a:rPr>
              <a:t>Six states, two territo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125000"/>
            <a:ext cx="353844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asmani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the island state, produces most of Australia’s apples, pears and berries. Its capital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Hobart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 one of the oldest city in Australia, was founded in 1804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17" descr="Тасмания1"/>
          <p:cNvPicPr/>
          <p:nvPr/>
        </p:nvPicPr>
        <p:blipFill>
          <a:blip r:embed="rId1"/>
          <a:stretch/>
        </p:blipFill>
        <p:spPr>
          <a:xfrm>
            <a:off x="4284720" y="3645000"/>
            <a:ext cx="4680000" cy="29480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9" descr="Тасмания2"/>
          <p:cNvPicPr/>
          <p:nvPr/>
        </p:nvPicPr>
        <p:blipFill>
          <a:blip r:embed="rId2"/>
          <a:stretch/>
        </p:blipFill>
        <p:spPr>
          <a:xfrm>
            <a:off x="4284720" y="765000"/>
            <a:ext cx="4680000" cy="26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The upside down world” – the most extraordinary country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8" descr="австралия-скалы2"/>
          <p:cNvPicPr/>
          <p:nvPr/>
        </p:nvPicPr>
        <p:blipFill>
          <a:blip r:embed="rId1"/>
          <a:stretch/>
        </p:blipFill>
        <p:spPr>
          <a:xfrm>
            <a:off x="779400" y="1600200"/>
            <a:ext cx="3721320" cy="23335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9" descr="скала эйрс"/>
          <p:cNvPicPr/>
          <p:nvPr/>
        </p:nvPicPr>
        <p:blipFill>
          <a:blip r:embed="rId2"/>
          <a:stretch/>
        </p:blipFill>
        <p:spPr>
          <a:xfrm>
            <a:off x="4970520" y="1600200"/>
            <a:ext cx="3778200" cy="24051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0" descr="скала эйрс(вид)"/>
          <p:cNvPicPr/>
          <p:nvPr/>
        </p:nvPicPr>
        <p:blipFill>
          <a:blip r:embed="rId3"/>
          <a:stretch/>
        </p:blipFill>
        <p:spPr>
          <a:xfrm>
            <a:off x="766800" y="3938760"/>
            <a:ext cx="3733920" cy="26589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1" descr="риф ночной"/>
          <p:cNvPicPr/>
          <p:nvPr/>
        </p:nvPicPr>
        <p:blipFill>
          <a:blip r:embed="rId4"/>
          <a:stretch/>
        </p:blipFill>
        <p:spPr>
          <a:xfrm>
            <a:off x="5003640" y="4294080"/>
            <a:ext cx="360072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0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50000">
              <a:srgbClr val="76762f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Australia is the hottest place in the South Hemisphe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11" descr="риф с самолета"/>
          <p:cNvPicPr/>
          <p:nvPr/>
        </p:nvPicPr>
        <p:blipFill>
          <a:blip r:embed="rId1"/>
          <a:stretch/>
        </p:blipFill>
        <p:spPr>
          <a:xfrm rot="427200">
            <a:off x="250920" y="1844640"/>
            <a:ext cx="4230720" cy="31971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6" descr="карта рифа"/>
          <p:cNvPicPr/>
          <p:nvPr/>
        </p:nvPicPr>
        <p:blipFill>
          <a:blip r:embed="rId2"/>
          <a:stretch/>
        </p:blipFill>
        <p:spPr>
          <a:xfrm rot="20779200">
            <a:off x="4716360" y="1844280"/>
            <a:ext cx="4114800" cy="334188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68360" y="566064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Great Coral Reef is the largest in the world and the most beautif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2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2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5" descr="риф под водой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0T10:12:28Z</dcterms:created>
  <dc:creator>USER</dc:creator>
  <dc:description/>
  <dc:language>en-US</dc:language>
  <cp:lastModifiedBy>Пользователь Windows</cp:lastModifiedBy>
  <dcterms:modified xsi:type="dcterms:W3CDTF">2016-10-13T19:01:25Z</dcterms:modified>
  <cp:revision>18</cp:revision>
  <dc:subject/>
  <dc:title>kffmnv</dc:title>
</cp:coreProperties>
</file>