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BE1-04D0-4AD7-988B-D750F262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172-F4FC-42D0-A643-EE02950F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E60-4EB1-43B1-923C-AA32803F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ACE-4DEB-426D-832B-38E69696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356A-6EBF-43AF-ABDD-C4942D3C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914E-DC7A-4E2F-9541-09CDB6BD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39E7-D1D8-419D-9E4F-5DDF1F0A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208-A76E-4D2E-B012-3B24CF56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B20D-1443-44B5-BF25-1B429192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9D48-C844-400C-AE2A-AB74027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88B1-39B2-4CBD-8A10-FC10E8F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070-2002-4E1B-AE7A-C6AFC7EF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A93F-F0F1-498D-A909-2CC86C3A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B5E5-4F1E-4B3C-AC46-50A435E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5C30-BD6F-4352-8674-539EE201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AC3B-D80E-4400-BAB0-2E802844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D78-51D6-4604-8EED-2EE4A059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6A9-2D7A-4DCE-98B7-D5935F1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3E2-47AC-4816-872D-2776E3CE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B63-2E70-4941-A55E-B0571544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4EB-DBB7-4DB0-B8B5-D8115F3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3D4-4A14-4790-AA41-9DC31D6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846-9B5C-480A-A1AC-34890AE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394-F5A3-41C2-91C8-F43F3A1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D78-92B5-4A8F-8A51-0746BBE0D70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A5F-21C5-4B2E-B30A-76805E903F1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rtchive.ru/artists/ernst_karlovich_lipgart/type/zhivopis/portret_isturgeneva_dar_avtora_apbogolyubovu_foto/_frame" TargetMode="External"/><Relationship Id="rId3" Type="http://schemas.openxmlformats.org/officeDocument/2006/relationships/image" Target="../media/image3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-конечная звезда 1">
            <a:hlinkClick r:id="rId1" action="ppaction://hlinksldjump"/>
          </p:cNvPr>
          <p:cNvSpPr/>
          <p:nvPr/>
        </p:nvSpPr>
        <p:spPr>
          <a:xfrm>
            <a:off x="7848720" y="5486400"/>
            <a:ext cx="1295280" cy="114300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533520"/>
          <a:ext cx="6858000" cy="54878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6b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ё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6bc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1. Выз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иаграмма Венна», «Отсюда – сюда»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2. Осмыс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ые слова, ТАСК, «Зигзаг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bf5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3.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, трёхчастный дневник, «Письмо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4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54800" y="16002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5343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82680" y="33526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43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06720" y="39625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5343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0" y="5257800"/>
            <a:ext cx="510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2514600" y="617220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5694480" y="571500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4-конечная звезда 11"/>
          <p:cNvSpPr/>
          <p:nvPr/>
        </p:nvSpPr>
        <p:spPr>
          <a:xfrm>
            <a:off x="7924680" y="4572000"/>
            <a:ext cx="1219320" cy="1143000"/>
          </a:xfrm>
          <a:custGeom>
            <a:avLst/>
            <a:gdLst>
              <a:gd name="textAreaLeft" fmla="*/ 502200 w 1219320"/>
              <a:gd name="textAreaRight" fmla="*/ 717120 w 121932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5" descr="http://az.lib.ru/img/s/sementkowskij_r_i/text_1892_katkov/text_1892_katkov-1.jpg"/>
          <p:cNvPicPr/>
          <p:nvPr/>
        </p:nvPicPr>
        <p:blipFill>
          <a:blip r:embed="rId1"/>
          <a:stretch/>
        </p:blipFill>
        <p:spPr>
          <a:xfrm>
            <a:off x="380880" y="152280"/>
            <a:ext cx="2571840" cy="3324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6"/>
          <p:cNvSpPr/>
          <p:nvPr/>
        </p:nvSpPr>
        <p:spPr>
          <a:xfrm>
            <a:off x="3048120" y="-19440"/>
            <a:ext cx="5562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М</a:t>
            </a:r>
            <a:r>
              <a:rPr b="0" lang="ru-RU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 Н</a:t>
            </a:r>
            <a:r>
              <a:rPr b="0" lang="ru-RU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 Катков</a:t>
            </a:r>
            <a:r>
              <a:rPr b="0" lang="ru-RU" sz="3600" spc="-1" strike="noStrike">
                <a:solidFill>
                  <a:srgbClr val="410082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013ad"/>
                </a:solidFill>
                <a:uFillTx/>
                <a:latin typeface="Times New Roman"/>
                <a:ea typeface="Times New Roman"/>
              </a:rPr>
              <a:t>«О нашем нигилизме по поводу романа Тургенева»</a:t>
            </a:r>
            <a:r>
              <a:rPr b="0" lang="en-US" sz="2800" spc="-1" strike="noStrike" u="sng">
                <a:solidFill>
                  <a:srgbClr val="3013a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609480" y="42055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13ad"/>
                </a:solidFill>
                <a:latin typeface="Arial"/>
              </a:rPr>
              <a:t>Если в этом Базарове сидит действительная сила, то она что-нибудь другое, а никак не нау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57200" y="51055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кий и трудный путь натуралиста нам не по нраву. Мы возьмем у него лишь кое-что, дл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с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дл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енанс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йдем другим, более широким путем; мы не исследователи, не испытатели -- пусть другие корпят над фактами и занимаются наукою для знания, -- мы мудрецы и вероучит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2971800" y="2118600"/>
            <a:ext cx="5943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ист, критик, консерватор.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56 Катков стал издателем-редактором журнала "Русский вестник"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он выступал в защиту конституционно-монархических принципов гос. устройства, безусловно поддерживая готовящиеся правительством рефор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04920" y="3367080"/>
            <a:ext cx="8686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Ясно, что Тургенев вывел Базарова не для того, чтобы погладить его по головке,  он </a:t>
            </a:r>
            <a:r>
              <a:rPr b="0" lang="ru-RU" sz="2400" spc="-1" strike="noStrike">
                <a:solidFill>
                  <a:srgbClr val="6455cf"/>
                </a:solidFill>
                <a:latin typeface="Arial"/>
                <a:ea typeface="Times New Roman"/>
              </a:rPr>
              <a:t>хотел что-то сделать в пользу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55cf"/>
                </a:solidFill>
                <a:latin typeface="Arial"/>
                <a:ea typeface="Times New Roman"/>
              </a:rPr>
              <a:t>отц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Но в соприкосновении с  такими жалкими и ничтож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отцами, как  Кирсановы, крутой Базаров увлёк Тургене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Arial"/>
                <a:ea typeface="Times New Roman"/>
              </a:rPr>
              <a:t>и вместо того, чтобы посечь сына, он выпорол отцо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666960" y="152280"/>
            <a:ext cx="367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3ea9"/>
                </a:solidFill>
                <a:latin typeface="Times New Roman"/>
                <a:ea typeface="Times New Roman"/>
              </a:rPr>
              <a:t>А.И.Герце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33ea9"/>
                </a:solidFill>
                <a:uFillTx/>
                <a:latin typeface="Times New Roman"/>
                <a:ea typeface="Times New Roman"/>
              </a:rPr>
              <a:t>«Ещё раз Базар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4" descr="гер.bmp"/>
          <p:cNvPicPr/>
          <p:nvPr/>
        </p:nvPicPr>
        <p:blipFill>
          <a:blip r:embed="rId1"/>
          <a:stretch/>
        </p:blipFill>
        <p:spPr>
          <a:xfrm>
            <a:off x="365040" y="-12600"/>
            <a:ext cx="2664000" cy="3309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2895480" y="1550520"/>
            <a:ext cx="624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цен Александр Иванович, проэаик, мыслитель, публицист, политический деят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Издатель-редактор журнала «Колокол». Либера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 свою деятельность под влиянием великих социалистов-утопистов.  В последствие   становится одним из вождей "западников" и ведет борьбу со славянофил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4-конечная звезда 5"/>
          <p:cNvSpPr/>
          <p:nvPr/>
        </p:nvSpPr>
        <p:spPr>
          <a:xfrm>
            <a:off x="8153280" y="5791320"/>
            <a:ext cx="990720" cy="838080"/>
          </a:xfrm>
          <a:custGeom>
            <a:avLst/>
            <a:gdLst>
              <a:gd name="textAreaLeft" fmla="*/ 408240 w 990720"/>
              <a:gd name="textAreaRight" fmla="*/ 582480 w 99072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4-конечная звезда 5"/>
          <p:cNvSpPr/>
          <p:nvPr/>
        </p:nvSpPr>
        <p:spPr>
          <a:xfrm>
            <a:off x="7924680" y="55627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685800"/>
          <a:ext cx="8153640" cy="2575080"/>
        </p:xfrm>
        <a:graphic>
          <a:graphicData uri="http://schemas.openxmlformats.org/drawingml/2006/table">
            <a:tbl>
              <a:tblPr/>
              <a:tblGrid>
                <a:gridCol w="8153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уемая 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585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1. Л.И. Абдулина, Н.Н. Будникова, Г.И. Полторжицкая . Нетрадиционные уроки литературы: 5-11 класс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013ad"/>
                          </a:solidFill>
                          <a:latin typeface="Book Antiqua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 3. И. Загашев. Курс лекций по технологии РКМЧ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3. Сайт</a:t>
                      </a:r>
                      <a:r>
                        <a:rPr b="0" lang="en-US" sz="2000" spc="-1" strike="noStrike">
                          <a:solidFill>
                            <a:srgbClr val="3013ad"/>
                          </a:solidFill>
                          <a:latin typeface="Book Antiqua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013ad"/>
                          </a:solidFill>
                          <a:latin typeface="Book Antiqua"/>
                        </a:rPr>
                        <a:t>www.proshkolu.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4-конечная звезда 5"/>
          <p:cNvSpPr/>
          <p:nvPr/>
        </p:nvSpPr>
        <p:spPr>
          <a:xfrm>
            <a:off x="7924680" y="55627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685800"/>
          <a:ext cx="7772400" cy="3641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19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 подготови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585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Ф.И.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есто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  <a:tr h="48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Самсонкина Татьяна Леонидо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БОУ СОШ №4 г.Богот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Тюрина Татьяна Анатолье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БОУ «Агинская СОШ №1», Саянский рай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аксименко Ирина Михайло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БОУ «Гимназия №1» г.Нориль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df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Лазько Юлия Михайлов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13ad"/>
                          </a:solidFill>
                          <a:latin typeface="Times New Roman"/>
                        </a:rPr>
                        <a:t>МКОУ Владимировская СОШ, Боготольского рай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066680" y="434160"/>
            <a:ext cx="70106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предметна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явить позицию критиков о романе И.С. Тургене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ы и де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 образе Евгения Базаро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метапредме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ть умения ставить цели, планировать свои действия,  анализировать текст критической статьи, сопоставлять содержание разных компонент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13ad"/>
                </a:solidFill>
                <a:latin typeface="Times New Roman"/>
                <a:ea typeface="Times New Roman"/>
              </a:rPr>
              <a:t>личностн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ть предмет или явление с разных сторон, побуждать учеников к высказыванию собственной точки зрения через осмысление обществен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итической позиции, создав проблемную ситуацию; развивать толерант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-85680" y="0"/>
            <a:ext cx="6089760" cy="402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artchive.ru/images/work/800/23045/%D0%AD%D1%80%D0%BD%D1%81%D1%82-%D0%9A%D0%B0%D1%80%D0%BB%D0%BE%D0%B2%D0%B8%D1%87-%D0%9B%D0%B8%D0%BF%D0%B3%D0%B0%D1%80%D1%82--%D0%9F%D0%BE%D1%80%D1%82%D1%80%D0%B5%D1%82-%D0%98.%D0%A1.%D0%A2%D1%83%D1%80%D0%B3%D0%B5%D0%BD%D0%B5%D0%B2%D0%B0,-%D0%B4%D0%B0%D1%80-%D0%B0%D0%B2%D1%82%D0%BE%D1%80%D0%B0-%D0%90.%D0%9F.%D0%91%D0%BE%D0%B3%D0%BE%D0%BB%D1%8E%D0%B1%D0%BE%D0%B2%D1%83-(%D1%84%D0%BE%D1%82%D0%BE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828800"/>
            <a:ext cx="3203640" cy="3962520"/>
          </a:xfrm>
          <a:prstGeom prst="rect">
            <a:avLst/>
          </a:prstGeom>
          <a:ln w="0">
            <a:noFill/>
          </a:ln>
        </p:spPr>
      </p:pic>
      <p:sp>
        <p:nvSpPr>
          <p:cNvPr id="87" name="4-конечная звезда 3">
            <a:hlinkClick r:id="rId4" action="ppaction://hlinksldjump"/>
          </p:cNvPr>
          <p:cNvSpPr/>
          <p:nvPr/>
        </p:nvSpPr>
        <p:spPr>
          <a:xfrm>
            <a:off x="8077320" y="5638680"/>
            <a:ext cx="1066680" cy="990720"/>
          </a:xfrm>
          <a:custGeom>
            <a:avLst/>
            <a:gdLst>
              <a:gd name="textAreaLeft" fmla="*/ 439560 w 1066680"/>
              <a:gd name="textAreaRight" fmla="*/ 627120 w 1066680"/>
              <a:gd name="textAreaTop" fmla="*/ 408240 h 990720"/>
              <a:gd name="textAreaBottom" fmla="*/ 5824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4-конечная звезда 5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514600" y="327672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13ad"/>
                </a:solidFill>
                <a:latin typeface="Arial"/>
              </a:rPr>
              <a:t>http://go.mail.ru/search_video?q=%D0%BE%D1%82%D1%86%D1%8B+%D0%B8+%D0%B4%D0%B5%D1%82%D0%B8+%D1%84%D0%B8%D0%BB%D1%8C%D0%BC+%D1%81%D0%BC%D0%B8%D1%80%D0%BD%D0%BE%D0%B2%D0%BE%D0%B9+%D0%B0%D0%B2%D0%B4%D0%BE%D1%82%D1%8C%D0%B8#s=Zoomby&amp;sig=eda2e0a1de&amp;d=4906046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Заголовок 6" descr=""/>
          <p:cNvPicPr/>
          <p:nvPr/>
        </p:nvPicPr>
        <p:blipFill>
          <a:blip r:embed="rId2"/>
          <a:stretch/>
        </p:blipFill>
        <p:spPr>
          <a:xfrm>
            <a:off x="457200" y="-66600"/>
            <a:ext cx="82296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4-конечная звезда 5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Заголовок 6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3a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А судьи кто?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Вы нынешние, ну-тка!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Ругают здесь, а там благодарят»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9108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80880" y="3886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4-конечная звезда 5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478800 w 1219320"/>
              <a:gd name="textAreaRight" fmla="*/ 740520 w 1219320"/>
              <a:gd name="textAreaTop" fmla="*/ 418680 h 1066680"/>
              <a:gd name="textAreaBottom" fmla="*/ 648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80" y="8480"/>
                </a:lnTo>
                <a:lnTo>
                  <a:pt x="10800" y="0"/>
                </a:lnTo>
                <a:lnTo>
                  <a:pt x="13120" y="8480"/>
                </a:lnTo>
                <a:lnTo>
                  <a:pt x="21600" y="10800"/>
                </a:lnTo>
                <a:lnTo>
                  <a:pt x="13120" y="13120"/>
                </a:lnTo>
                <a:lnTo>
                  <a:pt x="10800" y="21600"/>
                </a:lnTo>
                <a:lnTo>
                  <a:pt x="8480" y="1312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9480" indent="-743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3ad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«Ругают здесь, а там благодарят»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«А судьи кто?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«Вы нынешние, ну-тка!»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879480" indent="-74304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3" descr=""/>
          <p:cNvPicPr/>
          <p:nvPr/>
        </p:nvPicPr>
        <p:blipFill>
          <a:blip r:embed="rId1"/>
          <a:stretch/>
        </p:blipFill>
        <p:spPr>
          <a:xfrm>
            <a:off x="3736800" y="444600"/>
            <a:ext cx="3645000" cy="1135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256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28600" y="0"/>
            <a:ext cx="210024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3505320" y="15228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.И.Писар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380880" y="3124080"/>
            <a:ext cx="93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13ad"/>
                </a:solidFill>
                <a:latin typeface="Times New Roman"/>
              </a:rPr>
              <a:t>Роман Тургенева </a:t>
            </a:r>
            <a:r>
              <a:rPr b="1" i="1" lang="ru-RU" sz="2000" spc="-1" strike="noStrike">
                <a:solidFill>
                  <a:srgbClr val="3013ad"/>
                </a:solidFill>
                <a:latin typeface="Times New Roman"/>
              </a:rPr>
              <a:t>шевелит ум , наводит  на размышл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13ad"/>
                </a:solidFill>
                <a:latin typeface="Times New Roman"/>
              </a:rPr>
              <a:t>потому что весь проникнут самой полн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13ad"/>
                </a:solidFill>
                <a:latin typeface="Times New Roman"/>
              </a:rPr>
              <a:t>самой трогательной  искренностью</a:t>
            </a:r>
            <a:r>
              <a:rPr b="0" lang="ru-RU" sz="2000" spc="-1" strike="noStrike">
                <a:solidFill>
                  <a:srgbClr val="3013a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0" y="441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заровщи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– болезнь нашего времени, которая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стаёт к людям , стоящим по своим  умствен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лам выше общего уров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0" y="541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орин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есть воля без знания, 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дин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– знание без во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заро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сть и знание, и воля, мысль и дело сливаются   в одно твёрдое цело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-конечная звезда 9"/>
          <p:cNvSpPr/>
          <p:nvPr/>
        </p:nvSpPr>
        <p:spPr>
          <a:xfrm>
            <a:off x="7848720" y="5867280"/>
            <a:ext cx="990360" cy="1143000"/>
          </a:xfrm>
          <a:custGeom>
            <a:avLst/>
            <a:gdLst>
              <a:gd name="textAreaLeft" fmla="*/ 407880 w 990360"/>
              <a:gd name="textAreaRight" fmla="*/ 582480 w 990360"/>
              <a:gd name="textAreaTop" fmla="*/ 470880 h 1143000"/>
              <a:gd name="textAreaBottom" fmla="*/ 67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362320" y="124164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усский критик, публицис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сотрудник журнала «Русское слово». Нигилис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арев проповедовал необходимость социально-исторического и культурного прогресса, обусловливаемого гражданскими свободами и общественно-практической направленностью науки, искусства и просве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2" descr=""/>
          <p:cNvPicPr/>
          <p:nvPr/>
        </p:nvPicPr>
        <p:blipFill>
          <a:blip r:embed="rId1"/>
          <a:stretch/>
        </p:blipFill>
        <p:spPr>
          <a:xfrm>
            <a:off x="3024360" y="341280"/>
            <a:ext cx="4370040" cy="1908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533520" y="4572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Задачей Тургенева оказались </a:t>
            </a: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– написание панегирик   «отцам»  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обличение «детям», которых он не понял,  вместо обличения получилась кле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57200" y="64771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0" y="5181480"/>
            <a:ext cx="9166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80880" y="4419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57200" y="5867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9" descr="ант.bmp"/>
          <p:cNvPicPr/>
          <p:nvPr/>
        </p:nvPicPr>
        <p:blipFill>
          <a:blip r:embed="rId2"/>
          <a:srcRect l="12381" t="9793" r="12381" b="21872"/>
          <a:stretch/>
        </p:blipFill>
        <p:spPr>
          <a:xfrm>
            <a:off x="533520" y="2286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4-конечная звезда 13"/>
          <p:cNvSpPr/>
          <p:nvPr/>
        </p:nvSpPr>
        <p:spPr>
          <a:xfrm>
            <a:off x="8153280" y="5715000"/>
            <a:ext cx="990720" cy="914400"/>
          </a:xfrm>
          <a:custGeom>
            <a:avLst/>
            <a:gdLst>
              <a:gd name="textAreaLeft" fmla="*/ 408240 w 990720"/>
              <a:gd name="textAreaRight" fmla="*/ 582480 w 99072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533520" y="56386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6525"/>
                </a:solidFill>
                <a:latin typeface="Arial"/>
              </a:rPr>
              <a:t>Молодое поколение   представл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6525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56525"/>
                </a:solidFill>
                <a:latin typeface="Arial"/>
              </a:rPr>
              <a:t>развратителями юношества, сеятелями раздора и зла, ненавидящими добро, - одним словом,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асмоде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2819520" y="564120"/>
            <a:ext cx="647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ский публицис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тературный критик, философ-материали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трудник журнала «Современник». Нигилис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ля литературно-критических работ Антоновича характерны идеологический подход к литературному творчеству, стремление видеть в содержании художественного произведения непосредственное отражение «прогрессивных» или «реакционных» тенденций общественной мыс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733920" y="1447920"/>
            <a:ext cx="525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- один из са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могуществе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и знатных демон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дьявол вожделения, блу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756525"/>
                </a:solidFill>
                <a:latin typeface="Times New Roman"/>
              </a:rPr>
              <a:t>ревности и одновременно мести,  ненависти  и разру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3581280" y="22860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смод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4-конечная звезда 5"/>
          <p:cNvSpPr/>
          <p:nvPr/>
        </p:nvSpPr>
        <p:spPr>
          <a:xfrm>
            <a:off x="7543800" y="5181480"/>
            <a:ext cx="1600200" cy="144792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920"/>
              <a:gd name="textAreaBottom" fmla="*/ 8514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http://go1.imgsmail.ru/imgpreview?key=http%3A//planeta.moy.su/%5Fbl/297/08901933.jpg&amp;mb=imgdb_preview_1661&amp;w=177"/>
          <p:cNvPicPr/>
          <p:nvPr/>
        </p:nvPicPr>
        <p:blipFill>
          <a:blip r:embed="rId1"/>
          <a:stretch/>
        </p:blipFill>
        <p:spPr>
          <a:xfrm>
            <a:off x="135000" y="1447920"/>
            <a:ext cx="33703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-307</dc:creator>
  <dc:description/>
  <dc:language>en-US</dc:language>
  <cp:lastModifiedBy>Кабинет 18</cp:lastModifiedBy>
  <dcterms:modified xsi:type="dcterms:W3CDTF">2016-10-12T03:01:53Z</dcterms:modified>
  <cp:revision>79</cp:revision>
  <dc:subject/>
  <dc:title>Роман И.С.Тургенева «Отцы и дети» в русской критике.</dc:title>
</cp:coreProperties>
</file>