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5.jpeg" ContentType="image/jpeg"/>
  <Override PartName="/ppt/media/image46.jpeg" ContentType="image/jpeg"/>
  <Override PartName="/ppt/media/image11.png" ContentType="image/png"/>
  <Override PartName="/ppt/media/image6.png" ContentType="image/pn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3F0-557E-4868-B529-034DAEB8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330-C789-4B5A-B5AD-25959AF6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266-ED3B-4A4A-AB03-7B810D1D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4AA-1296-4510-B370-BE024D44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563-474F-4349-8768-859E0686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896-5DAC-4349-A0FB-CAEED195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A72-0724-4782-A30E-DD7F845D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9C9-A4C3-4E97-A5E8-CBDBE202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062-5A69-4C47-9673-0A6403EE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75E-BDA2-4433-B98C-F01EAC9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4B6-05E0-4AE5-884A-8950EBC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A3E-3701-4787-B546-2597196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95B-2F76-421B-8BC7-41895D920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гых классов Кожевникова Ирина Герольф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4149720"/>
            <a:ext cx="8207280" cy="2448000"/>
          </a:xfrm>
          <a:prstGeom prst="rect">
            <a:avLst/>
          </a:prstGeom>
          <a:solidFill>
            <a:srgbClr val="ccccff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 корабле «Восток-1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12 апреля 1961 года лётчик-космонавт СССР Ю. А. Гагарин совершил первый в мире полёт в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ое пространство. Корабль совершил один оборот вокруг Земли за 108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826920" y="404640"/>
            <a:ext cx="7272360" cy="3600720"/>
            <a:chOff x="826920" y="404640"/>
            <a:chExt cx="7272360" cy="3600720"/>
          </a:xfrm>
        </p:grpSpPr>
        <p:pic>
          <p:nvPicPr>
            <p:cNvPr id="91" name="Picture 9" descr="24"/>
            <p:cNvPicPr/>
            <p:nvPr/>
          </p:nvPicPr>
          <p:blipFill>
            <a:blip r:embed="rId2"/>
            <a:stretch/>
          </p:blipFill>
          <p:spPr>
            <a:xfrm>
              <a:off x="826920" y="404640"/>
              <a:ext cx="2643480" cy="3600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92" name="Picture 13" descr="Рисунок1"/>
            <p:cNvPicPr/>
            <p:nvPr/>
          </p:nvPicPr>
          <p:blipFill>
            <a:blip r:embed="rId3"/>
            <a:stretch/>
          </p:blipFill>
          <p:spPr>
            <a:xfrm>
              <a:off x="4140360" y="404640"/>
              <a:ext cx="3958920" cy="35798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Что такое космический кораб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230440"/>
            <a:ext cx="8229600" cy="1366920"/>
          </a:xfrm>
          <a:prstGeom prst="rect">
            <a:avLst/>
          </a:prstGeom>
          <a:solidFill>
            <a:srgbClr val="8fc7ff"/>
          </a:solidFill>
          <a:ln w="38160">
            <a:solidFill>
              <a:srgbClr val="0066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ический корабл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и дом, и научная лаборатория. В нём живут и работают космонав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34"/>
          <p:cNvPicPr/>
          <p:nvPr/>
        </p:nvPicPr>
        <p:blipFill>
          <a:blip r:embed="rId2"/>
          <a:stretch/>
        </p:blipFill>
        <p:spPr>
          <a:xfrm>
            <a:off x="971640" y="1052640"/>
            <a:ext cx="6985080" cy="4038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11280" y="1413000"/>
            <a:ext cx="4465800" cy="4464000"/>
          </a:xfrm>
          <a:prstGeom prst="rect">
            <a:avLst/>
          </a:prstGeom>
          <a:solidFill>
            <a:srgbClr val="b7cfff"/>
          </a:solidFill>
          <a:ln w="38160">
            <a:solidFill>
              <a:srgbClr val="66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Ракета-носител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ит на орбиту космический корабль, который укреплён в голове ракеты. А ниже располагаются ступени, в которых есть свои двигатели и свой запас топл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38"/>
          <p:cNvPicPr/>
          <p:nvPr/>
        </p:nvPicPr>
        <p:blipFill>
          <a:blip r:embed="rId2"/>
          <a:stretch/>
        </p:blipFill>
        <p:spPr>
          <a:xfrm>
            <a:off x="395280" y="981000"/>
            <a:ext cx="3562200" cy="518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6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4581000"/>
            <a:ext cx="8218440" cy="208764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ракета поднимется на нужную высоту и отделится последняя её ступень, 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ий корабль летит уже самостоятельно. Он становится спутником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39"/>
          <p:cNvPicPr/>
          <p:nvPr/>
        </p:nvPicPr>
        <p:blipFill>
          <a:blip r:embed="rId3"/>
          <a:stretch/>
        </p:blipFill>
        <p:spPr>
          <a:xfrm>
            <a:off x="2843280" y="1052640"/>
            <a:ext cx="3313080" cy="322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36"/>
          <p:cNvPicPr/>
          <p:nvPr/>
        </p:nvPicPr>
        <p:blipFill>
          <a:blip r:embed="rId4"/>
          <a:stretch/>
        </p:blipFill>
        <p:spPr>
          <a:xfrm rot="8307000">
            <a:off x="2195640" y="1413000"/>
            <a:ext cx="1110960" cy="53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Копия 38"/>
          <p:cNvPicPr/>
          <p:nvPr/>
        </p:nvPicPr>
        <p:blipFill>
          <a:blip r:embed="rId5"/>
          <a:stretch/>
        </p:blipFill>
        <p:spPr>
          <a:xfrm rot="2882400">
            <a:off x="1476360" y="981360"/>
            <a:ext cx="573120" cy="31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916 -0.15422 C 0.0467 -0.15422 -0.06077 -0.01618 -0.06077 0.15422 C -0.06077 0.32532 0.0467 0.46451 0.17916 0.46451 C 0.3118 0.46451 0.41962 0.32532 0.41962 0.15422 C 0.41962 -0.01618 0.3118 -0.15422 0.17916 -0.15422 Z">
                                      <p:cBhvr>
                                        <p:cTn id="12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9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ический корабль состоит из нескольких отс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7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09" name="Line 10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3348000" y="549360"/>
            <a:ext cx="1871640" cy="2448000"/>
            <a:chOff x="3348000" y="549360"/>
            <a:chExt cx="1871640" cy="2448000"/>
          </a:xfrm>
        </p:grpSpPr>
        <p:sp>
          <p:nvSpPr>
            <p:cNvPr id="112" name="Line 11"/>
            <p:cNvSpPr/>
            <p:nvPr/>
          </p:nvSpPr>
          <p:spPr>
            <a:xfrm>
              <a:off x="4356000" y="1628640"/>
              <a:ext cx="0" cy="136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3348000" y="549360"/>
              <a:ext cx="1871640" cy="825480"/>
            </a:xfrm>
            <a:prstGeom prst="rect">
              <a:avLst/>
            </a:prstGeom>
            <a:solidFill>
              <a:srgbClr val="8fc7ff"/>
            </a:solidFill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Глав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15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4581000"/>
            <a:ext cx="8075880" cy="2086200"/>
          </a:xfrm>
          <a:prstGeom prst="rect">
            <a:avLst/>
          </a:prstGeom>
          <a:solidFill>
            <a:srgbClr val="bafcd3"/>
          </a:soli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В главном отсе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осмонавты стартуют с Земли. Отсюда они управляют кораблём, связываются с Землёй по радио. Это единственная часть корабля, которая возвращается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41"/>
          <p:cNvPicPr/>
          <p:nvPr/>
        </p:nvPicPr>
        <p:blipFill>
          <a:blip r:embed="rId2"/>
          <a:stretch/>
        </p:blipFill>
        <p:spPr>
          <a:xfrm>
            <a:off x="3708360" y="404640"/>
            <a:ext cx="4824360" cy="404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20" name="Picture 7" descr="40"/>
          <p:cNvPicPr/>
          <p:nvPr/>
        </p:nvPicPr>
        <p:blipFill>
          <a:blip r:embed="rId3"/>
          <a:stretch/>
        </p:blipFill>
        <p:spPr>
          <a:xfrm>
            <a:off x="468360" y="333360"/>
            <a:ext cx="3024000" cy="2017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21" name="Picture 8" descr="37"/>
          <p:cNvPicPr/>
          <p:nvPr/>
        </p:nvPicPr>
        <p:blipFill>
          <a:blip r:embed="rId4"/>
          <a:stretch/>
        </p:blipFill>
        <p:spPr>
          <a:xfrm>
            <a:off x="468360" y="2421000"/>
            <a:ext cx="3024000" cy="201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043520" cy="3816360"/>
          </a:xfrm>
          <a:prstGeom prst="rect">
            <a:avLst/>
          </a:prstGeom>
          <a:solidFill>
            <a:srgbClr val="ffff66"/>
          </a:solidFill>
          <a:ln w="3816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своей каб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рез люк-лаз косм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вты попадаю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рбитальный отсе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есь они про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ные эксперим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9" descr="blog_ms3"/>
          <p:cNvPicPr/>
          <p:nvPr/>
        </p:nvPicPr>
        <p:blipFill>
          <a:blip r:embed="rId2"/>
          <a:stretch/>
        </p:blipFill>
        <p:spPr>
          <a:xfrm>
            <a:off x="468360" y="476280"/>
            <a:ext cx="3889440" cy="5856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5805000"/>
            <a:ext cx="7437600" cy="677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ят и  занимают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826920" y="476280"/>
            <a:ext cx="7405920" cy="5186160"/>
            <a:chOff x="826920" y="476280"/>
            <a:chExt cx="7405920" cy="5186160"/>
          </a:xfrm>
        </p:grpSpPr>
        <p:pic>
          <p:nvPicPr>
            <p:cNvPr id="128" name="Picture 4" descr="46"/>
            <p:cNvPicPr/>
            <p:nvPr/>
          </p:nvPicPr>
          <p:blipFill>
            <a:blip r:embed="rId2"/>
            <a:stretch/>
          </p:blipFill>
          <p:spPr>
            <a:xfrm>
              <a:off x="826920" y="476280"/>
              <a:ext cx="3443400" cy="5184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9" name="Picture 5" descr="46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444840" cy="51861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4720" y="620640"/>
            <a:ext cx="4341600" cy="5616720"/>
          </a:xfrm>
          <a:prstGeom prst="rect">
            <a:avLst/>
          </a:prstGeom>
          <a:solidFill>
            <a:srgbClr val="cdab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орбитального отсека космонавты могут вый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ткрытый космо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ым человеком, который покинул космический корабль и шагнул в открытый космос, 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Алексей Ле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684360" y="404640"/>
            <a:ext cx="3090600" cy="6143760"/>
            <a:chOff x="684360" y="404640"/>
            <a:chExt cx="3090600" cy="6143760"/>
          </a:xfrm>
        </p:grpSpPr>
        <p:pic>
          <p:nvPicPr>
            <p:cNvPr id="133" name="Picture 4" descr="48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3024000" cy="2967120"/>
            </a:xfrm>
            <a:prstGeom prst="rect">
              <a:avLst/>
            </a:prstGeom>
            <a:ln w="38160">
              <a:solidFill>
                <a:srgbClr val="006666"/>
              </a:solidFill>
              <a:miter/>
            </a:ln>
          </p:spPr>
        </p:pic>
        <p:pic>
          <p:nvPicPr>
            <p:cNvPr id="134" name="Picture 5" descr="49"/>
            <p:cNvPicPr/>
            <p:nvPr/>
          </p:nvPicPr>
          <p:blipFill>
            <a:blip r:embed="rId3"/>
            <a:stretch/>
          </p:blipFill>
          <p:spPr>
            <a:xfrm>
              <a:off x="684360" y="3573360"/>
              <a:ext cx="3090600" cy="2975040"/>
            </a:xfrm>
            <a:prstGeom prst="rect">
              <a:avLst/>
            </a:prstGeom>
            <a:ln w="38160">
              <a:solidFill>
                <a:srgbClr val="006699"/>
              </a:solidFill>
              <a:miter/>
            </a:ln>
          </p:spPr>
        </p:pic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54440"/>
            <a:ext cx="8229600" cy="1943280"/>
          </a:xfrm>
          <a:prstGeom prst="rect">
            <a:avLst/>
          </a:prstGeom>
          <a:solidFill>
            <a:srgbClr val="adbff1"/>
          </a:solidFill>
          <a:ln w="381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космических кораблях возникае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остояние невесомост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ри котором человек и окружающие его предметы теряют вес (становятся легче пушин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324000" y="1341360"/>
            <a:ext cx="8208720" cy="3014640"/>
            <a:chOff x="324000" y="1341360"/>
            <a:chExt cx="8208720" cy="3014640"/>
          </a:xfrm>
        </p:grpSpPr>
        <p:pic>
          <p:nvPicPr>
            <p:cNvPr id="138" name="Picture 4" descr="51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4032000" cy="2998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39" name="Picture 8" descr="52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032000" cy="3014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5843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мы поговорим о путешествиях в космос. Как вы думаете, что тако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космос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68360" y="476280"/>
            <a:ext cx="8238960" cy="4287960"/>
            <a:chOff x="468360" y="476280"/>
            <a:chExt cx="8238960" cy="4287960"/>
          </a:xfrm>
        </p:grpSpPr>
        <p:pic>
          <p:nvPicPr>
            <p:cNvPr id="46" name="Picture 5" descr="1"/>
            <p:cNvPicPr/>
            <p:nvPr/>
          </p:nvPicPr>
          <p:blipFill>
            <a:blip r:embed="rId2"/>
            <a:stretch/>
          </p:blipFill>
          <p:spPr>
            <a:xfrm>
              <a:off x="468360" y="1413000"/>
              <a:ext cx="268776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9"/>
            <p:cNvPicPr/>
            <p:nvPr/>
          </p:nvPicPr>
          <p:blipFill>
            <a:blip r:embed="rId3"/>
            <a:stretch/>
          </p:blipFill>
          <p:spPr>
            <a:xfrm>
              <a:off x="5580000" y="1484280"/>
              <a:ext cx="312732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f"/>
            <p:cNvPicPr/>
            <p:nvPr/>
          </p:nvPicPr>
          <p:blipFill>
            <a:blip r:embed="rId4"/>
            <a:stretch/>
          </p:blipFill>
          <p:spPr>
            <a:xfrm>
              <a:off x="3276720" y="476280"/>
              <a:ext cx="26492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1" descr="17"/>
            <p:cNvPicPr/>
            <p:nvPr/>
          </p:nvPicPr>
          <p:blipFill>
            <a:blip r:embed="rId5"/>
            <a:stretch/>
          </p:blipFill>
          <p:spPr>
            <a:xfrm>
              <a:off x="3419640" y="2565360"/>
              <a:ext cx="2104920" cy="2198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20720"/>
          </a:xfrm>
          <a:prstGeom prst="rect">
            <a:avLst/>
          </a:prstGeom>
          <a:solidFill>
            <a:srgbClr val="79ff79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укты питания на космическом кораб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хранятся в тубах. Они похожи на тюбики с зубной пастой, только размером побольше. Из них еду выдавливают. В космическом доме есть холодильник и электрическ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042920" y="549360"/>
            <a:ext cx="6985080" cy="3319200"/>
            <a:chOff x="1042920" y="549360"/>
            <a:chExt cx="6985080" cy="3319200"/>
          </a:xfrm>
        </p:grpSpPr>
        <p:pic>
          <p:nvPicPr>
            <p:cNvPr id="143" name="Picture 4" descr="Тубики"/>
            <p:cNvPicPr/>
            <p:nvPr/>
          </p:nvPicPr>
          <p:blipFill>
            <a:blip r:embed="rId2"/>
            <a:stretch/>
          </p:blipFill>
          <p:spPr>
            <a:xfrm>
              <a:off x="1042920" y="765000"/>
              <a:ext cx="217980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53"/>
            <p:cNvPicPr/>
            <p:nvPr/>
          </p:nvPicPr>
          <p:blipFill>
            <a:blip r:embed="rId3"/>
            <a:stretch/>
          </p:blipFill>
          <p:spPr>
            <a:xfrm>
              <a:off x="4284720" y="549360"/>
              <a:ext cx="3743280" cy="3319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битальный отсек на Землю не возвращ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49" name="Line 6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11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52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4" name="Text Box 14"/>
          <p:cNvSpPr/>
          <p:nvPr/>
        </p:nvSpPr>
        <p:spPr>
          <a:xfrm>
            <a:off x="923040" y="5373720"/>
            <a:ext cx="74563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в этом отсеке располагаются двигат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хранится запас топли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solidFill>
            <a:srgbClr val="ffd1a3"/>
          </a:solidFill>
          <a:ln w="381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Центр управления полёта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есто на Земле, откуда ведётся управление спутниками, космическими кораблями и межпланетными станц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50"/>
          <p:cNvPicPr/>
          <p:nvPr/>
        </p:nvPicPr>
        <p:blipFill>
          <a:blip r:embed="rId2"/>
          <a:stretch/>
        </p:blipFill>
        <p:spPr>
          <a:xfrm>
            <a:off x="1692360" y="404640"/>
            <a:ext cx="5664240" cy="42483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4221000"/>
            <a:ext cx="8713800" cy="2376720"/>
          </a:xfrm>
          <a:prstGeom prst="rect">
            <a:avLst/>
          </a:prstGeom>
          <a:solidFill>
            <a:srgbClr val="ccff99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в все задания, космонавты возвращ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на Землю.  Ненужные отсеки отделяютс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горают в атмосфере. Недалеко от Земли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ывается парашют, чтобы смягчить удар кора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я о земную поверх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324000" y="333360"/>
            <a:ext cx="8565840" cy="3743280"/>
            <a:chOff x="324000" y="333360"/>
            <a:chExt cx="8565840" cy="3743280"/>
          </a:xfrm>
        </p:grpSpPr>
        <p:pic>
          <p:nvPicPr>
            <p:cNvPr id="161" name="Picture 4" descr="59"/>
            <p:cNvPicPr/>
            <p:nvPr/>
          </p:nvPicPr>
          <p:blipFill>
            <a:blip r:embed="rId2"/>
            <a:stretch/>
          </p:blipFill>
          <p:spPr>
            <a:xfrm>
              <a:off x="324000" y="333360"/>
              <a:ext cx="2928960" cy="3743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62" name="Picture 5" descr="60"/>
            <p:cNvPicPr/>
            <p:nvPr/>
          </p:nvPicPr>
          <p:blipFill>
            <a:blip r:embed="rId3"/>
            <a:stretch/>
          </p:blipFill>
          <p:spPr>
            <a:xfrm>
              <a:off x="3348000" y="333360"/>
              <a:ext cx="5541840" cy="371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608360" cy="4176720"/>
          </a:xfrm>
          <a:prstGeom prst="rect">
            <a:avLst/>
          </a:prstGeom>
          <a:solidFill>
            <a:srgbClr val="adbff1"/>
          </a:solidFill>
          <a:ln w="381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год 12 апреля в н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не отме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ень космонавтик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знаменование первого полё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а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61"/>
          <p:cNvPicPr/>
          <p:nvPr/>
        </p:nvPicPr>
        <p:blipFill>
          <a:blip r:embed="rId2"/>
          <a:stretch/>
        </p:blipFill>
        <p:spPr>
          <a:xfrm>
            <a:off x="324000" y="1052640"/>
            <a:ext cx="3671640" cy="5041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25920" y="1197000"/>
            <a:ext cx="5122800" cy="4896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ротяжении многих веков людей манил космос своими тайнами и загадками. Человечество задавало себе многие вопросы о космосе, на которые не было ответов. Люди пытались познать тайный космос, постепенно накапливая знания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539640" y="333360"/>
            <a:ext cx="2784600" cy="5977080"/>
            <a:chOff x="539640" y="333360"/>
            <a:chExt cx="2784600" cy="5977080"/>
          </a:xfrm>
        </p:grpSpPr>
        <p:pic>
          <p:nvPicPr>
            <p:cNvPr id="53" name="Picture 4" descr="10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2664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11"/>
            <p:cNvPicPr/>
            <p:nvPr/>
          </p:nvPicPr>
          <p:blipFill>
            <a:blip r:embed="rId3"/>
            <a:stretch/>
          </p:blipFill>
          <p:spPr>
            <a:xfrm>
              <a:off x="539640" y="3068640"/>
              <a:ext cx="2784600" cy="3241800"/>
            </a:xfrm>
            <a:prstGeom prst="rect">
              <a:avLst/>
            </a:prstGeom>
            <a:ln w="28440">
              <a:solidFill>
                <a:srgbClr val="669900"/>
              </a:solidFill>
              <a:miter/>
            </a:ln>
          </p:spPr>
        </p:pic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44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ff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годня на орбите находится около 300 спутников. Они служат для того, чтобы передавать по всему миру телефонные разговоры, телевизионные передачи, информацию о погоде. По сигналам спутника капитан определяет, куда плыть кораблю. Они помогают изучать Землю, Солнце, планеты,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468360" y="333360"/>
            <a:ext cx="7745400" cy="3713040"/>
            <a:chOff x="468360" y="333360"/>
            <a:chExt cx="7745400" cy="3713040"/>
          </a:xfrm>
        </p:grpSpPr>
        <p:pic>
          <p:nvPicPr>
            <p:cNvPr id="58" name="Picture 4" descr="Спутник 2"/>
            <p:cNvPicPr/>
            <p:nvPr/>
          </p:nvPicPr>
          <p:blipFill>
            <a:blip r:embed="rId2"/>
            <a:stretch/>
          </p:blipFill>
          <p:spPr>
            <a:xfrm>
              <a:off x="3276720" y="476280"/>
              <a:ext cx="208728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" descr="20"/>
            <p:cNvPicPr/>
            <p:nvPr/>
          </p:nvPicPr>
          <p:blipFill>
            <a:blip r:embed="rId3"/>
            <a:stretch/>
          </p:blipFill>
          <p:spPr>
            <a:xfrm>
              <a:off x="7164360" y="333360"/>
              <a:ext cx="10494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" descr="21"/>
            <p:cNvPicPr/>
            <p:nvPr/>
          </p:nvPicPr>
          <p:blipFill>
            <a:blip r:embed="rId4"/>
            <a:stretch/>
          </p:blipFill>
          <p:spPr>
            <a:xfrm>
              <a:off x="5580000" y="2060640"/>
              <a:ext cx="1793880" cy="19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7" descr="22"/>
            <p:cNvPicPr/>
            <p:nvPr/>
          </p:nvPicPr>
          <p:blipFill>
            <a:blip r:embed="rId5"/>
            <a:stretch/>
          </p:blipFill>
          <p:spPr>
            <a:xfrm>
              <a:off x="1187280" y="2492280"/>
              <a:ext cx="232740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23"/>
            <p:cNvPicPr/>
            <p:nvPr/>
          </p:nvPicPr>
          <p:blipFill>
            <a:blip r:embed="rId6"/>
            <a:stretch/>
          </p:blipFill>
          <p:spPr>
            <a:xfrm>
              <a:off x="468360" y="404640"/>
              <a:ext cx="135720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Line 9"/>
            <p:cNvSpPr/>
            <p:nvPr/>
          </p:nvSpPr>
          <p:spPr>
            <a:xfrm flipH="1">
              <a:off x="1908000" y="1125360"/>
              <a:ext cx="122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4716360" y="2205000"/>
              <a:ext cx="719280" cy="71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364000" y="1052640"/>
              <a:ext cx="136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3059280" y="2205000"/>
              <a:ext cx="72072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Животные-космонав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51280" y="1959120"/>
            <a:ext cx="4835520" cy="355752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жде, чем в космос полетел первый человек, учёные сначала отправляли в космическую неизве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сть различны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ыми «космонавтами»-разведчиками были собаки, кролики, насекомые и даже микро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755640" y="1268280"/>
            <a:ext cx="2736720" cy="5224680"/>
            <a:chOff x="755640" y="1268280"/>
            <a:chExt cx="2736720" cy="5224680"/>
          </a:xfrm>
        </p:grpSpPr>
        <p:pic>
          <p:nvPicPr>
            <p:cNvPr id="70" name="Picture 4" descr="54"/>
            <p:cNvPicPr/>
            <p:nvPr/>
          </p:nvPicPr>
          <p:blipFill>
            <a:blip r:embed="rId2"/>
            <a:stretch/>
          </p:blipFill>
          <p:spPr>
            <a:xfrm>
              <a:off x="755640" y="1268280"/>
              <a:ext cx="2736720" cy="261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71" name="Picture 6" descr="55"/>
            <p:cNvPicPr/>
            <p:nvPr/>
          </p:nvPicPr>
          <p:blipFill>
            <a:blip r:embed="rId3"/>
            <a:stretch/>
          </p:blipFill>
          <p:spPr>
            <a:xfrm>
              <a:off x="755640" y="4005360"/>
              <a:ext cx="2736720" cy="24876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4005000"/>
            <a:ext cx="8282160" cy="2663640"/>
          </a:xfrm>
          <a:prstGeom prst="rect">
            <a:avLst/>
          </a:prstGeom>
          <a:solidFill>
            <a:srgbClr val="dfda00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ервой в космосе побывала собака Лайк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Для неё построили специальную ракету, где был запас пищи, воды и возд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 ноября 1959 года на Лайку надели специальный скафандр, и ракета умчала её в косм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9"/>
          <p:cNvPicPr/>
          <p:nvPr/>
        </p:nvPicPr>
        <p:blipFill>
          <a:blip r:embed="rId2"/>
          <a:stretch/>
        </p:blipFill>
        <p:spPr>
          <a:xfrm>
            <a:off x="1547640" y="404640"/>
            <a:ext cx="5977080" cy="3486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353440" cy="2160720"/>
          </a:xfrm>
          <a:prstGeom prst="rect">
            <a:avLst/>
          </a:prstGeom>
          <a:solidFill>
            <a:srgbClr val="ffb7b7"/>
          </a:solidFill>
          <a:ln w="38160">
            <a:solidFill>
              <a:srgbClr val="ff66cc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9 августа 1960 — совершён первый в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битальный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лё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космос живых сущест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спешным возвращением на Земл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или собаки Белка и Стр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8"/>
          <p:cNvPicPr/>
          <p:nvPr/>
        </p:nvPicPr>
        <p:blipFill>
          <a:blip r:embed="rId2"/>
          <a:stretch/>
        </p:blipFill>
        <p:spPr>
          <a:xfrm>
            <a:off x="1763640" y="333360"/>
            <a:ext cx="53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4546440" cy="3744720"/>
          </a:xfrm>
          <a:prstGeom prst="rect">
            <a:avLst/>
          </a:prstGeom>
          <a:solidFill>
            <a:srgbClr val="33ccff"/>
          </a:solidFill>
          <a:ln w="38160">
            <a:solidFill>
              <a:srgbClr val="6666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онавт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стронавт) — человек, соверши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й космический полёт и проводящий в полёте испытания и эксплуатацию космической тех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32600" y="4581360"/>
            <a:ext cx="4440240" cy="155628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зовут перв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онавта и 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полетел в космос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8" descr="Русский космонавт"/>
          <p:cNvPicPr/>
          <p:nvPr/>
        </p:nvPicPr>
        <p:blipFill>
          <a:blip r:embed="rId2"/>
          <a:stretch/>
        </p:blipFill>
        <p:spPr>
          <a:xfrm>
            <a:off x="5292720" y="1125360"/>
            <a:ext cx="3394080" cy="46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Ракета 4"/>
          <p:cNvPicPr/>
          <p:nvPr/>
        </p:nvPicPr>
        <p:blipFill>
          <a:blip r:embed="rId3"/>
          <a:stretch/>
        </p:blipFill>
        <p:spPr>
          <a:xfrm>
            <a:off x="755640" y="404640"/>
            <a:ext cx="3745080" cy="33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Юрий Алексеевич Гагарин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18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 человек, совершивший полёт в кос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611280" y="1341360"/>
            <a:ext cx="7967520" cy="3600360"/>
            <a:chOff x="611280" y="1341360"/>
            <a:chExt cx="7967520" cy="3600360"/>
          </a:xfrm>
        </p:grpSpPr>
        <p:pic>
          <p:nvPicPr>
            <p:cNvPr id="86" name="Picture 5" descr="13"/>
            <p:cNvPicPr/>
            <p:nvPr/>
          </p:nvPicPr>
          <p:blipFill>
            <a:blip r:embed="rId2"/>
            <a:stretch/>
          </p:blipFill>
          <p:spPr>
            <a:xfrm>
              <a:off x="5591160" y="1341360"/>
              <a:ext cx="2987640" cy="360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87" name="Picture 6" descr="14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4465440" cy="3587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4:10:58Z</dcterms:created>
  <dc:creator>мама</dc:creator>
  <dc:description/>
  <dc:language>en-US</dc:language>
  <cp:lastModifiedBy>Admin</cp:lastModifiedBy>
  <dcterms:modified xsi:type="dcterms:W3CDTF">2016-10-13T17:49:14Z</dcterms:modified>
  <cp:revision>14</cp:revision>
  <dc:subject/>
  <dc:title>Слайд 1</dc:title>
</cp:coreProperties>
</file>