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5.jpeg" ContentType="image/jpeg"/>
  <Override PartName="/ppt/media/image46.jpeg" ContentType="image/jpeg"/>
  <Override PartName="/ppt/media/image11.png" ContentType="image/png"/>
  <Override PartName="/ppt/media/image6.png" ContentType="image/pn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13E-40D1-4715-9BE9-744ABAA7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FE4-EF96-4E4F-B2A2-E21A327B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2D2-7ECA-4760-A0C2-24CDFBF2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D14-4254-4E1D-AF22-40DF96A8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E03-3047-4488-844A-B7688BD7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22D-84D6-4102-80D2-809C7E9B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E1B-CBC7-447B-9336-F8C951A5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0B4-0A04-4F0A-BC5F-146F0C50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1C2-6653-4B79-96A4-06AB2532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1CD-2ECA-4025-9A6F-39682080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B58-AC0C-4638-9BF8-D237610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B02-244C-449C-A65F-11D4CEE5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E77C-D523-457C-A924-412CBCA1D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гых классов Кожевникова Ирина Герольф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4149720"/>
            <a:ext cx="8207280" cy="2448000"/>
          </a:xfrm>
          <a:prstGeom prst="rect">
            <a:avLst/>
          </a:prstGeom>
          <a:solidFill>
            <a:srgbClr val="ccccff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 корабле «Восток-1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12 апреля 1961 года лётчик-космонавт СССР Ю. А. Гагарин совершил первый в мире полёт в кос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кое пространство. Корабль совершил один оборот вокруг Земли за 108 ми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826920" y="404640"/>
            <a:ext cx="7272360" cy="3600720"/>
            <a:chOff x="826920" y="404640"/>
            <a:chExt cx="7272360" cy="3600720"/>
          </a:xfrm>
        </p:grpSpPr>
        <p:pic>
          <p:nvPicPr>
            <p:cNvPr id="91" name="Picture 9" descr="24"/>
            <p:cNvPicPr/>
            <p:nvPr/>
          </p:nvPicPr>
          <p:blipFill>
            <a:blip r:embed="rId2"/>
            <a:stretch/>
          </p:blipFill>
          <p:spPr>
            <a:xfrm>
              <a:off x="826920" y="404640"/>
              <a:ext cx="2643480" cy="3600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92" name="Picture 13" descr="Рисунок1"/>
            <p:cNvPicPr/>
            <p:nvPr/>
          </p:nvPicPr>
          <p:blipFill>
            <a:blip r:embed="rId3"/>
            <a:stretch/>
          </p:blipFill>
          <p:spPr>
            <a:xfrm>
              <a:off x="4140360" y="404640"/>
              <a:ext cx="3958920" cy="35798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Comic Sans MS"/>
              </a:rPr>
              <a:t>Что такое космический кораб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5230440"/>
            <a:ext cx="8229600" cy="1366920"/>
          </a:xfrm>
          <a:prstGeom prst="rect">
            <a:avLst/>
          </a:prstGeom>
          <a:solidFill>
            <a:srgbClr val="8fc7ff"/>
          </a:solidFill>
          <a:ln w="38160">
            <a:solidFill>
              <a:srgbClr val="0066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ический корабл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и дом, и научная лаборатория. В нём живут и работают космонав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34"/>
          <p:cNvPicPr/>
          <p:nvPr/>
        </p:nvPicPr>
        <p:blipFill>
          <a:blip r:embed="rId2"/>
          <a:stretch/>
        </p:blipFill>
        <p:spPr>
          <a:xfrm>
            <a:off x="971640" y="1052640"/>
            <a:ext cx="6985080" cy="4038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11280" y="1413000"/>
            <a:ext cx="4465800" cy="4464000"/>
          </a:xfrm>
          <a:prstGeom prst="rect">
            <a:avLst/>
          </a:prstGeom>
          <a:solidFill>
            <a:srgbClr val="b7cfff"/>
          </a:solidFill>
          <a:ln w="38160">
            <a:solidFill>
              <a:srgbClr val="66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Ракета-носитель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водит на орбиту космический корабль, который укреплён в голове ракеты. А ниже располагаются ступени, в которых есть свои двигатели и свой запас топл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38"/>
          <p:cNvPicPr/>
          <p:nvPr/>
        </p:nvPicPr>
        <p:blipFill>
          <a:blip r:embed="rId2"/>
          <a:stretch/>
        </p:blipFill>
        <p:spPr>
          <a:xfrm>
            <a:off x="395280" y="981000"/>
            <a:ext cx="3562200" cy="5184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6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53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4581000"/>
            <a:ext cx="8218440" cy="208764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ракета поднимется на нужную высоту и отделится последняя её ступень,  кос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ский корабль летит уже самостоятельно. Он становится спутником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39"/>
          <p:cNvPicPr/>
          <p:nvPr/>
        </p:nvPicPr>
        <p:blipFill>
          <a:blip r:embed="rId3"/>
          <a:stretch/>
        </p:blipFill>
        <p:spPr>
          <a:xfrm>
            <a:off x="2843280" y="1052640"/>
            <a:ext cx="3313080" cy="322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36"/>
          <p:cNvPicPr/>
          <p:nvPr/>
        </p:nvPicPr>
        <p:blipFill>
          <a:blip r:embed="rId4"/>
          <a:stretch/>
        </p:blipFill>
        <p:spPr>
          <a:xfrm rot="8307000">
            <a:off x="2195640" y="1413000"/>
            <a:ext cx="1110960" cy="534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Копия 38"/>
          <p:cNvPicPr/>
          <p:nvPr/>
        </p:nvPicPr>
        <p:blipFill>
          <a:blip r:embed="rId5"/>
          <a:stretch/>
        </p:blipFill>
        <p:spPr>
          <a:xfrm rot="2882400">
            <a:off x="1476360" y="981360"/>
            <a:ext cx="573120" cy="31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916 -0.15422 C 0.0467 -0.15422 -0.06077 -0.01618 -0.06077 0.15422 C -0.06077 0.32532 0.0467 0.46451 0.17916 0.46451 C 0.3118 0.46451 0.41962 0.32532 0.41962 0.15422 C 0.41962 -0.01618 0.3118 -0.15422 0.17916 -0.15422 Z">
                                      <p:cBhvr>
                                        <p:cTn id="124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9" descr="36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3097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5157360"/>
            <a:ext cx="7272360" cy="1328760"/>
          </a:xfrm>
          <a:prstGeom prst="rect">
            <a:avLst/>
          </a:prstGeom>
          <a:solidFill>
            <a:srgbClr val="95ebd0"/>
          </a:solidFill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ический корабль состоит из нескольких отс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7"/>
          <p:cNvGrpSpPr/>
          <p:nvPr/>
        </p:nvGrpSpPr>
        <p:grpSpPr>
          <a:xfrm>
            <a:off x="468360" y="549360"/>
            <a:ext cx="2663640" cy="2519280"/>
            <a:chOff x="468360" y="549360"/>
            <a:chExt cx="2663640" cy="2519280"/>
          </a:xfrm>
        </p:grpSpPr>
        <p:sp>
          <p:nvSpPr>
            <p:cNvPr id="109" name="Line 10"/>
            <p:cNvSpPr/>
            <p:nvPr/>
          </p:nvSpPr>
          <p:spPr>
            <a:xfrm>
              <a:off x="1979640" y="1773360"/>
              <a:ext cx="115236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468360" y="549360"/>
              <a:ext cx="2374920" cy="825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рбиталь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3348000" y="549360"/>
            <a:ext cx="1871640" cy="2448000"/>
            <a:chOff x="3348000" y="549360"/>
            <a:chExt cx="1871640" cy="2448000"/>
          </a:xfrm>
        </p:grpSpPr>
        <p:sp>
          <p:nvSpPr>
            <p:cNvPr id="112" name="Line 11"/>
            <p:cNvSpPr/>
            <p:nvPr/>
          </p:nvSpPr>
          <p:spPr>
            <a:xfrm>
              <a:off x="4356000" y="1628640"/>
              <a:ext cx="0" cy="1368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3348000" y="549360"/>
              <a:ext cx="1871640" cy="825480"/>
            </a:xfrm>
            <a:prstGeom prst="rect">
              <a:avLst/>
            </a:prstGeom>
            <a:solidFill>
              <a:srgbClr val="8fc7ff"/>
            </a:solidFill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Глав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5653080" y="549360"/>
            <a:ext cx="3095640" cy="2519280"/>
            <a:chOff x="5653080" y="549360"/>
            <a:chExt cx="3095640" cy="2519280"/>
          </a:xfrm>
        </p:grpSpPr>
        <p:sp>
          <p:nvSpPr>
            <p:cNvPr id="115" name="Line 12"/>
            <p:cNvSpPr/>
            <p:nvPr/>
          </p:nvSpPr>
          <p:spPr>
            <a:xfrm flipH="1">
              <a:off x="6516720" y="1773360"/>
              <a:ext cx="10080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5653080" y="549360"/>
              <a:ext cx="3095640" cy="82548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оборудо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4581000"/>
            <a:ext cx="8075880" cy="2086200"/>
          </a:xfrm>
          <a:prstGeom prst="rect">
            <a:avLst/>
          </a:prstGeom>
          <a:solidFill>
            <a:srgbClr val="bafcd3"/>
          </a:solidFill>
          <a:ln w="38160">
            <a:solidFill>
              <a:srgbClr val="3399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В главном отсе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осмонавты стартуют с Земли. Отсюда они управляют кораблём, связываются с Землёй по радио. Это единственная часть корабля, которая возвращается на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41"/>
          <p:cNvPicPr/>
          <p:nvPr/>
        </p:nvPicPr>
        <p:blipFill>
          <a:blip r:embed="rId2"/>
          <a:stretch/>
        </p:blipFill>
        <p:spPr>
          <a:xfrm>
            <a:off x="3708360" y="404640"/>
            <a:ext cx="4824360" cy="404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20" name="Picture 7" descr="40"/>
          <p:cNvPicPr/>
          <p:nvPr/>
        </p:nvPicPr>
        <p:blipFill>
          <a:blip r:embed="rId3"/>
          <a:stretch/>
        </p:blipFill>
        <p:spPr>
          <a:xfrm>
            <a:off x="468360" y="333360"/>
            <a:ext cx="3024000" cy="20178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21" name="Picture 8" descr="37"/>
          <p:cNvPicPr/>
          <p:nvPr/>
        </p:nvPicPr>
        <p:blipFill>
          <a:blip r:embed="rId4"/>
          <a:stretch/>
        </p:blipFill>
        <p:spPr>
          <a:xfrm>
            <a:off x="468360" y="2421000"/>
            <a:ext cx="3024000" cy="2016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4043520" cy="3816360"/>
          </a:xfrm>
          <a:prstGeom prst="rect">
            <a:avLst/>
          </a:prstGeom>
          <a:solidFill>
            <a:srgbClr val="ffff66"/>
          </a:solidFill>
          <a:ln w="38160">
            <a:solidFill>
              <a:srgbClr val="6666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своей каб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рез люк-лаз косм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вты попадают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рбитальный отсе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есь они про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учные эксперим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9" descr="blog_ms3"/>
          <p:cNvPicPr/>
          <p:nvPr/>
        </p:nvPicPr>
        <p:blipFill>
          <a:blip r:embed="rId2"/>
          <a:stretch/>
        </p:blipFill>
        <p:spPr>
          <a:xfrm>
            <a:off x="468360" y="476280"/>
            <a:ext cx="3889440" cy="5856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5805000"/>
            <a:ext cx="7437600" cy="6778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99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ят и  занимаются спо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826920" y="476280"/>
            <a:ext cx="7405920" cy="5186160"/>
            <a:chOff x="826920" y="476280"/>
            <a:chExt cx="7405920" cy="5186160"/>
          </a:xfrm>
        </p:grpSpPr>
        <p:pic>
          <p:nvPicPr>
            <p:cNvPr id="128" name="Picture 4" descr="46"/>
            <p:cNvPicPr/>
            <p:nvPr/>
          </p:nvPicPr>
          <p:blipFill>
            <a:blip r:embed="rId2"/>
            <a:stretch/>
          </p:blipFill>
          <p:spPr>
            <a:xfrm>
              <a:off x="826920" y="476280"/>
              <a:ext cx="3443400" cy="518472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29" name="Picture 5" descr="46"/>
            <p:cNvPicPr/>
            <p:nvPr/>
          </p:nvPicPr>
          <p:blipFill>
            <a:blip r:embed="rId3"/>
            <a:stretch/>
          </p:blipFill>
          <p:spPr>
            <a:xfrm>
              <a:off x="4788000" y="476280"/>
              <a:ext cx="3444840" cy="51861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4720" y="620640"/>
            <a:ext cx="4341600" cy="5616720"/>
          </a:xfrm>
          <a:prstGeom prst="rect">
            <a:avLst/>
          </a:prstGeom>
          <a:solidFill>
            <a:srgbClr val="cdab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орбитального отсека космонавты могут вый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ткрытый космо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ым человеком, который покинул космический корабль и шагнул в открытый космос, б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Алексей Ле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684360" y="404640"/>
            <a:ext cx="3090600" cy="6143760"/>
            <a:chOff x="684360" y="404640"/>
            <a:chExt cx="3090600" cy="6143760"/>
          </a:xfrm>
        </p:grpSpPr>
        <p:pic>
          <p:nvPicPr>
            <p:cNvPr id="133" name="Picture 4" descr="48"/>
            <p:cNvPicPr/>
            <p:nvPr/>
          </p:nvPicPr>
          <p:blipFill>
            <a:blip r:embed="rId2"/>
            <a:stretch/>
          </p:blipFill>
          <p:spPr>
            <a:xfrm>
              <a:off x="684360" y="404640"/>
              <a:ext cx="3024000" cy="2967120"/>
            </a:xfrm>
            <a:prstGeom prst="rect">
              <a:avLst/>
            </a:prstGeom>
            <a:ln w="38160">
              <a:solidFill>
                <a:srgbClr val="006666"/>
              </a:solidFill>
              <a:miter/>
            </a:ln>
          </p:spPr>
        </p:pic>
        <p:pic>
          <p:nvPicPr>
            <p:cNvPr id="134" name="Picture 5" descr="49"/>
            <p:cNvPicPr/>
            <p:nvPr/>
          </p:nvPicPr>
          <p:blipFill>
            <a:blip r:embed="rId3"/>
            <a:stretch/>
          </p:blipFill>
          <p:spPr>
            <a:xfrm>
              <a:off x="684360" y="3573360"/>
              <a:ext cx="3090600" cy="2975040"/>
            </a:xfrm>
            <a:prstGeom prst="rect">
              <a:avLst/>
            </a:prstGeom>
            <a:ln w="38160">
              <a:solidFill>
                <a:srgbClr val="006699"/>
              </a:solidFill>
              <a:miter/>
            </a:ln>
          </p:spPr>
        </p:pic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Это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654440"/>
            <a:ext cx="8229600" cy="1943280"/>
          </a:xfrm>
          <a:prstGeom prst="rect">
            <a:avLst/>
          </a:prstGeom>
          <a:solidFill>
            <a:srgbClr val="adbff1"/>
          </a:solidFill>
          <a:ln w="381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космических кораблях возникает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остояние невесомост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при котором человек и окружающие его предметы теряют вес (становятся легче пушин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"/>
          <p:cNvGrpSpPr/>
          <p:nvPr/>
        </p:nvGrpSpPr>
        <p:grpSpPr>
          <a:xfrm>
            <a:off x="324000" y="1341360"/>
            <a:ext cx="8208720" cy="3014640"/>
            <a:chOff x="324000" y="1341360"/>
            <a:chExt cx="8208720" cy="3014640"/>
          </a:xfrm>
        </p:grpSpPr>
        <p:pic>
          <p:nvPicPr>
            <p:cNvPr id="138" name="Picture 4" descr="51"/>
            <p:cNvPicPr/>
            <p:nvPr/>
          </p:nvPicPr>
          <p:blipFill>
            <a:blip r:embed="rId2"/>
            <a:stretch/>
          </p:blipFill>
          <p:spPr>
            <a:xfrm>
              <a:off x="324000" y="1341360"/>
              <a:ext cx="4032000" cy="29988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39" name="Picture 8" descr="52"/>
            <p:cNvPicPr/>
            <p:nvPr/>
          </p:nvPicPr>
          <p:blipFill>
            <a:blip r:embed="rId3"/>
            <a:stretch/>
          </p:blipFill>
          <p:spPr>
            <a:xfrm>
              <a:off x="4500720" y="1341360"/>
              <a:ext cx="4032000" cy="301464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5843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мы поговорим о путешествиях в космос. Как вы думаете, что тако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космос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468360" y="476280"/>
            <a:ext cx="8238960" cy="4287960"/>
            <a:chOff x="468360" y="476280"/>
            <a:chExt cx="8238960" cy="4287960"/>
          </a:xfrm>
        </p:grpSpPr>
        <p:pic>
          <p:nvPicPr>
            <p:cNvPr id="46" name="Picture 5" descr="1"/>
            <p:cNvPicPr/>
            <p:nvPr/>
          </p:nvPicPr>
          <p:blipFill>
            <a:blip r:embed="rId2"/>
            <a:stretch/>
          </p:blipFill>
          <p:spPr>
            <a:xfrm>
              <a:off x="468360" y="1413000"/>
              <a:ext cx="2687760" cy="20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9"/>
            <p:cNvPicPr/>
            <p:nvPr/>
          </p:nvPicPr>
          <p:blipFill>
            <a:blip r:embed="rId3"/>
            <a:stretch/>
          </p:blipFill>
          <p:spPr>
            <a:xfrm>
              <a:off x="5580000" y="1484280"/>
              <a:ext cx="312732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9" descr="f"/>
            <p:cNvPicPr/>
            <p:nvPr/>
          </p:nvPicPr>
          <p:blipFill>
            <a:blip r:embed="rId4"/>
            <a:stretch/>
          </p:blipFill>
          <p:spPr>
            <a:xfrm>
              <a:off x="3276720" y="476280"/>
              <a:ext cx="26492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1" descr="17"/>
            <p:cNvPicPr/>
            <p:nvPr/>
          </p:nvPicPr>
          <p:blipFill>
            <a:blip r:embed="rId5"/>
            <a:stretch/>
          </p:blipFill>
          <p:spPr>
            <a:xfrm>
              <a:off x="3419640" y="2565360"/>
              <a:ext cx="2104920" cy="2198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520720"/>
          </a:xfrm>
          <a:prstGeom prst="rect">
            <a:avLst/>
          </a:prstGeom>
          <a:solidFill>
            <a:srgbClr val="79ff79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одукты питания на космическом кораб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хранятся в тубах. Они похожи на тюбики с зубной пастой, только размером побольше. Из них еду выдавливают. В космическом доме есть холодильник и электрическая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1042920" y="549360"/>
            <a:ext cx="6985080" cy="3319200"/>
            <a:chOff x="1042920" y="549360"/>
            <a:chExt cx="6985080" cy="3319200"/>
          </a:xfrm>
        </p:grpSpPr>
        <p:pic>
          <p:nvPicPr>
            <p:cNvPr id="143" name="Picture 4" descr="Тубики"/>
            <p:cNvPicPr/>
            <p:nvPr/>
          </p:nvPicPr>
          <p:blipFill>
            <a:blip r:embed="rId2"/>
            <a:stretch/>
          </p:blipFill>
          <p:spPr>
            <a:xfrm>
              <a:off x="1042920" y="765000"/>
              <a:ext cx="2179800" cy="28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" descr="53"/>
            <p:cNvPicPr/>
            <p:nvPr/>
          </p:nvPicPr>
          <p:blipFill>
            <a:blip r:embed="rId3"/>
            <a:stretch/>
          </p:blipFill>
          <p:spPr>
            <a:xfrm>
              <a:off x="4284720" y="549360"/>
              <a:ext cx="3743280" cy="3319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36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5157360"/>
            <a:ext cx="7272360" cy="1328760"/>
          </a:xfrm>
          <a:prstGeom prst="rect">
            <a:avLst/>
          </a:prstGeom>
          <a:solidFill>
            <a:srgbClr val="95ebd0"/>
          </a:solidFill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битальный отсек на Землю не возвращ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468360" y="549360"/>
            <a:ext cx="2663640" cy="2519280"/>
            <a:chOff x="468360" y="549360"/>
            <a:chExt cx="2663640" cy="2519280"/>
          </a:xfrm>
        </p:grpSpPr>
        <p:sp>
          <p:nvSpPr>
            <p:cNvPr id="149" name="Line 6"/>
            <p:cNvSpPr/>
            <p:nvPr/>
          </p:nvSpPr>
          <p:spPr>
            <a:xfrm>
              <a:off x="1979640" y="1773360"/>
              <a:ext cx="115236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468360" y="549360"/>
              <a:ext cx="2374920" cy="825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рбитальный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11"/>
          <p:cNvGrpSpPr/>
          <p:nvPr/>
        </p:nvGrpSpPr>
        <p:grpSpPr>
          <a:xfrm>
            <a:off x="5653080" y="549360"/>
            <a:ext cx="3095640" cy="2519280"/>
            <a:chOff x="5653080" y="549360"/>
            <a:chExt cx="3095640" cy="2519280"/>
          </a:xfrm>
        </p:grpSpPr>
        <p:sp>
          <p:nvSpPr>
            <p:cNvPr id="152" name="Line 12"/>
            <p:cNvSpPr/>
            <p:nvPr/>
          </p:nvSpPr>
          <p:spPr>
            <a:xfrm flipH="1">
              <a:off x="6516720" y="1773360"/>
              <a:ext cx="10080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5653080" y="549360"/>
              <a:ext cx="3095640" cy="82548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Отсе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оборудован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4" name="Text Box 14"/>
          <p:cNvSpPr/>
          <p:nvPr/>
        </p:nvSpPr>
        <p:spPr>
          <a:xfrm>
            <a:off x="923040" y="5373720"/>
            <a:ext cx="745632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в этом отсеке располагаются двигат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хранится запас топли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solidFill>
            <a:srgbClr val="ffd1a3"/>
          </a:solidFill>
          <a:ln w="381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Центр управления полёта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есто на Земле, откуда ведётся управление спутниками, космическими кораблями и межпланетными станц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50"/>
          <p:cNvPicPr/>
          <p:nvPr/>
        </p:nvPicPr>
        <p:blipFill>
          <a:blip r:embed="rId2"/>
          <a:stretch/>
        </p:blipFill>
        <p:spPr>
          <a:xfrm>
            <a:off x="1692360" y="404640"/>
            <a:ext cx="5664240" cy="424836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4221000"/>
            <a:ext cx="8713800" cy="2376720"/>
          </a:xfrm>
          <a:prstGeom prst="rect">
            <a:avLst/>
          </a:prstGeom>
          <a:solidFill>
            <a:srgbClr val="ccff99"/>
          </a:solidFill>
          <a:ln w="38160">
            <a:solidFill>
              <a:srgbClr val="99cc00"/>
            </a:solidFill>
            <a:miter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в все задания, космонавты возвращ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на Землю.  Ненужные отсеки отделяютс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горают в атмосфере. Недалеко от Земли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ывается парашют, чтобы смягчить удар кора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я о земную поверх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324000" y="333360"/>
            <a:ext cx="8565840" cy="3743280"/>
            <a:chOff x="324000" y="333360"/>
            <a:chExt cx="8565840" cy="3743280"/>
          </a:xfrm>
        </p:grpSpPr>
        <p:pic>
          <p:nvPicPr>
            <p:cNvPr id="161" name="Picture 4" descr="59"/>
            <p:cNvPicPr/>
            <p:nvPr/>
          </p:nvPicPr>
          <p:blipFill>
            <a:blip r:embed="rId2"/>
            <a:stretch/>
          </p:blipFill>
          <p:spPr>
            <a:xfrm>
              <a:off x="324000" y="333360"/>
              <a:ext cx="2928960" cy="3743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62" name="Picture 5" descr="60"/>
            <p:cNvPicPr/>
            <p:nvPr/>
          </p:nvPicPr>
          <p:blipFill>
            <a:blip r:embed="rId3"/>
            <a:stretch/>
          </p:blipFill>
          <p:spPr>
            <a:xfrm>
              <a:off x="3348000" y="333360"/>
              <a:ext cx="5541840" cy="37116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4608360" cy="4176720"/>
          </a:xfrm>
          <a:prstGeom prst="rect">
            <a:avLst/>
          </a:prstGeom>
          <a:solidFill>
            <a:srgbClr val="adbff1"/>
          </a:solidFill>
          <a:ln w="381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год 12 апреля в на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ане отме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ень космонавтик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знаменование первого полё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ловека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61"/>
          <p:cNvPicPr/>
          <p:nvPr/>
        </p:nvPicPr>
        <p:blipFill>
          <a:blip r:embed="rId2"/>
          <a:stretch/>
        </p:blipFill>
        <p:spPr>
          <a:xfrm>
            <a:off x="324000" y="1052640"/>
            <a:ext cx="3671640" cy="5041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25920" y="1197000"/>
            <a:ext cx="5122800" cy="4896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протяжении многих веков людей манил космос своими тайнами и загадками. Человечество задавало себе многие вопросы о космосе, на которые не было ответов. Люди пытались познать тайный космос, постепенно накапливая знания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539640" y="333360"/>
            <a:ext cx="2784600" cy="5977080"/>
            <a:chOff x="539640" y="333360"/>
            <a:chExt cx="2784600" cy="5977080"/>
          </a:xfrm>
        </p:grpSpPr>
        <p:pic>
          <p:nvPicPr>
            <p:cNvPr id="53" name="Picture 4" descr="10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2664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11"/>
            <p:cNvPicPr/>
            <p:nvPr/>
          </p:nvPicPr>
          <p:blipFill>
            <a:blip r:embed="rId3"/>
            <a:stretch/>
          </p:blipFill>
          <p:spPr>
            <a:xfrm>
              <a:off x="539640" y="3068640"/>
              <a:ext cx="2784600" cy="3241800"/>
            </a:xfrm>
            <a:prstGeom prst="rect">
              <a:avLst/>
            </a:prstGeom>
            <a:ln w="28440">
              <a:solidFill>
                <a:srgbClr val="669900"/>
              </a:solidFill>
              <a:miter/>
            </a:ln>
          </p:spPr>
        </p:pic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244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ff66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егодня на орбите находится около 300 спутников. Они служат для того, чтобы передавать по всему миру телефонные разговоры, телевизионные передачи, информацию о погоде. По сигналам спутника капитан определяет, куда плыть кораблю. Они помогают изучать Землю, Солнце, планеты, звё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468360" y="333360"/>
            <a:ext cx="7745400" cy="3713040"/>
            <a:chOff x="468360" y="333360"/>
            <a:chExt cx="7745400" cy="3713040"/>
          </a:xfrm>
        </p:grpSpPr>
        <p:pic>
          <p:nvPicPr>
            <p:cNvPr id="58" name="Picture 4" descr="Спутник 2"/>
            <p:cNvPicPr/>
            <p:nvPr/>
          </p:nvPicPr>
          <p:blipFill>
            <a:blip r:embed="rId2"/>
            <a:stretch/>
          </p:blipFill>
          <p:spPr>
            <a:xfrm>
              <a:off x="3276720" y="476280"/>
              <a:ext cx="2087280" cy="17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" descr="20"/>
            <p:cNvPicPr/>
            <p:nvPr/>
          </p:nvPicPr>
          <p:blipFill>
            <a:blip r:embed="rId3"/>
            <a:stretch/>
          </p:blipFill>
          <p:spPr>
            <a:xfrm>
              <a:off x="7164360" y="333360"/>
              <a:ext cx="104940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6" descr="21"/>
            <p:cNvPicPr/>
            <p:nvPr/>
          </p:nvPicPr>
          <p:blipFill>
            <a:blip r:embed="rId4"/>
            <a:stretch/>
          </p:blipFill>
          <p:spPr>
            <a:xfrm>
              <a:off x="5580000" y="2060640"/>
              <a:ext cx="1793880" cy="19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7" descr="22"/>
            <p:cNvPicPr/>
            <p:nvPr/>
          </p:nvPicPr>
          <p:blipFill>
            <a:blip r:embed="rId5"/>
            <a:stretch/>
          </p:blipFill>
          <p:spPr>
            <a:xfrm>
              <a:off x="1187280" y="2492280"/>
              <a:ext cx="232740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23"/>
            <p:cNvPicPr/>
            <p:nvPr/>
          </p:nvPicPr>
          <p:blipFill>
            <a:blip r:embed="rId6"/>
            <a:stretch/>
          </p:blipFill>
          <p:spPr>
            <a:xfrm>
              <a:off x="468360" y="404640"/>
              <a:ext cx="135720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Line 9"/>
            <p:cNvSpPr/>
            <p:nvPr/>
          </p:nvSpPr>
          <p:spPr>
            <a:xfrm flipH="1">
              <a:off x="1908000" y="1125360"/>
              <a:ext cx="122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4716360" y="2205000"/>
              <a:ext cx="719280" cy="719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364000" y="1052640"/>
              <a:ext cx="136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3059280" y="2205000"/>
              <a:ext cx="72072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Животные-космонав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51280" y="1959120"/>
            <a:ext cx="4835520" cy="355752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жде, чем в космос полетел первый человек, учёные сначала отправляли в космическую неизвес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сть различны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ыми «космонавтами»-разведчиками были собаки, кролики, насекомые и даже микро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755640" y="1268280"/>
            <a:ext cx="2736720" cy="5224680"/>
            <a:chOff x="755640" y="1268280"/>
            <a:chExt cx="2736720" cy="5224680"/>
          </a:xfrm>
        </p:grpSpPr>
        <p:pic>
          <p:nvPicPr>
            <p:cNvPr id="70" name="Picture 4" descr="54"/>
            <p:cNvPicPr/>
            <p:nvPr/>
          </p:nvPicPr>
          <p:blipFill>
            <a:blip r:embed="rId2"/>
            <a:stretch/>
          </p:blipFill>
          <p:spPr>
            <a:xfrm>
              <a:off x="755640" y="1268280"/>
              <a:ext cx="2736720" cy="26100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71" name="Picture 6" descr="55"/>
            <p:cNvPicPr/>
            <p:nvPr/>
          </p:nvPicPr>
          <p:blipFill>
            <a:blip r:embed="rId3"/>
            <a:stretch/>
          </p:blipFill>
          <p:spPr>
            <a:xfrm>
              <a:off x="755640" y="4005360"/>
              <a:ext cx="2736720" cy="248760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4005000"/>
            <a:ext cx="8282160" cy="2663640"/>
          </a:xfrm>
          <a:prstGeom prst="rect">
            <a:avLst/>
          </a:prstGeom>
          <a:solidFill>
            <a:srgbClr val="dfda00"/>
          </a:soli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ервой в космосе побывала собака Лайк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Для неё построили специальную ракету, где был запас пищи, воды и возду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 ноября 1959 года на Лайку надели специальный скафандр, и ракета умчала её в косм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9"/>
          <p:cNvPicPr/>
          <p:nvPr/>
        </p:nvPicPr>
        <p:blipFill>
          <a:blip r:embed="rId2"/>
          <a:stretch/>
        </p:blipFill>
        <p:spPr>
          <a:xfrm>
            <a:off x="1547640" y="404640"/>
            <a:ext cx="5977080" cy="34862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353440" cy="2160720"/>
          </a:xfrm>
          <a:prstGeom prst="rect">
            <a:avLst/>
          </a:prstGeom>
          <a:solidFill>
            <a:srgbClr val="ffb7b7"/>
          </a:solidFill>
          <a:ln w="38160">
            <a:solidFill>
              <a:srgbClr val="ff66cc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9 августа 1960 — совершён первый в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битальный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лёт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космос живых существ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спешным возвращением на Землю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Полё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ершили собаки Белка и Стр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8"/>
          <p:cNvPicPr/>
          <p:nvPr/>
        </p:nvPicPr>
        <p:blipFill>
          <a:blip r:embed="rId2"/>
          <a:stretch/>
        </p:blipFill>
        <p:spPr>
          <a:xfrm>
            <a:off x="1763640" y="333360"/>
            <a:ext cx="53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4546440" cy="3744720"/>
          </a:xfrm>
          <a:prstGeom prst="rect">
            <a:avLst/>
          </a:prstGeom>
          <a:solidFill>
            <a:srgbClr val="33ccff"/>
          </a:solidFill>
          <a:ln w="38160">
            <a:solidFill>
              <a:srgbClr val="6666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Космонавт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астронавт) — человек, совершив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ий космический полёт и проводящий в полёте испытания и эксплуатацию космической тех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32600" y="4581360"/>
            <a:ext cx="4440240" cy="155628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зовут перв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смонавта и 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полетел в космос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8" descr="Русский космонавт"/>
          <p:cNvPicPr/>
          <p:nvPr/>
        </p:nvPicPr>
        <p:blipFill>
          <a:blip r:embed="rId2"/>
          <a:stretch/>
        </p:blipFill>
        <p:spPr>
          <a:xfrm>
            <a:off x="5292720" y="1125360"/>
            <a:ext cx="3394080" cy="468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Ракета 4"/>
          <p:cNvPicPr/>
          <p:nvPr/>
        </p:nvPicPr>
        <p:blipFill>
          <a:blip r:embed="rId3"/>
          <a:stretch/>
        </p:blipFill>
        <p:spPr>
          <a:xfrm>
            <a:off x="755640" y="404640"/>
            <a:ext cx="3745080" cy="33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Comic Sans MS"/>
              </a:rPr>
              <a:t>Юрий Алексеевич Гагарин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5300640"/>
            <a:ext cx="8229600" cy="118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вый человек, совершивший полёт в кос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611280" y="1341360"/>
            <a:ext cx="7967520" cy="3600360"/>
            <a:chOff x="611280" y="1341360"/>
            <a:chExt cx="7967520" cy="3600360"/>
          </a:xfrm>
        </p:grpSpPr>
        <p:pic>
          <p:nvPicPr>
            <p:cNvPr id="86" name="Picture 5" descr="13"/>
            <p:cNvPicPr/>
            <p:nvPr/>
          </p:nvPicPr>
          <p:blipFill>
            <a:blip r:embed="rId2"/>
            <a:stretch/>
          </p:blipFill>
          <p:spPr>
            <a:xfrm>
              <a:off x="5591160" y="1341360"/>
              <a:ext cx="2987640" cy="3600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87" name="Picture 6" descr="14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4465440" cy="35877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4:10:58Z</dcterms:created>
  <dc:creator>мама</dc:creator>
  <dc:description/>
  <dc:language>en-US</dc:language>
  <cp:lastModifiedBy>Admin</cp:lastModifiedBy>
  <dcterms:modified xsi:type="dcterms:W3CDTF">2016-10-13T17:49:14Z</dcterms:modified>
  <cp:revision>14</cp:revision>
  <dc:subject/>
  <dc:title>Слайд 1</dc:title>
</cp:coreProperties>
</file>