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DD12-6C95-45AB-951C-F318D02A1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46F5-D5E8-4051-A494-B17889AE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D629-9595-47EC-A325-B0B212411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2BC3-52B9-48B1-B371-39EB75604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F80E-EB32-4F5E-9A6C-A82F24995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0869-9E9B-4AA6-9C88-ED13B6B7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E53A-9666-4666-BD56-BB4651A1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E969-CD47-4310-9263-E2252557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75AC-54F4-4157-BF4F-E90D4DA1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CEE66-A8BD-43EE-B9DC-335A4E0E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C5E3-66A3-4B09-8D3B-14DB2444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98AB-C3C8-4AD1-B1B7-7CF975C8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397A-06D9-459A-9778-867F5C5F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B4EE-DBA5-4CE7-B485-09C73286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B9AD-9EEC-4324-BCC1-488092D4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AD8ED-A3B8-47D4-90C2-865D45E7F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7E57-C02D-4C3A-8C06-08CCE6D5E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C4A396-B06E-4BE1-994B-69EAFE441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8DFE21-D302-48FE-8CE9-4F437A7D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51C73A-7DD3-4C4B-BCA6-1B5AC783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7A2F89-4695-41D7-AA4A-2C7E4095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4761E7-9BDC-4ADE-BE90-F975C131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C35A-5108-44DB-B3C8-82380E5A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426C51-B0D5-4629-B1B0-332EB9B5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587DF6-03F8-425B-A85A-E65D9D9A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27A126-2295-42BB-B58A-2ADDF855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AB160D-B20A-4382-B580-840BB16B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0A3BC2-8C4A-4123-B4DC-FDAD32FB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F30D05-FD98-4242-A23B-DD5F35BA8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7DFC4A-F42A-4350-B984-E5DE101A8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09869-A6EA-4677-AEB3-BDE1DA614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99C4C-681A-4AFE-B899-67FAAAB4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C4EE6-9A15-4513-9071-61AA7C61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089C-DB66-48D4-9207-B4A49FD2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DA978-F5CF-45C3-ACEE-677014E5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28BDB-8B1C-4384-A825-8328CBEF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D5B2D-1DE5-4151-BB00-7F84550DE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1D95B-2A63-414C-AD78-B5C96A35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2F896-1DAF-49FF-84A0-ED4819B8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8F740-4664-4568-BFBE-524AEE15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68A4C-DEA9-4BB1-9AE1-16CFF18E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F97C4-D907-4261-9E59-830146F0F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5E2C0-920B-4C54-AA10-75BF377EB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81F8F5-6E10-4691-97D3-37E5DBD2B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9F89-B0DA-4A12-81B4-715CD1B1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854F41-91B6-458C-9D15-89B9A229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609E50-0068-4935-A18D-3B46A9D2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BE3AC4-8FDA-4FF8-91ED-E3250B71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ED91F4-B808-48FF-9B5B-7EC45AD7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E3CA9E-6FFA-42DC-A0F9-0C5C26BC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6D8D4E-CB9C-4AEB-BF61-D0A951FD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A9F8F5-8D7F-4D6C-8386-896F2A48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2C9973-0B04-41D3-9044-E43284FD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4FB0A1-DDA8-43C0-A845-6F18F157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97BE65-E1B3-43C3-B81D-4396DE644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6F1C-641D-43BA-9890-67BF513D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3A4D6F-054E-4405-BA66-F5F5F3BA2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1DABFB-3140-4143-9EBD-5B7E90C70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AF12D2-0817-4D8A-856B-63647B25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B65021-38F5-44EB-B65F-7746F270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007FB6-1995-4C5D-B465-48DE41F3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CC48C1-D767-4413-A3F0-E13ADC52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8BF945-5F19-42C2-8366-BE3CFA43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3063CF-6B64-45EA-A466-375E5AD7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69D0EF-8D05-4654-98D7-AB50E41F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01D663-25B2-4B8C-9F82-5FA1382D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0C33-1155-47BE-ADBB-C3C510BE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5885A2-F9C2-4DD4-969F-B7818D23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036FA3-41F5-49E5-BD70-627EE878B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DAD4AC-DF5A-4B15-BA7D-8C9B0FA67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794666-6E0E-433A-BEE8-85E1619A0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165339-3901-40C1-BB30-9A890A10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1FBAD4-0BED-44FD-8C07-CBCC00B4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25F890-819D-49EA-958D-9499F46D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02D46E-6FBF-4B12-82C4-AA20C2EA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361FB6-FCD6-49E9-9D8B-4A1A55B0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43FB4C-DEA6-487E-8065-FDC67A69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5AA5-7D25-4678-89B2-CA69F301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ADCBD3-0BED-4ACB-89A5-926EFDE6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5CA952-9A3A-4F4E-8CB8-B49C0930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1B1FD2-4C4D-436A-AAB4-231B010A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69ACB1-F746-4C01-9B66-1F95D780C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3DB6A6-3BCA-406B-97F1-9B7A2093E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5FF9-184A-4F84-8F8D-1CEACC27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AC21-16EF-4409-A1E7-04E583A2DAD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6F6E-8CC5-4ABC-87BC-BF1336B1732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1DE6-8D97-4C0F-8837-BF6EA36FEE6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7C00-FAF3-494B-A57F-7A8A837B3F8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1433-FAA9-49C1-AAEC-F2213C917A2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66BB-7757-4733-BE13-32611FA47FF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5891-EFBC-4838-924D-1F96E74741B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festival.1september.ru/" TargetMode="External"/><Relationship Id="rId2" Type="http://schemas.openxmlformats.org/officeDocument/2006/relationships/hyperlink" Target="http://click.1september.ru/TQMwO5F1yv" TargetMode="External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roki.net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t-n.ru/" TargetMode="External"/><Relationship Id="rId2" Type="http://schemas.openxmlformats.org/officeDocument/2006/relationships/hyperlink" Target="http://www.ntf.ru/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14680" y="1285560"/>
            <a:ext cx="7029360" cy="29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СЕТЕВЫЕ СООБЩЕСТВА УЧИТЕЛЕЙ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575f6d"/>
                </a:solidFill>
                <a:latin typeface="Century Schoolbook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Century Schoolbook"/>
              </a:rPr>
              <a:t>ГДЕ РАЗМЕСТИТЬ </a:t>
            </a: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МАТЕРИАЛЫ СВОЕГО ПЕДАГОГИЧЕСКОГО ОПЫТА?</a:t>
            </a:r>
            <a:br>
              <a:rPr sz="36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Подборку подготовила учитель математики и информатики МБОУ – СОШ №24 г. Орла  </a:t>
            </a:r>
            <a:r>
              <a:rPr b="1" lang="ru-RU" sz="2400" spc="-1" strike="noStrike">
                <a:solidFill>
                  <a:srgbClr val="575f6d"/>
                </a:solidFill>
                <a:latin typeface="Century Schoolbook"/>
              </a:rPr>
              <a:t>Морева Оксана Владимировн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&amp;Pcy;&amp;rcy;&amp;icy;&amp;mcy;&amp;iecy;&amp;rcy; &amp;scy;&amp;acy;&amp;jcy;&amp;tcy;&amp;acy; &amp;pcy;&amp;ocy;&amp;lcy;&amp;softcy;&amp;zcy;&amp;ocy;&amp;vcy;&amp;acy;&amp;tcy;&amp;iecy;&amp;lcy;&amp;yacy; nsportal.ru/user"/>
          <p:cNvPicPr/>
          <p:nvPr/>
        </p:nvPicPr>
        <p:blipFill>
          <a:blip r:embed="rId1"/>
          <a:stretch/>
        </p:blipFill>
        <p:spPr>
          <a:xfrm>
            <a:off x="214200" y="2571840"/>
            <a:ext cx="8344080" cy="3857400"/>
          </a:xfrm>
          <a:prstGeom prst="rect">
            <a:avLst/>
          </a:prstGeom>
          <a:ln w="0">
            <a:noFill/>
          </a:ln>
        </p:spPr>
      </p:pic>
      <p:sp>
        <p:nvSpPr>
          <p:cNvPr id="380" name="Прямоугольник 2"/>
          <p:cNvSpPr/>
          <p:nvPr/>
        </p:nvSpPr>
        <p:spPr>
          <a:xfrm>
            <a:off x="285840" y="428760"/>
            <a:ext cx="828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На сайте Nsportal.ru очень просто создать свой собственный мини-сайт – для этого достаточно только зарегистрироваться, и сайт автоматически будет создан. Здесь можно разместить собственное портфолио, причем если фотографии и тексты у вас уже готовы, то вся процедура займет не больше одного ча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Адрес Вашего сайта будет выглядеть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http://nsportal.ru/user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где user это ваш логин в систем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746748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b0f0"/>
                </a:solidFill>
                <a:latin typeface="Century Schoolbook"/>
              </a:rPr>
              <a:t>МОРЕВА ОКСАНА ВЛАДИМИРОВНА</a:t>
            </a:r>
            <a:br>
              <a:rPr sz="2700"/>
            </a:br>
            <a:r>
              <a:rPr b="1" lang="ru-RU" sz="2400" spc="-1" strike="noStrike">
                <a:solidFill>
                  <a:srgbClr val="575f6d"/>
                </a:solidFill>
                <a:latin typeface="Century Schoolbook"/>
              </a:rPr>
              <a:t>САЙТ УЧИТЕЛЯ МАТЕМАТИКИ</a:t>
            </a:r>
            <a:br>
              <a:rPr sz="27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00720" y="2214720"/>
            <a:ext cx="3657600" cy="30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ru-RU" sz="1900" spc="-1" strike="noStrike">
                <a:solidFill>
                  <a:srgbClr val="000000"/>
                </a:solidFill>
                <a:latin typeface="Century Schoolbook"/>
              </a:rPr>
              <a:t>Мои публикации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Алгебра </a:t>
            </a:r>
            <a:r>
              <a:rPr b="0" lang="ru-RU" sz="1900" spc="-1" strike="noStrike" u="sng">
                <a:solidFill>
                  <a:srgbClr val="000000"/>
                </a:solidFill>
                <a:uFillTx/>
                <a:latin typeface="Century Schoolbook"/>
              </a:rPr>
              <a:t>Урок - деловая игра по теме "Обобщение понятия о показателе степени" 11 класс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Информатика и ИКТ </a:t>
            </a:r>
            <a:r>
              <a:rPr b="0" lang="ru-RU" sz="1900" spc="-1" strike="noStrike" u="sng">
                <a:solidFill>
                  <a:srgbClr val="000000"/>
                </a:solidFill>
                <a:uFillTx/>
                <a:latin typeface="Century Schoolbook"/>
              </a:rPr>
              <a:t>Игра "Инфобой" (информатика 3 класс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3" name="Содержимое 4" descr="http://nsportal.ru/sites/default/files/2014/10/12/skanirovanie0006.jpg"/>
          <p:cNvPicPr/>
          <p:nvPr/>
        </p:nvPicPr>
        <p:blipFill>
          <a:blip r:embed="rId1"/>
          <a:stretch/>
        </p:blipFill>
        <p:spPr>
          <a:xfrm>
            <a:off x="571680" y="785880"/>
            <a:ext cx="1143000" cy="1714320"/>
          </a:xfrm>
          <a:prstGeom prst="rect">
            <a:avLst/>
          </a:prstGeom>
          <a:ln w="0">
            <a:noFill/>
          </a:ln>
        </p:spPr>
      </p:pic>
      <p:sp>
        <p:nvSpPr>
          <p:cNvPr id="384" name="Прямоугольник 5"/>
          <p:cNvSpPr/>
          <p:nvPr/>
        </p:nvSpPr>
        <p:spPr>
          <a:xfrm>
            <a:off x="428760" y="2643120"/>
            <a:ext cx="37861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Профессия: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Учит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Профессиональные интересы: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Личностно - ориентированный подход в обучении математи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Увлечени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Комнатные цве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Регион: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Орловская обл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Населенный пунк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Город Орё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Место работы: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МБОУ - СОШ № 24 с углублённым изучением отдельных предметов гуманитарного профиля им. И.С.Тургенева г.Ор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"/>
          <p:cNvSpPr/>
          <p:nvPr/>
        </p:nvSpPr>
        <p:spPr>
          <a:xfrm>
            <a:off x="1928880" y="1146240"/>
            <a:ext cx="678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сылка на мой сайт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й &lt;a href = "http://nsportal.ru/moreva-oksana-vladimirovna" &gt; сайт учителя математики&lt;/a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Рисунок 7" descr="http://nsportal.ru/sites/all/themes/acquia_marina/_img/portfolio.png"/>
          <p:cNvPicPr/>
          <p:nvPr/>
        </p:nvPicPr>
        <p:blipFill>
          <a:blip r:embed="rId2"/>
          <a:stretch/>
        </p:blipFill>
        <p:spPr>
          <a:xfrm>
            <a:off x="6929280" y="5500800"/>
            <a:ext cx="729000" cy="8571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http://nsportal.ru/sites/all/themes/acquia_marina/_img/about_me.png"/>
          <p:cNvPicPr/>
          <p:nvPr/>
        </p:nvPicPr>
        <p:blipFill>
          <a:blip r:embed="rId3"/>
          <a:stretch/>
        </p:blipFill>
        <p:spPr>
          <a:xfrm>
            <a:off x="7143840" y="571680"/>
            <a:ext cx="799920" cy="7999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http://nsportal.ru/sites/all/themes/acquia_marina/_img/knigi.png"/>
          <p:cNvPicPr/>
          <p:nvPr/>
        </p:nvPicPr>
        <p:blipFill>
          <a:blip r:embed="rId4"/>
          <a:stretch/>
        </p:blipFill>
        <p:spPr>
          <a:xfrm>
            <a:off x="3857760" y="2214720"/>
            <a:ext cx="78552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Прямоугольник 1"/>
          <p:cNvSpPr/>
          <p:nvPr/>
        </p:nvSpPr>
        <p:spPr>
          <a:xfrm>
            <a:off x="214200" y="357120"/>
            <a:ext cx="850104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ли у вас возникнет желание   разместить свою разработку,  то указанных сайтов вполне достаточно для рабо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днако, не стоит забывать, что качество использования Интернета в школе определяется количеством интересных и полезных образовательных сай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этому призываю к работе над школьными сетевыми проектами и к участию в работе всероссийских проек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Рисунок 3" descr="http://nsportal.ru/sites/all/themes/acquia_marina/_img/vzgljad.png"/>
          <p:cNvPicPr/>
          <p:nvPr/>
        </p:nvPicPr>
        <p:blipFill>
          <a:blip r:embed="rId1"/>
          <a:stretch/>
        </p:blipFill>
        <p:spPr>
          <a:xfrm>
            <a:off x="5286240" y="5357880"/>
            <a:ext cx="171936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457200" y="285480"/>
            <a:ext cx="8043840" cy="61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пользование элементов информационно-коммуникационных технологий (ИКТ) становится неотъемлемой частью работы учител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настоящее время развиваются несколько направлений: работа над проектами, дистанционное обучение, конференции и  компьютерная поддержка урока (КПУ)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ждый учитель имеет собственные разработки, многие из которых публикуются на сайтах с методическими библиотекам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раткий анализ сетевых сообществ будет интересен тем, у кого есть собственные разработки и возникает желание их размещения в Интернет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ФЕСТИВАЛЬ ОТКРЫТЫХ УРОКОВ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- </a:t>
            </a:r>
            <a:r>
              <a:rPr b="0" lang="ru-RU" sz="30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FESTIVAL.1SEPTEMBER.RU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214200" y="1571760"/>
            <a:ext cx="83584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рупнейший сайт, на котором можно разместить свою работу.  Материалы сайта частично доступны и без регистрации. Файлы и презентации находятся на сервере сайта. Для полноценной работы с сайтом и размещения своих разработок требуется регистрация со вводом e-mail. Год основания ~ 2002 (Регистрация и размещение материалов платное)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тратегический партнёр —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Издательство «Просвещение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6" name="Picture 2" descr="&amp;SHcy;&amp;kcy;&amp;ocy;&amp;lcy;&amp;acy;"/>
          <p:cNvPicPr/>
          <p:nvPr/>
        </p:nvPicPr>
        <p:blipFill>
          <a:blip r:embed="rId3"/>
          <a:stretch/>
        </p:blipFill>
        <p:spPr>
          <a:xfrm>
            <a:off x="857160" y="4572000"/>
            <a:ext cx="27082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ВСЕ ДЛЯ УЧИТЕЛЯ - ВСЕ БЕСПЛАТНО!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- </a:t>
            </a:r>
            <a:r>
              <a:rPr b="0" lang="ru-RU" sz="30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HTTP://WWW.UROKI.NET/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28400" y="2071440"/>
            <a:ext cx="746748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дин из старейших ресурсов для учителей. На сайте размещаются классные часы, сценарии, разработки открытых уроков. Все материалы в открытом доступе. Регистрация не требуется. Все разработки - полностью бесплатные.  Год основания – 2005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9" name="Picture 2" descr="www.uroki.net - c&amp;tscy;&amp;iecy;&amp;ncy;&amp;acy;&amp;rcy;&amp;icy;&amp;icy; &amp;shcy;&amp;kcy;&amp;ocy;&amp;lcy;&amp;softcy;&amp;ncy;&amp;ycy;&amp;khcy; &amp;pcy;&amp;rcy;&amp;acy;&amp;zcy;&amp;dcy;&amp;ncy;&amp;icy;&amp;kcy;&amp;ocy;&amp;vcy;, &amp;pcy;&amp;ocy;&amp;ucy;&amp;rcy;&amp;ocy;&amp;chcy;&amp;ncy;&amp;ycy;&amp;iecy; &amp;tcy;&amp;iecy;&amp;mcy;&amp;acy;&amp;tcy;&amp;icy;&amp;chcy;&amp;iecy;&amp;scy;&amp;kcy;&amp;icy;&amp;iecy; &amp;kcy;&amp;acy;&amp;lcy;&amp;iecy;&amp;ncy;&amp;dcy;&amp;acy;&amp;rcy;&amp;ncy;&amp;ycy;&amp;iecy; &amp;pcy;&amp;lcy;&amp;acy;&amp;ncy;&amp;ycy; &amp;rcy;&amp;acy;&amp;zcy;&amp;rcy;&amp;acy;&amp;bcy;&amp;ocy;&amp;tcy;&amp;kcy;&amp;icy; &amp;ocy;&amp;tcy;&amp;kcy;&amp;rcy;&amp;ycy;&amp;tcy;&amp;ycy;&amp;khcy; &amp;ucy;&amp;rcy;&amp;ocy;&amp;kcy;&amp;ocy;&amp;vcy; &amp;kcy;&amp;lcy;&amp;acy;&amp;scy;&amp;scy;&amp;ncy;&amp;ycy;&amp;khcy; &amp;chcy;&amp;acy;&amp;scy;&amp;ocy;&amp;vcy; &amp;kcy;&amp;ocy;&amp;ncy;&amp;scy;&amp;pcy;&amp;iecy;&amp;kcy;&amp;tcy;&amp;ycy; &amp;lcy;&amp;iecy;&amp;kcy;&amp;tscy;&amp;icy;&amp;jcy; &amp;pcy;&amp;ocy; &amp;icy;&amp;ncy;&amp;fcy;&amp;ocy;&amp;rcy;&amp;mcy;&amp;acy;&amp;tcy;&amp;icy;&amp;kcy;&amp;iecy; &amp;mcy;&amp;acy;&amp;tcy;&amp;iecy;&amp;mcy;&amp;acy;&amp;tcy;&amp;icy;&amp;kcy;&amp;iecy; &amp;fcy;&amp;icy;&amp;zcy;&amp;icy;&amp;kcy;&amp;iecy; &amp;khcy;&amp;icy;&amp;mcy;&amp;icy;&amp;icy; &amp;bcy;&amp;icy;&amp;ocy;&amp;lcy;&amp;ocy;&amp;gcy;&amp;icy;&amp;icy; &amp;gcy;&amp;iecy;&amp;ocy;&amp;gcy;&amp;rcy;&amp;acy;&amp;fcy;&amp;icy;&amp;icy; &amp;dcy;&amp;lcy;&amp;yacy; &amp;dcy;&amp;icy;&amp;rcy;&amp;iecy;&amp;kcy;&amp;tcy;&amp;ocy;&amp;rcy;&amp;acy; &amp;icy; &amp;zcy;&amp;acy;&amp;vcy;&amp;ucy;&amp;chcy;&amp;acy; &amp;dcy;&amp;lcy;&amp;yacy; &amp;pcy;&amp;scy;&amp;icy;&amp;khcy;&amp;ocy;&amp;lcy;&amp;ocy;&amp;gcy;&amp;acy; &amp;dcy;&amp;lcy;&amp;yacy; &amp;kcy;&amp;lcy;&amp;acy;&amp;scy;&amp;scy;&amp;ncy;&amp;ocy;&amp;gcy;&amp;ocy; &amp;rcy;&amp;ucy;&amp;kcy;&amp;ocy;&amp;vcy;&amp;ocy;&amp;dcy;&amp;icy;&amp;tcy;&amp;iecy;&amp;lcy;&amp;yacy; &amp;mcy;&amp;ucy;&amp;zcy;&amp;ycy;&amp;kcy;&amp;acy; &amp;pcy;&amp;iecy;&amp;scy;&amp;ncy;&amp;icy; &amp;kcy;&amp;acy;&amp;rcy;&amp;acy;&amp;ocy;&amp;kcy;&amp;iecy; &amp;dcy;&amp;lcy;&amp;yacy; &amp;pcy;&amp;rcy;&amp;ocy;&amp;vcy;&amp;iecy;&amp;dcy;&amp;iecy;&amp;ncy;&amp;icy;&amp;yacy; &amp;Vcy;&amp;ycy;&amp;pcy;&amp;ucy;&amp;scy;&amp;kcy;&amp;ncy;&amp;ocy;&amp;gcy;&amp;ocy; &amp;vcy;&amp;iecy;&amp;chcy;&amp;iecy;&amp;rcy;&amp;acy; &amp;Pcy;&amp;ocy;&amp;scy;&amp;lcy;&amp;iecy;&amp;dcy;&amp;ncy;&amp;iecy;&amp;gcy;&amp;ocy; &amp;Pcy;&amp;iecy;&amp;rcy;&amp;vcy;&amp;ocy;&amp;gcy;&amp;ocy; &amp;zcy;&amp;vcy;&amp;ocy;&amp;ncy;&amp;kcy;&amp;acy; 1 &amp;scy;&amp;iecy;&amp;ncy;&amp;tcy;&amp;yacy;&amp;bcy;&amp;rcy;&amp;yacy; &amp;Ncy;&amp;ocy;&amp;vcy;&amp;ocy;&amp;gcy;&amp;ocy; &amp;gcy;&amp;ocy;&amp;dcy;&amp;acy;"/>
          <p:cNvPicPr/>
          <p:nvPr/>
        </p:nvPicPr>
        <p:blipFill>
          <a:blip r:embed="rId2"/>
          <a:stretch/>
        </p:blipFill>
        <p:spPr>
          <a:xfrm>
            <a:off x="4000680" y="4357800"/>
            <a:ext cx="386856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ПЕДСОВЕТ СУ. –</a:t>
            </a:r>
            <a:br>
              <a:rPr sz="3000"/>
            </a:b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 HTTP://PEDSOVET.SU/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1" name="Picture 2" descr="http://pedsovet.su/_pu/53/50962709.jpg"/>
          <p:cNvPicPr/>
          <p:nvPr/>
        </p:nvPicPr>
        <p:blipFill>
          <a:blip r:embed="rId1"/>
          <a:stretch/>
        </p:blipFill>
        <p:spPr>
          <a:xfrm>
            <a:off x="857160" y="2357280"/>
            <a:ext cx="6667560" cy="952560"/>
          </a:xfrm>
          <a:prstGeom prst="rect">
            <a:avLst/>
          </a:prstGeom>
          <a:ln w="0">
            <a:noFill/>
          </a:ln>
        </p:spPr>
      </p:pic>
      <p:sp>
        <p:nvSpPr>
          <p:cNvPr id="362" name="Прямоугольник 4"/>
          <p:cNvSpPr/>
          <p:nvPr/>
        </p:nvSpPr>
        <p:spPr>
          <a:xfrm>
            <a:off x="1000080" y="3929040"/>
            <a:ext cx="650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Крупный  сайт со множеством материалов для учител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АЙТ </a:t>
            </a:r>
            <a:r>
              <a:rPr b="0" lang="ru-RU" sz="30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"СЕТЬ ТВОРЧЕСКИХ УЧИТЕЛЕЙ"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99680" y="1142640"/>
            <a:ext cx="746748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десь материалы проходят длительный анализ коллег и только после этого либо публикуются, либо удаляются. Соответственно, подборка получается интересной и современной. За публикацию нескольких материалов можно получить бесплатный сертифика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Прямоугольник 6"/>
          <p:cNvSpPr/>
          <p:nvPr/>
        </p:nvSpPr>
        <p:spPr>
          <a:xfrm>
            <a:off x="357120" y="3500280"/>
            <a:ext cx="578664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ект реализуется </a:t>
            </a:r>
            <a:br>
              <a:rPr sz="2400"/>
            </a:b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Национальным фондом подготовки кад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Миссия Фонд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семерно содействовать развитию эффективной системы образования и науки в целях повышения конкурентоспособности стр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8" descr="&amp;Ncy;&amp;Fcy;&amp;Pcy;&amp;Kcy;"/>
          <p:cNvPicPr/>
          <p:nvPr/>
        </p:nvPicPr>
        <p:blipFill>
          <a:blip r:embed="rId3"/>
          <a:stretch/>
        </p:blipFill>
        <p:spPr>
          <a:xfrm>
            <a:off x="214200" y="642960"/>
            <a:ext cx="733680" cy="5144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0" descr="http://www.ntf.ru/images/logo.png"/>
          <p:cNvPicPr/>
          <p:nvPr/>
        </p:nvPicPr>
        <p:blipFill>
          <a:blip r:embed="rId4"/>
          <a:stretch/>
        </p:blipFill>
        <p:spPr>
          <a:xfrm>
            <a:off x="6251400" y="3500280"/>
            <a:ext cx="191160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ПРОШКОЛУ - СОЦИАЛЬНАЯ СЕТЬ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ru-RU" sz="3000" spc="-1" strike="noStrike" u="sng">
                <a:solidFill>
                  <a:srgbClr val="575f6d"/>
                </a:solidFill>
                <a:uFillTx/>
                <a:latin typeface="Century Schoolbook"/>
              </a:rPr>
              <a:t>HTTP://WWW.PROSHKOLU.RU/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28400" y="1428840"/>
            <a:ext cx="746748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рупный портал. Справочник школ России. Методическая копилка - по предметам. Онлайн-клубы учителей. Школьные конкурсы, пр... Более ориентирован не на разработки, сценарии и т.д., а на общение учителей. Материалов в открытом доступе мало. Для полноценной работы обязательна регистрация. Год основания - 200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0" name="Picture 2" descr="&amp;Scy;&amp;iecy;&amp;rcy;&amp;tcy;&amp;icy;&amp;fcy;&amp;icy;&amp;kcy;&amp;acy;&amp;tcy;&amp;ycy; &amp;Scy;&amp;Mcy;&amp;Icy;"/>
          <p:cNvPicPr/>
          <p:nvPr/>
        </p:nvPicPr>
        <p:blipFill>
          <a:blip r:embed="rId1"/>
          <a:stretch/>
        </p:blipFill>
        <p:spPr>
          <a:xfrm>
            <a:off x="285840" y="4714920"/>
            <a:ext cx="8001000" cy="7207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http://data2.proshkolu.ru/img/empty.gif"/>
          <p:cNvPicPr/>
          <p:nvPr/>
        </p:nvPicPr>
        <p:blipFill>
          <a:blip r:embed="rId2"/>
          <a:stretch/>
        </p:blipFill>
        <p:spPr>
          <a:xfrm>
            <a:off x="155520" y="-274680"/>
            <a:ext cx="2048040" cy="5716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6" descr="http://data2.proshkolu.ru/img/empty.gif"/>
          <p:cNvPicPr/>
          <p:nvPr/>
        </p:nvPicPr>
        <p:blipFill>
          <a:blip r:embed="rId3"/>
          <a:stretch/>
        </p:blipFill>
        <p:spPr>
          <a:xfrm>
            <a:off x="155520" y="-274680"/>
            <a:ext cx="2048040" cy="5716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http://data2.proshkolu.ru/img/empty.gif"/>
          <p:cNvPicPr/>
          <p:nvPr/>
        </p:nvPicPr>
        <p:blipFill>
          <a:blip r:embed="rId4"/>
          <a:stretch/>
        </p:blipFill>
        <p:spPr>
          <a:xfrm>
            <a:off x="155520" y="-274680"/>
            <a:ext cx="2048040" cy="5716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0" descr="http://data2.proshkolu.ru/img/empty.gif"/>
          <p:cNvPicPr/>
          <p:nvPr/>
        </p:nvPicPr>
        <p:blipFill>
          <a:blip r:embed="rId5"/>
          <a:stretch/>
        </p:blipFill>
        <p:spPr>
          <a:xfrm>
            <a:off x="155520" y="-274680"/>
            <a:ext cx="204804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АЙТ "ЗАВУЧ.ИНФО"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714240" y="1285920"/>
            <a:ext cx="77868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айт богат разработками с файлами КПУ. Публикация материала бесплатная, после кратковременной проверки администратором, а вот получение сертификата платно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правление КПУ поддерживается сайтом "Информационные технологии в образовании"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днако, он перестал выдавать сертификаты и пересылает посетителей на сайт  "Архив учебных программ и презентаций"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н выдает бесплатный сертификат за несколько опубликованных разработок с использованием ИК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b0f0"/>
                </a:solidFill>
                <a:latin typeface="Century Schoolbook"/>
              </a:rPr>
              <a:t>СОЦИАЛЬНАЯ СЕТЬ РАБОТНИКОВ ОБРАЗОВАНИЯ 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HTTP://NSPORTAL.RU/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 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"Изюминка" этого проекта - возможность создать очень быстро и просто персональный мини-сайт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    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     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сети создано 158'330 мини-сайтов пользователей и собрано 717'609 учебно-методических материалов с очень удобной системой поиска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змещение материалов бесплатно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6T05:59:58Z</dcterms:created>
  <dc:creator>User</dc:creator>
  <dc:description/>
  <dc:language>en-US</dc:language>
  <cp:lastModifiedBy>User</cp:lastModifiedBy>
  <dcterms:modified xsi:type="dcterms:W3CDTF">2016-10-13T15:28:10Z</dcterms:modified>
  <cp:revision>11</cp:revision>
  <dc:subject/>
  <dc:title> Сайты с материалами для учителей</dc:title>
</cp:coreProperties>
</file>