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7DB-6452-4F44-AC1C-B6F40019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980-9068-4164-B8AD-008DD3D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3A9-C489-429E-91C7-C257A850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C6B-08F0-4142-BB57-6CBD3945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3E2E-6E83-4399-A481-E19B6CD4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A485-E19B-4CBB-881C-F0B8F40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001C-F34F-4D23-A8DD-E1626DC9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7698-D010-4BC3-8B37-DA9E89CC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4F60-6F58-4540-874C-9B9251FC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559F-F763-4892-85D2-5AF352A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3055-A4B2-42D0-8DEF-6ECCFC7E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FE0-4D6A-4D5D-95DA-16E5BBB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A1DF-CD3C-406E-BD8F-FC1EBBB3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464B-126C-49D1-91A5-63B81116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FD9F-EE95-4A30-905B-24786E3D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B52B-9734-47E7-B8B6-FB6DE1F1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29F1-82B7-480D-AD67-32330BD8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471B5-E0C5-4418-AD8D-FB46E7F4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9A153-6C5E-4A7A-961D-102681F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97C6B-BB6F-4016-A17C-D840E153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09BAD-2088-42F4-BBF0-B272191E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297C5-552F-4CF8-9A4D-02EEDD16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733-F71D-4F21-9F5A-49B55369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1A3C3-31FE-4760-82EC-D8A94493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39664-5AC5-41C5-AEBF-59CD27E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34665-2ECA-4861-A795-18611F14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A82C5-B63A-44B9-96C0-CB2023D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2FD55-DEC5-4748-BD32-7148DF0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EBCD0-642C-4852-85CC-7BD75E01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94BCD-56B8-4DB4-8D0A-13DD8E68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72E52-48C3-4BF1-9510-D60A057B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005A-B369-403F-B815-559D873D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DB232-34AE-4753-BE75-98B6BC7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032-94E5-4808-A04A-DAD437A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9B59E-67E3-4CEA-BF7D-209F546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BB3F-EB58-4C50-BFB9-43626AB5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F28E-6F6D-4125-8DBF-3B7B6B72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2C1A-42D3-43FF-927E-BA71680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AC1F-31BF-488B-88D3-035A116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9558-5233-4DCA-8479-D817B5D6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8D4F-72A6-4F15-B009-94D08369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A2A6-2970-4272-B8FF-871ACDB5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80319-347D-4560-BF56-B1C85BF4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91D79-86C8-4933-994F-2AE88D63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F35-C21B-400A-B274-F8B2AB0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43617-3A31-4875-82E7-A62E9AF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C19BE-9AB1-431C-808D-1FDFEEAE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50C58-7F69-43A0-A92C-24679972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62B43-99E6-470C-8B6D-F7518EB7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C7CDD-3BD0-4203-A45F-4092B329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73815-D789-4237-BC3E-E049C9B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0F7F6-72DC-4D60-962A-710D5C8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26550-3FA1-4459-9084-F2F12A7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4F80E-5F45-4985-B9ED-7D4C0C77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C6AF2-44FF-4AC4-A480-450276C0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049-96AE-4C5B-8277-41C70A34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C3A87-7875-46BC-B898-712B0F98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B5FEC-3A6C-484C-AF27-9EFB5ECD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569A2-357B-4757-8A07-369E639C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3C8F2-4AB1-4285-A7FA-FC97F60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01F16-E218-49A3-B19A-94041FFF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09C2C-C338-4346-B808-D92BAD2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07BCF-F062-4BC6-86FD-C35BF462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EF4C5-F1FF-4E4E-83E8-9A8F27D1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06C9D-DEF3-40AA-A035-2F9414D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15533-3B87-4049-A64A-EE91DC5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93D-5925-4087-808B-606F7BB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2FB12-ABC5-4E0A-84FC-BB64CC31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00CAA-B995-4B9E-AA44-405FFC7F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E8C87-B735-4EF0-8F93-7D5C430D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700C4-1C5B-43C2-BF94-7349AD03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C08E7-50CB-4C4D-9CEF-89638E19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6A2E4-0C3A-4274-8539-8792F4A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25710-EAF1-4CD8-BC59-0E4C70E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8C104-ED76-4D37-A358-5A22456A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74561-B3A0-40A8-8C9B-9185C82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ACBB3-DC2C-42AC-86F9-BBFE66FA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9B3-CC9C-478C-99C2-3D3BA31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E3EF5-27BF-490F-8C72-8CFBBCD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0ADFB-1A54-41DF-B835-41207F2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ADAC7-F946-45CA-B5EB-ED2F7C4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6C958-BFFC-434B-9E30-C73D3677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612F2-82E3-4E29-93DF-3CC87B2F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5C8-C6FA-4419-B723-56723FF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BC2C-EF89-414D-BB05-C897599F62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B893-1AF1-4B96-97C9-14384053E5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1A0-8E8C-4837-8DDC-5988A4A934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1235-2AA3-4A76-B7BD-B5444FA47F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DE35-3AC0-45E8-A829-FE3A03BA46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1344-F186-4321-B228-56B5DF22C6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7EC8-A200-4FD6-BCBC-B314A5768D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hyperlink" Target="http://click.1september.ru/TQMwO5F1yv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roki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-n.ru/" TargetMode="External"/><Relationship Id="rId2" Type="http://schemas.openxmlformats.org/officeDocument/2006/relationships/hyperlink" Target="http://www.ntf.ru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14680" y="1285560"/>
            <a:ext cx="702936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СЕТЕВЫЕ СООБЩЕСТВА УЧИТЕЛЕ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ГДЕ РАЗМЕСТИТЬ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МАТЕРИАЛЫ СВОЕГО ПЕДАГОГИЧЕСКОГО ОПЫТА?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борку подготовила учитель математики и информатики МБОУ – СОШ №24 г. Орла  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Морева Оксана Владимир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&amp;Pcy;&amp;rcy;&amp;icy;&amp;mcy;&amp;iecy;&amp;rcy; &amp;scy;&amp;acy;&amp;jcy;&amp;tcy;&amp;acy; &amp;pcy;&amp;ocy;&amp;lcy;&amp;softcy;&amp;zcy;&amp;ocy;&amp;vcy;&amp;acy;&amp;tcy;&amp;iecy;&amp;lcy;&amp;yacy; nsportal.ru/user"/>
          <p:cNvPicPr/>
          <p:nvPr/>
        </p:nvPicPr>
        <p:blipFill>
          <a:blip r:embed="rId1"/>
          <a:stretch/>
        </p:blipFill>
        <p:spPr>
          <a:xfrm>
            <a:off x="214200" y="2571840"/>
            <a:ext cx="8344080" cy="38574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2"/>
          <p:cNvSpPr/>
          <p:nvPr/>
        </p:nvSpPr>
        <p:spPr>
          <a:xfrm>
            <a:off x="285840" y="4287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сайте Nsportal.ru очень просто создать свой собственный мини-сайт – для этого достаточно только зарегистрироваться, и сайт автоматически будет создан. Здесь можно разместить собственное портфолио, причем если фотографии и тексты у вас уже готовы, то вся процедура займет не больше одного ча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 Вашего сайта будет выглядеть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http://nsportal.ru/user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де user это ваш логин в систем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f0"/>
                </a:solidFill>
                <a:latin typeface="Century Schoolbook"/>
              </a:rPr>
              <a:t>МОРЕВА ОКСАНА ВЛАДИМИРОВНА</a:t>
            </a:r>
            <a:br>
              <a:rPr sz="27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САЙТ УЧИТЕЛЯ МАТЕМАТИКИ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00720" y="2214720"/>
            <a:ext cx="3657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Мои публикации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лгебра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Урок - деловая игра по теме "Обобщение понятия о показателе степени" 11 класс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нформатика и ИКТ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Игра "Инфобой" (информатика 3 класс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Содержимое 4" descr="http://nsportal.ru/sites/default/files/2014/10/12/skanirovanie0006.jpg"/>
          <p:cNvPicPr/>
          <p:nvPr/>
        </p:nvPicPr>
        <p:blipFill>
          <a:blip r:embed="rId1"/>
          <a:stretch/>
        </p:blipFill>
        <p:spPr>
          <a:xfrm>
            <a:off x="571680" y="78588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5"/>
          <p:cNvSpPr/>
          <p:nvPr/>
        </p:nvSpPr>
        <p:spPr>
          <a:xfrm>
            <a:off x="428760" y="2643120"/>
            <a:ext cx="3786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фессия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ч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фессиональные интересы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ичностно - ориентированный подход в обучении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Увл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омнатные цв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егион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рл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Населенный пунк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ород Орё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есто работы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БОУ - СОШ № 24 с углублённым изучением отдельных предметов гуманитарного профиля им. И.С.Тургенева г.Ор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1928880" y="114624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сылка на мой сай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й &lt;a href = "http://nsportal.ru/moreva-oksana-vladimirovna" &gt; сайт учителя математики&lt;/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7" descr="http://nsportal.ru/sites/all/themes/acquia_marina/_img/portfolio.png"/>
          <p:cNvPicPr/>
          <p:nvPr/>
        </p:nvPicPr>
        <p:blipFill>
          <a:blip r:embed="rId2"/>
          <a:stretch/>
        </p:blipFill>
        <p:spPr>
          <a:xfrm>
            <a:off x="6929280" y="5500800"/>
            <a:ext cx="729000" cy="857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http://nsportal.ru/sites/all/themes/acquia_marina/_img/about_me.png"/>
          <p:cNvPicPr/>
          <p:nvPr/>
        </p:nvPicPr>
        <p:blipFill>
          <a:blip r:embed="rId3"/>
          <a:stretch/>
        </p:blipFill>
        <p:spPr>
          <a:xfrm>
            <a:off x="7143840" y="571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nsportal.ru/sites/all/themes/acquia_marina/_img/knigi.png"/>
          <p:cNvPicPr/>
          <p:nvPr/>
        </p:nvPicPr>
        <p:blipFill>
          <a:blip r:embed="rId4"/>
          <a:stretch/>
        </p:blipFill>
        <p:spPr>
          <a:xfrm>
            <a:off x="3857760" y="2214720"/>
            <a:ext cx="7855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214200" y="357120"/>
            <a:ext cx="85010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у вас возникнет желание   разместить свою разработку,  то указанных сайтов вполне достаточно для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ако, не стоит забывать, что качество использования Интернета в школе определяется количеством интересных и полезных образовательных сай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этому призываю к работе над школьными сетевыми проектами и к участию в работе всероссийских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3" descr="http://nsportal.ru/sites/all/themes/acquia_marina/_img/vzgljad.png"/>
          <p:cNvPicPr/>
          <p:nvPr/>
        </p:nvPicPr>
        <p:blipFill>
          <a:blip r:embed="rId1"/>
          <a:stretch/>
        </p:blipFill>
        <p:spPr>
          <a:xfrm>
            <a:off x="5286240" y="5357880"/>
            <a:ext cx="17193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85480"/>
            <a:ext cx="804384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элементов информационно-коммуникационных технологий (ИКТ) становится неотъемлемой частью работы учите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астоящее время развиваются несколько направлений: работа над проектами, дистанционное обучение, конференции и  компьютерная поддержка урока (КПУ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ый учитель имеет собственные разработки, многие из которых публикуются на сайтах с методическими библиотека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ткий анализ сетевых сообществ будет интересен тем, у кого есть собственные разработки и возникает желание их размещения в Интерн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ФЕСТИВАЛЬ ОТКРЫТЫХ УРОКОВ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- </a:t>
            </a: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FESTIVAL.1SEPTEMBER.R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14200" y="1571760"/>
            <a:ext cx="835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пнейший сайт, на котором можно разместить свою работу.  Материалы сайта частично доступны и без регистрации. Файлы и презентации находятся на сервере сайта. Для полноценной работы с сайтом и размещения своих разработок требуется регистрация со вводом e-mail. Год основания ~ 2002 (Регистрация и размещение материалов платное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атегический партнёр —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Издательство «Просвещение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&amp;SHcy;&amp;kcy;&amp;ocy;&amp;lcy;&amp;acy;"/>
          <p:cNvPicPr/>
          <p:nvPr/>
        </p:nvPicPr>
        <p:blipFill>
          <a:blip r:embed="rId3"/>
          <a:stretch/>
        </p:blipFill>
        <p:spPr>
          <a:xfrm>
            <a:off x="857160" y="4572000"/>
            <a:ext cx="270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ВСЕ ДЛЯ УЧИТЕЛЯ - ВСЕ БЕСПЛАТНО!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- </a:t>
            </a: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UROKI.NET/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8400" y="2071440"/>
            <a:ext cx="7467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ин из старейших ресурсов для учителей. На сайте размещаются классные часы, сценарии, разработки открытых уроков. Все материалы в открытом доступе. Регистрация не требуется. Все разработки - полностью бесплатные.  Год основания – 2005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www.uroki.net - c&amp;tscy;&amp;iecy;&amp;ncy;&amp;acy;&amp;rcy;&amp;icy;&amp;icy; &amp;shcy;&amp;kcy;&amp;ocy;&amp;lcy;&amp;softcy;&amp;ncy;&amp;ycy;&amp;khcy; &amp;pcy;&amp;rcy;&amp;acy;&amp;zcy;&amp;dcy;&amp;ncy;&amp;icy;&amp;kcy;&amp;ocy;&amp;vcy;, &amp;pcy;&amp;ocy;&amp;ucy;&amp;rcy;&amp;ocy;&amp;chcy;&amp;ncy;&amp;ycy;&amp;iecy; &amp;tcy;&amp;iecy;&amp;mcy;&amp;acy;&amp;tcy;&amp;icy;&amp;chcy;&amp;iecy;&amp;scy;&amp;kcy;&amp;icy;&amp;iecy; &amp;kcy;&amp;acy;&amp;lcy;&amp;iecy;&amp;ncy;&amp;dcy;&amp;acy;&amp;rcy;&amp;ncy;&amp;ycy;&amp;iecy; &amp;pcy;&amp;lcy;&amp;acy;&amp;ncy;&amp;ycy; &amp;rcy;&amp;acy;&amp;zcy;&amp;rcy;&amp;acy;&amp;bcy;&amp;ocy;&amp;tcy;&amp;kcy;&amp;icy; &amp;ocy;&amp;tcy;&amp;kcy;&amp;rcy;&amp;ycy;&amp;tcy;&amp;ycy;&amp;khcy; &amp;ucy;&amp;rcy;&amp;ocy;&amp;kcy;&amp;ocy;&amp;vcy; &amp;kcy;&amp;lcy;&amp;acy;&amp;scy;&amp;scy;&amp;ncy;&amp;ycy;&amp;khcy; &amp;chcy;&amp;acy;&amp;scy;&amp;ocy;&amp;vcy; &amp;kcy;&amp;ocy;&amp;ncy;&amp;scy;&amp;pcy;&amp;iecy;&amp;kcy;&amp;tcy;&amp;ycy; &amp;lcy;&amp;iecy;&amp;kcy;&amp;tscy;&amp;icy;&amp;jcy; &amp;pcy;&amp;ocy; &amp;icy;&amp;ncy;&amp;fcy;&amp;ocy;&amp;rcy;&amp;mcy;&amp;acy;&amp;tcy;&amp;icy;&amp;kcy;&amp;iecy; &amp;mcy;&amp;acy;&amp;tcy;&amp;iecy;&amp;mcy;&amp;acy;&amp;tcy;&amp;icy;&amp;kcy;&amp;iecy; &amp;fcy;&amp;icy;&amp;zcy;&amp;icy;&amp;kcy;&amp;iecy; &amp;khcy;&amp;icy;&amp;mcy;&amp;icy;&amp;icy; &amp;bcy;&amp;icy;&amp;ocy;&amp;lcy;&amp;ocy;&amp;gcy;&amp;icy;&amp;icy; &amp;gcy;&amp;iecy;&amp;ocy;&amp;gcy;&amp;rcy;&amp;acy;&amp;fcy;&amp;icy;&amp;icy; &amp;dcy;&amp;lcy;&amp;yacy; &amp;dcy;&amp;icy;&amp;rcy;&amp;iecy;&amp;kcy;&amp;tcy;&amp;ocy;&amp;rcy;&amp;acy; &amp;icy; &amp;zcy;&amp;acy;&amp;vcy;&amp;ucy;&amp;chcy;&amp;acy; &amp;dcy;&amp;lcy;&amp;yacy; &amp;pcy;&amp;scy;&amp;icy;&amp;khcy;&amp;ocy;&amp;lcy;&amp;ocy;&amp;gcy;&amp;acy; &amp;dcy;&amp;lcy;&amp;yacy; &amp;kcy;&amp;lcy;&amp;acy;&amp;scy;&amp;scy;&amp;ncy;&amp;ocy;&amp;gcy;&amp;ocy; &amp;rcy;&amp;ucy;&amp;kcy;&amp;ocy;&amp;vcy;&amp;ocy;&amp;dcy;&amp;icy;&amp;tcy;&amp;iecy;&amp;lcy;&amp;yacy; &amp;mcy;&amp;ucy;&amp;zcy;&amp;ycy;&amp;kcy;&amp;acy; &amp;pcy;&amp;iecy;&amp;scy;&amp;ncy;&amp;icy; &amp;kcy;&amp;acy;&amp;rcy;&amp;acy;&amp;ocy;&amp;kcy;&amp;iecy; &amp;dcy;&amp;lcy;&amp;yacy; &amp;pcy;&amp;rcy;&amp;ocy;&amp;vcy;&amp;iecy;&amp;dcy;&amp;iecy;&amp;ncy;&amp;icy;&amp;yacy; &amp;Vcy;&amp;ycy;&amp;pcy;&amp;ucy;&amp;scy;&amp;kcy;&amp;ncy;&amp;ocy;&amp;gcy;&amp;ocy; &amp;vcy;&amp;iecy;&amp;chcy;&amp;iecy;&amp;rcy;&amp;acy; &amp;Pcy;&amp;ocy;&amp;scy;&amp;lcy;&amp;iecy;&amp;dcy;&amp;ncy;&amp;iecy;&amp;gcy;&amp;ocy; &amp;Pcy;&amp;iecy;&amp;rcy;&amp;vcy;&amp;ocy;&amp;gcy;&amp;ocy; &amp;zcy;&amp;vcy;&amp;ocy;&amp;ncy;&amp;kcy;&amp;acy; 1 &amp;scy;&amp;iecy;&amp;ncy;&amp;tcy;&amp;yacy;&amp;bcy;&amp;rcy;&amp;yacy; &amp;Ncy;&amp;ocy;&amp;vcy;&amp;ocy;&amp;gcy;&amp;ocy; &amp;gcy;&amp;ocy;&amp;dcy;&amp;acy;"/>
          <p:cNvPicPr/>
          <p:nvPr/>
        </p:nvPicPr>
        <p:blipFill>
          <a:blip r:embed="rId2"/>
          <a:stretch/>
        </p:blipFill>
        <p:spPr>
          <a:xfrm>
            <a:off x="4000680" y="4357800"/>
            <a:ext cx="38685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ЕДСОВЕТ СУ. –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HTTP://PEDSOVET.SU/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2" descr="http://pedsovet.su/_pu/53/50962709.jpg"/>
          <p:cNvPicPr/>
          <p:nvPr/>
        </p:nvPicPr>
        <p:blipFill>
          <a:blip r:embed="rId1"/>
          <a:stretch/>
        </p:blipFill>
        <p:spPr>
          <a:xfrm>
            <a:off x="857160" y="2357280"/>
            <a:ext cx="6667560" cy="9525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4"/>
          <p:cNvSpPr/>
          <p:nvPr/>
        </p:nvSpPr>
        <p:spPr>
          <a:xfrm>
            <a:off x="1000080" y="39290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рупный  сайт со множеством материалов для уч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АЙТ </a:t>
            </a: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"СЕТЬ ТВОРЧЕСКИХ УЧИТЕЛЕЙ"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99680" y="1142640"/>
            <a:ext cx="74674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десь материалы проходят длительный анализ коллег и только после этого либо публикуются, либо удаляются. Соответственно, подборка получается интересной и современной. За публикацию нескольких материалов можно получить бесплатный сертифик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357120" y="3500280"/>
            <a:ext cx="5786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ект реализуется </a:t>
            </a:r>
            <a:br>
              <a:rPr sz="2400"/>
            </a:b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Национальным фондом подготовки ка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иссия Фон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мерно содействовать развитию эффективной системы образования и науки в целях повышения конкурентоспособности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&amp;Ncy;&amp;Fcy;&amp;Pcy;&amp;Kcy;"/>
          <p:cNvPicPr/>
          <p:nvPr/>
        </p:nvPicPr>
        <p:blipFill>
          <a:blip r:embed="rId3"/>
          <a:stretch/>
        </p:blipFill>
        <p:spPr>
          <a:xfrm>
            <a:off x="214200" y="642960"/>
            <a:ext cx="733680" cy="514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http://www.ntf.ru/images/logo.png"/>
          <p:cNvPicPr/>
          <p:nvPr/>
        </p:nvPicPr>
        <p:blipFill>
          <a:blip r:embed="rId4"/>
          <a:stretch/>
        </p:blipFill>
        <p:spPr>
          <a:xfrm>
            <a:off x="6251400" y="3500280"/>
            <a:ext cx="1911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ОШКОЛУ - СОЦИАЛЬНАЯ СЕТ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HTTP://WWW.PROSHKOLU.RU/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8400" y="1428840"/>
            <a:ext cx="7467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пный портал. Справочник школ России. Методическая копилка - по предметам. Онлайн-клубы учителей. Школьные конкурсы, пр... Более ориентирован не на разработки, сценарии и т.д., а на общение учителей. Материалов в открытом доступе мало. Для полноценной работы обязательна регистрация. Год основания -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&amp;Scy;&amp;iecy;&amp;rcy;&amp;tcy;&amp;icy;&amp;fcy;&amp;icy;&amp;kcy;&amp;acy;&amp;tcy;&amp;ycy; &amp;Scy;&amp;Mcy;&amp;Icy;"/>
          <p:cNvPicPr/>
          <p:nvPr/>
        </p:nvPicPr>
        <p:blipFill>
          <a:blip r:embed="rId1"/>
          <a:stretch/>
        </p:blipFill>
        <p:spPr>
          <a:xfrm>
            <a:off x="285840" y="4714920"/>
            <a:ext cx="8001000" cy="720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data2.proshkolu.ru/img/empty.gif"/>
          <p:cNvPicPr/>
          <p:nvPr/>
        </p:nvPicPr>
        <p:blipFill>
          <a:blip r:embed="rId2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://data2.proshkolu.ru/img/empty.gif"/>
          <p:cNvPicPr/>
          <p:nvPr/>
        </p:nvPicPr>
        <p:blipFill>
          <a:blip r:embed="rId3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http://data2.proshkolu.ru/img/empty.gif"/>
          <p:cNvPicPr/>
          <p:nvPr/>
        </p:nvPicPr>
        <p:blipFill>
          <a:blip r:embed="rId4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http://data2.proshkolu.ru/img/empty.gif"/>
          <p:cNvPicPr/>
          <p:nvPr/>
        </p:nvPicPr>
        <p:blipFill>
          <a:blip r:embed="rId5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АЙТ "ЗАВУЧ.ИНФО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14240" y="128592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йт богат разработками с файлами КПУ. Публикация материала бесплатная, после кратковременной проверки администратором, а вот получение сертификата плат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авление КПУ поддерживается сайтом "Информационные технологии в образовании"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ако, он перестал выдавать сертификаты и пересылает посетителей на сайт  "Архив учебных программ и презентаций"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выдает бесплатный сертификат за несколько опубликованных разработок с использованием ИК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entury Schoolbook"/>
              </a:rPr>
              <a:t>СОЦИАЛЬНАЯ СЕТЬ РАБОТНИКОВ ОБРАЗОВАНИЯ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HTTP://NSPORTAL.RU/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Изюминка" этого проекта - возможность создать очень быстро и просто персональный мини-сайт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    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ети создано 158'330 мини-сайтов пользователей и собрано 717'609 учебно-методических материалов с очень удобной системой поис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мещение материалов бесплат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5:59:58Z</dcterms:created>
  <dc:creator>User</dc:creator>
  <dc:description/>
  <dc:language>en-US</dc:language>
  <cp:lastModifiedBy>User</cp:lastModifiedBy>
  <dcterms:modified xsi:type="dcterms:W3CDTF">2016-10-13T15:28:10Z</dcterms:modified>
  <cp:revision>11</cp:revision>
  <dc:subject/>
  <dc:title> Сайты с материалами для учителей</dc:title>
</cp:coreProperties>
</file>